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9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76C-B9A8-4DFC-AD7A-3A0B920D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048-9811-4974-BB67-57D93083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450-82B1-49BB-A21F-2919E347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A39-1FEF-4148-B517-438C01FC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042-14FD-4366-B0B4-EAA8882B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732-213D-4771-B9B7-5C682E1A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352-A616-49C7-8021-783A630A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1DF-43A3-45A9-91A0-338A1E58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C55-5D6D-408F-8591-29478768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1D9-0D25-4BC4-B437-05356B6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177-D17F-487F-9F53-1F5E7DC9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014-880C-401A-B16B-6853D8FD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D8A0-7361-41C7-9214-0B65A1FFE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05840" y="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3: Equations with Variables on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6"/>
          <p:cNvSpPr/>
          <p:nvPr/>
        </p:nvSpPr>
        <p:spPr>
          <a:xfrm>
            <a:off x="6934320" y="5562720"/>
            <a:ext cx="1371600" cy="76176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Equations with Variables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2"/>
          <p:cNvGraphicFramePr/>
          <p:nvPr/>
        </p:nvGraphicFramePr>
        <p:xfrm>
          <a:off x="5715000" y="1600200"/>
          <a:ext cx="299736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600200"/>
                    <a:ext cx="29973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Box 7"/>
          <p:cNvSpPr/>
          <p:nvPr/>
        </p:nvSpPr>
        <p:spPr>
          <a:xfrm>
            <a:off x="17640" y="838080"/>
            <a:ext cx="496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y each side of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bine Lik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9"/>
          <p:cNvSpPr/>
          <p:nvPr/>
        </p:nvSpPr>
        <p:spPr>
          <a:xfrm>
            <a:off x="5715000" y="19810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6858000" y="198108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6146640" y="2590920"/>
          <a:ext cx="914400" cy="33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6640" y="2590920"/>
                    <a:ext cx="9144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Circular Arrow 30"/>
          <p:cNvSpPr/>
          <p:nvPr/>
        </p:nvSpPr>
        <p:spPr>
          <a:xfrm>
            <a:off x="7620120" y="1295280"/>
            <a:ext cx="380880" cy="609840"/>
          </a:xfrm>
          <a:custGeom>
            <a:avLst/>
            <a:gdLst/>
            <a:ahLst/>
            <a:rect l="l" t="t" r="r" b="b"/>
            <a:pathLst>
              <a:path w="381000" h="609600">
                <a:moveTo>
                  <a:pt x="33271" y="238122"/>
                </a:moveTo>
                <a:cubicBezTo>
                  <a:pt x="51561" y="112673"/>
                  <a:pt x="118405" y="25617"/>
                  <a:pt x="194182" y="28555"/>
                </a:cubicBezTo>
                <a:cubicBezTo>
                  <a:pt x="268252" y="31427"/>
                  <a:pt x="331743" y="119626"/>
                  <a:pt x="348379" y="242757"/>
                </a:cubicBezTo>
                <a:lnTo>
                  <a:pt x="375977" y="235709"/>
                </a:lnTo>
                <a:lnTo>
                  <a:pt x="350729" y="263873"/>
                </a:lnTo>
                <a:lnTo>
                  <a:pt x="320782" y="249807"/>
                </a:lnTo>
                <a:lnTo>
                  <a:pt x="348380" y="242758"/>
                </a:lnTo>
                <a:cubicBezTo>
                  <a:pt x="331744" y="119626"/>
                  <a:pt x="268253" y="31428"/>
                  <a:pt x="194183" y="28556"/>
                </a:cubicBezTo>
                <a:cubicBezTo>
                  <a:pt x="118406" y="25618"/>
                  <a:pt x="51563" y="112674"/>
                  <a:pt x="33272" y="238123"/>
                </a:cubicBezTo>
                <a:lnTo>
                  <a:pt x="33271" y="23812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ircular Arrow 31"/>
          <p:cNvSpPr/>
          <p:nvPr/>
        </p:nvSpPr>
        <p:spPr>
          <a:xfrm>
            <a:off x="7620120" y="1066680"/>
            <a:ext cx="914400" cy="1143000"/>
          </a:xfrm>
          <a:custGeom>
            <a:avLst/>
            <a:gdLst/>
            <a:ahLst/>
            <a:rect l="l" t="t" r="r" b="b"/>
            <a:pathLst>
              <a:path w="914400" h="1143000">
                <a:moveTo>
                  <a:pt x="35819" y="475952"/>
                </a:moveTo>
                <a:cubicBezTo>
                  <a:pt x="69639" y="236515"/>
                  <a:pt x="225138" y="54889"/>
                  <a:pt x="416237" y="31613"/>
                </a:cubicBezTo>
                <a:cubicBezTo>
                  <a:pt x="618153" y="7020"/>
                  <a:pt x="805971" y="165356"/>
                  <a:pt x="866061" y="410829"/>
                </a:cubicBezTo>
                <a:lnTo>
                  <a:pt x="894296" y="403684"/>
                </a:lnTo>
                <a:lnTo>
                  <a:pt x="876988" y="465284"/>
                </a:lnTo>
                <a:lnTo>
                  <a:pt x="837828" y="417972"/>
                </a:lnTo>
                <a:lnTo>
                  <a:pt x="866062" y="410828"/>
                </a:lnTo>
                <a:cubicBezTo>
                  <a:pt x="805971" y="165355"/>
                  <a:pt x="618154" y="7019"/>
                  <a:pt x="416238" y="31612"/>
                </a:cubicBezTo>
                <a:cubicBezTo>
                  <a:pt x="225138" y="54888"/>
                  <a:pt x="69640" y="236514"/>
                  <a:pt x="35820" y="475951"/>
                </a:cubicBezTo>
                <a:lnTo>
                  <a:pt x="35819" y="47595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6400800" y="2514600"/>
          <a:ext cx="224784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514600"/>
                    <a:ext cx="22478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Box 34"/>
          <p:cNvSpPr/>
          <p:nvPr/>
        </p:nvSpPr>
        <p:spPr>
          <a:xfrm>
            <a:off x="0" y="228600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de which side of the equation to move the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 a rule, move the variables to the side of the equation that will make it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6"/>
          <p:cNvGraphicFramePr/>
          <p:nvPr/>
        </p:nvGraphicFramePr>
        <p:xfrm>
          <a:off x="7467480" y="2895480"/>
          <a:ext cx="596880" cy="31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67480" y="2895480"/>
                    <a:ext cx="596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7"/>
          <p:cNvGraphicFramePr/>
          <p:nvPr/>
        </p:nvGraphicFramePr>
        <p:xfrm>
          <a:off x="6248520" y="2895480"/>
          <a:ext cx="59688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2895480"/>
                    <a:ext cx="5968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Box 36"/>
          <p:cNvSpPr/>
          <p:nvPr/>
        </p:nvSpPr>
        <p:spPr>
          <a:xfrm>
            <a:off x="18720" y="4114800"/>
            <a:ext cx="47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for the vari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ndo Addition/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do Multiplication/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8"/>
          <p:cNvGraphicFramePr/>
          <p:nvPr/>
        </p:nvGraphicFramePr>
        <p:xfrm>
          <a:off x="6477120" y="3886200"/>
          <a:ext cx="1778040" cy="317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3886200"/>
                    <a:ext cx="1778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9"/>
          <p:cNvGraphicFramePr/>
          <p:nvPr/>
        </p:nvGraphicFramePr>
        <p:xfrm>
          <a:off x="6934320" y="4343400"/>
          <a:ext cx="406440" cy="31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343400"/>
                    <a:ext cx="4064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0"/>
          <p:cNvGraphicFramePr/>
          <p:nvPr/>
        </p:nvGraphicFramePr>
        <p:xfrm>
          <a:off x="7772400" y="4343400"/>
          <a:ext cx="406440" cy="317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9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772400" y="4343400"/>
                    <a:ext cx="4064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1"/>
          <p:cNvGraphicFramePr/>
          <p:nvPr/>
        </p:nvGraphicFramePr>
        <p:xfrm>
          <a:off x="7010280" y="4876920"/>
          <a:ext cx="128268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10280" y="4876920"/>
                    <a:ext cx="12826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Straight Connector 40"/>
          <p:cNvSpPr/>
          <p:nvPr/>
        </p:nvSpPr>
        <p:spPr>
          <a:xfrm>
            <a:off x="7010280" y="5181480"/>
            <a:ext cx="381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41"/>
          <p:cNvSpPr/>
          <p:nvPr/>
        </p:nvSpPr>
        <p:spPr>
          <a:xfrm>
            <a:off x="7848720" y="5181480"/>
            <a:ext cx="457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2"/>
          <p:cNvGraphicFramePr/>
          <p:nvPr/>
        </p:nvGraphicFramePr>
        <p:xfrm>
          <a:off x="7086600" y="5181480"/>
          <a:ext cx="190440" cy="304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86600" y="518148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3"/>
          <p:cNvGraphicFramePr/>
          <p:nvPr/>
        </p:nvGraphicFramePr>
        <p:xfrm>
          <a:off x="8001000" y="5181480"/>
          <a:ext cx="190440" cy="304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01000" y="518148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4"/>
          <p:cNvGraphicFramePr/>
          <p:nvPr/>
        </p:nvGraphicFramePr>
        <p:xfrm>
          <a:off x="7162920" y="5791320"/>
          <a:ext cx="93960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2920" y="5791320"/>
                    <a:ext cx="9396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Straight Connector 26"/>
          <p:cNvSpPr/>
          <p:nvPr/>
        </p:nvSpPr>
        <p:spPr>
          <a:xfrm>
            <a:off x="5715000" y="190512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27"/>
          <p:cNvSpPr/>
          <p:nvPr/>
        </p:nvSpPr>
        <p:spPr>
          <a:xfrm>
            <a:off x="6858000" y="1905120"/>
            <a:ext cx="380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Equations with Variables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8280" y="83808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6"/>
          <p:cNvGraphicFramePr/>
          <p:nvPr/>
        </p:nvGraphicFramePr>
        <p:xfrm>
          <a:off x="152280" y="1447920"/>
          <a:ext cx="284508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28450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8"/>
          <p:cNvGraphicFramePr/>
          <p:nvPr/>
        </p:nvGraphicFramePr>
        <p:xfrm>
          <a:off x="4648320" y="1447920"/>
          <a:ext cx="311148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447920"/>
                    <a:ext cx="311148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9"/>
          <p:cNvGraphicFramePr/>
          <p:nvPr/>
        </p:nvGraphicFramePr>
        <p:xfrm>
          <a:off x="152280" y="3809880"/>
          <a:ext cx="367056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809880"/>
                    <a:ext cx="36705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0"/>
          <p:cNvGraphicFramePr/>
          <p:nvPr/>
        </p:nvGraphicFramePr>
        <p:xfrm>
          <a:off x="4648320" y="3809880"/>
          <a:ext cx="425448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809880"/>
                    <a:ext cx="4254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SMARTInkAnnotation0"/>
          <p:cNvSpPr/>
          <p:nvPr/>
        </p:nvSpPr>
        <p:spPr>
          <a:xfrm>
            <a:off x="1325520" y="1889280"/>
            <a:ext cx="15840" cy="183960"/>
          </a:xfrm>
          <a:custGeom>
            <a:avLst/>
            <a:gdLst>
              <a:gd name="textAreaLeft" fmla="*/ 0 w 15840"/>
              <a:gd name="textAreaRight" fmla="*/ 16200 w 15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5213" h="182881">
                <a:moveTo>
                  <a:pt x="7592" y="0"/>
                </a:moveTo>
                <a:lnTo>
                  <a:pt x="7592" y="89032"/>
                </a:lnTo>
                <a:lnTo>
                  <a:pt x="6746" y="93222"/>
                </a:lnTo>
                <a:lnTo>
                  <a:pt x="5334" y="96861"/>
                </a:lnTo>
                <a:lnTo>
                  <a:pt x="3547" y="100134"/>
                </a:lnTo>
                <a:lnTo>
                  <a:pt x="2355" y="104009"/>
                </a:lnTo>
                <a:lnTo>
                  <a:pt x="1561" y="108286"/>
                </a:lnTo>
                <a:lnTo>
                  <a:pt x="1031" y="112831"/>
                </a:lnTo>
                <a:lnTo>
                  <a:pt x="678" y="116707"/>
                </a:lnTo>
                <a:lnTo>
                  <a:pt x="443" y="120138"/>
                </a:lnTo>
                <a:lnTo>
                  <a:pt x="286" y="123272"/>
                </a:lnTo>
                <a:lnTo>
                  <a:pt x="112" y="131270"/>
                </a:lnTo>
                <a:lnTo>
                  <a:pt x="0" y="146157"/>
                </a:lnTo>
                <a:lnTo>
                  <a:pt x="837" y="149085"/>
                </a:lnTo>
                <a:lnTo>
                  <a:pt x="2242" y="151883"/>
                </a:lnTo>
                <a:lnTo>
                  <a:pt x="4025" y="154595"/>
                </a:lnTo>
                <a:lnTo>
                  <a:pt x="5214" y="157250"/>
                </a:lnTo>
                <a:lnTo>
                  <a:pt x="6007" y="159867"/>
                </a:lnTo>
                <a:lnTo>
                  <a:pt x="6535" y="162458"/>
                </a:lnTo>
                <a:lnTo>
                  <a:pt x="7734" y="165032"/>
                </a:lnTo>
                <a:lnTo>
                  <a:pt x="9380" y="167595"/>
                </a:lnTo>
                <a:lnTo>
                  <a:pt x="14871" y="174812"/>
                </a:lnTo>
                <a:lnTo>
                  <a:pt x="15145" y="180408"/>
                </a:lnTo>
                <a:lnTo>
                  <a:pt x="15212" y="1828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InkAnnotation1"/>
          <p:cNvSpPr/>
          <p:nvPr/>
        </p:nvSpPr>
        <p:spPr>
          <a:xfrm>
            <a:off x="1273320" y="1989000"/>
            <a:ext cx="212760" cy="7920"/>
          </a:xfrm>
          <a:custGeom>
            <a:avLst/>
            <a:gdLst>
              <a:gd name="textAreaLeft" fmla="*/ 0 w 212760"/>
              <a:gd name="textAreaRight" fmla="*/ 213120 w 212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3361" h="7619">
                <a:moveTo>
                  <a:pt x="0" y="0"/>
                </a:moveTo>
                <a:lnTo>
                  <a:pt x="51184" y="0"/>
                </a:lnTo>
                <a:lnTo>
                  <a:pt x="55289" y="847"/>
                </a:lnTo>
                <a:lnTo>
                  <a:pt x="58873" y="2258"/>
                </a:lnTo>
                <a:lnTo>
                  <a:pt x="62108" y="4046"/>
                </a:lnTo>
                <a:lnTo>
                  <a:pt x="66806" y="5237"/>
                </a:lnTo>
                <a:lnTo>
                  <a:pt x="72477" y="6032"/>
                </a:lnTo>
                <a:lnTo>
                  <a:pt x="78798" y="6561"/>
                </a:lnTo>
                <a:lnTo>
                  <a:pt x="84705" y="6914"/>
                </a:lnTo>
                <a:lnTo>
                  <a:pt x="95785" y="7307"/>
                </a:lnTo>
                <a:lnTo>
                  <a:pt x="116695" y="7558"/>
                </a:lnTo>
                <a:lnTo>
                  <a:pt x="157474" y="7618"/>
                </a:lnTo>
                <a:lnTo>
                  <a:pt x="162556" y="6772"/>
                </a:lnTo>
                <a:lnTo>
                  <a:pt x="167638" y="5362"/>
                </a:lnTo>
                <a:lnTo>
                  <a:pt x="172718" y="3574"/>
                </a:lnTo>
                <a:lnTo>
                  <a:pt x="176952" y="2383"/>
                </a:lnTo>
                <a:lnTo>
                  <a:pt x="180621" y="1589"/>
                </a:lnTo>
                <a:lnTo>
                  <a:pt x="183914" y="1059"/>
                </a:lnTo>
                <a:lnTo>
                  <a:pt x="186956" y="706"/>
                </a:lnTo>
                <a:lnTo>
                  <a:pt x="189831" y="471"/>
                </a:lnTo>
                <a:lnTo>
                  <a:pt x="192594" y="314"/>
                </a:lnTo>
                <a:lnTo>
                  <a:pt x="197922" y="140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MARTInkAnnotation2"/>
          <p:cNvSpPr/>
          <p:nvPr/>
        </p:nvSpPr>
        <p:spPr>
          <a:xfrm>
            <a:off x="1486080" y="1874880"/>
            <a:ext cx="136440" cy="182520"/>
          </a:xfrm>
          <a:custGeom>
            <a:avLst/>
            <a:gdLst>
              <a:gd name="textAreaLeft" fmla="*/ 0 w 136440"/>
              <a:gd name="textAreaRight" fmla="*/ 136800 w 13644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137161" h="182850">
                <a:moveTo>
                  <a:pt x="0" y="0"/>
                </a:moveTo>
                <a:lnTo>
                  <a:pt x="50785" y="0"/>
                </a:lnTo>
                <a:lnTo>
                  <a:pt x="53330" y="847"/>
                </a:lnTo>
                <a:lnTo>
                  <a:pt x="56720" y="2258"/>
                </a:lnTo>
                <a:lnTo>
                  <a:pt x="66237" y="6561"/>
                </a:lnTo>
                <a:lnTo>
                  <a:pt x="69796" y="9407"/>
                </a:lnTo>
                <a:lnTo>
                  <a:pt x="71931" y="11351"/>
                </a:lnTo>
                <a:lnTo>
                  <a:pt x="73354" y="13494"/>
                </a:lnTo>
                <a:lnTo>
                  <a:pt x="74935" y="18133"/>
                </a:lnTo>
                <a:lnTo>
                  <a:pt x="77896" y="23017"/>
                </a:lnTo>
                <a:lnTo>
                  <a:pt x="82650" y="29006"/>
                </a:lnTo>
                <a:lnTo>
                  <a:pt x="83300" y="34340"/>
                </a:lnTo>
                <a:lnTo>
                  <a:pt x="83473" y="38134"/>
                </a:lnTo>
                <a:lnTo>
                  <a:pt x="82742" y="41509"/>
                </a:lnTo>
                <a:lnTo>
                  <a:pt x="81408" y="44606"/>
                </a:lnTo>
                <a:lnTo>
                  <a:pt x="78515" y="50305"/>
                </a:lnTo>
                <a:lnTo>
                  <a:pt x="77229" y="55660"/>
                </a:lnTo>
                <a:lnTo>
                  <a:pt x="74400" y="60862"/>
                </a:lnTo>
                <a:lnTo>
                  <a:pt x="72460" y="63435"/>
                </a:lnTo>
                <a:lnTo>
                  <a:pt x="70320" y="66843"/>
                </a:lnTo>
                <a:lnTo>
                  <a:pt x="68047" y="70809"/>
                </a:lnTo>
                <a:lnTo>
                  <a:pt x="63263" y="79731"/>
                </a:lnTo>
                <a:lnTo>
                  <a:pt x="58315" y="89340"/>
                </a:lnTo>
                <a:lnTo>
                  <a:pt x="54963" y="93427"/>
                </a:lnTo>
                <a:lnTo>
                  <a:pt x="51035" y="96998"/>
                </a:lnTo>
                <a:lnTo>
                  <a:pt x="46724" y="100225"/>
                </a:lnTo>
                <a:lnTo>
                  <a:pt x="42156" y="104070"/>
                </a:lnTo>
                <a:lnTo>
                  <a:pt x="37417" y="108327"/>
                </a:lnTo>
                <a:lnTo>
                  <a:pt x="24915" y="120150"/>
                </a:lnTo>
                <a:lnTo>
                  <a:pt x="21690" y="123280"/>
                </a:lnTo>
                <a:lnTo>
                  <a:pt x="18694" y="127060"/>
                </a:lnTo>
                <a:lnTo>
                  <a:pt x="15849" y="131273"/>
                </a:lnTo>
                <a:lnTo>
                  <a:pt x="13106" y="135776"/>
                </a:lnTo>
                <a:lnTo>
                  <a:pt x="11277" y="139624"/>
                </a:lnTo>
                <a:lnTo>
                  <a:pt x="10058" y="143036"/>
                </a:lnTo>
                <a:lnTo>
                  <a:pt x="9246" y="146157"/>
                </a:lnTo>
                <a:lnTo>
                  <a:pt x="7857" y="149085"/>
                </a:lnTo>
                <a:lnTo>
                  <a:pt x="4057" y="154595"/>
                </a:lnTo>
                <a:lnTo>
                  <a:pt x="1803" y="159867"/>
                </a:lnTo>
                <a:lnTo>
                  <a:pt x="801" y="165032"/>
                </a:lnTo>
                <a:lnTo>
                  <a:pt x="356" y="170150"/>
                </a:lnTo>
                <a:lnTo>
                  <a:pt x="106" y="173746"/>
                </a:lnTo>
                <a:lnTo>
                  <a:pt x="2305" y="176845"/>
                </a:lnTo>
                <a:lnTo>
                  <a:pt x="4077" y="178857"/>
                </a:lnTo>
                <a:lnTo>
                  <a:pt x="6104" y="180198"/>
                </a:lnTo>
                <a:lnTo>
                  <a:pt x="8303" y="181092"/>
                </a:lnTo>
                <a:lnTo>
                  <a:pt x="10615" y="181688"/>
                </a:lnTo>
                <a:lnTo>
                  <a:pt x="13004" y="182085"/>
                </a:lnTo>
                <a:lnTo>
                  <a:pt x="15442" y="182350"/>
                </a:lnTo>
                <a:lnTo>
                  <a:pt x="17915" y="182527"/>
                </a:lnTo>
                <a:lnTo>
                  <a:pt x="21257" y="182645"/>
                </a:lnTo>
                <a:lnTo>
                  <a:pt x="34050" y="182810"/>
                </a:lnTo>
                <a:lnTo>
                  <a:pt x="43638" y="182849"/>
                </a:lnTo>
                <a:lnTo>
                  <a:pt x="49412" y="182013"/>
                </a:lnTo>
                <a:lnTo>
                  <a:pt x="55801" y="180609"/>
                </a:lnTo>
                <a:lnTo>
                  <a:pt x="62601" y="178826"/>
                </a:lnTo>
                <a:lnTo>
                  <a:pt x="67981" y="177637"/>
                </a:lnTo>
                <a:lnTo>
                  <a:pt x="72414" y="176845"/>
                </a:lnTo>
                <a:lnTo>
                  <a:pt x="76216" y="176316"/>
                </a:lnTo>
                <a:lnTo>
                  <a:pt x="81291" y="175118"/>
                </a:lnTo>
                <a:lnTo>
                  <a:pt x="87214" y="173472"/>
                </a:lnTo>
                <a:lnTo>
                  <a:pt x="93703" y="171528"/>
                </a:lnTo>
                <a:lnTo>
                  <a:pt x="99722" y="169385"/>
                </a:lnTo>
                <a:lnTo>
                  <a:pt x="105428" y="167110"/>
                </a:lnTo>
                <a:lnTo>
                  <a:pt x="110925" y="164747"/>
                </a:lnTo>
                <a:lnTo>
                  <a:pt x="115437" y="163171"/>
                </a:lnTo>
                <a:lnTo>
                  <a:pt x="119291" y="162121"/>
                </a:lnTo>
                <a:lnTo>
                  <a:pt x="122708" y="161421"/>
                </a:lnTo>
                <a:lnTo>
                  <a:pt x="125832" y="160107"/>
                </a:lnTo>
                <a:lnTo>
                  <a:pt x="128761" y="158385"/>
                </a:lnTo>
                <a:lnTo>
                  <a:pt x="137160" y="1524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InkAnnotation3"/>
          <p:cNvSpPr/>
          <p:nvPr/>
        </p:nvSpPr>
        <p:spPr>
          <a:xfrm>
            <a:off x="1657440" y="1897200"/>
            <a:ext cx="73080" cy="158760"/>
          </a:xfrm>
          <a:custGeom>
            <a:avLst/>
            <a:gdLst>
              <a:gd name="textAreaLeft" fmla="*/ 0 w 73080"/>
              <a:gd name="textAreaRight" fmla="*/ 73440 w 730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72676" h="158848">
                <a:moveTo>
                  <a:pt x="42195" y="0"/>
                </a:moveTo>
                <a:lnTo>
                  <a:pt x="42195" y="37096"/>
                </a:lnTo>
                <a:lnTo>
                  <a:pt x="41348" y="40818"/>
                </a:lnTo>
                <a:lnTo>
                  <a:pt x="39937" y="44145"/>
                </a:lnTo>
                <a:lnTo>
                  <a:pt x="38150" y="47210"/>
                </a:lnTo>
                <a:lnTo>
                  <a:pt x="36958" y="50947"/>
                </a:lnTo>
                <a:lnTo>
                  <a:pt x="36164" y="55131"/>
                </a:lnTo>
                <a:lnTo>
                  <a:pt x="35634" y="59614"/>
                </a:lnTo>
                <a:lnTo>
                  <a:pt x="34434" y="64296"/>
                </a:lnTo>
                <a:lnTo>
                  <a:pt x="32788" y="69111"/>
                </a:lnTo>
                <a:lnTo>
                  <a:pt x="30844" y="74014"/>
                </a:lnTo>
                <a:lnTo>
                  <a:pt x="28701" y="78976"/>
                </a:lnTo>
                <a:lnTo>
                  <a:pt x="24062" y="89005"/>
                </a:lnTo>
                <a:lnTo>
                  <a:pt x="21640" y="93203"/>
                </a:lnTo>
                <a:lnTo>
                  <a:pt x="19178" y="96849"/>
                </a:lnTo>
                <a:lnTo>
                  <a:pt x="16690" y="100126"/>
                </a:lnTo>
                <a:lnTo>
                  <a:pt x="14185" y="104004"/>
                </a:lnTo>
                <a:lnTo>
                  <a:pt x="11668" y="108283"/>
                </a:lnTo>
                <a:lnTo>
                  <a:pt x="9144" y="112829"/>
                </a:lnTo>
                <a:lnTo>
                  <a:pt x="7461" y="116706"/>
                </a:lnTo>
                <a:lnTo>
                  <a:pt x="6339" y="120137"/>
                </a:lnTo>
                <a:lnTo>
                  <a:pt x="5591" y="123272"/>
                </a:lnTo>
                <a:lnTo>
                  <a:pt x="4246" y="127054"/>
                </a:lnTo>
                <a:lnTo>
                  <a:pt x="2502" y="131269"/>
                </a:lnTo>
                <a:lnTo>
                  <a:pt x="493" y="135773"/>
                </a:lnTo>
                <a:lnTo>
                  <a:pt x="0" y="138775"/>
                </a:lnTo>
                <a:lnTo>
                  <a:pt x="519" y="140777"/>
                </a:lnTo>
                <a:lnTo>
                  <a:pt x="1711" y="142111"/>
                </a:lnTo>
                <a:lnTo>
                  <a:pt x="2506" y="143848"/>
                </a:lnTo>
                <a:lnTo>
                  <a:pt x="3388" y="148035"/>
                </a:lnTo>
                <a:lnTo>
                  <a:pt x="4471" y="149490"/>
                </a:lnTo>
                <a:lnTo>
                  <a:pt x="6039" y="150460"/>
                </a:lnTo>
                <a:lnTo>
                  <a:pt x="7931" y="151107"/>
                </a:lnTo>
                <a:lnTo>
                  <a:pt x="9192" y="152384"/>
                </a:lnTo>
                <a:lnTo>
                  <a:pt x="10033" y="154083"/>
                </a:lnTo>
                <a:lnTo>
                  <a:pt x="10594" y="156062"/>
                </a:lnTo>
                <a:lnTo>
                  <a:pt x="12661" y="157381"/>
                </a:lnTo>
                <a:lnTo>
                  <a:pt x="15732" y="158261"/>
                </a:lnTo>
                <a:lnTo>
                  <a:pt x="19473" y="158847"/>
                </a:lnTo>
                <a:lnTo>
                  <a:pt x="22814" y="158392"/>
                </a:lnTo>
                <a:lnTo>
                  <a:pt x="25888" y="157241"/>
                </a:lnTo>
                <a:lnTo>
                  <a:pt x="28784" y="155628"/>
                </a:lnTo>
                <a:lnTo>
                  <a:pt x="36516" y="151577"/>
                </a:lnTo>
                <a:lnTo>
                  <a:pt x="40949" y="149311"/>
                </a:lnTo>
                <a:lnTo>
                  <a:pt x="44751" y="147801"/>
                </a:lnTo>
                <a:lnTo>
                  <a:pt x="48132" y="146794"/>
                </a:lnTo>
                <a:lnTo>
                  <a:pt x="51233" y="146123"/>
                </a:lnTo>
                <a:lnTo>
                  <a:pt x="54147" y="144828"/>
                </a:lnTo>
                <a:lnTo>
                  <a:pt x="56936" y="143119"/>
                </a:lnTo>
                <a:lnTo>
                  <a:pt x="59643" y="141133"/>
                </a:lnTo>
                <a:lnTo>
                  <a:pt x="62293" y="138962"/>
                </a:lnTo>
                <a:lnTo>
                  <a:pt x="64907" y="136668"/>
                </a:lnTo>
                <a:lnTo>
                  <a:pt x="72675" y="1295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InkAnnotation4"/>
          <p:cNvSpPr/>
          <p:nvPr/>
        </p:nvSpPr>
        <p:spPr>
          <a:xfrm>
            <a:off x="1676520" y="1989000"/>
            <a:ext cx="122040" cy="22320"/>
          </a:xfrm>
          <a:custGeom>
            <a:avLst/>
            <a:gdLst>
              <a:gd name="textAreaLeft" fmla="*/ 0 w 122040"/>
              <a:gd name="textAreaRight" fmla="*/ 122400 w 122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1913" h="22853">
                <a:moveTo>
                  <a:pt x="7612" y="0"/>
                </a:moveTo>
                <a:lnTo>
                  <a:pt x="306" y="0"/>
                </a:lnTo>
                <a:lnTo>
                  <a:pt x="201" y="847"/>
                </a:lnTo>
                <a:lnTo>
                  <a:pt x="132" y="2258"/>
                </a:lnTo>
                <a:lnTo>
                  <a:pt x="0" y="7307"/>
                </a:lnTo>
                <a:lnTo>
                  <a:pt x="844" y="8258"/>
                </a:lnTo>
                <a:lnTo>
                  <a:pt x="4040" y="11573"/>
                </a:lnTo>
                <a:lnTo>
                  <a:pt x="6077" y="12795"/>
                </a:lnTo>
                <a:lnTo>
                  <a:pt x="8282" y="13610"/>
                </a:lnTo>
                <a:lnTo>
                  <a:pt x="13860" y="14918"/>
                </a:lnTo>
                <a:lnTo>
                  <a:pt x="15164" y="15873"/>
                </a:lnTo>
                <a:lnTo>
                  <a:pt x="16880" y="17355"/>
                </a:lnTo>
                <a:lnTo>
                  <a:pt x="18871" y="19190"/>
                </a:lnTo>
                <a:lnTo>
                  <a:pt x="21044" y="20414"/>
                </a:lnTo>
                <a:lnTo>
                  <a:pt x="23340" y="21229"/>
                </a:lnTo>
                <a:lnTo>
                  <a:pt x="25718" y="21773"/>
                </a:lnTo>
                <a:lnTo>
                  <a:pt x="28149" y="22135"/>
                </a:lnTo>
                <a:lnTo>
                  <a:pt x="30617" y="22377"/>
                </a:lnTo>
                <a:lnTo>
                  <a:pt x="33109" y="22538"/>
                </a:lnTo>
                <a:lnTo>
                  <a:pt x="35616" y="22646"/>
                </a:lnTo>
                <a:lnTo>
                  <a:pt x="40661" y="22765"/>
                </a:lnTo>
                <a:lnTo>
                  <a:pt x="59920" y="22852"/>
                </a:lnTo>
                <a:lnTo>
                  <a:pt x="63651" y="22008"/>
                </a:lnTo>
                <a:lnTo>
                  <a:pt x="66984" y="20599"/>
                </a:lnTo>
                <a:lnTo>
                  <a:pt x="70054" y="18813"/>
                </a:lnTo>
                <a:lnTo>
                  <a:pt x="73793" y="17622"/>
                </a:lnTo>
                <a:lnTo>
                  <a:pt x="77980" y="16828"/>
                </a:lnTo>
                <a:lnTo>
                  <a:pt x="82464" y="16299"/>
                </a:lnTo>
                <a:lnTo>
                  <a:pt x="87147" y="15946"/>
                </a:lnTo>
                <a:lnTo>
                  <a:pt x="91962" y="15711"/>
                </a:lnTo>
                <a:lnTo>
                  <a:pt x="104571" y="15380"/>
                </a:lnTo>
                <a:lnTo>
                  <a:pt x="121912" y="15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InkAnnotation5"/>
          <p:cNvSpPr/>
          <p:nvPr/>
        </p:nvSpPr>
        <p:spPr>
          <a:xfrm>
            <a:off x="2049480" y="1889280"/>
            <a:ext cx="30240" cy="137880"/>
          </a:xfrm>
          <a:custGeom>
            <a:avLst/>
            <a:gdLst>
              <a:gd name="textAreaLeft" fmla="*/ 0 w 30240"/>
              <a:gd name="textAreaRight" fmla="*/ 30600 w 3024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30450" h="137161">
                <a:moveTo>
                  <a:pt x="30449" y="0"/>
                </a:moveTo>
                <a:lnTo>
                  <a:pt x="26404" y="4045"/>
                </a:lnTo>
                <a:lnTo>
                  <a:pt x="25212" y="6084"/>
                </a:lnTo>
                <a:lnTo>
                  <a:pt x="24418" y="8289"/>
                </a:lnTo>
                <a:lnTo>
                  <a:pt x="23888" y="10606"/>
                </a:lnTo>
                <a:lnTo>
                  <a:pt x="23535" y="12998"/>
                </a:lnTo>
                <a:lnTo>
                  <a:pt x="23300" y="15438"/>
                </a:lnTo>
                <a:lnTo>
                  <a:pt x="23143" y="17912"/>
                </a:lnTo>
                <a:lnTo>
                  <a:pt x="22968" y="22919"/>
                </a:lnTo>
                <a:lnTo>
                  <a:pt x="22922" y="25439"/>
                </a:lnTo>
                <a:lnTo>
                  <a:pt x="22044" y="28813"/>
                </a:lnTo>
                <a:lnTo>
                  <a:pt x="20613" y="32755"/>
                </a:lnTo>
                <a:lnTo>
                  <a:pt x="18811" y="37077"/>
                </a:lnTo>
                <a:lnTo>
                  <a:pt x="17611" y="40805"/>
                </a:lnTo>
                <a:lnTo>
                  <a:pt x="16810" y="44136"/>
                </a:lnTo>
                <a:lnTo>
                  <a:pt x="16277" y="47205"/>
                </a:lnTo>
                <a:lnTo>
                  <a:pt x="15074" y="50943"/>
                </a:lnTo>
                <a:lnTo>
                  <a:pt x="13426" y="55129"/>
                </a:lnTo>
                <a:lnTo>
                  <a:pt x="11480" y="59613"/>
                </a:lnTo>
                <a:lnTo>
                  <a:pt x="10183" y="64295"/>
                </a:lnTo>
                <a:lnTo>
                  <a:pt x="9319" y="69110"/>
                </a:lnTo>
                <a:lnTo>
                  <a:pt x="8742" y="74014"/>
                </a:lnTo>
                <a:lnTo>
                  <a:pt x="7511" y="78129"/>
                </a:lnTo>
                <a:lnTo>
                  <a:pt x="5844" y="81719"/>
                </a:lnTo>
                <a:lnTo>
                  <a:pt x="3886" y="84960"/>
                </a:lnTo>
                <a:lnTo>
                  <a:pt x="2580" y="88813"/>
                </a:lnTo>
                <a:lnTo>
                  <a:pt x="1710" y="93076"/>
                </a:lnTo>
                <a:lnTo>
                  <a:pt x="1130" y="97610"/>
                </a:lnTo>
                <a:lnTo>
                  <a:pt x="743" y="101480"/>
                </a:lnTo>
                <a:lnTo>
                  <a:pt x="485" y="104907"/>
                </a:lnTo>
                <a:lnTo>
                  <a:pt x="313" y="108038"/>
                </a:lnTo>
                <a:lnTo>
                  <a:pt x="122" y="113774"/>
                </a:lnTo>
                <a:lnTo>
                  <a:pt x="0" y="124356"/>
                </a:lnTo>
                <a:lnTo>
                  <a:pt x="836" y="126931"/>
                </a:lnTo>
                <a:lnTo>
                  <a:pt x="2240" y="129494"/>
                </a:lnTo>
                <a:lnTo>
                  <a:pt x="7589" y="137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InkAnnotation6"/>
          <p:cNvSpPr/>
          <p:nvPr/>
        </p:nvSpPr>
        <p:spPr>
          <a:xfrm>
            <a:off x="2011320" y="1927080"/>
            <a:ext cx="106560" cy="16200"/>
          </a:xfrm>
          <a:custGeom>
            <a:avLst/>
            <a:gdLst>
              <a:gd name="textAreaLeft" fmla="*/ 0 w 106560"/>
              <a:gd name="textAreaRight" fmla="*/ 106920 w 10656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06681" h="15241">
                <a:moveTo>
                  <a:pt x="0" y="15240"/>
                </a:moveTo>
                <a:lnTo>
                  <a:pt x="6561" y="15240"/>
                </a:lnTo>
                <a:lnTo>
                  <a:pt x="7760" y="14393"/>
                </a:lnTo>
                <a:lnTo>
                  <a:pt x="9407" y="12982"/>
                </a:lnTo>
                <a:lnTo>
                  <a:pt x="11351" y="11195"/>
                </a:lnTo>
                <a:lnTo>
                  <a:pt x="13494" y="10003"/>
                </a:lnTo>
                <a:lnTo>
                  <a:pt x="15769" y="9209"/>
                </a:lnTo>
                <a:lnTo>
                  <a:pt x="18133" y="8679"/>
                </a:lnTo>
                <a:lnTo>
                  <a:pt x="21402" y="8326"/>
                </a:lnTo>
                <a:lnTo>
                  <a:pt x="25275" y="8091"/>
                </a:lnTo>
                <a:lnTo>
                  <a:pt x="33246" y="7829"/>
                </a:lnTo>
                <a:lnTo>
                  <a:pt x="39612" y="7713"/>
                </a:lnTo>
                <a:lnTo>
                  <a:pt x="88692" y="7622"/>
                </a:lnTo>
                <a:lnTo>
                  <a:pt x="92995" y="6775"/>
                </a:lnTo>
                <a:lnTo>
                  <a:pt x="96710" y="5363"/>
                </a:lnTo>
                <a:lnTo>
                  <a:pt x="1066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InkAnnotation7"/>
          <p:cNvSpPr/>
          <p:nvPr/>
        </p:nvSpPr>
        <p:spPr>
          <a:xfrm>
            <a:off x="2165400" y="1844640"/>
            <a:ext cx="136440" cy="150840"/>
          </a:xfrm>
          <a:custGeom>
            <a:avLst/>
            <a:gdLst>
              <a:gd name="textAreaLeft" fmla="*/ 0 w 136440"/>
              <a:gd name="textAreaRight" fmla="*/ 136800 w 1364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36676" h="151270">
                <a:moveTo>
                  <a:pt x="14755" y="22830"/>
                </a:moveTo>
                <a:lnTo>
                  <a:pt x="14755" y="16269"/>
                </a:lnTo>
                <a:lnTo>
                  <a:pt x="15601" y="15916"/>
                </a:lnTo>
                <a:lnTo>
                  <a:pt x="18800" y="15524"/>
                </a:lnTo>
                <a:lnTo>
                  <a:pt x="19992" y="14573"/>
                </a:lnTo>
                <a:lnTo>
                  <a:pt x="20786" y="13092"/>
                </a:lnTo>
                <a:lnTo>
                  <a:pt x="21316" y="11258"/>
                </a:lnTo>
                <a:lnTo>
                  <a:pt x="22515" y="10035"/>
                </a:lnTo>
                <a:lnTo>
                  <a:pt x="24162" y="9220"/>
                </a:lnTo>
                <a:lnTo>
                  <a:pt x="26106" y="8677"/>
                </a:lnTo>
                <a:lnTo>
                  <a:pt x="28249" y="7468"/>
                </a:lnTo>
                <a:lnTo>
                  <a:pt x="30524" y="5815"/>
                </a:lnTo>
                <a:lnTo>
                  <a:pt x="32888" y="3867"/>
                </a:lnTo>
                <a:lnTo>
                  <a:pt x="35310" y="2568"/>
                </a:lnTo>
                <a:lnTo>
                  <a:pt x="37772" y="1702"/>
                </a:lnTo>
                <a:lnTo>
                  <a:pt x="40259" y="1125"/>
                </a:lnTo>
                <a:lnTo>
                  <a:pt x="43611" y="740"/>
                </a:lnTo>
                <a:lnTo>
                  <a:pt x="47539" y="483"/>
                </a:lnTo>
                <a:lnTo>
                  <a:pt x="55572" y="198"/>
                </a:lnTo>
                <a:lnTo>
                  <a:pt x="64855" y="38"/>
                </a:lnTo>
                <a:lnTo>
                  <a:pt x="70324" y="0"/>
                </a:lnTo>
                <a:lnTo>
                  <a:pt x="72967" y="837"/>
                </a:lnTo>
                <a:lnTo>
                  <a:pt x="75576" y="2241"/>
                </a:lnTo>
                <a:lnTo>
                  <a:pt x="81803" y="6534"/>
                </a:lnTo>
                <a:lnTo>
                  <a:pt x="84912" y="9378"/>
                </a:lnTo>
                <a:lnTo>
                  <a:pt x="86926" y="11322"/>
                </a:lnTo>
                <a:lnTo>
                  <a:pt x="88269" y="13465"/>
                </a:lnTo>
                <a:lnTo>
                  <a:pt x="89761" y="18103"/>
                </a:lnTo>
                <a:lnTo>
                  <a:pt x="89313" y="21372"/>
                </a:lnTo>
                <a:lnTo>
                  <a:pt x="88167" y="25245"/>
                </a:lnTo>
                <a:lnTo>
                  <a:pt x="86556" y="29520"/>
                </a:lnTo>
                <a:lnTo>
                  <a:pt x="84636" y="33217"/>
                </a:lnTo>
                <a:lnTo>
                  <a:pt x="82509" y="36528"/>
                </a:lnTo>
                <a:lnTo>
                  <a:pt x="80244" y="39582"/>
                </a:lnTo>
                <a:lnTo>
                  <a:pt x="77041" y="43311"/>
                </a:lnTo>
                <a:lnTo>
                  <a:pt x="73212" y="47491"/>
                </a:lnTo>
                <a:lnTo>
                  <a:pt x="64443" y="56650"/>
                </a:lnTo>
                <a:lnTo>
                  <a:pt x="13707" y="107694"/>
                </a:lnTo>
                <a:lnTo>
                  <a:pt x="10670" y="111580"/>
                </a:lnTo>
                <a:lnTo>
                  <a:pt x="7798" y="115863"/>
                </a:lnTo>
                <a:lnTo>
                  <a:pt x="5037" y="120412"/>
                </a:lnTo>
                <a:lnTo>
                  <a:pt x="3196" y="124291"/>
                </a:lnTo>
                <a:lnTo>
                  <a:pt x="1969" y="127725"/>
                </a:lnTo>
                <a:lnTo>
                  <a:pt x="1151" y="130860"/>
                </a:lnTo>
                <a:lnTo>
                  <a:pt x="606" y="133796"/>
                </a:lnTo>
                <a:lnTo>
                  <a:pt x="242" y="136601"/>
                </a:lnTo>
                <a:lnTo>
                  <a:pt x="0" y="139317"/>
                </a:lnTo>
                <a:lnTo>
                  <a:pt x="685" y="141128"/>
                </a:lnTo>
                <a:lnTo>
                  <a:pt x="1988" y="142336"/>
                </a:lnTo>
                <a:lnTo>
                  <a:pt x="3704" y="143140"/>
                </a:lnTo>
                <a:lnTo>
                  <a:pt x="7868" y="144035"/>
                </a:lnTo>
                <a:lnTo>
                  <a:pt x="10163" y="144273"/>
                </a:lnTo>
                <a:lnTo>
                  <a:pt x="13387" y="145279"/>
                </a:lnTo>
                <a:lnTo>
                  <a:pt x="17230" y="146796"/>
                </a:lnTo>
                <a:lnTo>
                  <a:pt x="21485" y="148654"/>
                </a:lnTo>
                <a:lnTo>
                  <a:pt x="26862" y="149893"/>
                </a:lnTo>
                <a:lnTo>
                  <a:pt x="32986" y="150719"/>
                </a:lnTo>
                <a:lnTo>
                  <a:pt x="39609" y="151269"/>
                </a:lnTo>
                <a:lnTo>
                  <a:pt x="46564" y="150789"/>
                </a:lnTo>
                <a:lnTo>
                  <a:pt x="53741" y="149623"/>
                </a:lnTo>
                <a:lnTo>
                  <a:pt x="61066" y="147999"/>
                </a:lnTo>
                <a:lnTo>
                  <a:pt x="69336" y="146916"/>
                </a:lnTo>
                <a:lnTo>
                  <a:pt x="78235" y="146194"/>
                </a:lnTo>
                <a:lnTo>
                  <a:pt x="87555" y="145713"/>
                </a:lnTo>
                <a:lnTo>
                  <a:pt x="95462" y="144545"/>
                </a:lnTo>
                <a:lnTo>
                  <a:pt x="102426" y="142920"/>
                </a:lnTo>
                <a:lnTo>
                  <a:pt x="108763" y="140990"/>
                </a:lnTo>
                <a:lnTo>
                  <a:pt x="114680" y="139703"/>
                </a:lnTo>
                <a:lnTo>
                  <a:pt x="120318" y="138846"/>
                </a:lnTo>
                <a:lnTo>
                  <a:pt x="136675" y="137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InkAnnotation8"/>
          <p:cNvSpPr/>
          <p:nvPr/>
        </p:nvSpPr>
        <p:spPr>
          <a:xfrm>
            <a:off x="2355840" y="1874880"/>
            <a:ext cx="158760" cy="174600"/>
          </a:xfrm>
          <a:custGeom>
            <a:avLst/>
            <a:gdLst>
              <a:gd name="textAreaLeft" fmla="*/ 0 w 158760"/>
              <a:gd name="textAreaRight" fmla="*/ 159120 w 1587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58830" h="175118">
                <a:moveTo>
                  <a:pt x="44529" y="0"/>
                </a:moveTo>
                <a:lnTo>
                  <a:pt x="44529" y="11351"/>
                </a:lnTo>
                <a:lnTo>
                  <a:pt x="43682" y="13494"/>
                </a:lnTo>
                <a:lnTo>
                  <a:pt x="38445" y="21402"/>
                </a:lnTo>
                <a:lnTo>
                  <a:pt x="36240" y="25275"/>
                </a:lnTo>
                <a:lnTo>
                  <a:pt x="31532" y="34093"/>
                </a:lnTo>
                <a:lnTo>
                  <a:pt x="11497" y="73702"/>
                </a:lnTo>
                <a:lnTo>
                  <a:pt x="9808" y="78768"/>
                </a:lnTo>
                <a:lnTo>
                  <a:pt x="8682" y="83839"/>
                </a:lnTo>
                <a:lnTo>
                  <a:pt x="7931" y="88912"/>
                </a:lnTo>
                <a:lnTo>
                  <a:pt x="6584" y="93988"/>
                </a:lnTo>
                <a:lnTo>
                  <a:pt x="4839" y="99066"/>
                </a:lnTo>
                <a:lnTo>
                  <a:pt x="2829" y="104144"/>
                </a:lnTo>
                <a:lnTo>
                  <a:pt x="1489" y="109222"/>
                </a:lnTo>
                <a:lnTo>
                  <a:pt x="596" y="114302"/>
                </a:lnTo>
                <a:lnTo>
                  <a:pt x="0" y="119381"/>
                </a:lnTo>
                <a:lnTo>
                  <a:pt x="450" y="124461"/>
                </a:lnTo>
                <a:lnTo>
                  <a:pt x="1597" y="129541"/>
                </a:lnTo>
                <a:lnTo>
                  <a:pt x="3207" y="134621"/>
                </a:lnTo>
                <a:lnTo>
                  <a:pt x="5128" y="139700"/>
                </a:lnTo>
                <a:lnTo>
                  <a:pt x="7255" y="144780"/>
                </a:lnTo>
                <a:lnTo>
                  <a:pt x="9520" y="149860"/>
                </a:lnTo>
                <a:lnTo>
                  <a:pt x="11876" y="154093"/>
                </a:lnTo>
                <a:lnTo>
                  <a:pt x="14294" y="157763"/>
                </a:lnTo>
                <a:lnTo>
                  <a:pt x="16752" y="161055"/>
                </a:lnTo>
                <a:lnTo>
                  <a:pt x="20085" y="164097"/>
                </a:lnTo>
                <a:lnTo>
                  <a:pt x="23999" y="166971"/>
                </a:lnTo>
                <a:lnTo>
                  <a:pt x="28303" y="169734"/>
                </a:lnTo>
                <a:lnTo>
                  <a:pt x="32865" y="171576"/>
                </a:lnTo>
                <a:lnTo>
                  <a:pt x="37600" y="172804"/>
                </a:lnTo>
                <a:lnTo>
                  <a:pt x="42449" y="173623"/>
                </a:lnTo>
                <a:lnTo>
                  <a:pt x="48223" y="174169"/>
                </a:lnTo>
                <a:lnTo>
                  <a:pt x="54611" y="174533"/>
                </a:lnTo>
                <a:lnTo>
                  <a:pt x="68483" y="174937"/>
                </a:lnTo>
                <a:lnTo>
                  <a:pt x="83115" y="175117"/>
                </a:lnTo>
                <a:lnTo>
                  <a:pt x="91420" y="174318"/>
                </a:lnTo>
                <a:lnTo>
                  <a:pt x="100343" y="172939"/>
                </a:lnTo>
                <a:lnTo>
                  <a:pt x="109678" y="171172"/>
                </a:lnTo>
                <a:lnTo>
                  <a:pt x="117595" y="169995"/>
                </a:lnTo>
                <a:lnTo>
                  <a:pt x="124566" y="169210"/>
                </a:lnTo>
                <a:lnTo>
                  <a:pt x="130907" y="168687"/>
                </a:lnTo>
                <a:lnTo>
                  <a:pt x="136828" y="168338"/>
                </a:lnTo>
                <a:lnTo>
                  <a:pt x="158829" y="1676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InkAnnotation9"/>
          <p:cNvSpPr/>
          <p:nvPr/>
        </p:nvSpPr>
        <p:spPr>
          <a:xfrm>
            <a:off x="2293920" y="1981080"/>
            <a:ext cx="212760" cy="7920"/>
          </a:xfrm>
          <a:custGeom>
            <a:avLst/>
            <a:gdLst>
              <a:gd name="textAreaLeft" fmla="*/ 0 w 212760"/>
              <a:gd name="textAreaRight" fmla="*/ 213120 w 212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13361" h="7528">
                <a:moveTo>
                  <a:pt x="0" y="0"/>
                </a:moveTo>
                <a:lnTo>
                  <a:pt x="10606" y="0"/>
                </a:lnTo>
                <a:lnTo>
                  <a:pt x="13844" y="847"/>
                </a:lnTo>
                <a:lnTo>
                  <a:pt x="17696" y="2258"/>
                </a:lnTo>
                <a:lnTo>
                  <a:pt x="21957" y="4045"/>
                </a:lnTo>
                <a:lnTo>
                  <a:pt x="26492" y="5237"/>
                </a:lnTo>
                <a:lnTo>
                  <a:pt x="31208" y="6031"/>
                </a:lnTo>
                <a:lnTo>
                  <a:pt x="36045" y="6561"/>
                </a:lnTo>
                <a:lnTo>
                  <a:pt x="40963" y="6914"/>
                </a:lnTo>
                <a:lnTo>
                  <a:pt x="45936" y="7149"/>
                </a:lnTo>
                <a:lnTo>
                  <a:pt x="56823" y="7411"/>
                </a:lnTo>
                <a:lnTo>
                  <a:pt x="70128" y="7527"/>
                </a:lnTo>
                <a:lnTo>
                  <a:pt x="77232" y="6711"/>
                </a:lnTo>
                <a:lnTo>
                  <a:pt x="84508" y="5321"/>
                </a:lnTo>
                <a:lnTo>
                  <a:pt x="91899" y="3547"/>
                </a:lnTo>
                <a:lnTo>
                  <a:pt x="99366" y="2365"/>
                </a:lnTo>
                <a:lnTo>
                  <a:pt x="106884" y="1577"/>
                </a:lnTo>
                <a:lnTo>
                  <a:pt x="114436" y="1051"/>
                </a:lnTo>
                <a:lnTo>
                  <a:pt x="122011" y="701"/>
                </a:lnTo>
                <a:lnTo>
                  <a:pt x="137200" y="311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InkAnnotation10"/>
          <p:cNvSpPr/>
          <p:nvPr/>
        </p:nvSpPr>
        <p:spPr>
          <a:xfrm>
            <a:off x="884160" y="2255760"/>
            <a:ext cx="351000" cy="235080"/>
          </a:xfrm>
          <a:custGeom>
            <a:avLst/>
            <a:gdLst>
              <a:gd name="textAreaLeft" fmla="*/ 0 w 351000"/>
              <a:gd name="textAreaRight" fmla="*/ 351360 w 3510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51764" h="235836">
                <a:moveTo>
                  <a:pt x="144780" y="38069"/>
                </a:moveTo>
                <a:lnTo>
                  <a:pt x="144780" y="30763"/>
                </a:lnTo>
                <a:lnTo>
                  <a:pt x="148825" y="26497"/>
                </a:lnTo>
                <a:lnTo>
                  <a:pt x="150864" y="25274"/>
                </a:lnTo>
                <a:lnTo>
                  <a:pt x="158624" y="22707"/>
                </a:lnTo>
                <a:lnTo>
                  <a:pt x="166737" y="19106"/>
                </a:lnTo>
                <a:lnTo>
                  <a:pt x="180825" y="12319"/>
                </a:lnTo>
                <a:lnTo>
                  <a:pt x="187437" y="10742"/>
                </a:lnTo>
                <a:lnTo>
                  <a:pt x="195231" y="9691"/>
                </a:lnTo>
                <a:lnTo>
                  <a:pt x="203814" y="8990"/>
                </a:lnTo>
                <a:lnTo>
                  <a:pt x="212076" y="7677"/>
                </a:lnTo>
                <a:lnTo>
                  <a:pt x="220124" y="5954"/>
                </a:lnTo>
                <a:lnTo>
                  <a:pt x="228029" y="3959"/>
                </a:lnTo>
                <a:lnTo>
                  <a:pt x="235840" y="2629"/>
                </a:lnTo>
                <a:lnTo>
                  <a:pt x="243587" y="1743"/>
                </a:lnTo>
                <a:lnTo>
                  <a:pt x="251291" y="1151"/>
                </a:lnTo>
                <a:lnTo>
                  <a:pt x="258121" y="757"/>
                </a:lnTo>
                <a:lnTo>
                  <a:pt x="270225" y="319"/>
                </a:lnTo>
                <a:lnTo>
                  <a:pt x="286559" y="73"/>
                </a:lnTo>
                <a:lnTo>
                  <a:pt x="302124" y="0"/>
                </a:lnTo>
                <a:lnTo>
                  <a:pt x="312359" y="2240"/>
                </a:lnTo>
                <a:lnTo>
                  <a:pt x="324638" y="6533"/>
                </a:lnTo>
                <a:lnTo>
                  <a:pt x="325645" y="7731"/>
                </a:lnTo>
                <a:lnTo>
                  <a:pt x="326317" y="9377"/>
                </a:lnTo>
                <a:lnTo>
                  <a:pt x="326765" y="11321"/>
                </a:lnTo>
                <a:lnTo>
                  <a:pt x="326217" y="13464"/>
                </a:lnTo>
                <a:lnTo>
                  <a:pt x="323350" y="18102"/>
                </a:lnTo>
                <a:lnTo>
                  <a:pt x="319253" y="22986"/>
                </a:lnTo>
                <a:lnTo>
                  <a:pt x="312917" y="28825"/>
                </a:lnTo>
                <a:lnTo>
                  <a:pt x="307672" y="32754"/>
                </a:lnTo>
                <a:lnTo>
                  <a:pt x="301634" y="37065"/>
                </a:lnTo>
                <a:lnTo>
                  <a:pt x="295070" y="40787"/>
                </a:lnTo>
                <a:lnTo>
                  <a:pt x="288153" y="44114"/>
                </a:lnTo>
                <a:lnTo>
                  <a:pt x="281002" y="47179"/>
                </a:lnTo>
                <a:lnTo>
                  <a:pt x="264026" y="55100"/>
                </a:lnTo>
                <a:lnTo>
                  <a:pt x="254757" y="59583"/>
                </a:lnTo>
                <a:lnTo>
                  <a:pt x="246038" y="63418"/>
                </a:lnTo>
                <a:lnTo>
                  <a:pt x="237685" y="66822"/>
                </a:lnTo>
                <a:lnTo>
                  <a:pt x="229577" y="69938"/>
                </a:lnTo>
                <a:lnTo>
                  <a:pt x="213794" y="75657"/>
                </a:lnTo>
                <a:lnTo>
                  <a:pt x="206029" y="78368"/>
                </a:lnTo>
                <a:lnTo>
                  <a:pt x="195144" y="83638"/>
                </a:lnTo>
                <a:lnTo>
                  <a:pt x="191056" y="86228"/>
                </a:lnTo>
                <a:lnTo>
                  <a:pt x="187484" y="89648"/>
                </a:lnTo>
                <a:lnTo>
                  <a:pt x="184256" y="93622"/>
                </a:lnTo>
                <a:lnTo>
                  <a:pt x="181258" y="97964"/>
                </a:lnTo>
                <a:lnTo>
                  <a:pt x="180105" y="100859"/>
                </a:lnTo>
                <a:lnTo>
                  <a:pt x="180184" y="102789"/>
                </a:lnTo>
                <a:lnTo>
                  <a:pt x="184339" y="107763"/>
                </a:lnTo>
                <a:lnTo>
                  <a:pt x="186393" y="109932"/>
                </a:lnTo>
                <a:lnTo>
                  <a:pt x="195448" y="114599"/>
                </a:lnTo>
                <a:lnTo>
                  <a:pt x="201418" y="117029"/>
                </a:lnTo>
                <a:lnTo>
                  <a:pt x="207939" y="118649"/>
                </a:lnTo>
                <a:lnTo>
                  <a:pt x="214826" y="119729"/>
                </a:lnTo>
                <a:lnTo>
                  <a:pt x="221958" y="120449"/>
                </a:lnTo>
                <a:lnTo>
                  <a:pt x="230098" y="121776"/>
                </a:lnTo>
                <a:lnTo>
                  <a:pt x="238913" y="123507"/>
                </a:lnTo>
                <a:lnTo>
                  <a:pt x="248175" y="125508"/>
                </a:lnTo>
                <a:lnTo>
                  <a:pt x="257737" y="126842"/>
                </a:lnTo>
                <a:lnTo>
                  <a:pt x="267498" y="127730"/>
                </a:lnTo>
                <a:lnTo>
                  <a:pt x="277392" y="128323"/>
                </a:lnTo>
                <a:lnTo>
                  <a:pt x="286528" y="129565"/>
                </a:lnTo>
                <a:lnTo>
                  <a:pt x="295159" y="131240"/>
                </a:lnTo>
                <a:lnTo>
                  <a:pt x="303453" y="133203"/>
                </a:lnTo>
                <a:lnTo>
                  <a:pt x="310675" y="134511"/>
                </a:lnTo>
                <a:lnTo>
                  <a:pt x="317184" y="135384"/>
                </a:lnTo>
                <a:lnTo>
                  <a:pt x="323216" y="135966"/>
                </a:lnTo>
                <a:lnTo>
                  <a:pt x="332176" y="138870"/>
                </a:lnTo>
                <a:lnTo>
                  <a:pt x="339827" y="143829"/>
                </a:lnTo>
                <a:lnTo>
                  <a:pt x="344238" y="147523"/>
                </a:lnTo>
                <a:lnTo>
                  <a:pt x="348872" y="151678"/>
                </a:lnTo>
                <a:lnTo>
                  <a:pt x="351115" y="155295"/>
                </a:lnTo>
                <a:lnTo>
                  <a:pt x="351763" y="158553"/>
                </a:lnTo>
                <a:lnTo>
                  <a:pt x="351349" y="161572"/>
                </a:lnTo>
                <a:lnTo>
                  <a:pt x="350226" y="164431"/>
                </a:lnTo>
                <a:lnTo>
                  <a:pt x="346721" y="169865"/>
                </a:lnTo>
                <a:lnTo>
                  <a:pt x="337825" y="175103"/>
                </a:lnTo>
                <a:lnTo>
                  <a:pt x="331896" y="177685"/>
                </a:lnTo>
                <a:lnTo>
                  <a:pt x="325405" y="180253"/>
                </a:lnTo>
                <a:lnTo>
                  <a:pt x="311418" y="185364"/>
                </a:lnTo>
                <a:lnTo>
                  <a:pt x="303285" y="188759"/>
                </a:lnTo>
                <a:lnTo>
                  <a:pt x="294477" y="192716"/>
                </a:lnTo>
                <a:lnTo>
                  <a:pt x="285218" y="197047"/>
                </a:lnTo>
                <a:lnTo>
                  <a:pt x="275659" y="200781"/>
                </a:lnTo>
                <a:lnTo>
                  <a:pt x="265899" y="204117"/>
                </a:lnTo>
                <a:lnTo>
                  <a:pt x="256006" y="207188"/>
                </a:lnTo>
                <a:lnTo>
                  <a:pt x="245178" y="210082"/>
                </a:lnTo>
                <a:lnTo>
                  <a:pt x="233725" y="212858"/>
                </a:lnTo>
                <a:lnTo>
                  <a:pt x="209711" y="218199"/>
                </a:lnTo>
                <a:lnTo>
                  <a:pt x="184927" y="223396"/>
                </a:lnTo>
                <a:lnTo>
                  <a:pt x="172392" y="225120"/>
                </a:lnTo>
                <a:lnTo>
                  <a:pt x="159801" y="226270"/>
                </a:lnTo>
                <a:lnTo>
                  <a:pt x="147174" y="227036"/>
                </a:lnTo>
                <a:lnTo>
                  <a:pt x="135370" y="228394"/>
                </a:lnTo>
                <a:lnTo>
                  <a:pt x="124113" y="230146"/>
                </a:lnTo>
                <a:lnTo>
                  <a:pt x="113222" y="232160"/>
                </a:lnTo>
                <a:lnTo>
                  <a:pt x="101728" y="233503"/>
                </a:lnTo>
                <a:lnTo>
                  <a:pt x="89832" y="234398"/>
                </a:lnTo>
                <a:lnTo>
                  <a:pt x="67019" y="235393"/>
                </a:lnTo>
                <a:lnTo>
                  <a:pt x="48413" y="235835"/>
                </a:lnTo>
                <a:lnTo>
                  <a:pt x="40742" y="235106"/>
                </a:lnTo>
                <a:lnTo>
                  <a:pt x="33935" y="233774"/>
                </a:lnTo>
                <a:lnTo>
                  <a:pt x="27703" y="232039"/>
                </a:lnTo>
                <a:lnTo>
                  <a:pt x="21855" y="230882"/>
                </a:lnTo>
                <a:lnTo>
                  <a:pt x="16264" y="230111"/>
                </a:lnTo>
                <a:lnTo>
                  <a:pt x="10843" y="229597"/>
                </a:lnTo>
                <a:lnTo>
                  <a:pt x="7228" y="228408"/>
                </a:lnTo>
                <a:lnTo>
                  <a:pt x="4819" y="226768"/>
                </a:lnTo>
                <a:lnTo>
                  <a:pt x="3213" y="224829"/>
                </a:lnTo>
                <a:lnTo>
                  <a:pt x="2142" y="222689"/>
                </a:lnTo>
                <a:lnTo>
                  <a:pt x="1428" y="220416"/>
                </a:lnTo>
                <a:lnTo>
                  <a:pt x="0" y="2133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InkAnnotation11"/>
          <p:cNvSpPr/>
          <p:nvPr/>
        </p:nvSpPr>
        <p:spPr>
          <a:xfrm>
            <a:off x="1349280" y="2370240"/>
            <a:ext cx="174600" cy="7920"/>
          </a:xfrm>
          <a:custGeom>
            <a:avLst/>
            <a:gdLst>
              <a:gd name="textAreaLeft" fmla="*/ 0 w 174600"/>
              <a:gd name="textAreaRight" fmla="*/ 174960 w 174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5261" h="7621">
                <a:moveTo>
                  <a:pt x="0" y="0"/>
                </a:moveTo>
                <a:lnTo>
                  <a:pt x="155911" y="0"/>
                </a:lnTo>
                <a:lnTo>
                  <a:pt x="160668" y="847"/>
                </a:lnTo>
                <a:lnTo>
                  <a:pt x="164685" y="2258"/>
                </a:lnTo>
                <a:lnTo>
                  <a:pt x="175260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InkAnnotation12"/>
          <p:cNvSpPr/>
          <p:nvPr/>
        </p:nvSpPr>
        <p:spPr>
          <a:xfrm>
            <a:off x="1363680" y="2446200"/>
            <a:ext cx="198360" cy="14400"/>
          </a:xfrm>
          <a:custGeom>
            <a:avLst/>
            <a:gdLst>
              <a:gd name="textAreaLeft" fmla="*/ 0 w 198360"/>
              <a:gd name="textAreaRight" fmla="*/ 198720 w 198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8121" h="15233">
                <a:moveTo>
                  <a:pt x="0" y="7620"/>
                </a:moveTo>
                <a:lnTo>
                  <a:pt x="0" y="11666"/>
                </a:lnTo>
                <a:lnTo>
                  <a:pt x="847" y="12857"/>
                </a:lnTo>
                <a:lnTo>
                  <a:pt x="2258" y="13652"/>
                </a:lnTo>
                <a:lnTo>
                  <a:pt x="4046" y="14181"/>
                </a:lnTo>
                <a:lnTo>
                  <a:pt x="6084" y="14534"/>
                </a:lnTo>
                <a:lnTo>
                  <a:pt x="10606" y="14926"/>
                </a:lnTo>
                <a:lnTo>
                  <a:pt x="17696" y="15101"/>
                </a:lnTo>
                <a:lnTo>
                  <a:pt x="48429" y="15232"/>
                </a:lnTo>
                <a:lnTo>
                  <a:pt x="55146" y="14388"/>
                </a:lnTo>
                <a:lnTo>
                  <a:pt x="62164" y="12979"/>
                </a:lnTo>
                <a:lnTo>
                  <a:pt x="69383" y="11193"/>
                </a:lnTo>
                <a:lnTo>
                  <a:pt x="75889" y="10002"/>
                </a:lnTo>
                <a:lnTo>
                  <a:pt x="81919" y="9208"/>
                </a:lnTo>
                <a:lnTo>
                  <a:pt x="87633" y="8679"/>
                </a:lnTo>
                <a:lnTo>
                  <a:pt x="93982" y="8326"/>
                </a:lnTo>
                <a:lnTo>
                  <a:pt x="107810" y="7934"/>
                </a:lnTo>
                <a:lnTo>
                  <a:pt x="125830" y="7713"/>
                </a:lnTo>
                <a:lnTo>
                  <a:pt x="132146" y="6836"/>
                </a:lnTo>
                <a:lnTo>
                  <a:pt x="138898" y="5404"/>
                </a:lnTo>
                <a:lnTo>
                  <a:pt x="145938" y="3603"/>
                </a:lnTo>
                <a:lnTo>
                  <a:pt x="152326" y="2402"/>
                </a:lnTo>
                <a:lnTo>
                  <a:pt x="158277" y="1601"/>
                </a:lnTo>
                <a:lnTo>
                  <a:pt x="163938" y="1068"/>
                </a:lnTo>
                <a:lnTo>
                  <a:pt x="168559" y="712"/>
                </a:lnTo>
                <a:lnTo>
                  <a:pt x="172486" y="475"/>
                </a:lnTo>
                <a:lnTo>
                  <a:pt x="179107" y="211"/>
                </a:lnTo>
                <a:lnTo>
                  <a:pt x="187595" y="63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InkAnnotation13"/>
          <p:cNvSpPr/>
          <p:nvPr/>
        </p:nvSpPr>
        <p:spPr>
          <a:xfrm>
            <a:off x="1727280" y="2236680"/>
            <a:ext cx="207720" cy="285840"/>
          </a:xfrm>
          <a:custGeom>
            <a:avLst/>
            <a:gdLst>
              <a:gd name="textAreaLeft" fmla="*/ 0 w 207720"/>
              <a:gd name="textAreaRight" fmla="*/ 208080 w 2077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08806" h="285973">
                <a:moveTo>
                  <a:pt x="208805" y="57372"/>
                </a:moveTo>
                <a:lnTo>
                  <a:pt x="208805" y="43505"/>
                </a:lnTo>
                <a:lnTo>
                  <a:pt x="206547" y="40485"/>
                </a:lnTo>
                <a:lnTo>
                  <a:pt x="204760" y="38494"/>
                </a:lnTo>
                <a:lnTo>
                  <a:pt x="198258" y="34024"/>
                </a:lnTo>
                <a:lnTo>
                  <a:pt x="194154" y="31647"/>
                </a:lnTo>
                <a:lnTo>
                  <a:pt x="190571" y="28369"/>
                </a:lnTo>
                <a:lnTo>
                  <a:pt x="184332" y="20211"/>
                </a:lnTo>
                <a:lnTo>
                  <a:pt x="180636" y="16511"/>
                </a:lnTo>
                <a:lnTo>
                  <a:pt x="176479" y="13198"/>
                </a:lnTo>
                <a:lnTo>
                  <a:pt x="172015" y="10143"/>
                </a:lnTo>
                <a:lnTo>
                  <a:pt x="167345" y="8106"/>
                </a:lnTo>
                <a:lnTo>
                  <a:pt x="162538" y="6748"/>
                </a:lnTo>
                <a:lnTo>
                  <a:pt x="157641" y="5843"/>
                </a:lnTo>
                <a:lnTo>
                  <a:pt x="151835" y="4393"/>
                </a:lnTo>
                <a:lnTo>
                  <a:pt x="145425" y="2579"/>
                </a:lnTo>
                <a:lnTo>
                  <a:pt x="138612" y="523"/>
                </a:lnTo>
                <a:lnTo>
                  <a:pt x="131530" y="0"/>
                </a:lnTo>
                <a:lnTo>
                  <a:pt x="124268" y="497"/>
                </a:lnTo>
                <a:lnTo>
                  <a:pt x="116887" y="1675"/>
                </a:lnTo>
                <a:lnTo>
                  <a:pt x="110273" y="3308"/>
                </a:lnTo>
                <a:lnTo>
                  <a:pt x="104170" y="5242"/>
                </a:lnTo>
                <a:lnTo>
                  <a:pt x="98408" y="7379"/>
                </a:lnTo>
                <a:lnTo>
                  <a:pt x="92027" y="10497"/>
                </a:lnTo>
                <a:lnTo>
                  <a:pt x="85233" y="14269"/>
                </a:lnTo>
                <a:lnTo>
                  <a:pt x="78164" y="18476"/>
                </a:lnTo>
                <a:lnTo>
                  <a:pt x="63535" y="27667"/>
                </a:lnTo>
                <a:lnTo>
                  <a:pt x="56079" y="32489"/>
                </a:lnTo>
                <a:lnTo>
                  <a:pt x="49414" y="37397"/>
                </a:lnTo>
                <a:lnTo>
                  <a:pt x="43278" y="42362"/>
                </a:lnTo>
                <a:lnTo>
                  <a:pt x="37493" y="47365"/>
                </a:lnTo>
                <a:lnTo>
                  <a:pt x="31944" y="53241"/>
                </a:lnTo>
                <a:lnTo>
                  <a:pt x="26551" y="59698"/>
                </a:lnTo>
                <a:lnTo>
                  <a:pt x="21262" y="66543"/>
                </a:lnTo>
                <a:lnTo>
                  <a:pt x="16890" y="72799"/>
                </a:lnTo>
                <a:lnTo>
                  <a:pt x="13128" y="78663"/>
                </a:lnTo>
                <a:lnTo>
                  <a:pt x="9774" y="84266"/>
                </a:lnTo>
                <a:lnTo>
                  <a:pt x="3789" y="92750"/>
                </a:lnTo>
                <a:lnTo>
                  <a:pt x="1008" y="96197"/>
                </a:lnTo>
                <a:lnTo>
                  <a:pt x="0" y="99342"/>
                </a:lnTo>
                <a:lnTo>
                  <a:pt x="175" y="102285"/>
                </a:lnTo>
                <a:lnTo>
                  <a:pt x="1139" y="105094"/>
                </a:lnTo>
                <a:lnTo>
                  <a:pt x="3474" y="107814"/>
                </a:lnTo>
                <a:lnTo>
                  <a:pt x="6724" y="110473"/>
                </a:lnTo>
                <a:lnTo>
                  <a:pt x="10584" y="113093"/>
                </a:lnTo>
                <a:lnTo>
                  <a:pt x="14005" y="115686"/>
                </a:lnTo>
                <a:lnTo>
                  <a:pt x="20063" y="120825"/>
                </a:lnTo>
                <a:lnTo>
                  <a:pt x="23710" y="121687"/>
                </a:lnTo>
                <a:lnTo>
                  <a:pt x="27835" y="121416"/>
                </a:lnTo>
                <a:lnTo>
                  <a:pt x="32278" y="120388"/>
                </a:lnTo>
                <a:lnTo>
                  <a:pt x="37780" y="118856"/>
                </a:lnTo>
                <a:lnTo>
                  <a:pt x="50667" y="114896"/>
                </a:lnTo>
                <a:lnTo>
                  <a:pt x="56813" y="112655"/>
                </a:lnTo>
                <a:lnTo>
                  <a:pt x="62604" y="110314"/>
                </a:lnTo>
                <a:lnTo>
                  <a:pt x="68158" y="107907"/>
                </a:lnTo>
                <a:lnTo>
                  <a:pt x="78844" y="102974"/>
                </a:lnTo>
                <a:lnTo>
                  <a:pt x="84064" y="100474"/>
                </a:lnTo>
                <a:lnTo>
                  <a:pt x="89238" y="97113"/>
                </a:lnTo>
                <a:lnTo>
                  <a:pt x="94380" y="93179"/>
                </a:lnTo>
                <a:lnTo>
                  <a:pt x="99502" y="88864"/>
                </a:lnTo>
                <a:lnTo>
                  <a:pt x="103763" y="85140"/>
                </a:lnTo>
                <a:lnTo>
                  <a:pt x="110755" y="78744"/>
                </a:lnTo>
                <a:lnTo>
                  <a:pt x="116685" y="70822"/>
                </a:lnTo>
                <a:lnTo>
                  <a:pt x="122143" y="62503"/>
                </a:lnTo>
                <a:lnTo>
                  <a:pt x="127391" y="55984"/>
                </a:lnTo>
                <a:lnTo>
                  <a:pt x="130287" y="50264"/>
                </a:lnTo>
                <a:lnTo>
                  <a:pt x="132593" y="42174"/>
                </a:lnTo>
                <a:lnTo>
                  <a:pt x="132604" y="56787"/>
                </a:lnTo>
                <a:lnTo>
                  <a:pt x="131758" y="61215"/>
                </a:lnTo>
                <a:lnTo>
                  <a:pt x="130347" y="65861"/>
                </a:lnTo>
                <a:lnTo>
                  <a:pt x="128559" y="70651"/>
                </a:lnTo>
                <a:lnTo>
                  <a:pt x="126522" y="75538"/>
                </a:lnTo>
                <a:lnTo>
                  <a:pt x="124316" y="80490"/>
                </a:lnTo>
                <a:lnTo>
                  <a:pt x="121999" y="85484"/>
                </a:lnTo>
                <a:lnTo>
                  <a:pt x="120455" y="91353"/>
                </a:lnTo>
                <a:lnTo>
                  <a:pt x="119425" y="97806"/>
                </a:lnTo>
                <a:lnTo>
                  <a:pt x="118738" y="104648"/>
                </a:lnTo>
                <a:lnTo>
                  <a:pt x="117434" y="111750"/>
                </a:lnTo>
                <a:lnTo>
                  <a:pt x="115718" y="119024"/>
                </a:lnTo>
                <a:lnTo>
                  <a:pt x="113727" y="126413"/>
                </a:lnTo>
                <a:lnTo>
                  <a:pt x="109257" y="141397"/>
                </a:lnTo>
                <a:lnTo>
                  <a:pt x="106880" y="148949"/>
                </a:lnTo>
                <a:lnTo>
                  <a:pt x="105295" y="156523"/>
                </a:lnTo>
                <a:lnTo>
                  <a:pt x="104238" y="164113"/>
                </a:lnTo>
                <a:lnTo>
                  <a:pt x="103534" y="171713"/>
                </a:lnTo>
                <a:lnTo>
                  <a:pt x="102217" y="180166"/>
                </a:lnTo>
                <a:lnTo>
                  <a:pt x="100493" y="189188"/>
                </a:lnTo>
                <a:lnTo>
                  <a:pt x="98497" y="198589"/>
                </a:lnTo>
                <a:lnTo>
                  <a:pt x="97167" y="206550"/>
                </a:lnTo>
                <a:lnTo>
                  <a:pt x="96279" y="213551"/>
                </a:lnTo>
                <a:lnTo>
                  <a:pt x="95688" y="219911"/>
                </a:lnTo>
                <a:lnTo>
                  <a:pt x="95294" y="226692"/>
                </a:lnTo>
                <a:lnTo>
                  <a:pt x="94855" y="240999"/>
                </a:lnTo>
                <a:lnTo>
                  <a:pt x="94574" y="259559"/>
                </a:lnTo>
                <a:lnTo>
                  <a:pt x="94505" y="2859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InkAnnotation14"/>
          <p:cNvSpPr/>
          <p:nvPr/>
        </p:nvSpPr>
        <p:spPr>
          <a:xfrm>
            <a:off x="1943280" y="2263680"/>
            <a:ext cx="136440" cy="241560"/>
          </a:xfrm>
          <a:custGeom>
            <a:avLst/>
            <a:gdLst>
              <a:gd name="textAreaLeft" fmla="*/ 0 w 136440"/>
              <a:gd name="textAreaRight" fmla="*/ 136800 w 136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36679" h="242269">
                <a:moveTo>
                  <a:pt x="75718" y="0"/>
                </a:moveTo>
                <a:lnTo>
                  <a:pt x="75718" y="18133"/>
                </a:lnTo>
                <a:lnTo>
                  <a:pt x="73460" y="25275"/>
                </a:lnTo>
                <a:lnTo>
                  <a:pt x="71673" y="29550"/>
                </a:lnTo>
                <a:lnTo>
                  <a:pt x="69635" y="34093"/>
                </a:lnTo>
                <a:lnTo>
                  <a:pt x="65112" y="43657"/>
                </a:lnTo>
                <a:lnTo>
                  <a:pt x="62721" y="49425"/>
                </a:lnTo>
                <a:lnTo>
                  <a:pt x="60280" y="55810"/>
                </a:lnTo>
                <a:lnTo>
                  <a:pt x="55310" y="69678"/>
                </a:lnTo>
                <a:lnTo>
                  <a:pt x="50279" y="84308"/>
                </a:lnTo>
                <a:lnTo>
                  <a:pt x="46906" y="91765"/>
                </a:lnTo>
                <a:lnTo>
                  <a:pt x="42963" y="99277"/>
                </a:lnTo>
                <a:lnTo>
                  <a:pt x="38641" y="106825"/>
                </a:lnTo>
                <a:lnTo>
                  <a:pt x="34067" y="114396"/>
                </a:lnTo>
                <a:lnTo>
                  <a:pt x="24469" y="129583"/>
                </a:lnTo>
                <a:lnTo>
                  <a:pt x="20385" y="137189"/>
                </a:lnTo>
                <a:lnTo>
                  <a:pt x="16816" y="144799"/>
                </a:lnTo>
                <a:lnTo>
                  <a:pt x="13590" y="152413"/>
                </a:lnTo>
                <a:lnTo>
                  <a:pt x="7748" y="165389"/>
                </a:lnTo>
                <a:lnTo>
                  <a:pt x="5004" y="171219"/>
                </a:lnTo>
                <a:lnTo>
                  <a:pt x="3176" y="176799"/>
                </a:lnTo>
                <a:lnTo>
                  <a:pt x="1956" y="182213"/>
                </a:lnTo>
                <a:lnTo>
                  <a:pt x="1144" y="187515"/>
                </a:lnTo>
                <a:lnTo>
                  <a:pt x="602" y="193590"/>
                </a:lnTo>
                <a:lnTo>
                  <a:pt x="241" y="200181"/>
                </a:lnTo>
                <a:lnTo>
                  <a:pt x="0" y="207114"/>
                </a:lnTo>
                <a:lnTo>
                  <a:pt x="686" y="212583"/>
                </a:lnTo>
                <a:lnTo>
                  <a:pt x="1990" y="217075"/>
                </a:lnTo>
                <a:lnTo>
                  <a:pt x="3706" y="220917"/>
                </a:lnTo>
                <a:lnTo>
                  <a:pt x="6543" y="224325"/>
                </a:lnTo>
                <a:lnTo>
                  <a:pt x="10128" y="227443"/>
                </a:lnTo>
                <a:lnTo>
                  <a:pt x="14211" y="230369"/>
                </a:lnTo>
                <a:lnTo>
                  <a:pt x="18627" y="233166"/>
                </a:lnTo>
                <a:lnTo>
                  <a:pt x="23264" y="235877"/>
                </a:lnTo>
                <a:lnTo>
                  <a:pt x="28049" y="238532"/>
                </a:lnTo>
                <a:lnTo>
                  <a:pt x="33779" y="240301"/>
                </a:lnTo>
                <a:lnTo>
                  <a:pt x="40139" y="241481"/>
                </a:lnTo>
                <a:lnTo>
                  <a:pt x="46918" y="242268"/>
                </a:lnTo>
                <a:lnTo>
                  <a:pt x="53978" y="241945"/>
                </a:lnTo>
                <a:lnTo>
                  <a:pt x="61225" y="240883"/>
                </a:lnTo>
                <a:lnTo>
                  <a:pt x="68596" y="239329"/>
                </a:lnTo>
                <a:lnTo>
                  <a:pt x="76050" y="237446"/>
                </a:lnTo>
                <a:lnTo>
                  <a:pt x="83559" y="235344"/>
                </a:lnTo>
                <a:lnTo>
                  <a:pt x="91106" y="233096"/>
                </a:lnTo>
                <a:lnTo>
                  <a:pt x="98676" y="231598"/>
                </a:lnTo>
                <a:lnTo>
                  <a:pt x="106264" y="230598"/>
                </a:lnTo>
                <a:lnTo>
                  <a:pt x="113862" y="229933"/>
                </a:lnTo>
                <a:lnTo>
                  <a:pt x="119774" y="228642"/>
                </a:lnTo>
                <a:lnTo>
                  <a:pt x="124562" y="226935"/>
                </a:lnTo>
                <a:lnTo>
                  <a:pt x="136678" y="2209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InkAnnotation15"/>
          <p:cNvSpPr/>
          <p:nvPr/>
        </p:nvSpPr>
        <p:spPr>
          <a:xfrm>
            <a:off x="1859040" y="2422440"/>
            <a:ext cx="220680" cy="7920"/>
          </a:xfrm>
          <a:custGeom>
            <a:avLst/>
            <a:gdLst>
              <a:gd name="textAreaLeft" fmla="*/ 0 w 220680"/>
              <a:gd name="textAreaRight" fmla="*/ 221040 w 220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0981" h="762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6084" y="6914"/>
                </a:lnTo>
                <a:lnTo>
                  <a:pt x="8289" y="7149"/>
                </a:lnTo>
                <a:lnTo>
                  <a:pt x="10606" y="7306"/>
                </a:lnTo>
                <a:lnTo>
                  <a:pt x="17696" y="7481"/>
                </a:lnTo>
                <a:lnTo>
                  <a:pt x="147402" y="7620"/>
                </a:lnTo>
                <a:lnTo>
                  <a:pt x="157534" y="6773"/>
                </a:lnTo>
                <a:lnTo>
                  <a:pt x="167676" y="5362"/>
                </a:lnTo>
                <a:lnTo>
                  <a:pt x="177824" y="3575"/>
                </a:lnTo>
                <a:lnTo>
                  <a:pt x="185436" y="2383"/>
                </a:lnTo>
                <a:lnTo>
                  <a:pt x="191357" y="1589"/>
                </a:lnTo>
                <a:lnTo>
                  <a:pt x="196152" y="1059"/>
                </a:lnTo>
                <a:lnTo>
                  <a:pt x="201041" y="706"/>
                </a:lnTo>
                <a:lnTo>
                  <a:pt x="205994" y="471"/>
                </a:lnTo>
                <a:lnTo>
                  <a:pt x="2209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InkAnnotation16"/>
          <p:cNvSpPr/>
          <p:nvPr/>
        </p:nvSpPr>
        <p:spPr>
          <a:xfrm>
            <a:off x="2370240" y="2247840"/>
            <a:ext cx="7920" cy="266760"/>
          </a:xfrm>
          <a:custGeom>
            <a:avLst/>
            <a:gdLst>
              <a:gd name="textAreaLeft" fmla="*/ 0 w 7920"/>
              <a:gd name="textAreaRight" fmla="*/ 8280 w 7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621" h="266701">
                <a:moveTo>
                  <a:pt x="7620" y="0"/>
                </a:moveTo>
                <a:lnTo>
                  <a:pt x="7620" y="50198"/>
                </a:lnTo>
                <a:lnTo>
                  <a:pt x="6774" y="56326"/>
                </a:lnTo>
                <a:lnTo>
                  <a:pt x="5362" y="62950"/>
                </a:lnTo>
                <a:lnTo>
                  <a:pt x="3575" y="69907"/>
                </a:lnTo>
                <a:lnTo>
                  <a:pt x="2383" y="77931"/>
                </a:lnTo>
                <a:lnTo>
                  <a:pt x="1589" y="86668"/>
                </a:lnTo>
                <a:lnTo>
                  <a:pt x="1059" y="95878"/>
                </a:lnTo>
                <a:lnTo>
                  <a:pt x="471" y="112886"/>
                </a:lnTo>
                <a:lnTo>
                  <a:pt x="93" y="144501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InkAnnotation17"/>
          <p:cNvSpPr/>
          <p:nvPr/>
        </p:nvSpPr>
        <p:spPr>
          <a:xfrm>
            <a:off x="2239920" y="2392200"/>
            <a:ext cx="182520" cy="24120"/>
          </a:xfrm>
          <a:custGeom>
            <a:avLst/>
            <a:gdLst>
              <a:gd name="textAreaLeft" fmla="*/ 0 w 182520"/>
              <a:gd name="textAreaRight" fmla="*/ 182880 w 1825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182881" h="22861">
                <a:moveTo>
                  <a:pt x="0" y="22860"/>
                </a:moveTo>
                <a:lnTo>
                  <a:pt x="4045" y="18815"/>
                </a:lnTo>
                <a:lnTo>
                  <a:pt x="6084" y="17623"/>
                </a:lnTo>
                <a:lnTo>
                  <a:pt x="8289" y="16829"/>
                </a:lnTo>
                <a:lnTo>
                  <a:pt x="10606" y="16300"/>
                </a:lnTo>
                <a:lnTo>
                  <a:pt x="14691" y="15100"/>
                </a:lnTo>
                <a:lnTo>
                  <a:pt x="26002" y="11509"/>
                </a:lnTo>
                <a:lnTo>
                  <a:pt x="32575" y="10212"/>
                </a:lnTo>
                <a:lnTo>
                  <a:pt x="39497" y="9348"/>
                </a:lnTo>
                <a:lnTo>
                  <a:pt x="46651" y="8772"/>
                </a:lnTo>
                <a:lnTo>
                  <a:pt x="54807" y="8388"/>
                </a:lnTo>
                <a:lnTo>
                  <a:pt x="72901" y="7961"/>
                </a:lnTo>
                <a:lnTo>
                  <a:pt x="82468" y="7001"/>
                </a:lnTo>
                <a:lnTo>
                  <a:pt x="92232" y="5514"/>
                </a:lnTo>
                <a:lnTo>
                  <a:pt x="102128" y="3676"/>
                </a:lnTo>
                <a:lnTo>
                  <a:pt x="112112" y="2451"/>
                </a:lnTo>
                <a:lnTo>
                  <a:pt x="122155" y="1634"/>
                </a:lnTo>
                <a:lnTo>
                  <a:pt x="140651" y="726"/>
                </a:lnTo>
                <a:lnTo>
                  <a:pt x="154516" y="323"/>
                </a:lnTo>
                <a:lnTo>
                  <a:pt x="1828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InkAnnotation18"/>
          <p:cNvSpPr/>
          <p:nvPr/>
        </p:nvSpPr>
        <p:spPr>
          <a:xfrm>
            <a:off x="2500200" y="2263680"/>
            <a:ext cx="150840" cy="128520"/>
          </a:xfrm>
          <a:custGeom>
            <a:avLst/>
            <a:gdLst>
              <a:gd name="textAreaLeft" fmla="*/ 0 w 150840"/>
              <a:gd name="textAreaRight" fmla="*/ 151200 w 1508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0894" h="129503">
                <a:moveTo>
                  <a:pt x="59453" y="0"/>
                </a:moveTo>
                <a:lnTo>
                  <a:pt x="59453" y="11352"/>
                </a:lnTo>
                <a:lnTo>
                  <a:pt x="58606" y="14341"/>
                </a:lnTo>
                <a:lnTo>
                  <a:pt x="57195" y="18028"/>
                </a:lnTo>
                <a:lnTo>
                  <a:pt x="55408" y="22178"/>
                </a:lnTo>
                <a:lnTo>
                  <a:pt x="54216" y="25792"/>
                </a:lnTo>
                <a:lnTo>
                  <a:pt x="53422" y="29048"/>
                </a:lnTo>
                <a:lnTo>
                  <a:pt x="52892" y="32066"/>
                </a:lnTo>
                <a:lnTo>
                  <a:pt x="50846" y="35771"/>
                </a:lnTo>
                <a:lnTo>
                  <a:pt x="47788" y="39933"/>
                </a:lnTo>
                <a:lnTo>
                  <a:pt x="44057" y="44403"/>
                </a:lnTo>
                <a:lnTo>
                  <a:pt x="40722" y="48228"/>
                </a:lnTo>
                <a:lnTo>
                  <a:pt x="37652" y="51626"/>
                </a:lnTo>
                <a:lnTo>
                  <a:pt x="34759" y="54737"/>
                </a:lnTo>
                <a:lnTo>
                  <a:pt x="31984" y="58505"/>
                </a:lnTo>
                <a:lnTo>
                  <a:pt x="29287" y="62710"/>
                </a:lnTo>
                <a:lnTo>
                  <a:pt x="26642" y="67207"/>
                </a:lnTo>
                <a:lnTo>
                  <a:pt x="24033" y="71051"/>
                </a:lnTo>
                <a:lnTo>
                  <a:pt x="21446" y="74461"/>
                </a:lnTo>
                <a:lnTo>
                  <a:pt x="18875" y="77580"/>
                </a:lnTo>
                <a:lnTo>
                  <a:pt x="16314" y="81354"/>
                </a:lnTo>
                <a:lnTo>
                  <a:pt x="13761" y="85562"/>
                </a:lnTo>
                <a:lnTo>
                  <a:pt x="11211" y="90062"/>
                </a:lnTo>
                <a:lnTo>
                  <a:pt x="6121" y="99576"/>
                </a:lnTo>
                <a:lnTo>
                  <a:pt x="0" y="111392"/>
                </a:lnTo>
                <a:lnTo>
                  <a:pt x="344" y="113208"/>
                </a:lnTo>
                <a:lnTo>
                  <a:pt x="1420" y="115265"/>
                </a:lnTo>
                <a:lnTo>
                  <a:pt x="2985" y="117483"/>
                </a:lnTo>
                <a:lnTo>
                  <a:pt x="5721" y="119809"/>
                </a:lnTo>
                <a:lnTo>
                  <a:pt x="9238" y="122206"/>
                </a:lnTo>
                <a:lnTo>
                  <a:pt x="13277" y="124650"/>
                </a:lnTo>
                <a:lnTo>
                  <a:pt x="16815" y="126280"/>
                </a:lnTo>
                <a:lnTo>
                  <a:pt x="20021" y="127367"/>
                </a:lnTo>
                <a:lnTo>
                  <a:pt x="23005" y="128091"/>
                </a:lnTo>
                <a:lnTo>
                  <a:pt x="26688" y="128574"/>
                </a:lnTo>
                <a:lnTo>
                  <a:pt x="30836" y="128896"/>
                </a:lnTo>
                <a:lnTo>
                  <a:pt x="35295" y="129111"/>
                </a:lnTo>
                <a:lnTo>
                  <a:pt x="47023" y="129349"/>
                </a:lnTo>
                <a:lnTo>
                  <a:pt x="71203" y="129502"/>
                </a:lnTo>
                <a:lnTo>
                  <a:pt x="76599" y="128668"/>
                </a:lnTo>
                <a:lnTo>
                  <a:pt x="81891" y="127265"/>
                </a:lnTo>
                <a:lnTo>
                  <a:pt x="106595" y="118931"/>
                </a:lnTo>
                <a:lnTo>
                  <a:pt x="112894" y="116541"/>
                </a:lnTo>
                <a:lnTo>
                  <a:pt x="118787" y="114100"/>
                </a:lnTo>
                <a:lnTo>
                  <a:pt x="124409" y="111627"/>
                </a:lnTo>
                <a:lnTo>
                  <a:pt x="129004" y="109978"/>
                </a:lnTo>
                <a:lnTo>
                  <a:pt x="132914" y="108879"/>
                </a:lnTo>
                <a:lnTo>
                  <a:pt x="136366" y="108146"/>
                </a:lnTo>
                <a:lnTo>
                  <a:pt x="139515" y="107657"/>
                </a:lnTo>
                <a:lnTo>
                  <a:pt x="142461" y="107332"/>
                </a:lnTo>
                <a:lnTo>
                  <a:pt x="150893" y="106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InkAnnotation19"/>
          <p:cNvSpPr/>
          <p:nvPr/>
        </p:nvSpPr>
        <p:spPr>
          <a:xfrm>
            <a:off x="2624040" y="2239920"/>
            <a:ext cx="20880" cy="266760"/>
          </a:xfrm>
          <a:custGeom>
            <a:avLst/>
            <a:gdLst>
              <a:gd name="textAreaLeft" fmla="*/ 0 w 20880"/>
              <a:gd name="textAreaRight" fmla="*/ 21240 w 208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9551" h="266701">
                <a:moveTo>
                  <a:pt x="19550" y="0"/>
                </a:moveTo>
                <a:lnTo>
                  <a:pt x="19550" y="104144"/>
                </a:lnTo>
                <a:lnTo>
                  <a:pt x="18703" y="110070"/>
                </a:lnTo>
                <a:lnTo>
                  <a:pt x="17292" y="116560"/>
                </a:lnTo>
                <a:lnTo>
                  <a:pt x="15505" y="123426"/>
                </a:lnTo>
                <a:lnTo>
                  <a:pt x="13466" y="129698"/>
                </a:lnTo>
                <a:lnTo>
                  <a:pt x="11261" y="135572"/>
                </a:lnTo>
                <a:lnTo>
                  <a:pt x="8944" y="141181"/>
                </a:lnTo>
                <a:lnTo>
                  <a:pt x="7399" y="147461"/>
                </a:lnTo>
                <a:lnTo>
                  <a:pt x="6369" y="154187"/>
                </a:lnTo>
                <a:lnTo>
                  <a:pt x="5683" y="161212"/>
                </a:lnTo>
                <a:lnTo>
                  <a:pt x="5225" y="167588"/>
                </a:lnTo>
                <a:lnTo>
                  <a:pt x="4920" y="173532"/>
                </a:lnTo>
                <a:lnTo>
                  <a:pt x="4716" y="179188"/>
                </a:lnTo>
                <a:lnTo>
                  <a:pt x="3734" y="185499"/>
                </a:lnTo>
                <a:lnTo>
                  <a:pt x="2233" y="192246"/>
                </a:lnTo>
                <a:lnTo>
                  <a:pt x="385" y="199284"/>
                </a:lnTo>
                <a:lnTo>
                  <a:pt x="0" y="205669"/>
                </a:lnTo>
                <a:lnTo>
                  <a:pt x="590" y="211620"/>
                </a:lnTo>
                <a:lnTo>
                  <a:pt x="1830" y="217280"/>
                </a:lnTo>
                <a:lnTo>
                  <a:pt x="2656" y="222746"/>
                </a:lnTo>
                <a:lnTo>
                  <a:pt x="3208" y="228084"/>
                </a:lnTo>
                <a:lnTo>
                  <a:pt x="3575" y="233336"/>
                </a:lnTo>
                <a:lnTo>
                  <a:pt x="3820" y="238531"/>
                </a:lnTo>
                <a:lnTo>
                  <a:pt x="4092" y="248818"/>
                </a:lnTo>
                <a:lnTo>
                  <a:pt x="4310" y="2667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InkAnnotation20"/>
          <p:cNvSpPr/>
          <p:nvPr/>
        </p:nvSpPr>
        <p:spPr>
          <a:xfrm>
            <a:off x="2239920" y="2689200"/>
            <a:ext cx="252360" cy="23760"/>
          </a:xfrm>
          <a:custGeom>
            <a:avLst/>
            <a:gdLst>
              <a:gd name="textAreaLeft" fmla="*/ 0 w 252360"/>
              <a:gd name="textAreaRight" fmla="*/ 252720 w 2523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51461" h="22834">
                <a:moveTo>
                  <a:pt x="0" y="15240"/>
                </a:moveTo>
                <a:lnTo>
                  <a:pt x="0" y="21801"/>
                </a:lnTo>
                <a:lnTo>
                  <a:pt x="847" y="22154"/>
                </a:lnTo>
                <a:lnTo>
                  <a:pt x="8289" y="22721"/>
                </a:lnTo>
                <a:lnTo>
                  <a:pt x="15438" y="22819"/>
                </a:lnTo>
                <a:lnTo>
                  <a:pt x="17912" y="22833"/>
                </a:lnTo>
                <a:lnTo>
                  <a:pt x="20408" y="21995"/>
                </a:lnTo>
                <a:lnTo>
                  <a:pt x="22918" y="20590"/>
                </a:lnTo>
                <a:lnTo>
                  <a:pt x="25439" y="18807"/>
                </a:lnTo>
                <a:lnTo>
                  <a:pt x="28813" y="17618"/>
                </a:lnTo>
                <a:lnTo>
                  <a:pt x="32755" y="16825"/>
                </a:lnTo>
                <a:lnTo>
                  <a:pt x="37077" y="16297"/>
                </a:lnTo>
                <a:lnTo>
                  <a:pt x="42498" y="15945"/>
                </a:lnTo>
                <a:lnTo>
                  <a:pt x="48652" y="15710"/>
                </a:lnTo>
                <a:lnTo>
                  <a:pt x="69449" y="15379"/>
                </a:lnTo>
                <a:lnTo>
                  <a:pt x="99232" y="15268"/>
                </a:lnTo>
                <a:lnTo>
                  <a:pt x="106794" y="14412"/>
                </a:lnTo>
                <a:lnTo>
                  <a:pt x="114376" y="12994"/>
                </a:lnTo>
                <a:lnTo>
                  <a:pt x="121971" y="11203"/>
                </a:lnTo>
                <a:lnTo>
                  <a:pt x="129574" y="10009"/>
                </a:lnTo>
                <a:lnTo>
                  <a:pt x="137183" y="9212"/>
                </a:lnTo>
                <a:lnTo>
                  <a:pt x="144795" y="8682"/>
                </a:lnTo>
                <a:lnTo>
                  <a:pt x="152410" y="7481"/>
                </a:lnTo>
                <a:lnTo>
                  <a:pt x="160027" y="5834"/>
                </a:lnTo>
                <a:lnTo>
                  <a:pt x="167645" y="3890"/>
                </a:lnTo>
                <a:lnTo>
                  <a:pt x="174417" y="2593"/>
                </a:lnTo>
                <a:lnTo>
                  <a:pt x="180625" y="1729"/>
                </a:lnTo>
                <a:lnTo>
                  <a:pt x="186456" y="1152"/>
                </a:lnTo>
                <a:lnTo>
                  <a:pt x="192038" y="769"/>
                </a:lnTo>
                <a:lnTo>
                  <a:pt x="197452" y="512"/>
                </a:lnTo>
                <a:lnTo>
                  <a:pt x="208830" y="228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InkAnnotation21"/>
          <p:cNvSpPr/>
          <p:nvPr/>
        </p:nvSpPr>
        <p:spPr>
          <a:xfrm>
            <a:off x="2544840" y="2606760"/>
            <a:ext cx="190440" cy="90360"/>
          </a:xfrm>
          <a:custGeom>
            <a:avLst/>
            <a:gdLst>
              <a:gd name="textAreaLeft" fmla="*/ 0 w 190440"/>
              <a:gd name="textAreaRight" fmla="*/ 190800 w 1904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90050" h="91337">
                <a:moveTo>
                  <a:pt x="45269" y="0"/>
                </a:moveTo>
                <a:lnTo>
                  <a:pt x="45269" y="18944"/>
                </a:lnTo>
                <a:lnTo>
                  <a:pt x="44422" y="21096"/>
                </a:lnTo>
                <a:lnTo>
                  <a:pt x="43011" y="23377"/>
                </a:lnTo>
                <a:lnTo>
                  <a:pt x="41224" y="25745"/>
                </a:lnTo>
                <a:lnTo>
                  <a:pt x="40032" y="28170"/>
                </a:lnTo>
                <a:lnTo>
                  <a:pt x="39238" y="30633"/>
                </a:lnTo>
                <a:lnTo>
                  <a:pt x="38708" y="33122"/>
                </a:lnTo>
                <a:lnTo>
                  <a:pt x="36662" y="35628"/>
                </a:lnTo>
                <a:lnTo>
                  <a:pt x="33604" y="38146"/>
                </a:lnTo>
                <a:lnTo>
                  <a:pt x="29873" y="40670"/>
                </a:lnTo>
                <a:lnTo>
                  <a:pt x="26538" y="43200"/>
                </a:lnTo>
                <a:lnTo>
                  <a:pt x="23468" y="45734"/>
                </a:lnTo>
                <a:lnTo>
                  <a:pt x="20575" y="48269"/>
                </a:lnTo>
                <a:lnTo>
                  <a:pt x="17800" y="50806"/>
                </a:lnTo>
                <a:lnTo>
                  <a:pt x="12458" y="55883"/>
                </a:lnTo>
                <a:lnTo>
                  <a:pt x="4691" y="63501"/>
                </a:lnTo>
                <a:lnTo>
                  <a:pt x="2977" y="66041"/>
                </a:lnTo>
                <a:lnTo>
                  <a:pt x="1834" y="68580"/>
                </a:lnTo>
                <a:lnTo>
                  <a:pt x="1073" y="71121"/>
                </a:lnTo>
                <a:lnTo>
                  <a:pt x="565" y="73660"/>
                </a:lnTo>
                <a:lnTo>
                  <a:pt x="226" y="76200"/>
                </a:lnTo>
                <a:lnTo>
                  <a:pt x="0" y="78740"/>
                </a:lnTo>
                <a:lnTo>
                  <a:pt x="697" y="80434"/>
                </a:lnTo>
                <a:lnTo>
                  <a:pt x="2008" y="81563"/>
                </a:lnTo>
                <a:lnTo>
                  <a:pt x="3728" y="82315"/>
                </a:lnTo>
                <a:lnTo>
                  <a:pt x="5722" y="83664"/>
                </a:lnTo>
                <a:lnTo>
                  <a:pt x="7897" y="85409"/>
                </a:lnTo>
                <a:lnTo>
                  <a:pt x="10195" y="87420"/>
                </a:lnTo>
                <a:lnTo>
                  <a:pt x="13419" y="88760"/>
                </a:lnTo>
                <a:lnTo>
                  <a:pt x="17263" y="89653"/>
                </a:lnTo>
                <a:lnTo>
                  <a:pt x="21518" y="90249"/>
                </a:lnTo>
                <a:lnTo>
                  <a:pt x="26895" y="90646"/>
                </a:lnTo>
                <a:lnTo>
                  <a:pt x="33020" y="90911"/>
                </a:lnTo>
                <a:lnTo>
                  <a:pt x="46598" y="91205"/>
                </a:lnTo>
                <a:lnTo>
                  <a:pt x="61100" y="91336"/>
                </a:lnTo>
                <a:lnTo>
                  <a:pt x="69369" y="90524"/>
                </a:lnTo>
                <a:lnTo>
                  <a:pt x="78269" y="89136"/>
                </a:lnTo>
                <a:lnTo>
                  <a:pt x="87589" y="87364"/>
                </a:lnTo>
                <a:lnTo>
                  <a:pt x="96342" y="86183"/>
                </a:lnTo>
                <a:lnTo>
                  <a:pt x="104718" y="85395"/>
                </a:lnTo>
                <a:lnTo>
                  <a:pt x="112842" y="84871"/>
                </a:lnTo>
                <a:lnTo>
                  <a:pt x="121644" y="83674"/>
                </a:lnTo>
                <a:lnTo>
                  <a:pt x="130899" y="82029"/>
                </a:lnTo>
                <a:lnTo>
                  <a:pt x="140456" y="80086"/>
                </a:lnTo>
                <a:lnTo>
                  <a:pt x="148520" y="78791"/>
                </a:lnTo>
                <a:lnTo>
                  <a:pt x="155590" y="77928"/>
                </a:lnTo>
                <a:lnTo>
                  <a:pt x="161996" y="77351"/>
                </a:lnTo>
                <a:lnTo>
                  <a:pt x="167961" y="76121"/>
                </a:lnTo>
                <a:lnTo>
                  <a:pt x="173630" y="74454"/>
                </a:lnTo>
                <a:lnTo>
                  <a:pt x="190049" y="685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InkAnnotation22"/>
          <p:cNvSpPr/>
          <p:nvPr/>
        </p:nvSpPr>
        <p:spPr>
          <a:xfrm>
            <a:off x="2728800" y="2598840"/>
            <a:ext cx="36720" cy="204840"/>
          </a:xfrm>
          <a:custGeom>
            <a:avLst/>
            <a:gdLst>
              <a:gd name="textAreaLeft" fmla="*/ 0 w 36720"/>
              <a:gd name="textAreaRight" fmla="*/ 37080 w 367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7759" h="205741">
                <a:moveTo>
                  <a:pt x="37758" y="0"/>
                </a:moveTo>
                <a:lnTo>
                  <a:pt x="37758" y="6561"/>
                </a:lnTo>
                <a:lnTo>
                  <a:pt x="36911" y="8607"/>
                </a:lnTo>
                <a:lnTo>
                  <a:pt x="35500" y="11665"/>
                </a:lnTo>
                <a:lnTo>
                  <a:pt x="33713" y="15397"/>
                </a:lnTo>
                <a:lnTo>
                  <a:pt x="32521" y="18731"/>
                </a:lnTo>
                <a:lnTo>
                  <a:pt x="31727" y="21801"/>
                </a:lnTo>
                <a:lnTo>
                  <a:pt x="31197" y="24694"/>
                </a:lnTo>
                <a:lnTo>
                  <a:pt x="29997" y="28316"/>
                </a:lnTo>
                <a:lnTo>
                  <a:pt x="28351" y="32424"/>
                </a:lnTo>
                <a:lnTo>
                  <a:pt x="26406" y="36856"/>
                </a:lnTo>
                <a:lnTo>
                  <a:pt x="21988" y="46296"/>
                </a:lnTo>
                <a:lnTo>
                  <a:pt x="19625" y="51184"/>
                </a:lnTo>
                <a:lnTo>
                  <a:pt x="18049" y="56136"/>
                </a:lnTo>
                <a:lnTo>
                  <a:pt x="16999" y="61131"/>
                </a:lnTo>
                <a:lnTo>
                  <a:pt x="16298" y="66154"/>
                </a:lnTo>
                <a:lnTo>
                  <a:pt x="15832" y="71196"/>
                </a:lnTo>
                <a:lnTo>
                  <a:pt x="15520" y="76251"/>
                </a:lnTo>
                <a:lnTo>
                  <a:pt x="15313" y="81314"/>
                </a:lnTo>
                <a:lnTo>
                  <a:pt x="14328" y="87229"/>
                </a:lnTo>
                <a:lnTo>
                  <a:pt x="12824" y="93713"/>
                </a:lnTo>
                <a:lnTo>
                  <a:pt x="10976" y="100576"/>
                </a:lnTo>
                <a:lnTo>
                  <a:pt x="9743" y="106844"/>
                </a:lnTo>
                <a:lnTo>
                  <a:pt x="8921" y="112716"/>
                </a:lnTo>
                <a:lnTo>
                  <a:pt x="8374" y="118324"/>
                </a:lnTo>
                <a:lnTo>
                  <a:pt x="7162" y="124603"/>
                </a:lnTo>
                <a:lnTo>
                  <a:pt x="5507" y="131329"/>
                </a:lnTo>
                <a:lnTo>
                  <a:pt x="3557" y="138352"/>
                </a:lnTo>
                <a:lnTo>
                  <a:pt x="2258" y="144728"/>
                </a:lnTo>
                <a:lnTo>
                  <a:pt x="1391" y="150672"/>
                </a:lnTo>
                <a:lnTo>
                  <a:pt x="813" y="156328"/>
                </a:lnTo>
                <a:lnTo>
                  <a:pt x="428" y="161792"/>
                </a:lnTo>
                <a:lnTo>
                  <a:pt x="171" y="167128"/>
                </a:lnTo>
                <a:lnTo>
                  <a:pt x="0" y="172379"/>
                </a:lnTo>
                <a:lnTo>
                  <a:pt x="733" y="176726"/>
                </a:lnTo>
                <a:lnTo>
                  <a:pt x="2068" y="180471"/>
                </a:lnTo>
                <a:lnTo>
                  <a:pt x="3804" y="183814"/>
                </a:lnTo>
                <a:lnTo>
                  <a:pt x="4962" y="187736"/>
                </a:lnTo>
                <a:lnTo>
                  <a:pt x="5734" y="192044"/>
                </a:lnTo>
                <a:lnTo>
                  <a:pt x="7278" y="2057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InkAnnotation23"/>
          <p:cNvSpPr/>
          <p:nvPr/>
        </p:nvSpPr>
        <p:spPr>
          <a:xfrm>
            <a:off x="685800" y="2759040"/>
            <a:ext cx="190440" cy="22320"/>
          </a:xfrm>
          <a:custGeom>
            <a:avLst/>
            <a:gdLst>
              <a:gd name="textAreaLeft" fmla="*/ 0 w 190440"/>
              <a:gd name="textAreaRight" fmla="*/ 190800 w 190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90501" h="22861">
                <a:moveTo>
                  <a:pt x="0" y="22860"/>
                </a:moveTo>
                <a:lnTo>
                  <a:pt x="26969" y="22860"/>
                </a:lnTo>
                <a:lnTo>
                  <a:pt x="33219" y="22014"/>
                </a:lnTo>
                <a:lnTo>
                  <a:pt x="39926" y="20602"/>
                </a:lnTo>
                <a:lnTo>
                  <a:pt x="46938" y="18815"/>
                </a:lnTo>
                <a:lnTo>
                  <a:pt x="54152" y="17623"/>
                </a:lnTo>
                <a:lnTo>
                  <a:pt x="61501" y="16829"/>
                </a:lnTo>
                <a:lnTo>
                  <a:pt x="68941" y="16299"/>
                </a:lnTo>
                <a:lnTo>
                  <a:pt x="76441" y="15946"/>
                </a:lnTo>
                <a:lnTo>
                  <a:pt x="91547" y="15554"/>
                </a:lnTo>
                <a:lnTo>
                  <a:pt x="99978" y="14603"/>
                </a:lnTo>
                <a:lnTo>
                  <a:pt x="108985" y="13122"/>
                </a:lnTo>
                <a:lnTo>
                  <a:pt x="118377" y="11288"/>
                </a:lnTo>
                <a:lnTo>
                  <a:pt x="127178" y="10065"/>
                </a:lnTo>
                <a:lnTo>
                  <a:pt x="135585" y="9250"/>
                </a:lnTo>
                <a:lnTo>
                  <a:pt x="143730" y="8707"/>
                </a:lnTo>
                <a:lnTo>
                  <a:pt x="150853" y="7498"/>
                </a:lnTo>
                <a:lnTo>
                  <a:pt x="157296" y="5845"/>
                </a:lnTo>
                <a:lnTo>
                  <a:pt x="163284" y="3897"/>
                </a:lnTo>
                <a:lnTo>
                  <a:pt x="168969" y="2598"/>
                </a:lnTo>
                <a:lnTo>
                  <a:pt x="174453" y="1732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InkAnnotation24"/>
          <p:cNvSpPr/>
          <p:nvPr/>
        </p:nvSpPr>
        <p:spPr>
          <a:xfrm>
            <a:off x="982800" y="2651040"/>
            <a:ext cx="75960" cy="128520"/>
          </a:xfrm>
          <a:custGeom>
            <a:avLst/>
            <a:gdLst>
              <a:gd name="textAreaLeft" fmla="*/ 0 w 75960"/>
              <a:gd name="textAreaRight" fmla="*/ 76320 w 75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76165" h="128245">
                <a:moveTo>
                  <a:pt x="30444" y="0"/>
                </a:moveTo>
                <a:lnTo>
                  <a:pt x="30444" y="4045"/>
                </a:lnTo>
                <a:lnTo>
                  <a:pt x="29597" y="6084"/>
                </a:lnTo>
                <a:lnTo>
                  <a:pt x="28186" y="8289"/>
                </a:lnTo>
                <a:lnTo>
                  <a:pt x="26399" y="10606"/>
                </a:lnTo>
                <a:lnTo>
                  <a:pt x="25207" y="13844"/>
                </a:lnTo>
                <a:lnTo>
                  <a:pt x="24413" y="17696"/>
                </a:lnTo>
                <a:lnTo>
                  <a:pt x="23883" y="21957"/>
                </a:lnTo>
                <a:lnTo>
                  <a:pt x="22683" y="25645"/>
                </a:lnTo>
                <a:lnTo>
                  <a:pt x="21037" y="28950"/>
                </a:lnTo>
                <a:lnTo>
                  <a:pt x="19093" y="32000"/>
                </a:lnTo>
                <a:lnTo>
                  <a:pt x="17796" y="35727"/>
                </a:lnTo>
                <a:lnTo>
                  <a:pt x="16932" y="39904"/>
                </a:lnTo>
                <a:lnTo>
                  <a:pt x="16356" y="44383"/>
                </a:lnTo>
                <a:lnTo>
                  <a:pt x="15125" y="49062"/>
                </a:lnTo>
                <a:lnTo>
                  <a:pt x="13458" y="53875"/>
                </a:lnTo>
                <a:lnTo>
                  <a:pt x="11500" y="58777"/>
                </a:lnTo>
                <a:lnTo>
                  <a:pt x="9348" y="63738"/>
                </a:lnTo>
                <a:lnTo>
                  <a:pt x="4699" y="73766"/>
                </a:lnTo>
                <a:lnTo>
                  <a:pt x="3121" y="78810"/>
                </a:lnTo>
                <a:lnTo>
                  <a:pt x="2068" y="83867"/>
                </a:lnTo>
                <a:lnTo>
                  <a:pt x="1367" y="88932"/>
                </a:lnTo>
                <a:lnTo>
                  <a:pt x="899" y="93154"/>
                </a:lnTo>
                <a:lnTo>
                  <a:pt x="588" y="96816"/>
                </a:lnTo>
                <a:lnTo>
                  <a:pt x="380" y="100104"/>
                </a:lnTo>
                <a:lnTo>
                  <a:pt x="149" y="108273"/>
                </a:lnTo>
                <a:lnTo>
                  <a:pt x="0" y="119224"/>
                </a:lnTo>
                <a:lnTo>
                  <a:pt x="835" y="120970"/>
                </a:lnTo>
                <a:lnTo>
                  <a:pt x="2238" y="122980"/>
                </a:lnTo>
                <a:lnTo>
                  <a:pt x="4020" y="125167"/>
                </a:lnTo>
                <a:lnTo>
                  <a:pt x="6055" y="126625"/>
                </a:lnTo>
                <a:lnTo>
                  <a:pt x="8258" y="127596"/>
                </a:lnTo>
                <a:lnTo>
                  <a:pt x="10573" y="128244"/>
                </a:lnTo>
                <a:lnTo>
                  <a:pt x="13810" y="127830"/>
                </a:lnTo>
                <a:lnTo>
                  <a:pt x="17661" y="126706"/>
                </a:lnTo>
                <a:lnTo>
                  <a:pt x="21922" y="125111"/>
                </a:lnTo>
                <a:lnTo>
                  <a:pt x="40055" y="118820"/>
                </a:lnTo>
                <a:lnTo>
                  <a:pt x="46164" y="117314"/>
                </a:lnTo>
                <a:lnTo>
                  <a:pt x="51931" y="116309"/>
                </a:lnTo>
                <a:lnTo>
                  <a:pt x="57469" y="115639"/>
                </a:lnTo>
                <a:lnTo>
                  <a:pt x="62007" y="114346"/>
                </a:lnTo>
                <a:lnTo>
                  <a:pt x="65879" y="112638"/>
                </a:lnTo>
                <a:lnTo>
                  <a:pt x="76164" y="106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InkAnnotation25"/>
          <p:cNvSpPr/>
          <p:nvPr/>
        </p:nvSpPr>
        <p:spPr>
          <a:xfrm>
            <a:off x="1127160" y="2629080"/>
            <a:ext cx="7920" cy="206280"/>
          </a:xfrm>
          <a:custGeom>
            <a:avLst/>
            <a:gdLst>
              <a:gd name="textAreaLeft" fmla="*/ 0 w 7920"/>
              <a:gd name="textAreaRight" fmla="*/ 8280 w 7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7621" h="205741">
                <a:moveTo>
                  <a:pt x="7620" y="0"/>
                </a:moveTo>
                <a:lnTo>
                  <a:pt x="7620" y="114351"/>
                </a:lnTo>
                <a:lnTo>
                  <a:pt x="6773" y="122801"/>
                </a:lnTo>
                <a:lnTo>
                  <a:pt x="5362" y="131820"/>
                </a:lnTo>
                <a:lnTo>
                  <a:pt x="3575" y="141220"/>
                </a:lnTo>
                <a:lnTo>
                  <a:pt x="2383" y="150874"/>
                </a:lnTo>
                <a:lnTo>
                  <a:pt x="1589" y="160696"/>
                </a:lnTo>
                <a:lnTo>
                  <a:pt x="706" y="178947"/>
                </a:lnTo>
                <a:lnTo>
                  <a:pt x="0" y="2057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InkAnnotation26"/>
          <p:cNvSpPr/>
          <p:nvPr/>
        </p:nvSpPr>
        <p:spPr>
          <a:xfrm>
            <a:off x="1058760" y="2674800"/>
            <a:ext cx="54000" cy="289080"/>
          </a:xfrm>
          <a:custGeom>
            <a:avLst/>
            <a:gdLst>
              <a:gd name="textAreaLeft" fmla="*/ 0 w 54000"/>
              <a:gd name="textAreaRight" fmla="*/ 54360 w 540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3341" h="289561">
                <a:moveTo>
                  <a:pt x="53340" y="0"/>
                </a:moveTo>
                <a:lnTo>
                  <a:pt x="53340" y="22178"/>
                </a:lnTo>
                <a:lnTo>
                  <a:pt x="52493" y="26639"/>
                </a:lnTo>
                <a:lnTo>
                  <a:pt x="51082" y="31306"/>
                </a:lnTo>
                <a:lnTo>
                  <a:pt x="49295" y="36111"/>
                </a:lnTo>
                <a:lnTo>
                  <a:pt x="48103" y="40161"/>
                </a:lnTo>
                <a:lnTo>
                  <a:pt x="46779" y="46918"/>
                </a:lnTo>
                <a:lnTo>
                  <a:pt x="45580" y="51599"/>
                </a:lnTo>
                <a:lnTo>
                  <a:pt x="43933" y="57259"/>
                </a:lnTo>
                <a:lnTo>
                  <a:pt x="41989" y="63573"/>
                </a:lnTo>
                <a:lnTo>
                  <a:pt x="40692" y="69475"/>
                </a:lnTo>
                <a:lnTo>
                  <a:pt x="39828" y="75104"/>
                </a:lnTo>
                <a:lnTo>
                  <a:pt x="39252" y="80549"/>
                </a:lnTo>
                <a:lnTo>
                  <a:pt x="38868" y="86720"/>
                </a:lnTo>
                <a:lnTo>
                  <a:pt x="38441" y="100349"/>
                </a:lnTo>
                <a:lnTo>
                  <a:pt x="37481" y="106692"/>
                </a:lnTo>
                <a:lnTo>
                  <a:pt x="35994" y="112615"/>
                </a:lnTo>
                <a:lnTo>
                  <a:pt x="34156" y="118257"/>
                </a:lnTo>
                <a:lnTo>
                  <a:pt x="32931" y="124558"/>
                </a:lnTo>
                <a:lnTo>
                  <a:pt x="32114" y="131298"/>
                </a:lnTo>
                <a:lnTo>
                  <a:pt x="31569" y="138332"/>
                </a:lnTo>
                <a:lnTo>
                  <a:pt x="30360" y="145562"/>
                </a:lnTo>
                <a:lnTo>
                  <a:pt x="28706" y="152921"/>
                </a:lnTo>
                <a:lnTo>
                  <a:pt x="26757" y="160367"/>
                </a:lnTo>
                <a:lnTo>
                  <a:pt x="25458" y="167872"/>
                </a:lnTo>
                <a:lnTo>
                  <a:pt x="24592" y="175414"/>
                </a:lnTo>
                <a:lnTo>
                  <a:pt x="24015" y="182983"/>
                </a:lnTo>
                <a:lnTo>
                  <a:pt x="23630" y="190569"/>
                </a:lnTo>
                <a:lnTo>
                  <a:pt x="23202" y="205770"/>
                </a:lnTo>
                <a:lnTo>
                  <a:pt x="22242" y="212533"/>
                </a:lnTo>
                <a:lnTo>
                  <a:pt x="20754" y="218736"/>
                </a:lnTo>
                <a:lnTo>
                  <a:pt x="18916" y="224564"/>
                </a:lnTo>
                <a:lnTo>
                  <a:pt x="17691" y="230142"/>
                </a:lnTo>
                <a:lnTo>
                  <a:pt x="16874" y="235555"/>
                </a:lnTo>
                <a:lnTo>
                  <a:pt x="16329" y="240857"/>
                </a:lnTo>
                <a:lnTo>
                  <a:pt x="15966" y="246084"/>
                </a:lnTo>
                <a:lnTo>
                  <a:pt x="15724" y="251263"/>
                </a:lnTo>
                <a:lnTo>
                  <a:pt x="15563" y="256409"/>
                </a:lnTo>
                <a:lnTo>
                  <a:pt x="14609" y="260686"/>
                </a:lnTo>
                <a:lnTo>
                  <a:pt x="13126" y="264384"/>
                </a:lnTo>
                <a:lnTo>
                  <a:pt x="11291" y="267696"/>
                </a:lnTo>
                <a:lnTo>
                  <a:pt x="10067" y="270751"/>
                </a:lnTo>
                <a:lnTo>
                  <a:pt x="8708" y="276402"/>
                </a:lnTo>
                <a:lnTo>
                  <a:pt x="7942" y="280299"/>
                </a:lnTo>
                <a:lnTo>
                  <a:pt x="6989" y="281693"/>
                </a:lnTo>
                <a:lnTo>
                  <a:pt x="5506" y="283469"/>
                </a:lnTo>
                <a:lnTo>
                  <a:pt x="0" y="2895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InkAnnotation27"/>
          <p:cNvSpPr/>
          <p:nvPr/>
        </p:nvSpPr>
        <p:spPr>
          <a:xfrm>
            <a:off x="838080" y="3216240"/>
            <a:ext cx="266760" cy="14400"/>
          </a:xfrm>
          <a:custGeom>
            <a:avLst/>
            <a:gdLst>
              <a:gd name="textAreaLeft" fmla="*/ 0 w 266760"/>
              <a:gd name="textAreaRight" fmla="*/ 267120 w 2667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66701" h="15241">
                <a:moveTo>
                  <a:pt x="0" y="0"/>
                </a:moveTo>
                <a:lnTo>
                  <a:pt x="4045" y="4045"/>
                </a:lnTo>
                <a:lnTo>
                  <a:pt x="6084" y="5237"/>
                </a:lnTo>
                <a:lnTo>
                  <a:pt x="8289" y="6031"/>
                </a:lnTo>
                <a:lnTo>
                  <a:pt x="10606" y="6561"/>
                </a:lnTo>
                <a:lnTo>
                  <a:pt x="13844" y="7760"/>
                </a:lnTo>
                <a:lnTo>
                  <a:pt x="17696" y="9407"/>
                </a:lnTo>
                <a:lnTo>
                  <a:pt x="21957" y="11352"/>
                </a:lnTo>
                <a:lnTo>
                  <a:pt x="25645" y="12647"/>
                </a:lnTo>
                <a:lnTo>
                  <a:pt x="28950" y="13512"/>
                </a:lnTo>
                <a:lnTo>
                  <a:pt x="32000" y="14088"/>
                </a:lnTo>
                <a:lnTo>
                  <a:pt x="36573" y="14472"/>
                </a:lnTo>
                <a:lnTo>
                  <a:pt x="42162" y="14728"/>
                </a:lnTo>
                <a:lnTo>
                  <a:pt x="55145" y="15012"/>
                </a:lnTo>
                <a:lnTo>
                  <a:pt x="248567" y="15240"/>
                </a:lnTo>
                <a:lnTo>
                  <a:pt x="252918" y="14393"/>
                </a:lnTo>
                <a:lnTo>
                  <a:pt x="256665" y="12982"/>
                </a:lnTo>
                <a:lnTo>
                  <a:pt x="266700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InkAnnotation28"/>
          <p:cNvSpPr/>
          <p:nvPr/>
        </p:nvSpPr>
        <p:spPr>
          <a:xfrm>
            <a:off x="1219320" y="3094200"/>
            <a:ext cx="7920" cy="220680"/>
          </a:xfrm>
          <a:custGeom>
            <a:avLst/>
            <a:gdLst>
              <a:gd name="textAreaLeft" fmla="*/ 0 w 7920"/>
              <a:gd name="textAreaRight" fmla="*/ 8280 w 79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7621" h="220981">
                <a:moveTo>
                  <a:pt x="0" y="0"/>
                </a:moveTo>
                <a:lnTo>
                  <a:pt x="6561" y="0"/>
                </a:lnTo>
                <a:lnTo>
                  <a:pt x="6914" y="847"/>
                </a:lnTo>
                <a:lnTo>
                  <a:pt x="7149" y="2258"/>
                </a:lnTo>
                <a:lnTo>
                  <a:pt x="7307" y="4046"/>
                </a:lnTo>
                <a:lnTo>
                  <a:pt x="7527" y="10606"/>
                </a:lnTo>
                <a:lnTo>
                  <a:pt x="7620" y="59613"/>
                </a:lnTo>
                <a:lnTo>
                  <a:pt x="6773" y="64295"/>
                </a:lnTo>
                <a:lnTo>
                  <a:pt x="5362" y="69110"/>
                </a:lnTo>
                <a:lnTo>
                  <a:pt x="3575" y="74014"/>
                </a:lnTo>
                <a:lnTo>
                  <a:pt x="2383" y="78976"/>
                </a:lnTo>
                <a:lnTo>
                  <a:pt x="1589" y="83978"/>
                </a:lnTo>
                <a:lnTo>
                  <a:pt x="1059" y="89005"/>
                </a:lnTo>
                <a:lnTo>
                  <a:pt x="706" y="93203"/>
                </a:lnTo>
                <a:lnTo>
                  <a:pt x="471" y="96849"/>
                </a:lnTo>
                <a:lnTo>
                  <a:pt x="314" y="100126"/>
                </a:lnTo>
                <a:lnTo>
                  <a:pt x="140" y="110541"/>
                </a:lnTo>
                <a:lnTo>
                  <a:pt x="1" y="173015"/>
                </a:lnTo>
                <a:lnTo>
                  <a:pt x="847" y="177150"/>
                </a:lnTo>
                <a:lnTo>
                  <a:pt x="2258" y="180753"/>
                </a:lnTo>
                <a:lnTo>
                  <a:pt x="4045" y="184002"/>
                </a:lnTo>
                <a:lnTo>
                  <a:pt x="5237" y="187015"/>
                </a:lnTo>
                <a:lnTo>
                  <a:pt x="6032" y="189870"/>
                </a:lnTo>
                <a:lnTo>
                  <a:pt x="6561" y="192620"/>
                </a:lnTo>
                <a:lnTo>
                  <a:pt x="6914" y="195300"/>
                </a:lnTo>
                <a:lnTo>
                  <a:pt x="7149" y="197933"/>
                </a:lnTo>
                <a:lnTo>
                  <a:pt x="7307" y="200536"/>
                </a:lnTo>
                <a:lnTo>
                  <a:pt x="7481" y="205685"/>
                </a:lnTo>
                <a:lnTo>
                  <a:pt x="7620" y="2209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InkAnnotation29"/>
          <p:cNvSpPr/>
          <p:nvPr/>
        </p:nvSpPr>
        <p:spPr>
          <a:xfrm>
            <a:off x="1417680" y="3178080"/>
            <a:ext cx="243000" cy="6480"/>
          </a:xfrm>
          <a:custGeom>
            <a:avLst/>
            <a:gdLst>
              <a:gd name="textAreaLeft" fmla="*/ 0 w 243000"/>
              <a:gd name="textAreaRight" fmla="*/ 243360 w 2430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43527" h="7613">
                <a:moveTo>
                  <a:pt x="7306" y="7612"/>
                </a:moveTo>
                <a:lnTo>
                  <a:pt x="0" y="7612"/>
                </a:lnTo>
                <a:lnTo>
                  <a:pt x="25128" y="7612"/>
                </a:lnTo>
                <a:lnTo>
                  <a:pt x="28501" y="6765"/>
                </a:lnTo>
                <a:lnTo>
                  <a:pt x="32442" y="5354"/>
                </a:lnTo>
                <a:lnTo>
                  <a:pt x="36764" y="3567"/>
                </a:lnTo>
                <a:lnTo>
                  <a:pt x="42185" y="2375"/>
                </a:lnTo>
                <a:lnTo>
                  <a:pt x="48338" y="1581"/>
                </a:lnTo>
                <a:lnTo>
                  <a:pt x="54981" y="1051"/>
                </a:lnTo>
                <a:lnTo>
                  <a:pt x="61103" y="698"/>
                </a:lnTo>
                <a:lnTo>
                  <a:pt x="72420" y="306"/>
                </a:lnTo>
                <a:lnTo>
                  <a:pt x="88312" y="85"/>
                </a:lnTo>
                <a:lnTo>
                  <a:pt x="129648" y="0"/>
                </a:lnTo>
                <a:lnTo>
                  <a:pt x="137128" y="844"/>
                </a:lnTo>
                <a:lnTo>
                  <a:pt x="144653" y="2253"/>
                </a:lnTo>
                <a:lnTo>
                  <a:pt x="152211" y="4040"/>
                </a:lnTo>
                <a:lnTo>
                  <a:pt x="159789" y="5230"/>
                </a:lnTo>
                <a:lnTo>
                  <a:pt x="167382" y="6024"/>
                </a:lnTo>
                <a:lnTo>
                  <a:pt x="174983" y="6553"/>
                </a:lnTo>
                <a:lnTo>
                  <a:pt x="181744" y="6907"/>
                </a:lnTo>
                <a:lnTo>
                  <a:pt x="193772" y="7298"/>
                </a:lnTo>
                <a:lnTo>
                  <a:pt x="218211" y="7571"/>
                </a:lnTo>
                <a:lnTo>
                  <a:pt x="243526" y="76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InkAnnotation30"/>
          <p:cNvSpPr/>
          <p:nvPr/>
        </p:nvSpPr>
        <p:spPr>
          <a:xfrm>
            <a:off x="1409760" y="3260880"/>
            <a:ext cx="236520" cy="1584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36221" h="15241">
                <a:moveTo>
                  <a:pt x="0" y="15240"/>
                </a:moveTo>
                <a:lnTo>
                  <a:pt x="66369" y="15240"/>
                </a:lnTo>
                <a:lnTo>
                  <a:pt x="72186" y="14394"/>
                </a:lnTo>
                <a:lnTo>
                  <a:pt x="78604" y="12982"/>
                </a:lnTo>
                <a:lnTo>
                  <a:pt x="85423" y="11195"/>
                </a:lnTo>
                <a:lnTo>
                  <a:pt x="92509" y="10003"/>
                </a:lnTo>
                <a:lnTo>
                  <a:pt x="99772" y="9209"/>
                </a:lnTo>
                <a:lnTo>
                  <a:pt x="107155" y="8680"/>
                </a:lnTo>
                <a:lnTo>
                  <a:pt x="113770" y="8326"/>
                </a:lnTo>
                <a:lnTo>
                  <a:pt x="125636" y="7934"/>
                </a:lnTo>
                <a:lnTo>
                  <a:pt x="145881" y="7713"/>
                </a:lnTo>
                <a:lnTo>
                  <a:pt x="153134" y="6835"/>
                </a:lnTo>
                <a:lnTo>
                  <a:pt x="160509" y="5403"/>
                </a:lnTo>
                <a:lnTo>
                  <a:pt x="167967" y="3603"/>
                </a:lnTo>
                <a:lnTo>
                  <a:pt x="175478" y="2402"/>
                </a:lnTo>
                <a:lnTo>
                  <a:pt x="183025" y="1601"/>
                </a:lnTo>
                <a:lnTo>
                  <a:pt x="190597" y="1068"/>
                </a:lnTo>
                <a:lnTo>
                  <a:pt x="197338" y="712"/>
                </a:lnTo>
                <a:lnTo>
                  <a:pt x="209344" y="316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InkAnnotation31"/>
          <p:cNvSpPr/>
          <p:nvPr/>
        </p:nvSpPr>
        <p:spPr>
          <a:xfrm>
            <a:off x="1738440" y="2979720"/>
            <a:ext cx="174600" cy="281160"/>
          </a:xfrm>
          <a:custGeom>
            <a:avLst/>
            <a:gdLst>
              <a:gd name="textAreaLeft" fmla="*/ 0 w 174600"/>
              <a:gd name="textAreaRight" fmla="*/ 174960 w 1746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74773" h="281809">
                <a:moveTo>
                  <a:pt x="167152" y="45588"/>
                </a:moveTo>
                <a:lnTo>
                  <a:pt x="167152" y="41543"/>
                </a:lnTo>
                <a:lnTo>
                  <a:pt x="166306" y="39504"/>
                </a:lnTo>
                <a:lnTo>
                  <a:pt x="161915" y="32591"/>
                </a:lnTo>
                <a:lnTo>
                  <a:pt x="160591" y="27676"/>
                </a:lnTo>
                <a:lnTo>
                  <a:pt x="159846" y="20149"/>
                </a:lnTo>
                <a:lnTo>
                  <a:pt x="158895" y="17622"/>
                </a:lnTo>
                <a:lnTo>
                  <a:pt x="155580" y="12556"/>
                </a:lnTo>
                <a:lnTo>
                  <a:pt x="152664" y="10020"/>
                </a:lnTo>
                <a:lnTo>
                  <a:pt x="149027" y="7483"/>
                </a:lnTo>
                <a:lnTo>
                  <a:pt x="144909" y="4945"/>
                </a:lnTo>
                <a:lnTo>
                  <a:pt x="140470" y="3252"/>
                </a:lnTo>
                <a:lnTo>
                  <a:pt x="135817" y="2124"/>
                </a:lnTo>
                <a:lnTo>
                  <a:pt x="131022" y="1372"/>
                </a:lnTo>
                <a:lnTo>
                  <a:pt x="126132" y="871"/>
                </a:lnTo>
                <a:lnTo>
                  <a:pt x="121179" y="537"/>
                </a:lnTo>
                <a:lnTo>
                  <a:pt x="116183" y="314"/>
                </a:lnTo>
                <a:lnTo>
                  <a:pt x="106117" y="66"/>
                </a:lnTo>
                <a:lnTo>
                  <a:pt x="101062" y="0"/>
                </a:lnTo>
                <a:lnTo>
                  <a:pt x="95152" y="803"/>
                </a:lnTo>
                <a:lnTo>
                  <a:pt x="88672" y="2185"/>
                </a:lnTo>
                <a:lnTo>
                  <a:pt x="81812" y="3952"/>
                </a:lnTo>
                <a:lnTo>
                  <a:pt x="74699" y="5978"/>
                </a:lnTo>
                <a:lnTo>
                  <a:pt x="60022" y="10486"/>
                </a:lnTo>
                <a:lnTo>
                  <a:pt x="53398" y="13720"/>
                </a:lnTo>
                <a:lnTo>
                  <a:pt x="47290" y="17569"/>
                </a:lnTo>
                <a:lnTo>
                  <a:pt x="41524" y="21829"/>
                </a:lnTo>
                <a:lnTo>
                  <a:pt x="35987" y="26362"/>
                </a:lnTo>
                <a:lnTo>
                  <a:pt x="30602" y="31077"/>
                </a:lnTo>
                <a:lnTo>
                  <a:pt x="25319" y="35914"/>
                </a:lnTo>
                <a:lnTo>
                  <a:pt x="20950" y="40832"/>
                </a:lnTo>
                <a:lnTo>
                  <a:pt x="17190" y="45804"/>
                </a:lnTo>
                <a:lnTo>
                  <a:pt x="13838" y="50812"/>
                </a:lnTo>
                <a:lnTo>
                  <a:pt x="10756" y="55844"/>
                </a:lnTo>
                <a:lnTo>
                  <a:pt x="7855" y="60892"/>
                </a:lnTo>
                <a:lnTo>
                  <a:pt x="5074" y="65951"/>
                </a:lnTo>
                <a:lnTo>
                  <a:pt x="1984" y="73829"/>
                </a:lnTo>
                <a:lnTo>
                  <a:pt x="611" y="81000"/>
                </a:lnTo>
                <a:lnTo>
                  <a:pt x="244" y="85282"/>
                </a:lnTo>
                <a:lnTo>
                  <a:pt x="0" y="89831"/>
                </a:lnTo>
                <a:lnTo>
                  <a:pt x="684" y="93710"/>
                </a:lnTo>
                <a:lnTo>
                  <a:pt x="3702" y="100278"/>
                </a:lnTo>
                <a:lnTo>
                  <a:pt x="6539" y="102368"/>
                </a:lnTo>
                <a:lnTo>
                  <a:pt x="10123" y="103761"/>
                </a:lnTo>
                <a:lnTo>
                  <a:pt x="14206" y="104690"/>
                </a:lnTo>
                <a:lnTo>
                  <a:pt x="17775" y="106156"/>
                </a:lnTo>
                <a:lnTo>
                  <a:pt x="21000" y="107980"/>
                </a:lnTo>
                <a:lnTo>
                  <a:pt x="23998" y="110043"/>
                </a:lnTo>
                <a:lnTo>
                  <a:pt x="28536" y="111418"/>
                </a:lnTo>
                <a:lnTo>
                  <a:pt x="34101" y="112335"/>
                </a:lnTo>
                <a:lnTo>
                  <a:pt x="40351" y="112946"/>
                </a:lnTo>
                <a:lnTo>
                  <a:pt x="46212" y="113353"/>
                </a:lnTo>
                <a:lnTo>
                  <a:pt x="51812" y="113625"/>
                </a:lnTo>
                <a:lnTo>
                  <a:pt x="57239" y="113806"/>
                </a:lnTo>
                <a:lnTo>
                  <a:pt x="63396" y="113080"/>
                </a:lnTo>
                <a:lnTo>
                  <a:pt x="70042" y="111749"/>
                </a:lnTo>
                <a:lnTo>
                  <a:pt x="77012" y="110016"/>
                </a:lnTo>
                <a:lnTo>
                  <a:pt x="84199" y="108013"/>
                </a:lnTo>
                <a:lnTo>
                  <a:pt x="98957" y="103530"/>
                </a:lnTo>
                <a:lnTo>
                  <a:pt x="104756" y="101149"/>
                </a:lnTo>
                <a:lnTo>
                  <a:pt x="109468" y="98716"/>
                </a:lnTo>
                <a:lnTo>
                  <a:pt x="113456" y="96247"/>
                </a:lnTo>
                <a:lnTo>
                  <a:pt x="118655" y="93754"/>
                </a:lnTo>
                <a:lnTo>
                  <a:pt x="124661" y="91245"/>
                </a:lnTo>
                <a:lnTo>
                  <a:pt x="131204" y="88726"/>
                </a:lnTo>
                <a:lnTo>
                  <a:pt x="136414" y="86200"/>
                </a:lnTo>
                <a:lnTo>
                  <a:pt x="140733" y="83669"/>
                </a:lnTo>
                <a:lnTo>
                  <a:pt x="144459" y="81136"/>
                </a:lnTo>
                <a:lnTo>
                  <a:pt x="147790" y="77753"/>
                </a:lnTo>
                <a:lnTo>
                  <a:pt x="150858" y="73805"/>
                </a:lnTo>
                <a:lnTo>
                  <a:pt x="155677" y="65749"/>
                </a:lnTo>
                <a:lnTo>
                  <a:pt x="157819" y="59346"/>
                </a:lnTo>
                <a:lnTo>
                  <a:pt x="161029" y="53678"/>
                </a:lnTo>
                <a:lnTo>
                  <a:pt x="167143" y="45600"/>
                </a:lnTo>
                <a:lnTo>
                  <a:pt x="167151" y="56195"/>
                </a:lnTo>
                <a:lnTo>
                  <a:pt x="164894" y="63285"/>
                </a:lnTo>
                <a:lnTo>
                  <a:pt x="161915" y="72080"/>
                </a:lnTo>
                <a:lnTo>
                  <a:pt x="161121" y="76796"/>
                </a:lnTo>
                <a:lnTo>
                  <a:pt x="160591" y="81633"/>
                </a:lnTo>
                <a:lnTo>
                  <a:pt x="160238" y="86552"/>
                </a:lnTo>
                <a:lnTo>
                  <a:pt x="160003" y="91524"/>
                </a:lnTo>
                <a:lnTo>
                  <a:pt x="159742" y="102411"/>
                </a:lnTo>
                <a:lnTo>
                  <a:pt x="159532" y="216834"/>
                </a:lnTo>
                <a:lnTo>
                  <a:pt x="160379" y="222405"/>
                </a:lnTo>
                <a:lnTo>
                  <a:pt x="161790" y="227813"/>
                </a:lnTo>
                <a:lnTo>
                  <a:pt x="163578" y="233111"/>
                </a:lnTo>
                <a:lnTo>
                  <a:pt x="164769" y="238337"/>
                </a:lnTo>
                <a:lnTo>
                  <a:pt x="165564" y="243514"/>
                </a:lnTo>
                <a:lnTo>
                  <a:pt x="166093" y="248659"/>
                </a:lnTo>
                <a:lnTo>
                  <a:pt x="167292" y="253782"/>
                </a:lnTo>
                <a:lnTo>
                  <a:pt x="168939" y="258891"/>
                </a:lnTo>
                <a:lnTo>
                  <a:pt x="170884" y="263990"/>
                </a:lnTo>
                <a:lnTo>
                  <a:pt x="173044" y="271913"/>
                </a:lnTo>
                <a:lnTo>
                  <a:pt x="174772" y="2818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InkAnnotation32"/>
          <p:cNvSpPr/>
          <p:nvPr/>
        </p:nvSpPr>
        <p:spPr>
          <a:xfrm>
            <a:off x="2027160" y="2994120"/>
            <a:ext cx="204840" cy="242640"/>
          </a:xfrm>
          <a:custGeom>
            <a:avLst/>
            <a:gdLst>
              <a:gd name="textAreaLeft" fmla="*/ 0 w 204840"/>
              <a:gd name="textAreaRight" fmla="*/ 205200 w 2048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05380" h="242544">
                <a:moveTo>
                  <a:pt x="68219" y="0"/>
                </a:moveTo>
                <a:lnTo>
                  <a:pt x="64174" y="0"/>
                </a:lnTo>
                <a:lnTo>
                  <a:pt x="62982" y="847"/>
                </a:lnTo>
                <a:lnTo>
                  <a:pt x="62188" y="2258"/>
                </a:lnTo>
                <a:lnTo>
                  <a:pt x="61305" y="6084"/>
                </a:lnTo>
                <a:lnTo>
                  <a:pt x="60913" y="10606"/>
                </a:lnTo>
                <a:lnTo>
                  <a:pt x="58481" y="17696"/>
                </a:lnTo>
                <a:lnTo>
                  <a:pt x="56647" y="21957"/>
                </a:lnTo>
                <a:lnTo>
                  <a:pt x="52352" y="31208"/>
                </a:lnTo>
                <a:lnTo>
                  <a:pt x="35162" y="66082"/>
                </a:lnTo>
                <a:lnTo>
                  <a:pt x="31788" y="71995"/>
                </a:lnTo>
                <a:lnTo>
                  <a:pt x="27845" y="78477"/>
                </a:lnTo>
                <a:lnTo>
                  <a:pt x="23523" y="85338"/>
                </a:lnTo>
                <a:lnTo>
                  <a:pt x="19795" y="92452"/>
                </a:lnTo>
                <a:lnTo>
                  <a:pt x="16463" y="99735"/>
                </a:lnTo>
                <a:lnTo>
                  <a:pt x="13395" y="107130"/>
                </a:lnTo>
                <a:lnTo>
                  <a:pt x="11350" y="113753"/>
                </a:lnTo>
                <a:lnTo>
                  <a:pt x="9986" y="119862"/>
                </a:lnTo>
                <a:lnTo>
                  <a:pt x="9077" y="125628"/>
                </a:lnTo>
                <a:lnTo>
                  <a:pt x="7624" y="132012"/>
                </a:lnTo>
                <a:lnTo>
                  <a:pt x="5809" y="138808"/>
                </a:lnTo>
                <a:lnTo>
                  <a:pt x="3753" y="145879"/>
                </a:lnTo>
                <a:lnTo>
                  <a:pt x="2382" y="153133"/>
                </a:lnTo>
                <a:lnTo>
                  <a:pt x="1467" y="160508"/>
                </a:lnTo>
                <a:lnTo>
                  <a:pt x="858" y="167966"/>
                </a:lnTo>
                <a:lnTo>
                  <a:pt x="452" y="174630"/>
                </a:lnTo>
                <a:lnTo>
                  <a:pt x="0" y="186551"/>
                </a:lnTo>
                <a:lnTo>
                  <a:pt x="726" y="192101"/>
                </a:lnTo>
                <a:lnTo>
                  <a:pt x="2057" y="197494"/>
                </a:lnTo>
                <a:lnTo>
                  <a:pt x="3791" y="202782"/>
                </a:lnTo>
                <a:lnTo>
                  <a:pt x="4947" y="207155"/>
                </a:lnTo>
                <a:lnTo>
                  <a:pt x="6232" y="214271"/>
                </a:lnTo>
                <a:lnTo>
                  <a:pt x="8268" y="218201"/>
                </a:lnTo>
                <a:lnTo>
                  <a:pt x="11318" y="222514"/>
                </a:lnTo>
                <a:lnTo>
                  <a:pt x="15045" y="227082"/>
                </a:lnTo>
                <a:lnTo>
                  <a:pt x="19223" y="230128"/>
                </a:lnTo>
                <a:lnTo>
                  <a:pt x="23702" y="232159"/>
                </a:lnTo>
                <a:lnTo>
                  <a:pt x="28381" y="233513"/>
                </a:lnTo>
                <a:lnTo>
                  <a:pt x="47102" y="239463"/>
                </a:lnTo>
                <a:lnTo>
                  <a:pt x="54141" y="240922"/>
                </a:lnTo>
                <a:lnTo>
                  <a:pt x="61374" y="241895"/>
                </a:lnTo>
                <a:lnTo>
                  <a:pt x="68735" y="242543"/>
                </a:lnTo>
                <a:lnTo>
                  <a:pt x="76183" y="242129"/>
                </a:lnTo>
                <a:lnTo>
                  <a:pt x="83689" y="241006"/>
                </a:lnTo>
                <a:lnTo>
                  <a:pt x="91232" y="239410"/>
                </a:lnTo>
                <a:lnTo>
                  <a:pt x="98801" y="238347"/>
                </a:lnTo>
                <a:lnTo>
                  <a:pt x="106387" y="237638"/>
                </a:lnTo>
                <a:lnTo>
                  <a:pt x="113984" y="237165"/>
                </a:lnTo>
                <a:lnTo>
                  <a:pt x="121589" y="236004"/>
                </a:lnTo>
                <a:lnTo>
                  <a:pt x="129199" y="234383"/>
                </a:lnTo>
                <a:lnTo>
                  <a:pt x="136812" y="232455"/>
                </a:lnTo>
                <a:lnTo>
                  <a:pt x="144428" y="230323"/>
                </a:lnTo>
                <a:lnTo>
                  <a:pt x="159663" y="225697"/>
                </a:lnTo>
                <a:lnTo>
                  <a:pt x="166435" y="223278"/>
                </a:lnTo>
                <a:lnTo>
                  <a:pt x="172643" y="220819"/>
                </a:lnTo>
                <a:lnTo>
                  <a:pt x="178475" y="218333"/>
                </a:lnTo>
                <a:lnTo>
                  <a:pt x="184057" y="216675"/>
                </a:lnTo>
                <a:lnTo>
                  <a:pt x="189471" y="215570"/>
                </a:lnTo>
                <a:lnTo>
                  <a:pt x="205379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InkAnnotation33"/>
          <p:cNvSpPr/>
          <p:nvPr/>
        </p:nvSpPr>
        <p:spPr>
          <a:xfrm>
            <a:off x="1973160" y="3124080"/>
            <a:ext cx="228600" cy="22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8601" h="22768">
                <a:moveTo>
                  <a:pt x="0" y="15240"/>
                </a:moveTo>
                <a:lnTo>
                  <a:pt x="4045" y="19286"/>
                </a:lnTo>
                <a:lnTo>
                  <a:pt x="6084" y="20477"/>
                </a:lnTo>
                <a:lnTo>
                  <a:pt x="8289" y="21272"/>
                </a:lnTo>
                <a:lnTo>
                  <a:pt x="10606" y="21801"/>
                </a:lnTo>
                <a:lnTo>
                  <a:pt x="15438" y="22390"/>
                </a:lnTo>
                <a:lnTo>
                  <a:pt x="21255" y="22651"/>
                </a:lnTo>
                <a:lnTo>
                  <a:pt x="29485" y="22767"/>
                </a:lnTo>
                <a:lnTo>
                  <a:pt x="34896" y="21951"/>
                </a:lnTo>
                <a:lnTo>
                  <a:pt x="41044" y="20561"/>
                </a:lnTo>
                <a:lnTo>
                  <a:pt x="47683" y="18787"/>
                </a:lnTo>
                <a:lnTo>
                  <a:pt x="53802" y="17605"/>
                </a:lnTo>
                <a:lnTo>
                  <a:pt x="59574" y="16817"/>
                </a:lnTo>
                <a:lnTo>
                  <a:pt x="65116" y="16291"/>
                </a:lnTo>
                <a:lnTo>
                  <a:pt x="72197" y="15941"/>
                </a:lnTo>
                <a:lnTo>
                  <a:pt x="89096" y="15552"/>
                </a:lnTo>
                <a:lnTo>
                  <a:pt x="97498" y="14601"/>
                </a:lnTo>
                <a:lnTo>
                  <a:pt x="105638" y="13121"/>
                </a:lnTo>
                <a:lnTo>
                  <a:pt x="113606" y="11287"/>
                </a:lnTo>
                <a:lnTo>
                  <a:pt x="122304" y="10065"/>
                </a:lnTo>
                <a:lnTo>
                  <a:pt x="131489" y="9250"/>
                </a:lnTo>
                <a:lnTo>
                  <a:pt x="140999" y="8707"/>
                </a:lnTo>
                <a:lnTo>
                  <a:pt x="158339" y="8103"/>
                </a:lnTo>
                <a:lnTo>
                  <a:pt x="166520" y="7942"/>
                </a:lnTo>
                <a:lnTo>
                  <a:pt x="175360" y="6988"/>
                </a:lnTo>
                <a:lnTo>
                  <a:pt x="184640" y="5505"/>
                </a:lnTo>
                <a:lnTo>
                  <a:pt x="194213" y="3670"/>
                </a:lnTo>
                <a:lnTo>
                  <a:pt x="201442" y="2447"/>
                </a:lnTo>
                <a:lnTo>
                  <a:pt x="207108" y="1631"/>
                </a:lnTo>
                <a:lnTo>
                  <a:pt x="211732" y="1087"/>
                </a:lnTo>
                <a:lnTo>
                  <a:pt x="215662" y="725"/>
                </a:lnTo>
                <a:lnTo>
                  <a:pt x="219128" y="483"/>
                </a:lnTo>
                <a:lnTo>
                  <a:pt x="22860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InkAnnotation34"/>
          <p:cNvSpPr/>
          <p:nvPr/>
        </p:nvSpPr>
        <p:spPr>
          <a:xfrm>
            <a:off x="1965240" y="3354480"/>
            <a:ext cx="533520" cy="44280"/>
          </a:xfrm>
          <a:custGeom>
            <a:avLst/>
            <a:gdLst>
              <a:gd name="textAreaLeft" fmla="*/ 0 w 533520"/>
              <a:gd name="textAreaRight" fmla="*/ 533880 w 5335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533401" h="44557">
                <a:moveTo>
                  <a:pt x="0" y="44556"/>
                </a:moveTo>
                <a:lnTo>
                  <a:pt x="4045" y="44556"/>
                </a:lnTo>
                <a:lnTo>
                  <a:pt x="8624" y="43710"/>
                </a:lnTo>
                <a:lnTo>
                  <a:pt x="22742" y="40511"/>
                </a:lnTo>
                <a:lnTo>
                  <a:pt x="28708" y="39319"/>
                </a:lnTo>
                <a:lnTo>
                  <a:pt x="108643" y="26423"/>
                </a:lnTo>
                <a:lnTo>
                  <a:pt x="142548" y="21539"/>
                </a:lnTo>
                <a:lnTo>
                  <a:pt x="161072" y="19051"/>
                </a:lnTo>
                <a:lnTo>
                  <a:pt x="180195" y="17393"/>
                </a:lnTo>
                <a:lnTo>
                  <a:pt x="199717" y="16288"/>
                </a:lnTo>
                <a:lnTo>
                  <a:pt x="219504" y="15550"/>
                </a:lnTo>
                <a:lnTo>
                  <a:pt x="239470" y="14212"/>
                </a:lnTo>
                <a:lnTo>
                  <a:pt x="279715" y="10467"/>
                </a:lnTo>
                <a:lnTo>
                  <a:pt x="300777" y="9130"/>
                </a:lnTo>
                <a:lnTo>
                  <a:pt x="322438" y="8239"/>
                </a:lnTo>
                <a:lnTo>
                  <a:pt x="344499" y="7644"/>
                </a:lnTo>
                <a:lnTo>
                  <a:pt x="365979" y="6402"/>
                </a:lnTo>
                <a:lnTo>
                  <a:pt x="387073" y="4727"/>
                </a:lnTo>
                <a:lnTo>
                  <a:pt x="407909" y="2763"/>
                </a:lnTo>
                <a:lnTo>
                  <a:pt x="428573" y="1454"/>
                </a:lnTo>
                <a:lnTo>
                  <a:pt x="469594" y="0"/>
                </a:lnTo>
                <a:lnTo>
                  <a:pt x="485783" y="459"/>
                </a:lnTo>
                <a:lnTo>
                  <a:pt x="499115" y="1611"/>
                </a:lnTo>
                <a:lnTo>
                  <a:pt x="533400" y="64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InkAnnotation35"/>
          <p:cNvSpPr/>
          <p:nvPr/>
        </p:nvSpPr>
        <p:spPr>
          <a:xfrm>
            <a:off x="830160" y="3413160"/>
            <a:ext cx="693720" cy="92160"/>
          </a:xfrm>
          <a:custGeom>
            <a:avLst/>
            <a:gdLst>
              <a:gd name="textAreaLeft" fmla="*/ 0 w 693720"/>
              <a:gd name="textAreaRight" fmla="*/ 694080 w 6937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693421" h="91441">
                <a:moveTo>
                  <a:pt x="0" y="91440"/>
                </a:moveTo>
                <a:lnTo>
                  <a:pt x="4046" y="87395"/>
                </a:lnTo>
                <a:lnTo>
                  <a:pt x="6930" y="86203"/>
                </a:lnTo>
                <a:lnTo>
                  <a:pt x="19928" y="83680"/>
                </a:lnTo>
                <a:lnTo>
                  <a:pt x="25985" y="82033"/>
                </a:lnTo>
                <a:lnTo>
                  <a:pt x="32564" y="80089"/>
                </a:lnTo>
                <a:lnTo>
                  <a:pt x="48904" y="75671"/>
                </a:lnTo>
                <a:lnTo>
                  <a:pt x="86989" y="65935"/>
                </a:lnTo>
                <a:lnTo>
                  <a:pt x="109217" y="60914"/>
                </a:lnTo>
                <a:lnTo>
                  <a:pt x="121072" y="58389"/>
                </a:lnTo>
                <a:lnTo>
                  <a:pt x="134901" y="55859"/>
                </a:lnTo>
                <a:lnTo>
                  <a:pt x="166072" y="50791"/>
                </a:lnTo>
                <a:lnTo>
                  <a:pt x="220986" y="43177"/>
                </a:lnTo>
                <a:lnTo>
                  <a:pt x="301916" y="33020"/>
                </a:lnTo>
                <a:lnTo>
                  <a:pt x="487518" y="12700"/>
                </a:lnTo>
                <a:lnTo>
                  <a:pt x="509585" y="11007"/>
                </a:lnTo>
                <a:lnTo>
                  <a:pt x="531070" y="9878"/>
                </a:lnTo>
                <a:lnTo>
                  <a:pt x="552167" y="9126"/>
                </a:lnTo>
                <a:lnTo>
                  <a:pt x="574698" y="7777"/>
                </a:lnTo>
                <a:lnTo>
                  <a:pt x="640934" y="2681"/>
                </a:lnTo>
                <a:lnTo>
                  <a:pt x="6934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InkAnnotation36"/>
          <p:cNvSpPr/>
          <p:nvPr/>
        </p:nvSpPr>
        <p:spPr>
          <a:xfrm>
            <a:off x="2089080" y="3444840"/>
            <a:ext cx="174600" cy="273240"/>
          </a:xfrm>
          <a:custGeom>
            <a:avLst/>
            <a:gdLst>
              <a:gd name="textAreaLeft" fmla="*/ 0 w 174600"/>
              <a:gd name="textAreaRight" fmla="*/ 174960 w 1746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73493" h="273971">
                <a:moveTo>
                  <a:pt x="173492" y="30130"/>
                </a:moveTo>
                <a:lnTo>
                  <a:pt x="173492" y="26085"/>
                </a:lnTo>
                <a:lnTo>
                  <a:pt x="172645" y="24893"/>
                </a:lnTo>
                <a:lnTo>
                  <a:pt x="171234" y="24099"/>
                </a:lnTo>
                <a:lnTo>
                  <a:pt x="169446" y="23569"/>
                </a:lnTo>
                <a:lnTo>
                  <a:pt x="168255" y="22370"/>
                </a:lnTo>
                <a:lnTo>
                  <a:pt x="167461" y="20723"/>
                </a:lnTo>
                <a:lnTo>
                  <a:pt x="166931" y="18778"/>
                </a:lnTo>
                <a:lnTo>
                  <a:pt x="164085" y="14361"/>
                </a:lnTo>
                <a:lnTo>
                  <a:pt x="162141" y="11997"/>
                </a:lnTo>
                <a:lnTo>
                  <a:pt x="159997" y="10422"/>
                </a:lnTo>
                <a:lnTo>
                  <a:pt x="155359" y="8671"/>
                </a:lnTo>
                <a:lnTo>
                  <a:pt x="150475" y="5635"/>
                </a:lnTo>
                <a:lnTo>
                  <a:pt x="147987" y="3640"/>
                </a:lnTo>
                <a:lnTo>
                  <a:pt x="143789" y="2310"/>
                </a:lnTo>
                <a:lnTo>
                  <a:pt x="138450" y="1423"/>
                </a:lnTo>
                <a:lnTo>
                  <a:pt x="132350" y="832"/>
                </a:lnTo>
                <a:lnTo>
                  <a:pt x="126591" y="438"/>
                </a:lnTo>
                <a:lnTo>
                  <a:pt x="121058" y="176"/>
                </a:lnTo>
                <a:lnTo>
                  <a:pt x="115676" y="0"/>
                </a:lnTo>
                <a:lnTo>
                  <a:pt x="109548" y="730"/>
                </a:lnTo>
                <a:lnTo>
                  <a:pt x="102922" y="2064"/>
                </a:lnTo>
                <a:lnTo>
                  <a:pt x="95965" y="3799"/>
                </a:lnTo>
                <a:lnTo>
                  <a:pt x="88788" y="6649"/>
                </a:lnTo>
                <a:lnTo>
                  <a:pt x="81463" y="10243"/>
                </a:lnTo>
                <a:lnTo>
                  <a:pt x="74039" y="14332"/>
                </a:lnTo>
                <a:lnTo>
                  <a:pt x="66550" y="17905"/>
                </a:lnTo>
                <a:lnTo>
                  <a:pt x="59017" y="21133"/>
                </a:lnTo>
                <a:lnTo>
                  <a:pt x="51455" y="24132"/>
                </a:lnTo>
                <a:lnTo>
                  <a:pt x="43874" y="27825"/>
                </a:lnTo>
                <a:lnTo>
                  <a:pt x="36280" y="31980"/>
                </a:lnTo>
                <a:lnTo>
                  <a:pt x="28677" y="36444"/>
                </a:lnTo>
                <a:lnTo>
                  <a:pt x="22762" y="41112"/>
                </a:lnTo>
                <a:lnTo>
                  <a:pt x="17972" y="45918"/>
                </a:lnTo>
                <a:lnTo>
                  <a:pt x="13932" y="50815"/>
                </a:lnTo>
                <a:lnTo>
                  <a:pt x="10392" y="55773"/>
                </a:lnTo>
                <a:lnTo>
                  <a:pt x="7185" y="60772"/>
                </a:lnTo>
                <a:lnTo>
                  <a:pt x="4201" y="65798"/>
                </a:lnTo>
                <a:lnTo>
                  <a:pt x="885" y="73641"/>
                </a:lnTo>
                <a:lnTo>
                  <a:pt x="0" y="76917"/>
                </a:lnTo>
                <a:lnTo>
                  <a:pt x="257" y="79948"/>
                </a:lnTo>
                <a:lnTo>
                  <a:pt x="1276" y="82815"/>
                </a:lnTo>
                <a:lnTo>
                  <a:pt x="4665" y="88259"/>
                </a:lnTo>
                <a:lnTo>
                  <a:pt x="8993" y="93501"/>
                </a:lnTo>
                <a:lnTo>
                  <a:pt x="12179" y="95237"/>
                </a:lnTo>
                <a:lnTo>
                  <a:pt x="15997" y="96395"/>
                </a:lnTo>
                <a:lnTo>
                  <a:pt x="20235" y="97167"/>
                </a:lnTo>
                <a:lnTo>
                  <a:pt x="25601" y="97681"/>
                </a:lnTo>
                <a:lnTo>
                  <a:pt x="31718" y="98024"/>
                </a:lnTo>
                <a:lnTo>
                  <a:pt x="38335" y="98253"/>
                </a:lnTo>
                <a:lnTo>
                  <a:pt x="46134" y="97559"/>
                </a:lnTo>
                <a:lnTo>
                  <a:pt x="54720" y="96249"/>
                </a:lnTo>
                <a:lnTo>
                  <a:pt x="63831" y="94529"/>
                </a:lnTo>
                <a:lnTo>
                  <a:pt x="71598" y="92536"/>
                </a:lnTo>
                <a:lnTo>
                  <a:pt x="78469" y="90361"/>
                </a:lnTo>
                <a:lnTo>
                  <a:pt x="91466" y="85686"/>
                </a:lnTo>
                <a:lnTo>
                  <a:pt x="105709" y="80786"/>
                </a:lnTo>
                <a:lnTo>
                  <a:pt x="112217" y="78294"/>
                </a:lnTo>
                <a:lnTo>
                  <a:pt x="118249" y="75786"/>
                </a:lnTo>
                <a:lnTo>
                  <a:pt x="123963" y="73267"/>
                </a:lnTo>
                <a:lnTo>
                  <a:pt x="134828" y="68211"/>
                </a:lnTo>
                <a:lnTo>
                  <a:pt x="155600" y="58066"/>
                </a:lnTo>
                <a:lnTo>
                  <a:pt x="159024" y="55528"/>
                </a:lnTo>
                <a:lnTo>
                  <a:pt x="161307" y="52988"/>
                </a:lnTo>
                <a:lnTo>
                  <a:pt x="162828" y="50449"/>
                </a:lnTo>
                <a:lnTo>
                  <a:pt x="164690" y="48756"/>
                </a:lnTo>
                <a:lnTo>
                  <a:pt x="166777" y="47627"/>
                </a:lnTo>
                <a:lnTo>
                  <a:pt x="173099" y="45502"/>
                </a:lnTo>
                <a:lnTo>
                  <a:pt x="169330" y="49454"/>
                </a:lnTo>
                <a:lnTo>
                  <a:pt x="168177" y="51480"/>
                </a:lnTo>
                <a:lnTo>
                  <a:pt x="165709" y="59222"/>
                </a:lnTo>
                <a:lnTo>
                  <a:pt x="162130" y="67331"/>
                </a:lnTo>
                <a:lnTo>
                  <a:pt x="155356" y="81416"/>
                </a:lnTo>
                <a:lnTo>
                  <a:pt x="147986" y="96314"/>
                </a:lnTo>
                <a:lnTo>
                  <a:pt x="145481" y="102193"/>
                </a:lnTo>
                <a:lnTo>
                  <a:pt x="142965" y="108652"/>
                </a:lnTo>
                <a:lnTo>
                  <a:pt x="137911" y="122602"/>
                </a:lnTo>
                <a:lnTo>
                  <a:pt x="132843" y="137268"/>
                </a:lnTo>
                <a:lnTo>
                  <a:pt x="131152" y="144736"/>
                </a:lnTo>
                <a:lnTo>
                  <a:pt x="130026" y="152254"/>
                </a:lnTo>
                <a:lnTo>
                  <a:pt x="129274" y="159806"/>
                </a:lnTo>
                <a:lnTo>
                  <a:pt x="127927" y="167381"/>
                </a:lnTo>
                <a:lnTo>
                  <a:pt x="126182" y="174970"/>
                </a:lnTo>
                <a:lnTo>
                  <a:pt x="124172" y="182570"/>
                </a:lnTo>
                <a:lnTo>
                  <a:pt x="122832" y="190177"/>
                </a:lnTo>
                <a:lnTo>
                  <a:pt x="121939" y="197788"/>
                </a:lnTo>
                <a:lnTo>
                  <a:pt x="121343" y="205402"/>
                </a:lnTo>
                <a:lnTo>
                  <a:pt x="120946" y="213018"/>
                </a:lnTo>
                <a:lnTo>
                  <a:pt x="120505" y="228254"/>
                </a:lnTo>
                <a:lnTo>
                  <a:pt x="119540" y="235026"/>
                </a:lnTo>
                <a:lnTo>
                  <a:pt x="118051" y="241234"/>
                </a:lnTo>
                <a:lnTo>
                  <a:pt x="116211" y="247066"/>
                </a:lnTo>
                <a:lnTo>
                  <a:pt x="114985" y="252648"/>
                </a:lnTo>
                <a:lnTo>
                  <a:pt x="114167" y="258062"/>
                </a:lnTo>
                <a:lnTo>
                  <a:pt x="112532" y="2739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InkAnnotation37"/>
          <p:cNvSpPr/>
          <p:nvPr/>
        </p:nvSpPr>
        <p:spPr>
          <a:xfrm>
            <a:off x="1150920" y="3475080"/>
            <a:ext cx="114480" cy="258840"/>
          </a:xfrm>
          <a:custGeom>
            <a:avLst/>
            <a:gdLst>
              <a:gd name="textAreaLeft" fmla="*/ 0 w 114480"/>
              <a:gd name="textAreaRight" fmla="*/ 114840 w 1144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13751" h="258666">
                <a:moveTo>
                  <a:pt x="113750" y="22445"/>
                </a:moveTo>
                <a:lnTo>
                  <a:pt x="113750" y="15884"/>
                </a:lnTo>
                <a:lnTo>
                  <a:pt x="111492" y="13038"/>
                </a:lnTo>
                <a:lnTo>
                  <a:pt x="109705" y="11094"/>
                </a:lnTo>
                <a:lnTo>
                  <a:pt x="105461" y="6675"/>
                </a:lnTo>
                <a:lnTo>
                  <a:pt x="103144" y="4312"/>
                </a:lnTo>
                <a:lnTo>
                  <a:pt x="100753" y="2736"/>
                </a:lnTo>
                <a:lnTo>
                  <a:pt x="98312" y="1686"/>
                </a:lnTo>
                <a:lnTo>
                  <a:pt x="95838" y="986"/>
                </a:lnTo>
                <a:lnTo>
                  <a:pt x="93342" y="519"/>
                </a:lnTo>
                <a:lnTo>
                  <a:pt x="90831" y="208"/>
                </a:lnTo>
                <a:lnTo>
                  <a:pt x="88311" y="0"/>
                </a:lnTo>
                <a:lnTo>
                  <a:pt x="84937" y="708"/>
                </a:lnTo>
                <a:lnTo>
                  <a:pt x="80995" y="2028"/>
                </a:lnTo>
                <a:lnTo>
                  <a:pt x="76673" y="3753"/>
                </a:lnTo>
                <a:lnTo>
                  <a:pt x="72946" y="4904"/>
                </a:lnTo>
                <a:lnTo>
                  <a:pt x="69614" y="5671"/>
                </a:lnTo>
                <a:lnTo>
                  <a:pt x="66546" y="6182"/>
                </a:lnTo>
                <a:lnTo>
                  <a:pt x="62807" y="8217"/>
                </a:lnTo>
                <a:lnTo>
                  <a:pt x="58621" y="11266"/>
                </a:lnTo>
                <a:lnTo>
                  <a:pt x="54138" y="14992"/>
                </a:lnTo>
                <a:lnTo>
                  <a:pt x="49455" y="19170"/>
                </a:lnTo>
                <a:lnTo>
                  <a:pt x="39737" y="28328"/>
                </a:lnTo>
                <a:lnTo>
                  <a:pt x="35621" y="33140"/>
                </a:lnTo>
                <a:lnTo>
                  <a:pt x="32031" y="38042"/>
                </a:lnTo>
                <a:lnTo>
                  <a:pt x="16140" y="62121"/>
                </a:lnTo>
                <a:lnTo>
                  <a:pt x="12270" y="68369"/>
                </a:lnTo>
                <a:lnTo>
                  <a:pt x="8844" y="74228"/>
                </a:lnTo>
                <a:lnTo>
                  <a:pt x="5712" y="79827"/>
                </a:lnTo>
                <a:lnTo>
                  <a:pt x="3625" y="85253"/>
                </a:lnTo>
                <a:lnTo>
                  <a:pt x="2233" y="90564"/>
                </a:lnTo>
                <a:lnTo>
                  <a:pt x="1306" y="95798"/>
                </a:lnTo>
                <a:lnTo>
                  <a:pt x="275" y="103871"/>
                </a:lnTo>
                <a:lnTo>
                  <a:pt x="0" y="107209"/>
                </a:lnTo>
                <a:lnTo>
                  <a:pt x="663" y="109434"/>
                </a:lnTo>
                <a:lnTo>
                  <a:pt x="1952" y="110918"/>
                </a:lnTo>
                <a:lnTo>
                  <a:pt x="3658" y="111907"/>
                </a:lnTo>
                <a:lnTo>
                  <a:pt x="5643" y="113413"/>
                </a:lnTo>
                <a:lnTo>
                  <a:pt x="7811" y="115264"/>
                </a:lnTo>
                <a:lnTo>
                  <a:pt x="10104" y="117344"/>
                </a:lnTo>
                <a:lnTo>
                  <a:pt x="13326" y="117885"/>
                </a:lnTo>
                <a:lnTo>
                  <a:pt x="17167" y="117398"/>
                </a:lnTo>
                <a:lnTo>
                  <a:pt x="21422" y="116227"/>
                </a:lnTo>
                <a:lnTo>
                  <a:pt x="25951" y="115446"/>
                </a:lnTo>
                <a:lnTo>
                  <a:pt x="30664" y="114926"/>
                </a:lnTo>
                <a:lnTo>
                  <a:pt x="35499" y="114579"/>
                </a:lnTo>
                <a:lnTo>
                  <a:pt x="40416" y="112655"/>
                </a:lnTo>
                <a:lnTo>
                  <a:pt x="45388" y="109678"/>
                </a:lnTo>
                <a:lnTo>
                  <a:pt x="50395" y="106000"/>
                </a:lnTo>
                <a:lnTo>
                  <a:pt x="54580" y="101855"/>
                </a:lnTo>
                <a:lnTo>
                  <a:pt x="58217" y="97398"/>
                </a:lnTo>
                <a:lnTo>
                  <a:pt x="61488" y="92734"/>
                </a:lnTo>
                <a:lnTo>
                  <a:pt x="65362" y="88778"/>
                </a:lnTo>
                <a:lnTo>
                  <a:pt x="69638" y="85294"/>
                </a:lnTo>
                <a:lnTo>
                  <a:pt x="74182" y="82124"/>
                </a:lnTo>
                <a:lnTo>
                  <a:pt x="78905" y="78317"/>
                </a:lnTo>
                <a:lnTo>
                  <a:pt x="83747" y="74087"/>
                </a:lnTo>
                <a:lnTo>
                  <a:pt x="88668" y="69573"/>
                </a:lnTo>
                <a:lnTo>
                  <a:pt x="91949" y="65717"/>
                </a:lnTo>
                <a:lnTo>
                  <a:pt x="94136" y="62300"/>
                </a:lnTo>
                <a:lnTo>
                  <a:pt x="97413" y="56245"/>
                </a:lnTo>
                <a:lnTo>
                  <a:pt x="99472" y="53445"/>
                </a:lnTo>
                <a:lnTo>
                  <a:pt x="105740" y="45781"/>
                </a:lnTo>
                <a:lnTo>
                  <a:pt x="105957" y="47775"/>
                </a:lnTo>
                <a:lnTo>
                  <a:pt x="106079" y="53657"/>
                </a:lnTo>
                <a:lnTo>
                  <a:pt x="106096" y="55953"/>
                </a:lnTo>
                <a:lnTo>
                  <a:pt x="103857" y="63020"/>
                </a:lnTo>
                <a:lnTo>
                  <a:pt x="102075" y="67275"/>
                </a:lnTo>
                <a:lnTo>
                  <a:pt x="100887" y="72652"/>
                </a:lnTo>
                <a:lnTo>
                  <a:pt x="100094" y="78776"/>
                </a:lnTo>
                <a:lnTo>
                  <a:pt x="99566" y="85399"/>
                </a:lnTo>
                <a:lnTo>
                  <a:pt x="98367" y="91508"/>
                </a:lnTo>
                <a:lnTo>
                  <a:pt x="96722" y="97273"/>
                </a:lnTo>
                <a:lnTo>
                  <a:pt x="94778" y="102811"/>
                </a:lnTo>
                <a:lnTo>
                  <a:pt x="93482" y="109042"/>
                </a:lnTo>
                <a:lnTo>
                  <a:pt x="92618" y="115736"/>
                </a:lnTo>
                <a:lnTo>
                  <a:pt x="92042" y="122739"/>
                </a:lnTo>
                <a:lnTo>
                  <a:pt x="90811" y="129948"/>
                </a:lnTo>
                <a:lnTo>
                  <a:pt x="89144" y="137294"/>
                </a:lnTo>
                <a:lnTo>
                  <a:pt x="87186" y="144731"/>
                </a:lnTo>
                <a:lnTo>
                  <a:pt x="85881" y="152229"/>
                </a:lnTo>
                <a:lnTo>
                  <a:pt x="85010" y="159768"/>
                </a:lnTo>
                <a:lnTo>
                  <a:pt x="84430" y="167333"/>
                </a:lnTo>
                <a:lnTo>
                  <a:pt x="84043" y="174917"/>
                </a:lnTo>
                <a:lnTo>
                  <a:pt x="83614" y="190117"/>
                </a:lnTo>
                <a:lnTo>
                  <a:pt x="84346" y="196880"/>
                </a:lnTo>
                <a:lnTo>
                  <a:pt x="85680" y="203082"/>
                </a:lnTo>
                <a:lnTo>
                  <a:pt x="87417" y="208910"/>
                </a:lnTo>
                <a:lnTo>
                  <a:pt x="88575" y="214488"/>
                </a:lnTo>
                <a:lnTo>
                  <a:pt x="89347" y="219900"/>
                </a:lnTo>
                <a:lnTo>
                  <a:pt x="89861" y="225202"/>
                </a:lnTo>
                <a:lnTo>
                  <a:pt x="90204" y="229583"/>
                </a:lnTo>
                <a:lnTo>
                  <a:pt x="90585" y="236709"/>
                </a:lnTo>
                <a:lnTo>
                  <a:pt x="91534" y="240641"/>
                </a:lnTo>
                <a:lnTo>
                  <a:pt x="93012" y="244956"/>
                </a:lnTo>
                <a:lnTo>
                  <a:pt x="98510" y="2586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InkAnnotation38"/>
          <p:cNvSpPr/>
          <p:nvPr/>
        </p:nvSpPr>
        <p:spPr>
          <a:xfrm>
            <a:off x="2925720" y="2979720"/>
            <a:ext cx="220680" cy="318960"/>
          </a:xfrm>
          <a:custGeom>
            <a:avLst/>
            <a:gdLst>
              <a:gd name="textAreaLeft" fmla="*/ 0 w 220680"/>
              <a:gd name="textAreaRight" fmla="*/ 221040 w 2206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20838" h="319804">
                <a:moveTo>
                  <a:pt x="60817" y="0"/>
                </a:moveTo>
                <a:lnTo>
                  <a:pt x="67378" y="0"/>
                </a:lnTo>
                <a:lnTo>
                  <a:pt x="67731" y="847"/>
                </a:lnTo>
                <a:lnTo>
                  <a:pt x="68375" y="7761"/>
                </a:lnTo>
                <a:lnTo>
                  <a:pt x="68436" y="55009"/>
                </a:lnTo>
                <a:lnTo>
                  <a:pt x="67590" y="61226"/>
                </a:lnTo>
                <a:lnTo>
                  <a:pt x="66179" y="67064"/>
                </a:lnTo>
                <a:lnTo>
                  <a:pt x="50525" y="114657"/>
                </a:lnTo>
                <a:lnTo>
                  <a:pt x="47182" y="123005"/>
                </a:lnTo>
                <a:lnTo>
                  <a:pt x="43261" y="131957"/>
                </a:lnTo>
                <a:lnTo>
                  <a:pt x="38953" y="141312"/>
                </a:lnTo>
                <a:lnTo>
                  <a:pt x="34387" y="150088"/>
                </a:lnTo>
                <a:lnTo>
                  <a:pt x="29651" y="158479"/>
                </a:lnTo>
                <a:lnTo>
                  <a:pt x="24800" y="166612"/>
                </a:lnTo>
                <a:lnTo>
                  <a:pt x="20719" y="174575"/>
                </a:lnTo>
                <a:lnTo>
                  <a:pt x="17151" y="182424"/>
                </a:lnTo>
                <a:lnTo>
                  <a:pt x="13927" y="190196"/>
                </a:lnTo>
                <a:lnTo>
                  <a:pt x="10930" y="197917"/>
                </a:lnTo>
                <a:lnTo>
                  <a:pt x="5343" y="213270"/>
                </a:lnTo>
                <a:lnTo>
                  <a:pt x="3514" y="220920"/>
                </a:lnTo>
                <a:lnTo>
                  <a:pt x="2295" y="228560"/>
                </a:lnTo>
                <a:lnTo>
                  <a:pt x="1482" y="236193"/>
                </a:lnTo>
                <a:lnTo>
                  <a:pt x="941" y="242976"/>
                </a:lnTo>
                <a:lnTo>
                  <a:pt x="579" y="249191"/>
                </a:lnTo>
                <a:lnTo>
                  <a:pt x="178" y="260611"/>
                </a:lnTo>
                <a:lnTo>
                  <a:pt x="0" y="271332"/>
                </a:lnTo>
                <a:lnTo>
                  <a:pt x="1646" y="276561"/>
                </a:lnTo>
                <a:lnTo>
                  <a:pt x="4436" y="281741"/>
                </a:lnTo>
                <a:lnTo>
                  <a:pt x="7990" y="286887"/>
                </a:lnTo>
                <a:lnTo>
                  <a:pt x="12052" y="291165"/>
                </a:lnTo>
                <a:lnTo>
                  <a:pt x="16454" y="294863"/>
                </a:lnTo>
                <a:lnTo>
                  <a:pt x="21082" y="298176"/>
                </a:lnTo>
                <a:lnTo>
                  <a:pt x="25860" y="302077"/>
                </a:lnTo>
                <a:lnTo>
                  <a:pt x="30739" y="306372"/>
                </a:lnTo>
                <a:lnTo>
                  <a:pt x="35685" y="310928"/>
                </a:lnTo>
                <a:lnTo>
                  <a:pt x="41523" y="313965"/>
                </a:lnTo>
                <a:lnTo>
                  <a:pt x="47954" y="315990"/>
                </a:lnTo>
                <a:lnTo>
                  <a:pt x="54781" y="317340"/>
                </a:lnTo>
                <a:lnTo>
                  <a:pt x="62720" y="318240"/>
                </a:lnTo>
                <a:lnTo>
                  <a:pt x="71399" y="318840"/>
                </a:lnTo>
                <a:lnTo>
                  <a:pt x="80572" y="319240"/>
                </a:lnTo>
                <a:lnTo>
                  <a:pt x="102052" y="319685"/>
                </a:lnTo>
                <a:lnTo>
                  <a:pt x="113708" y="319803"/>
                </a:lnTo>
                <a:lnTo>
                  <a:pt x="124864" y="319036"/>
                </a:lnTo>
                <a:lnTo>
                  <a:pt x="135688" y="317677"/>
                </a:lnTo>
                <a:lnTo>
                  <a:pt x="146292" y="315925"/>
                </a:lnTo>
                <a:lnTo>
                  <a:pt x="157593" y="314757"/>
                </a:lnTo>
                <a:lnTo>
                  <a:pt x="169361" y="313978"/>
                </a:lnTo>
                <a:lnTo>
                  <a:pt x="181440" y="313458"/>
                </a:lnTo>
                <a:lnTo>
                  <a:pt x="191186" y="312266"/>
                </a:lnTo>
                <a:lnTo>
                  <a:pt x="199376" y="310624"/>
                </a:lnTo>
                <a:lnTo>
                  <a:pt x="220837" y="3048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InkAnnotation39"/>
          <p:cNvSpPr/>
          <p:nvPr/>
        </p:nvSpPr>
        <p:spPr>
          <a:xfrm>
            <a:off x="2873520" y="3184560"/>
            <a:ext cx="166680" cy="1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7641" h="12011">
                <a:moveTo>
                  <a:pt x="0" y="7620"/>
                </a:moveTo>
                <a:lnTo>
                  <a:pt x="10606" y="7620"/>
                </a:lnTo>
                <a:lnTo>
                  <a:pt x="14691" y="8467"/>
                </a:lnTo>
                <a:lnTo>
                  <a:pt x="19954" y="9878"/>
                </a:lnTo>
                <a:lnTo>
                  <a:pt x="26002" y="11666"/>
                </a:lnTo>
                <a:lnTo>
                  <a:pt x="32575" y="12010"/>
                </a:lnTo>
                <a:lnTo>
                  <a:pt x="39496" y="11394"/>
                </a:lnTo>
                <a:lnTo>
                  <a:pt x="46651" y="10136"/>
                </a:lnTo>
                <a:lnTo>
                  <a:pt x="54807" y="9297"/>
                </a:lnTo>
                <a:lnTo>
                  <a:pt x="63631" y="8738"/>
                </a:lnTo>
                <a:lnTo>
                  <a:pt x="81621" y="8117"/>
                </a:lnTo>
                <a:lnTo>
                  <a:pt x="98082" y="7841"/>
                </a:lnTo>
                <a:lnTo>
                  <a:pt x="107722" y="6921"/>
                </a:lnTo>
                <a:lnTo>
                  <a:pt x="118381" y="5461"/>
                </a:lnTo>
                <a:lnTo>
                  <a:pt x="129721" y="3641"/>
                </a:lnTo>
                <a:lnTo>
                  <a:pt x="138974" y="2427"/>
                </a:lnTo>
                <a:lnTo>
                  <a:pt x="146836" y="1618"/>
                </a:lnTo>
                <a:lnTo>
                  <a:pt x="1676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InkAnnotation40"/>
          <p:cNvSpPr/>
          <p:nvPr/>
        </p:nvSpPr>
        <p:spPr>
          <a:xfrm>
            <a:off x="3108240" y="3178080"/>
            <a:ext cx="100080" cy="14400"/>
          </a:xfrm>
          <a:custGeom>
            <a:avLst/>
            <a:gdLst>
              <a:gd name="textAreaLeft" fmla="*/ 0 w 100080"/>
              <a:gd name="textAreaRight" fmla="*/ 100440 w 1000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9061" h="15241">
                <a:moveTo>
                  <a:pt x="0" y="15240"/>
                </a:moveTo>
                <a:lnTo>
                  <a:pt x="26224" y="15240"/>
                </a:lnTo>
                <a:lnTo>
                  <a:pt x="31876" y="14393"/>
                </a:lnTo>
                <a:lnTo>
                  <a:pt x="37337" y="12982"/>
                </a:lnTo>
                <a:lnTo>
                  <a:pt x="42672" y="11195"/>
                </a:lnTo>
                <a:lnTo>
                  <a:pt x="48768" y="10003"/>
                </a:lnTo>
                <a:lnTo>
                  <a:pt x="55372" y="9209"/>
                </a:lnTo>
                <a:lnTo>
                  <a:pt x="62315" y="8679"/>
                </a:lnTo>
                <a:lnTo>
                  <a:pt x="68637" y="8326"/>
                </a:lnTo>
                <a:lnTo>
                  <a:pt x="80176" y="7934"/>
                </a:lnTo>
                <a:lnTo>
                  <a:pt x="84778" y="6983"/>
                </a:lnTo>
                <a:lnTo>
                  <a:pt x="88692" y="5502"/>
                </a:lnTo>
                <a:lnTo>
                  <a:pt x="990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InkAnnotation41"/>
          <p:cNvSpPr/>
          <p:nvPr/>
        </p:nvSpPr>
        <p:spPr>
          <a:xfrm>
            <a:off x="3070080" y="3200400"/>
            <a:ext cx="176400" cy="34920"/>
          </a:xfrm>
          <a:custGeom>
            <a:avLst/>
            <a:gdLst>
              <a:gd name="textAreaLeft" fmla="*/ 0 w 176400"/>
              <a:gd name="textAreaRight" fmla="*/ 176760 w 1764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75168" h="34871">
                <a:moveTo>
                  <a:pt x="7527" y="30480"/>
                </a:moveTo>
                <a:lnTo>
                  <a:pt x="0" y="30480"/>
                </a:lnTo>
                <a:lnTo>
                  <a:pt x="2206" y="32738"/>
                </a:lnTo>
                <a:lnTo>
                  <a:pt x="3980" y="34526"/>
                </a:lnTo>
                <a:lnTo>
                  <a:pt x="6009" y="34870"/>
                </a:lnTo>
                <a:lnTo>
                  <a:pt x="8209" y="34254"/>
                </a:lnTo>
                <a:lnTo>
                  <a:pt x="10522" y="32996"/>
                </a:lnTo>
                <a:lnTo>
                  <a:pt x="14604" y="32157"/>
                </a:lnTo>
                <a:lnTo>
                  <a:pt x="19864" y="31598"/>
                </a:lnTo>
                <a:lnTo>
                  <a:pt x="25912" y="31225"/>
                </a:lnTo>
                <a:lnTo>
                  <a:pt x="37147" y="30811"/>
                </a:lnTo>
                <a:lnTo>
                  <a:pt x="42514" y="30701"/>
                </a:lnTo>
                <a:lnTo>
                  <a:pt x="49478" y="29781"/>
                </a:lnTo>
                <a:lnTo>
                  <a:pt x="57508" y="28321"/>
                </a:lnTo>
                <a:lnTo>
                  <a:pt x="66248" y="26501"/>
                </a:lnTo>
                <a:lnTo>
                  <a:pt x="74614" y="24440"/>
                </a:lnTo>
                <a:lnTo>
                  <a:pt x="82732" y="22220"/>
                </a:lnTo>
                <a:lnTo>
                  <a:pt x="90683" y="19894"/>
                </a:lnTo>
                <a:lnTo>
                  <a:pt x="99371" y="18342"/>
                </a:lnTo>
                <a:lnTo>
                  <a:pt x="108550" y="17308"/>
                </a:lnTo>
                <a:lnTo>
                  <a:pt x="118056" y="16619"/>
                </a:lnTo>
                <a:lnTo>
                  <a:pt x="126933" y="15313"/>
                </a:lnTo>
                <a:lnTo>
                  <a:pt x="135391" y="13595"/>
                </a:lnTo>
                <a:lnTo>
                  <a:pt x="143570" y="11603"/>
                </a:lnTo>
                <a:lnTo>
                  <a:pt x="150716" y="9429"/>
                </a:lnTo>
                <a:lnTo>
                  <a:pt x="157173" y="7133"/>
                </a:lnTo>
                <a:lnTo>
                  <a:pt x="175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InkAnnotation42"/>
          <p:cNvSpPr/>
          <p:nvPr/>
        </p:nvSpPr>
        <p:spPr>
          <a:xfrm>
            <a:off x="3246480" y="3009960"/>
            <a:ext cx="166680" cy="15840"/>
          </a:xfrm>
          <a:custGeom>
            <a:avLst/>
            <a:gdLst>
              <a:gd name="textAreaLeft" fmla="*/ 0 w 166680"/>
              <a:gd name="textAreaRight" fmla="*/ 167040 w 166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67641" h="15146">
                <a:moveTo>
                  <a:pt x="0" y="0"/>
                </a:moveTo>
                <a:lnTo>
                  <a:pt x="48741" y="0"/>
                </a:lnTo>
                <a:lnTo>
                  <a:pt x="53661" y="847"/>
                </a:lnTo>
                <a:lnTo>
                  <a:pt x="57787" y="2258"/>
                </a:lnTo>
                <a:lnTo>
                  <a:pt x="61385" y="4045"/>
                </a:lnTo>
                <a:lnTo>
                  <a:pt x="65477" y="5237"/>
                </a:lnTo>
                <a:lnTo>
                  <a:pt x="69898" y="6031"/>
                </a:lnTo>
                <a:lnTo>
                  <a:pt x="74539" y="6561"/>
                </a:lnTo>
                <a:lnTo>
                  <a:pt x="79325" y="6914"/>
                </a:lnTo>
                <a:lnTo>
                  <a:pt x="84210" y="7150"/>
                </a:lnTo>
                <a:lnTo>
                  <a:pt x="89160" y="7306"/>
                </a:lnTo>
                <a:lnTo>
                  <a:pt x="94154" y="8257"/>
                </a:lnTo>
                <a:lnTo>
                  <a:pt x="99176" y="9738"/>
                </a:lnTo>
                <a:lnTo>
                  <a:pt x="104217" y="11573"/>
                </a:lnTo>
                <a:lnTo>
                  <a:pt x="109272" y="12795"/>
                </a:lnTo>
                <a:lnTo>
                  <a:pt x="114335" y="13610"/>
                </a:lnTo>
                <a:lnTo>
                  <a:pt x="119403" y="14153"/>
                </a:lnTo>
                <a:lnTo>
                  <a:pt x="124475" y="14516"/>
                </a:lnTo>
                <a:lnTo>
                  <a:pt x="129550" y="14757"/>
                </a:lnTo>
                <a:lnTo>
                  <a:pt x="142525" y="15097"/>
                </a:lnTo>
                <a:lnTo>
                  <a:pt x="145817" y="15145"/>
                </a:lnTo>
                <a:lnTo>
                  <a:pt x="148858" y="14330"/>
                </a:lnTo>
                <a:lnTo>
                  <a:pt x="151732" y="12940"/>
                </a:lnTo>
                <a:lnTo>
                  <a:pt x="158383" y="8671"/>
                </a:lnTo>
                <a:lnTo>
                  <a:pt x="159776" y="8321"/>
                </a:lnTo>
                <a:lnTo>
                  <a:pt x="161550" y="8087"/>
                </a:lnTo>
                <a:lnTo>
                  <a:pt x="167640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InkAnnotation43"/>
          <p:cNvSpPr/>
          <p:nvPr/>
        </p:nvSpPr>
        <p:spPr>
          <a:xfrm>
            <a:off x="3497400" y="2827440"/>
            <a:ext cx="75960" cy="274680"/>
          </a:xfrm>
          <a:custGeom>
            <a:avLst/>
            <a:gdLst>
              <a:gd name="textAreaLeft" fmla="*/ 0 w 75960"/>
              <a:gd name="textAreaRight" fmla="*/ 76320 w 75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76201" h="274321">
                <a:moveTo>
                  <a:pt x="76200" y="0"/>
                </a:moveTo>
                <a:lnTo>
                  <a:pt x="72156" y="0"/>
                </a:lnTo>
                <a:lnTo>
                  <a:pt x="70963" y="847"/>
                </a:lnTo>
                <a:lnTo>
                  <a:pt x="70169" y="2258"/>
                </a:lnTo>
                <a:lnTo>
                  <a:pt x="69287" y="6084"/>
                </a:lnTo>
                <a:lnTo>
                  <a:pt x="68894" y="10606"/>
                </a:lnTo>
                <a:lnTo>
                  <a:pt x="67943" y="13844"/>
                </a:lnTo>
                <a:lnTo>
                  <a:pt x="66462" y="17696"/>
                </a:lnTo>
                <a:lnTo>
                  <a:pt x="64628" y="21957"/>
                </a:lnTo>
                <a:lnTo>
                  <a:pt x="62559" y="27339"/>
                </a:lnTo>
                <a:lnTo>
                  <a:pt x="58002" y="40090"/>
                </a:lnTo>
                <a:lnTo>
                  <a:pt x="55601" y="46200"/>
                </a:lnTo>
                <a:lnTo>
                  <a:pt x="53154" y="51967"/>
                </a:lnTo>
                <a:lnTo>
                  <a:pt x="50676" y="57505"/>
                </a:lnTo>
                <a:lnTo>
                  <a:pt x="49024" y="63736"/>
                </a:lnTo>
                <a:lnTo>
                  <a:pt x="47923" y="70431"/>
                </a:lnTo>
                <a:lnTo>
                  <a:pt x="47189" y="77434"/>
                </a:lnTo>
                <a:lnTo>
                  <a:pt x="45006" y="84643"/>
                </a:lnTo>
                <a:lnTo>
                  <a:pt x="41857" y="91989"/>
                </a:lnTo>
                <a:lnTo>
                  <a:pt x="38065" y="99426"/>
                </a:lnTo>
                <a:lnTo>
                  <a:pt x="35537" y="107770"/>
                </a:lnTo>
                <a:lnTo>
                  <a:pt x="33852" y="116720"/>
                </a:lnTo>
                <a:lnTo>
                  <a:pt x="32728" y="126074"/>
                </a:lnTo>
                <a:lnTo>
                  <a:pt x="31132" y="134849"/>
                </a:lnTo>
                <a:lnTo>
                  <a:pt x="29222" y="143240"/>
                </a:lnTo>
                <a:lnTo>
                  <a:pt x="27101" y="151373"/>
                </a:lnTo>
                <a:lnTo>
                  <a:pt x="24840" y="159335"/>
                </a:lnTo>
                <a:lnTo>
                  <a:pt x="20071" y="174956"/>
                </a:lnTo>
                <a:lnTo>
                  <a:pt x="12627" y="198030"/>
                </a:lnTo>
                <a:lnTo>
                  <a:pt x="10958" y="204833"/>
                </a:lnTo>
                <a:lnTo>
                  <a:pt x="9845" y="211062"/>
                </a:lnTo>
                <a:lnTo>
                  <a:pt x="9103" y="216908"/>
                </a:lnTo>
                <a:lnTo>
                  <a:pt x="7762" y="222499"/>
                </a:lnTo>
                <a:lnTo>
                  <a:pt x="6022" y="227919"/>
                </a:lnTo>
                <a:lnTo>
                  <a:pt x="4014" y="233226"/>
                </a:lnTo>
                <a:lnTo>
                  <a:pt x="2677" y="238457"/>
                </a:lnTo>
                <a:lnTo>
                  <a:pt x="1784" y="243638"/>
                </a:lnTo>
                <a:lnTo>
                  <a:pt x="1190" y="248786"/>
                </a:lnTo>
                <a:lnTo>
                  <a:pt x="529" y="256763"/>
                </a:lnTo>
                <a:lnTo>
                  <a:pt x="235" y="263130"/>
                </a:lnTo>
                <a:lnTo>
                  <a:pt x="0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InkAnnotation44"/>
          <p:cNvSpPr/>
          <p:nvPr/>
        </p:nvSpPr>
        <p:spPr>
          <a:xfrm>
            <a:off x="3429000" y="2873520"/>
            <a:ext cx="358920" cy="457200"/>
          </a:xfrm>
          <a:custGeom>
            <a:avLst/>
            <a:gdLst>
              <a:gd name="textAreaLeft" fmla="*/ 0 w 358920"/>
              <a:gd name="textAreaRight" fmla="*/ 359280 w 3589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58141" h="457201">
                <a:moveTo>
                  <a:pt x="358140" y="0"/>
                </a:moveTo>
                <a:lnTo>
                  <a:pt x="350049" y="4045"/>
                </a:lnTo>
                <a:lnTo>
                  <a:pt x="341562" y="10547"/>
                </a:lnTo>
                <a:lnTo>
                  <a:pt x="333839" y="18234"/>
                </a:lnTo>
                <a:lnTo>
                  <a:pt x="326951" y="29016"/>
                </a:lnTo>
                <a:lnTo>
                  <a:pt x="316338" y="40836"/>
                </a:lnTo>
                <a:lnTo>
                  <a:pt x="309952" y="48390"/>
                </a:lnTo>
                <a:lnTo>
                  <a:pt x="296083" y="65816"/>
                </a:lnTo>
                <a:lnTo>
                  <a:pt x="288829" y="74357"/>
                </a:lnTo>
                <a:lnTo>
                  <a:pt x="281453" y="82591"/>
                </a:lnTo>
                <a:lnTo>
                  <a:pt x="273995" y="90621"/>
                </a:lnTo>
                <a:lnTo>
                  <a:pt x="266483" y="100208"/>
                </a:lnTo>
                <a:lnTo>
                  <a:pt x="258936" y="110832"/>
                </a:lnTo>
                <a:lnTo>
                  <a:pt x="251363" y="122148"/>
                </a:lnTo>
                <a:lnTo>
                  <a:pt x="236177" y="143752"/>
                </a:lnTo>
                <a:lnTo>
                  <a:pt x="228572" y="154255"/>
                </a:lnTo>
                <a:lnTo>
                  <a:pt x="220114" y="164643"/>
                </a:lnTo>
                <a:lnTo>
                  <a:pt x="211089" y="174956"/>
                </a:lnTo>
                <a:lnTo>
                  <a:pt x="201686" y="185217"/>
                </a:lnTo>
                <a:lnTo>
                  <a:pt x="192877" y="196291"/>
                </a:lnTo>
                <a:lnTo>
                  <a:pt x="184465" y="207908"/>
                </a:lnTo>
                <a:lnTo>
                  <a:pt x="168345" y="231257"/>
                </a:lnTo>
                <a:lnTo>
                  <a:pt x="152713" y="252923"/>
                </a:lnTo>
                <a:lnTo>
                  <a:pt x="144989" y="264288"/>
                </a:lnTo>
                <a:lnTo>
                  <a:pt x="129633" y="288206"/>
                </a:lnTo>
                <a:lnTo>
                  <a:pt x="121136" y="299664"/>
                </a:lnTo>
                <a:lnTo>
                  <a:pt x="112084" y="310689"/>
                </a:lnTo>
                <a:lnTo>
                  <a:pt x="102663" y="321426"/>
                </a:lnTo>
                <a:lnTo>
                  <a:pt x="94688" y="331124"/>
                </a:lnTo>
                <a:lnTo>
                  <a:pt x="87679" y="340129"/>
                </a:lnTo>
                <a:lnTo>
                  <a:pt x="81313" y="348673"/>
                </a:lnTo>
                <a:lnTo>
                  <a:pt x="74528" y="356909"/>
                </a:lnTo>
                <a:lnTo>
                  <a:pt x="67466" y="364939"/>
                </a:lnTo>
                <a:lnTo>
                  <a:pt x="60217" y="372833"/>
                </a:lnTo>
                <a:lnTo>
                  <a:pt x="53691" y="380635"/>
                </a:lnTo>
                <a:lnTo>
                  <a:pt x="47648" y="388377"/>
                </a:lnTo>
                <a:lnTo>
                  <a:pt x="41925" y="396078"/>
                </a:lnTo>
                <a:lnTo>
                  <a:pt x="33309" y="409150"/>
                </a:lnTo>
                <a:lnTo>
                  <a:pt x="25810" y="420605"/>
                </a:lnTo>
                <a:lnTo>
                  <a:pt x="16833" y="431340"/>
                </a:lnTo>
                <a:lnTo>
                  <a:pt x="6305" y="442859"/>
                </a:lnTo>
                <a:lnTo>
                  <a:pt x="4203" y="445945"/>
                </a:lnTo>
                <a:lnTo>
                  <a:pt x="0" y="4572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InkAnnotation45"/>
          <p:cNvSpPr/>
          <p:nvPr/>
        </p:nvSpPr>
        <p:spPr>
          <a:xfrm>
            <a:off x="3651120" y="3048120"/>
            <a:ext cx="181080" cy="312480"/>
          </a:xfrm>
          <a:custGeom>
            <a:avLst/>
            <a:gdLst>
              <a:gd name="textAreaLeft" fmla="*/ 0 w 181080"/>
              <a:gd name="textAreaRight" fmla="*/ 181440 w 18108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181240" h="311975">
                <a:moveTo>
                  <a:pt x="181239" y="60514"/>
                </a:moveTo>
                <a:lnTo>
                  <a:pt x="181239" y="27398"/>
                </a:lnTo>
                <a:lnTo>
                  <a:pt x="179546" y="24890"/>
                </a:lnTo>
                <a:lnTo>
                  <a:pt x="176724" y="22371"/>
                </a:lnTo>
                <a:lnTo>
                  <a:pt x="173148" y="19846"/>
                </a:lnTo>
                <a:lnTo>
                  <a:pt x="169919" y="17315"/>
                </a:lnTo>
                <a:lnTo>
                  <a:pt x="166919" y="14782"/>
                </a:lnTo>
                <a:lnTo>
                  <a:pt x="164072" y="12246"/>
                </a:lnTo>
                <a:lnTo>
                  <a:pt x="160481" y="9709"/>
                </a:lnTo>
                <a:lnTo>
                  <a:pt x="156394" y="7171"/>
                </a:lnTo>
                <a:lnTo>
                  <a:pt x="151976" y="4632"/>
                </a:lnTo>
                <a:lnTo>
                  <a:pt x="147337" y="2939"/>
                </a:lnTo>
                <a:lnTo>
                  <a:pt x="142551" y="1811"/>
                </a:lnTo>
                <a:lnTo>
                  <a:pt x="137667" y="1058"/>
                </a:lnTo>
                <a:lnTo>
                  <a:pt x="131871" y="557"/>
                </a:lnTo>
                <a:lnTo>
                  <a:pt x="125467" y="223"/>
                </a:lnTo>
                <a:lnTo>
                  <a:pt x="118658" y="0"/>
                </a:lnTo>
                <a:lnTo>
                  <a:pt x="111578" y="698"/>
                </a:lnTo>
                <a:lnTo>
                  <a:pt x="104319" y="2010"/>
                </a:lnTo>
                <a:lnTo>
                  <a:pt x="96938" y="3731"/>
                </a:lnTo>
                <a:lnTo>
                  <a:pt x="89479" y="5726"/>
                </a:lnTo>
                <a:lnTo>
                  <a:pt x="74417" y="10199"/>
                </a:lnTo>
                <a:lnTo>
                  <a:pt x="67691" y="12578"/>
                </a:lnTo>
                <a:lnTo>
                  <a:pt x="61513" y="15010"/>
                </a:lnTo>
                <a:lnTo>
                  <a:pt x="55702" y="17478"/>
                </a:lnTo>
                <a:lnTo>
                  <a:pt x="50134" y="20817"/>
                </a:lnTo>
                <a:lnTo>
                  <a:pt x="44730" y="24736"/>
                </a:lnTo>
                <a:lnTo>
                  <a:pt x="39432" y="29042"/>
                </a:lnTo>
                <a:lnTo>
                  <a:pt x="34208" y="33606"/>
                </a:lnTo>
                <a:lnTo>
                  <a:pt x="29031" y="38342"/>
                </a:lnTo>
                <a:lnTo>
                  <a:pt x="23888" y="43193"/>
                </a:lnTo>
                <a:lnTo>
                  <a:pt x="19612" y="48120"/>
                </a:lnTo>
                <a:lnTo>
                  <a:pt x="15914" y="53098"/>
                </a:lnTo>
                <a:lnTo>
                  <a:pt x="12603" y="58110"/>
                </a:lnTo>
                <a:lnTo>
                  <a:pt x="9548" y="63144"/>
                </a:lnTo>
                <a:lnTo>
                  <a:pt x="6665" y="68195"/>
                </a:lnTo>
                <a:lnTo>
                  <a:pt x="2051" y="77474"/>
                </a:lnTo>
                <a:lnTo>
                  <a:pt x="0" y="84421"/>
                </a:lnTo>
                <a:lnTo>
                  <a:pt x="300" y="88305"/>
                </a:lnTo>
                <a:lnTo>
                  <a:pt x="2890" y="97137"/>
                </a:lnTo>
                <a:lnTo>
                  <a:pt x="6864" y="104449"/>
                </a:lnTo>
                <a:lnTo>
                  <a:pt x="9109" y="107584"/>
                </a:lnTo>
                <a:lnTo>
                  <a:pt x="12299" y="110521"/>
                </a:lnTo>
                <a:lnTo>
                  <a:pt x="16119" y="113325"/>
                </a:lnTo>
                <a:lnTo>
                  <a:pt x="20359" y="116041"/>
                </a:lnTo>
                <a:lnTo>
                  <a:pt x="25726" y="117852"/>
                </a:lnTo>
                <a:lnTo>
                  <a:pt x="31844" y="119060"/>
                </a:lnTo>
                <a:lnTo>
                  <a:pt x="38462" y="119864"/>
                </a:lnTo>
                <a:lnTo>
                  <a:pt x="44568" y="120401"/>
                </a:lnTo>
                <a:lnTo>
                  <a:pt x="50332" y="120759"/>
                </a:lnTo>
                <a:lnTo>
                  <a:pt x="55867" y="120997"/>
                </a:lnTo>
                <a:lnTo>
                  <a:pt x="61251" y="120310"/>
                </a:lnTo>
                <a:lnTo>
                  <a:pt x="66534" y="119005"/>
                </a:lnTo>
                <a:lnTo>
                  <a:pt x="71749" y="117288"/>
                </a:lnTo>
                <a:lnTo>
                  <a:pt x="76919" y="115297"/>
                </a:lnTo>
                <a:lnTo>
                  <a:pt x="82059" y="113122"/>
                </a:lnTo>
                <a:lnTo>
                  <a:pt x="87179" y="110826"/>
                </a:lnTo>
                <a:lnTo>
                  <a:pt x="97383" y="106017"/>
                </a:lnTo>
                <a:lnTo>
                  <a:pt x="102475" y="103550"/>
                </a:lnTo>
                <a:lnTo>
                  <a:pt x="106717" y="101058"/>
                </a:lnTo>
                <a:lnTo>
                  <a:pt x="110391" y="98550"/>
                </a:lnTo>
                <a:lnTo>
                  <a:pt x="113687" y="96031"/>
                </a:lnTo>
                <a:lnTo>
                  <a:pt x="116731" y="93505"/>
                </a:lnTo>
                <a:lnTo>
                  <a:pt x="122372" y="88442"/>
                </a:lnTo>
                <a:lnTo>
                  <a:pt x="127700" y="83369"/>
                </a:lnTo>
                <a:lnTo>
                  <a:pt x="130306" y="80830"/>
                </a:lnTo>
                <a:lnTo>
                  <a:pt x="132044" y="78292"/>
                </a:lnTo>
                <a:lnTo>
                  <a:pt x="133975" y="73213"/>
                </a:lnTo>
                <a:lnTo>
                  <a:pt x="135214" y="63901"/>
                </a:lnTo>
                <a:lnTo>
                  <a:pt x="135508" y="60646"/>
                </a:lnTo>
                <a:lnTo>
                  <a:pt x="131471" y="64599"/>
                </a:lnTo>
                <a:lnTo>
                  <a:pt x="130280" y="66624"/>
                </a:lnTo>
                <a:lnTo>
                  <a:pt x="128957" y="71132"/>
                </a:lnTo>
                <a:lnTo>
                  <a:pt x="128213" y="78430"/>
                </a:lnTo>
                <a:lnTo>
                  <a:pt x="125781" y="85692"/>
                </a:lnTo>
                <a:lnTo>
                  <a:pt x="121878" y="94564"/>
                </a:lnTo>
                <a:lnTo>
                  <a:pt x="114921" y="109079"/>
                </a:lnTo>
                <a:lnTo>
                  <a:pt x="109996" y="119070"/>
                </a:lnTo>
                <a:lnTo>
                  <a:pt x="107496" y="124951"/>
                </a:lnTo>
                <a:lnTo>
                  <a:pt x="104984" y="131412"/>
                </a:lnTo>
                <a:lnTo>
                  <a:pt x="102462" y="138260"/>
                </a:lnTo>
                <a:lnTo>
                  <a:pt x="100781" y="144518"/>
                </a:lnTo>
                <a:lnTo>
                  <a:pt x="99661" y="150383"/>
                </a:lnTo>
                <a:lnTo>
                  <a:pt x="98914" y="155987"/>
                </a:lnTo>
                <a:lnTo>
                  <a:pt x="97569" y="162263"/>
                </a:lnTo>
                <a:lnTo>
                  <a:pt x="95825" y="168987"/>
                </a:lnTo>
                <a:lnTo>
                  <a:pt x="93816" y="176009"/>
                </a:lnTo>
                <a:lnTo>
                  <a:pt x="89327" y="190585"/>
                </a:lnTo>
                <a:lnTo>
                  <a:pt x="86944" y="198028"/>
                </a:lnTo>
                <a:lnTo>
                  <a:pt x="84509" y="204683"/>
                </a:lnTo>
                <a:lnTo>
                  <a:pt x="82039" y="210814"/>
                </a:lnTo>
                <a:lnTo>
                  <a:pt x="79546" y="216594"/>
                </a:lnTo>
                <a:lnTo>
                  <a:pt x="77884" y="222987"/>
                </a:lnTo>
                <a:lnTo>
                  <a:pt x="76775" y="229790"/>
                </a:lnTo>
                <a:lnTo>
                  <a:pt x="76037" y="236865"/>
                </a:lnTo>
                <a:lnTo>
                  <a:pt x="74697" y="243274"/>
                </a:lnTo>
                <a:lnTo>
                  <a:pt x="72958" y="249241"/>
                </a:lnTo>
                <a:lnTo>
                  <a:pt x="70952" y="254912"/>
                </a:lnTo>
                <a:lnTo>
                  <a:pt x="66464" y="263471"/>
                </a:lnTo>
                <a:lnTo>
                  <a:pt x="64082" y="266939"/>
                </a:lnTo>
                <a:lnTo>
                  <a:pt x="61436" y="275307"/>
                </a:lnTo>
                <a:lnTo>
                  <a:pt x="60260" y="283825"/>
                </a:lnTo>
                <a:lnTo>
                  <a:pt x="59598" y="293380"/>
                </a:lnTo>
                <a:lnTo>
                  <a:pt x="59402" y="301573"/>
                </a:lnTo>
                <a:lnTo>
                  <a:pt x="59320" y="3119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InkAnnotation46"/>
          <p:cNvSpPr/>
          <p:nvPr/>
        </p:nvSpPr>
        <p:spPr>
          <a:xfrm>
            <a:off x="7350120" y="1774800"/>
            <a:ext cx="25560" cy="214200"/>
          </a:xfrm>
          <a:custGeom>
            <a:avLst/>
            <a:gdLst>
              <a:gd name="textAreaLeft" fmla="*/ 0 w 25560"/>
              <a:gd name="textAreaRight" fmla="*/ 25920 w 255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6274" h="213361">
                <a:moveTo>
                  <a:pt x="26273" y="0"/>
                </a:moveTo>
                <a:lnTo>
                  <a:pt x="26273" y="36130"/>
                </a:lnTo>
                <a:lnTo>
                  <a:pt x="25426" y="41020"/>
                </a:lnTo>
                <a:lnTo>
                  <a:pt x="24015" y="45973"/>
                </a:lnTo>
                <a:lnTo>
                  <a:pt x="20189" y="56839"/>
                </a:lnTo>
                <a:lnTo>
                  <a:pt x="15667" y="70135"/>
                </a:lnTo>
                <a:lnTo>
                  <a:pt x="13276" y="76390"/>
                </a:lnTo>
                <a:lnTo>
                  <a:pt x="10835" y="82253"/>
                </a:lnTo>
                <a:lnTo>
                  <a:pt x="8361" y="87856"/>
                </a:lnTo>
                <a:lnTo>
                  <a:pt x="5865" y="94130"/>
                </a:lnTo>
                <a:lnTo>
                  <a:pt x="833" y="107876"/>
                </a:lnTo>
                <a:lnTo>
                  <a:pt x="0" y="114251"/>
                </a:lnTo>
                <a:lnTo>
                  <a:pt x="291" y="120194"/>
                </a:lnTo>
                <a:lnTo>
                  <a:pt x="1331" y="125849"/>
                </a:lnTo>
                <a:lnTo>
                  <a:pt x="2025" y="132159"/>
                </a:lnTo>
                <a:lnTo>
                  <a:pt x="2487" y="138906"/>
                </a:lnTo>
                <a:lnTo>
                  <a:pt x="3002" y="152330"/>
                </a:lnTo>
                <a:lnTo>
                  <a:pt x="3291" y="169406"/>
                </a:lnTo>
                <a:lnTo>
                  <a:pt x="3359" y="179996"/>
                </a:lnTo>
                <a:lnTo>
                  <a:pt x="4224" y="185191"/>
                </a:lnTo>
                <a:lnTo>
                  <a:pt x="5647" y="190347"/>
                </a:lnTo>
                <a:lnTo>
                  <a:pt x="7442" y="195478"/>
                </a:lnTo>
                <a:lnTo>
                  <a:pt x="9486" y="199746"/>
                </a:lnTo>
                <a:lnTo>
                  <a:pt x="11695" y="203437"/>
                </a:lnTo>
                <a:lnTo>
                  <a:pt x="18653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InkAnnotation47"/>
          <p:cNvSpPr/>
          <p:nvPr/>
        </p:nvSpPr>
        <p:spPr>
          <a:xfrm>
            <a:off x="7292880" y="1882800"/>
            <a:ext cx="196920" cy="6480"/>
          </a:xfrm>
          <a:custGeom>
            <a:avLst/>
            <a:gdLst>
              <a:gd name="textAreaLeft" fmla="*/ 0 w 196920"/>
              <a:gd name="textAreaRight" fmla="*/ 197280 w 1969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158747" y="7620"/>
                </a:lnTo>
                <a:lnTo>
                  <a:pt x="168484" y="6774"/>
                </a:lnTo>
                <a:lnTo>
                  <a:pt x="176670" y="5362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InkAnnotation48"/>
          <p:cNvSpPr/>
          <p:nvPr/>
        </p:nvSpPr>
        <p:spPr>
          <a:xfrm>
            <a:off x="7589880" y="1768320"/>
            <a:ext cx="204840" cy="220680"/>
          </a:xfrm>
          <a:custGeom>
            <a:avLst/>
            <a:gdLst>
              <a:gd name="textAreaLeft" fmla="*/ 0 w 204840"/>
              <a:gd name="textAreaRight" fmla="*/ 205200 w 204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05149" h="220938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6929" y="8607"/>
                </a:lnTo>
                <a:lnTo>
                  <a:pt x="10547" y="11665"/>
                </a:lnTo>
                <a:lnTo>
                  <a:pt x="14651" y="15397"/>
                </a:lnTo>
                <a:lnTo>
                  <a:pt x="18233" y="19578"/>
                </a:lnTo>
                <a:lnTo>
                  <a:pt x="21469" y="24059"/>
                </a:lnTo>
                <a:lnTo>
                  <a:pt x="24473" y="28739"/>
                </a:lnTo>
                <a:lnTo>
                  <a:pt x="26475" y="33553"/>
                </a:lnTo>
                <a:lnTo>
                  <a:pt x="27810" y="38455"/>
                </a:lnTo>
                <a:lnTo>
                  <a:pt x="28700" y="43417"/>
                </a:lnTo>
                <a:lnTo>
                  <a:pt x="30140" y="49265"/>
                </a:lnTo>
                <a:lnTo>
                  <a:pt x="31947" y="55703"/>
                </a:lnTo>
                <a:lnTo>
                  <a:pt x="33998" y="62535"/>
                </a:lnTo>
                <a:lnTo>
                  <a:pt x="35365" y="69630"/>
                </a:lnTo>
                <a:lnTo>
                  <a:pt x="36277" y="76900"/>
                </a:lnTo>
                <a:lnTo>
                  <a:pt x="36883" y="84287"/>
                </a:lnTo>
                <a:lnTo>
                  <a:pt x="37290" y="91751"/>
                </a:lnTo>
                <a:lnTo>
                  <a:pt x="37739" y="106818"/>
                </a:lnTo>
                <a:lnTo>
                  <a:pt x="37993" y="129581"/>
                </a:lnTo>
                <a:lnTo>
                  <a:pt x="37183" y="137188"/>
                </a:lnTo>
                <a:lnTo>
                  <a:pt x="35795" y="144798"/>
                </a:lnTo>
                <a:lnTo>
                  <a:pt x="34023" y="152412"/>
                </a:lnTo>
                <a:lnTo>
                  <a:pt x="32842" y="159182"/>
                </a:lnTo>
                <a:lnTo>
                  <a:pt x="32054" y="165388"/>
                </a:lnTo>
                <a:lnTo>
                  <a:pt x="31530" y="171218"/>
                </a:lnTo>
                <a:lnTo>
                  <a:pt x="30333" y="175952"/>
                </a:lnTo>
                <a:lnTo>
                  <a:pt x="28689" y="179955"/>
                </a:lnTo>
                <a:lnTo>
                  <a:pt x="25450" y="186660"/>
                </a:lnTo>
                <a:lnTo>
                  <a:pt x="24011" y="192462"/>
                </a:lnTo>
                <a:lnTo>
                  <a:pt x="22960" y="197623"/>
                </a:lnTo>
                <a:lnTo>
                  <a:pt x="22889" y="193928"/>
                </a:lnTo>
                <a:lnTo>
                  <a:pt x="23726" y="191938"/>
                </a:lnTo>
                <a:lnTo>
                  <a:pt x="26914" y="187470"/>
                </a:lnTo>
                <a:lnTo>
                  <a:pt x="28103" y="184247"/>
                </a:lnTo>
                <a:lnTo>
                  <a:pt x="28895" y="180405"/>
                </a:lnTo>
                <a:lnTo>
                  <a:pt x="29423" y="176150"/>
                </a:lnTo>
                <a:lnTo>
                  <a:pt x="30622" y="170773"/>
                </a:lnTo>
                <a:lnTo>
                  <a:pt x="32268" y="164649"/>
                </a:lnTo>
                <a:lnTo>
                  <a:pt x="34212" y="158026"/>
                </a:lnTo>
                <a:lnTo>
                  <a:pt x="37201" y="151917"/>
                </a:lnTo>
                <a:lnTo>
                  <a:pt x="40888" y="146152"/>
                </a:lnTo>
                <a:lnTo>
                  <a:pt x="45039" y="140614"/>
                </a:lnTo>
                <a:lnTo>
                  <a:pt x="49499" y="135230"/>
                </a:lnTo>
                <a:lnTo>
                  <a:pt x="54166" y="129946"/>
                </a:lnTo>
                <a:lnTo>
                  <a:pt x="58971" y="124731"/>
                </a:lnTo>
                <a:lnTo>
                  <a:pt x="64714" y="120407"/>
                </a:lnTo>
                <a:lnTo>
                  <a:pt x="71083" y="116678"/>
                </a:lnTo>
                <a:lnTo>
                  <a:pt x="77869" y="113346"/>
                </a:lnTo>
                <a:lnTo>
                  <a:pt x="84932" y="110277"/>
                </a:lnTo>
                <a:lnTo>
                  <a:pt x="92181" y="107385"/>
                </a:lnTo>
                <a:lnTo>
                  <a:pt x="99554" y="104610"/>
                </a:lnTo>
                <a:lnTo>
                  <a:pt x="107856" y="102760"/>
                </a:lnTo>
                <a:lnTo>
                  <a:pt x="116776" y="101527"/>
                </a:lnTo>
                <a:lnTo>
                  <a:pt x="126111" y="100704"/>
                </a:lnTo>
                <a:lnTo>
                  <a:pt x="134874" y="101003"/>
                </a:lnTo>
                <a:lnTo>
                  <a:pt x="143256" y="102049"/>
                </a:lnTo>
                <a:lnTo>
                  <a:pt x="151383" y="103592"/>
                </a:lnTo>
                <a:lnTo>
                  <a:pt x="158495" y="105468"/>
                </a:lnTo>
                <a:lnTo>
                  <a:pt x="164930" y="107566"/>
                </a:lnTo>
                <a:lnTo>
                  <a:pt x="170913" y="109811"/>
                </a:lnTo>
                <a:lnTo>
                  <a:pt x="176596" y="113000"/>
                </a:lnTo>
                <a:lnTo>
                  <a:pt x="182077" y="116820"/>
                </a:lnTo>
                <a:lnTo>
                  <a:pt x="187424" y="121060"/>
                </a:lnTo>
                <a:lnTo>
                  <a:pt x="191837" y="125580"/>
                </a:lnTo>
                <a:lnTo>
                  <a:pt x="195623" y="130287"/>
                </a:lnTo>
                <a:lnTo>
                  <a:pt x="198995" y="135118"/>
                </a:lnTo>
                <a:lnTo>
                  <a:pt x="201244" y="140032"/>
                </a:lnTo>
                <a:lnTo>
                  <a:pt x="202743" y="145001"/>
                </a:lnTo>
                <a:lnTo>
                  <a:pt x="203742" y="150008"/>
                </a:lnTo>
                <a:lnTo>
                  <a:pt x="204408" y="155038"/>
                </a:lnTo>
                <a:lnTo>
                  <a:pt x="204851" y="160086"/>
                </a:lnTo>
                <a:lnTo>
                  <a:pt x="205148" y="165144"/>
                </a:lnTo>
                <a:lnTo>
                  <a:pt x="203651" y="170209"/>
                </a:lnTo>
                <a:lnTo>
                  <a:pt x="200960" y="175280"/>
                </a:lnTo>
                <a:lnTo>
                  <a:pt x="197474" y="180353"/>
                </a:lnTo>
                <a:lnTo>
                  <a:pt x="193455" y="185429"/>
                </a:lnTo>
                <a:lnTo>
                  <a:pt x="189083" y="190506"/>
                </a:lnTo>
                <a:lnTo>
                  <a:pt x="184475" y="195584"/>
                </a:lnTo>
                <a:lnTo>
                  <a:pt x="178863" y="199816"/>
                </a:lnTo>
                <a:lnTo>
                  <a:pt x="172582" y="203484"/>
                </a:lnTo>
                <a:lnTo>
                  <a:pt x="165855" y="206776"/>
                </a:lnTo>
                <a:lnTo>
                  <a:pt x="158830" y="209817"/>
                </a:lnTo>
                <a:lnTo>
                  <a:pt x="151607" y="212691"/>
                </a:lnTo>
                <a:lnTo>
                  <a:pt x="144251" y="215454"/>
                </a:lnTo>
                <a:lnTo>
                  <a:pt x="135961" y="217296"/>
                </a:lnTo>
                <a:lnTo>
                  <a:pt x="127046" y="218524"/>
                </a:lnTo>
                <a:lnTo>
                  <a:pt x="117718" y="219343"/>
                </a:lnTo>
                <a:lnTo>
                  <a:pt x="108958" y="219888"/>
                </a:lnTo>
                <a:lnTo>
                  <a:pt x="92452" y="220495"/>
                </a:lnTo>
                <a:lnTo>
                  <a:pt x="61160" y="220884"/>
                </a:lnTo>
                <a:lnTo>
                  <a:pt x="45809" y="220937"/>
                </a:lnTo>
                <a:lnTo>
                  <a:pt x="39006" y="220105"/>
                </a:lnTo>
                <a:lnTo>
                  <a:pt x="32777" y="218703"/>
                </a:lnTo>
                <a:lnTo>
                  <a:pt x="26931" y="216922"/>
                </a:lnTo>
                <a:lnTo>
                  <a:pt x="22187" y="214888"/>
                </a:lnTo>
                <a:lnTo>
                  <a:pt x="18178" y="212686"/>
                </a:lnTo>
                <a:lnTo>
                  <a:pt x="14658" y="210370"/>
                </a:lnTo>
                <a:lnTo>
                  <a:pt x="8490" y="207798"/>
                </a:lnTo>
                <a:lnTo>
                  <a:pt x="0" y="2057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InkAnnotation49"/>
          <p:cNvSpPr/>
          <p:nvPr/>
        </p:nvSpPr>
        <p:spPr>
          <a:xfrm>
            <a:off x="5494320" y="1836720"/>
            <a:ext cx="46080" cy="212760"/>
          </a:xfrm>
          <a:custGeom>
            <a:avLst/>
            <a:gdLst>
              <a:gd name="textAreaLeft" fmla="*/ 0 w 46080"/>
              <a:gd name="textAreaRight" fmla="*/ 46440 w 460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45721" h="213361">
                <a:moveTo>
                  <a:pt x="45720" y="0"/>
                </a:moveTo>
                <a:lnTo>
                  <a:pt x="45720" y="24473"/>
                </a:lnTo>
                <a:lnTo>
                  <a:pt x="44873" y="28169"/>
                </a:lnTo>
                <a:lnTo>
                  <a:pt x="43463" y="32326"/>
                </a:lnTo>
                <a:lnTo>
                  <a:pt x="41675" y="36790"/>
                </a:lnTo>
                <a:lnTo>
                  <a:pt x="37431" y="48525"/>
                </a:lnTo>
                <a:lnTo>
                  <a:pt x="35115" y="55210"/>
                </a:lnTo>
                <a:lnTo>
                  <a:pt x="33570" y="62207"/>
                </a:lnTo>
                <a:lnTo>
                  <a:pt x="32539" y="69411"/>
                </a:lnTo>
                <a:lnTo>
                  <a:pt x="31853" y="76754"/>
                </a:lnTo>
                <a:lnTo>
                  <a:pt x="30549" y="84189"/>
                </a:lnTo>
                <a:lnTo>
                  <a:pt x="28832" y="91686"/>
                </a:lnTo>
                <a:lnTo>
                  <a:pt x="26842" y="99224"/>
                </a:lnTo>
                <a:lnTo>
                  <a:pt x="25514" y="106789"/>
                </a:lnTo>
                <a:lnTo>
                  <a:pt x="24630" y="114373"/>
                </a:lnTo>
                <a:lnTo>
                  <a:pt x="24040" y="121969"/>
                </a:lnTo>
                <a:lnTo>
                  <a:pt x="22800" y="129572"/>
                </a:lnTo>
                <a:lnTo>
                  <a:pt x="21127" y="137182"/>
                </a:lnTo>
                <a:lnTo>
                  <a:pt x="19164" y="144795"/>
                </a:lnTo>
                <a:lnTo>
                  <a:pt x="17856" y="151563"/>
                </a:lnTo>
                <a:lnTo>
                  <a:pt x="16984" y="157769"/>
                </a:lnTo>
                <a:lnTo>
                  <a:pt x="16403" y="163599"/>
                </a:lnTo>
                <a:lnTo>
                  <a:pt x="15169" y="170026"/>
                </a:lnTo>
                <a:lnTo>
                  <a:pt x="13499" y="176851"/>
                </a:lnTo>
                <a:lnTo>
                  <a:pt x="11540" y="183940"/>
                </a:lnTo>
                <a:lnTo>
                  <a:pt x="10233" y="190360"/>
                </a:lnTo>
                <a:lnTo>
                  <a:pt x="9363" y="196333"/>
                </a:lnTo>
                <a:lnTo>
                  <a:pt x="8782" y="202009"/>
                </a:lnTo>
                <a:lnTo>
                  <a:pt x="7548" y="205793"/>
                </a:lnTo>
                <a:lnTo>
                  <a:pt x="5878" y="208315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InkAnnotation50"/>
          <p:cNvSpPr/>
          <p:nvPr/>
        </p:nvSpPr>
        <p:spPr>
          <a:xfrm>
            <a:off x="5440320" y="1943280"/>
            <a:ext cx="176400" cy="7920"/>
          </a:xfrm>
          <a:custGeom>
            <a:avLst/>
            <a:gdLst>
              <a:gd name="textAreaLeft" fmla="*/ 0 w 176400"/>
              <a:gd name="textAreaRight" fmla="*/ 176760 w 1764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75262" h="7621">
                <a:moveTo>
                  <a:pt x="0" y="0"/>
                </a:moveTo>
                <a:lnTo>
                  <a:pt x="29263" y="0"/>
                </a:lnTo>
                <a:lnTo>
                  <a:pt x="34749" y="847"/>
                </a:lnTo>
                <a:lnTo>
                  <a:pt x="40946" y="2258"/>
                </a:lnTo>
                <a:lnTo>
                  <a:pt x="47617" y="4045"/>
                </a:lnTo>
                <a:lnTo>
                  <a:pt x="54606" y="5237"/>
                </a:lnTo>
                <a:lnTo>
                  <a:pt x="61804" y="6031"/>
                </a:lnTo>
                <a:lnTo>
                  <a:pt x="69143" y="6561"/>
                </a:lnTo>
                <a:lnTo>
                  <a:pt x="77421" y="6914"/>
                </a:lnTo>
                <a:lnTo>
                  <a:pt x="95652" y="7306"/>
                </a:lnTo>
                <a:lnTo>
                  <a:pt x="175261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InkAnnotation51"/>
          <p:cNvSpPr/>
          <p:nvPr/>
        </p:nvSpPr>
        <p:spPr>
          <a:xfrm>
            <a:off x="5707080" y="1812960"/>
            <a:ext cx="160200" cy="233280"/>
          </a:xfrm>
          <a:custGeom>
            <a:avLst/>
            <a:gdLst>
              <a:gd name="textAreaLeft" fmla="*/ 0 w 160200"/>
              <a:gd name="textAreaRight" fmla="*/ 160560 w 1602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59522" h="232692">
                <a:moveTo>
                  <a:pt x="7609" y="0"/>
                </a:moveTo>
                <a:lnTo>
                  <a:pt x="11654" y="0"/>
                </a:lnTo>
                <a:lnTo>
                  <a:pt x="12846" y="847"/>
                </a:lnTo>
                <a:lnTo>
                  <a:pt x="13640" y="2258"/>
                </a:lnTo>
                <a:lnTo>
                  <a:pt x="14523" y="6084"/>
                </a:lnTo>
                <a:lnTo>
                  <a:pt x="15020" y="12998"/>
                </a:lnTo>
                <a:lnTo>
                  <a:pt x="15136" y="17912"/>
                </a:lnTo>
                <a:lnTo>
                  <a:pt x="16014" y="22102"/>
                </a:lnTo>
                <a:lnTo>
                  <a:pt x="17445" y="27434"/>
                </a:lnTo>
                <a:lnTo>
                  <a:pt x="19246" y="33530"/>
                </a:lnTo>
                <a:lnTo>
                  <a:pt x="19601" y="40133"/>
                </a:lnTo>
                <a:lnTo>
                  <a:pt x="18990" y="47075"/>
                </a:lnTo>
                <a:lnTo>
                  <a:pt x="17736" y="54244"/>
                </a:lnTo>
                <a:lnTo>
                  <a:pt x="16900" y="61563"/>
                </a:lnTo>
                <a:lnTo>
                  <a:pt x="16344" y="68982"/>
                </a:lnTo>
                <a:lnTo>
                  <a:pt x="15972" y="76468"/>
                </a:lnTo>
                <a:lnTo>
                  <a:pt x="15560" y="93817"/>
                </a:lnTo>
                <a:lnTo>
                  <a:pt x="15449" y="103184"/>
                </a:lnTo>
                <a:lnTo>
                  <a:pt x="14529" y="111970"/>
                </a:lnTo>
                <a:lnTo>
                  <a:pt x="13070" y="120367"/>
                </a:lnTo>
                <a:lnTo>
                  <a:pt x="11249" y="128504"/>
                </a:lnTo>
                <a:lnTo>
                  <a:pt x="9189" y="136470"/>
                </a:lnTo>
                <a:lnTo>
                  <a:pt x="6970" y="144320"/>
                </a:lnTo>
                <a:lnTo>
                  <a:pt x="4642" y="152093"/>
                </a:lnTo>
                <a:lnTo>
                  <a:pt x="3091" y="158969"/>
                </a:lnTo>
                <a:lnTo>
                  <a:pt x="2057" y="165246"/>
                </a:lnTo>
                <a:lnTo>
                  <a:pt x="1368" y="171124"/>
                </a:lnTo>
                <a:lnTo>
                  <a:pt x="908" y="175889"/>
                </a:lnTo>
                <a:lnTo>
                  <a:pt x="602" y="179913"/>
                </a:lnTo>
                <a:lnTo>
                  <a:pt x="261" y="186641"/>
                </a:lnTo>
                <a:lnTo>
                  <a:pt x="110" y="192454"/>
                </a:lnTo>
                <a:lnTo>
                  <a:pt x="13" y="201391"/>
                </a:lnTo>
                <a:lnTo>
                  <a:pt x="0" y="200138"/>
                </a:lnTo>
                <a:lnTo>
                  <a:pt x="843" y="199466"/>
                </a:lnTo>
                <a:lnTo>
                  <a:pt x="4038" y="198718"/>
                </a:lnTo>
                <a:lnTo>
                  <a:pt x="5228" y="197672"/>
                </a:lnTo>
                <a:lnTo>
                  <a:pt x="6022" y="196128"/>
                </a:lnTo>
                <a:lnTo>
                  <a:pt x="7750" y="191308"/>
                </a:lnTo>
                <a:lnTo>
                  <a:pt x="9397" y="187652"/>
                </a:lnTo>
                <a:lnTo>
                  <a:pt x="11341" y="183521"/>
                </a:lnTo>
                <a:lnTo>
                  <a:pt x="14330" y="179074"/>
                </a:lnTo>
                <a:lnTo>
                  <a:pt x="18017" y="174416"/>
                </a:lnTo>
                <a:lnTo>
                  <a:pt x="22168" y="169618"/>
                </a:lnTo>
                <a:lnTo>
                  <a:pt x="27475" y="164725"/>
                </a:lnTo>
                <a:lnTo>
                  <a:pt x="33552" y="159770"/>
                </a:lnTo>
                <a:lnTo>
                  <a:pt x="40145" y="154773"/>
                </a:lnTo>
                <a:lnTo>
                  <a:pt x="46233" y="149749"/>
                </a:lnTo>
                <a:lnTo>
                  <a:pt x="51985" y="144706"/>
                </a:lnTo>
                <a:lnTo>
                  <a:pt x="57513" y="139651"/>
                </a:lnTo>
                <a:lnTo>
                  <a:pt x="63738" y="135434"/>
                </a:lnTo>
                <a:lnTo>
                  <a:pt x="70429" y="131776"/>
                </a:lnTo>
                <a:lnTo>
                  <a:pt x="77429" y="128491"/>
                </a:lnTo>
                <a:lnTo>
                  <a:pt x="84636" y="126300"/>
                </a:lnTo>
                <a:lnTo>
                  <a:pt x="91980" y="124840"/>
                </a:lnTo>
                <a:lnTo>
                  <a:pt x="99416" y="123867"/>
                </a:lnTo>
                <a:lnTo>
                  <a:pt x="106067" y="123218"/>
                </a:lnTo>
                <a:lnTo>
                  <a:pt x="112195" y="122785"/>
                </a:lnTo>
                <a:lnTo>
                  <a:pt x="117973" y="122497"/>
                </a:lnTo>
                <a:lnTo>
                  <a:pt x="128909" y="122176"/>
                </a:lnTo>
                <a:lnTo>
                  <a:pt x="134195" y="122091"/>
                </a:lnTo>
                <a:lnTo>
                  <a:pt x="138567" y="122881"/>
                </a:lnTo>
                <a:lnTo>
                  <a:pt x="142327" y="124254"/>
                </a:lnTo>
                <a:lnTo>
                  <a:pt x="145681" y="126016"/>
                </a:lnTo>
                <a:lnTo>
                  <a:pt x="148764" y="128037"/>
                </a:lnTo>
                <a:lnTo>
                  <a:pt x="151666" y="130232"/>
                </a:lnTo>
                <a:lnTo>
                  <a:pt x="154447" y="132541"/>
                </a:lnTo>
                <a:lnTo>
                  <a:pt x="156301" y="135774"/>
                </a:lnTo>
                <a:lnTo>
                  <a:pt x="157537" y="139623"/>
                </a:lnTo>
                <a:lnTo>
                  <a:pt x="158361" y="143882"/>
                </a:lnTo>
                <a:lnTo>
                  <a:pt x="158911" y="148414"/>
                </a:lnTo>
                <a:lnTo>
                  <a:pt x="159277" y="153130"/>
                </a:lnTo>
                <a:lnTo>
                  <a:pt x="159521" y="157967"/>
                </a:lnTo>
                <a:lnTo>
                  <a:pt x="158837" y="162884"/>
                </a:lnTo>
                <a:lnTo>
                  <a:pt x="157534" y="167856"/>
                </a:lnTo>
                <a:lnTo>
                  <a:pt x="155819" y="172864"/>
                </a:lnTo>
                <a:lnTo>
                  <a:pt x="153829" y="177896"/>
                </a:lnTo>
                <a:lnTo>
                  <a:pt x="151656" y="182944"/>
                </a:lnTo>
                <a:lnTo>
                  <a:pt x="149360" y="188003"/>
                </a:lnTo>
                <a:lnTo>
                  <a:pt x="146136" y="192222"/>
                </a:lnTo>
                <a:lnTo>
                  <a:pt x="142294" y="195881"/>
                </a:lnTo>
                <a:lnTo>
                  <a:pt x="138039" y="199167"/>
                </a:lnTo>
                <a:lnTo>
                  <a:pt x="133509" y="202205"/>
                </a:lnTo>
                <a:lnTo>
                  <a:pt x="128796" y="205077"/>
                </a:lnTo>
                <a:lnTo>
                  <a:pt x="123960" y="207838"/>
                </a:lnTo>
                <a:lnTo>
                  <a:pt x="114072" y="213164"/>
                </a:lnTo>
                <a:lnTo>
                  <a:pt x="109064" y="215769"/>
                </a:lnTo>
                <a:lnTo>
                  <a:pt x="103185" y="218353"/>
                </a:lnTo>
                <a:lnTo>
                  <a:pt x="96727" y="220922"/>
                </a:lnTo>
                <a:lnTo>
                  <a:pt x="89881" y="223481"/>
                </a:lnTo>
                <a:lnTo>
                  <a:pt x="82777" y="225188"/>
                </a:lnTo>
                <a:lnTo>
                  <a:pt x="75501" y="226325"/>
                </a:lnTo>
                <a:lnTo>
                  <a:pt x="68110" y="227083"/>
                </a:lnTo>
                <a:lnTo>
                  <a:pt x="61490" y="228436"/>
                </a:lnTo>
                <a:lnTo>
                  <a:pt x="55383" y="230184"/>
                </a:lnTo>
                <a:lnTo>
                  <a:pt x="49618" y="232196"/>
                </a:lnTo>
                <a:lnTo>
                  <a:pt x="44082" y="232691"/>
                </a:lnTo>
                <a:lnTo>
                  <a:pt x="38698" y="232174"/>
                </a:lnTo>
                <a:lnTo>
                  <a:pt x="33415" y="230983"/>
                </a:lnTo>
                <a:lnTo>
                  <a:pt x="28199" y="230189"/>
                </a:lnTo>
                <a:lnTo>
                  <a:pt x="23029" y="229659"/>
                </a:lnTo>
                <a:lnTo>
                  <a:pt x="7609" y="2286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InkAnnotation52"/>
          <p:cNvSpPr/>
          <p:nvPr/>
        </p:nvSpPr>
        <p:spPr>
          <a:xfrm>
            <a:off x="5472000" y="2225520"/>
            <a:ext cx="189000" cy="204840"/>
          </a:xfrm>
          <a:custGeom>
            <a:avLst/>
            <a:gdLst>
              <a:gd name="textAreaLeft" fmla="*/ 0 w 189000"/>
              <a:gd name="textAreaRight" fmla="*/ 189360 w 189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90046" h="205741">
                <a:moveTo>
                  <a:pt x="75745" y="0"/>
                </a:moveTo>
                <a:lnTo>
                  <a:pt x="69184" y="6561"/>
                </a:lnTo>
                <a:lnTo>
                  <a:pt x="66338" y="11665"/>
                </a:lnTo>
                <a:lnTo>
                  <a:pt x="64394" y="15397"/>
                </a:lnTo>
                <a:lnTo>
                  <a:pt x="61404" y="19578"/>
                </a:lnTo>
                <a:lnTo>
                  <a:pt x="57718" y="24059"/>
                </a:lnTo>
                <a:lnTo>
                  <a:pt x="53567" y="28739"/>
                </a:lnTo>
                <a:lnTo>
                  <a:pt x="49953" y="33553"/>
                </a:lnTo>
                <a:lnTo>
                  <a:pt x="46697" y="38455"/>
                </a:lnTo>
                <a:lnTo>
                  <a:pt x="43680" y="43417"/>
                </a:lnTo>
                <a:lnTo>
                  <a:pt x="35812" y="55703"/>
                </a:lnTo>
                <a:lnTo>
                  <a:pt x="31343" y="62535"/>
                </a:lnTo>
                <a:lnTo>
                  <a:pt x="27517" y="68784"/>
                </a:lnTo>
                <a:lnTo>
                  <a:pt x="24119" y="74642"/>
                </a:lnTo>
                <a:lnTo>
                  <a:pt x="21008" y="80242"/>
                </a:lnTo>
                <a:lnTo>
                  <a:pt x="18087" y="86514"/>
                </a:lnTo>
                <a:lnTo>
                  <a:pt x="15293" y="93236"/>
                </a:lnTo>
                <a:lnTo>
                  <a:pt x="12584" y="100258"/>
                </a:lnTo>
                <a:lnTo>
                  <a:pt x="7316" y="114832"/>
                </a:lnTo>
                <a:lnTo>
                  <a:pt x="4725" y="122275"/>
                </a:lnTo>
                <a:lnTo>
                  <a:pt x="2999" y="128930"/>
                </a:lnTo>
                <a:lnTo>
                  <a:pt x="1847" y="135060"/>
                </a:lnTo>
                <a:lnTo>
                  <a:pt x="1080" y="140840"/>
                </a:lnTo>
                <a:lnTo>
                  <a:pt x="568" y="146387"/>
                </a:lnTo>
                <a:lnTo>
                  <a:pt x="227" y="151778"/>
                </a:lnTo>
                <a:lnTo>
                  <a:pt x="0" y="157065"/>
                </a:lnTo>
                <a:lnTo>
                  <a:pt x="695" y="161437"/>
                </a:lnTo>
                <a:lnTo>
                  <a:pt x="2005" y="165198"/>
                </a:lnTo>
                <a:lnTo>
                  <a:pt x="3725" y="168552"/>
                </a:lnTo>
                <a:lnTo>
                  <a:pt x="6565" y="171635"/>
                </a:lnTo>
                <a:lnTo>
                  <a:pt x="10152" y="174536"/>
                </a:lnTo>
                <a:lnTo>
                  <a:pt x="14236" y="177317"/>
                </a:lnTo>
                <a:lnTo>
                  <a:pt x="19499" y="179172"/>
                </a:lnTo>
                <a:lnTo>
                  <a:pt x="25548" y="180408"/>
                </a:lnTo>
                <a:lnTo>
                  <a:pt x="32120" y="181232"/>
                </a:lnTo>
                <a:lnTo>
                  <a:pt x="39042" y="181781"/>
                </a:lnTo>
                <a:lnTo>
                  <a:pt x="46196" y="182147"/>
                </a:lnTo>
                <a:lnTo>
                  <a:pt x="53506" y="182392"/>
                </a:lnTo>
                <a:lnTo>
                  <a:pt x="61766" y="181708"/>
                </a:lnTo>
                <a:lnTo>
                  <a:pt x="70659" y="180405"/>
                </a:lnTo>
                <a:lnTo>
                  <a:pt x="79974" y="178690"/>
                </a:lnTo>
                <a:lnTo>
                  <a:pt x="87878" y="176700"/>
                </a:lnTo>
                <a:lnTo>
                  <a:pt x="94840" y="174527"/>
                </a:lnTo>
                <a:lnTo>
                  <a:pt x="101175" y="172231"/>
                </a:lnTo>
                <a:lnTo>
                  <a:pt x="107938" y="169007"/>
                </a:lnTo>
                <a:lnTo>
                  <a:pt x="114987" y="165165"/>
                </a:lnTo>
                <a:lnTo>
                  <a:pt x="122227" y="160910"/>
                </a:lnTo>
                <a:lnTo>
                  <a:pt x="128745" y="156380"/>
                </a:lnTo>
                <a:lnTo>
                  <a:pt x="134786" y="151666"/>
                </a:lnTo>
                <a:lnTo>
                  <a:pt x="140505" y="146831"/>
                </a:lnTo>
                <a:lnTo>
                  <a:pt x="145165" y="141914"/>
                </a:lnTo>
                <a:lnTo>
                  <a:pt x="149119" y="136943"/>
                </a:lnTo>
                <a:lnTo>
                  <a:pt x="152601" y="131935"/>
                </a:lnTo>
                <a:lnTo>
                  <a:pt x="154922" y="127750"/>
                </a:lnTo>
                <a:lnTo>
                  <a:pt x="156469" y="124113"/>
                </a:lnTo>
                <a:lnTo>
                  <a:pt x="158189" y="117815"/>
                </a:lnTo>
                <a:lnTo>
                  <a:pt x="158954" y="112193"/>
                </a:lnTo>
                <a:lnTo>
                  <a:pt x="158311" y="110356"/>
                </a:lnTo>
                <a:lnTo>
                  <a:pt x="157036" y="109130"/>
                </a:lnTo>
                <a:lnTo>
                  <a:pt x="155339" y="108314"/>
                </a:lnTo>
                <a:lnTo>
                  <a:pt x="151195" y="107406"/>
                </a:lnTo>
                <a:lnTo>
                  <a:pt x="145686" y="107003"/>
                </a:lnTo>
                <a:lnTo>
                  <a:pt x="137591" y="106823"/>
                </a:lnTo>
                <a:lnTo>
                  <a:pt x="132216" y="107622"/>
                </a:lnTo>
                <a:lnTo>
                  <a:pt x="126092" y="109001"/>
                </a:lnTo>
                <a:lnTo>
                  <a:pt x="119470" y="110768"/>
                </a:lnTo>
                <a:lnTo>
                  <a:pt x="114208" y="113638"/>
                </a:lnTo>
                <a:lnTo>
                  <a:pt x="109854" y="117246"/>
                </a:lnTo>
                <a:lnTo>
                  <a:pt x="106104" y="121344"/>
                </a:lnTo>
                <a:lnTo>
                  <a:pt x="97423" y="130413"/>
                </a:lnTo>
                <a:lnTo>
                  <a:pt x="92737" y="135202"/>
                </a:lnTo>
                <a:lnTo>
                  <a:pt x="88766" y="140088"/>
                </a:lnTo>
                <a:lnTo>
                  <a:pt x="85273" y="145039"/>
                </a:lnTo>
                <a:lnTo>
                  <a:pt x="82097" y="150032"/>
                </a:lnTo>
                <a:lnTo>
                  <a:pt x="80826" y="155055"/>
                </a:lnTo>
                <a:lnTo>
                  <a:pt x="80826" y="160097"/>
                </a:lnTo>
                <a:lnTo>
                  <a:pt x="81672" y="165151"/>
                </a:lnTo>
                <a:lnTo>
                  <a:pt x="83083" y="169367"/>
                </a:lnTo>
                <a:lnTo>
                  <a:pt x="84870" y="173025"/>
                </a:lnTo>
                <a:lnTo>
                  <a:pt x="86909" y="176310"/>
                </a:lnTo>
                <a:lnTo>
                  <a:pt x="89961" y="180193"/>
                </a:lnTo>
                <a:lnTo>
                  <a:pt x="93689" y="184476"/>
                </a:lnTo>
                <a:lnTo>
                  <a:pt x="97867" y="189024"/>
                </a:lnTo>
                <a:lnTo>
                  <a:pt x="104040" y="192056"/>
                </a:lnTo>
                <a:lnTo>
                  <a:pt x="111541" y="194077"/>
                </a:lnTo>
                <a:lnTo>
                  <a:pt x="119930" y="195425"/>
                </a:lnTo>
                <a:lnTo>
                  <a:pt x="128908" y="197170"/>
                </a:lnTo>
                <a:lnTo>
                  <a:pt x="147915" y="201367"/>
                </a:lnTo>
                <a:lnTo>
                  <a:pt x="156878" y="202824"/>
                </a:lnTo>
                <a:lnTo>
                  <a:pt x="165394" y="203796"/>
                </a:lnTo>
                <a:lnTo>
                  <a:pt x="190045" y="2057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InkAnnotation53"/>
          <p:cNvSpPr/>
          <p:nvPr/>
        </p:nvSpPr>
        <p:spPr>
          <a:xfrm>
            <a:off x="5722920" y="2193840"/>
            <a:ext cx="185760" cy="222480"/>
          </a:xfrm>
          <a:custGeom>
            <a:avLst/>
            <a:gdLst>
              <a:gd name="textAreaLeft" fmla="*/ 0 w 185760"/>
              <a:gd name="textAreaRight" fmla="*/ 186120 w 185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86159" h="220847">
                <a:moveTo>
                  <a:pt x="53341" y="0"/>
                </a:moveTo>
                <a:lnTo>
                  <a:pt x="53341" y="17912"/>
                </a:lnTo>
                <a:lnTo>
                  <a:pt x="52494" y="22102"/>
                </a:lnTo>
                <a:lnTo>
                  <a:pt x="51083" y="27434"/>
                </a:lnTo>
                <a:lnTo>
                  <a:pt x="49296" y="33530"/>
                </a:lnTo>
                <a:lnTo>
                  <a:pt x="48104" y="40133"/>
                </a:lnTo>
                <a:lnTo>
                  <a:pt x="47309" y="47075"/>
                </a:lnTo>
                <a:lnTo>
                  <a:pt x="46779" y="54244"/>
                </a:lnTo>
                <a:lnTo>
                  <a:pt x="45579" y="61563"/>
                </a:lnTo>
                <a:lnTo>
                  <a:pt x="43933" y="68982"/>
                </a:lnTo>
                <a:lnTo>
                  <a:pt x="41989" y="76468"/>
                </a:lnTo>
                <a:lnTo>
                  <a:pt x="39846" y="83999"/>
                </a:lnTo>
                <a:lnTo>
                  <a:pt x="35208" y="99140"/>
                </a:lnTo>
                <a:lnTo>
                  <a:pt x="27835" y="121944"/>
                </a:lnTo>
                <a:lnTo>
                  <a:pt x="25330" y="128709"/>
                </a:lnTo>
                <a:lnTo>
                  <a:pt x="22813" y="134913"/>
                </a:lnTo>
                <a:lnTo>
                  <a:pt x="20290" y="140742"/>
                </a:lnTo>
                <a:lnTo>
                  <a:pt x="15227" y="151734"/>
                </a:lnTo>
                <a:lnTo>
                  <a:pt x="12691" y="157036"/>
                </a:lnTo>
                <a:lnTo>
                  <a:pt x="11001" y="161418"/>
                </a:lnTo>
                <a:lnTo>
                  <a:pt x="9874" y="165185"/>
                </a:lnTo>
                <a:lnTo>
                  <a:pt x="9124" y="168543"/>
                </a:lnTo>
                <a:lnTo>
                  <a:pt x="6031" y="174533"/>
                </a:lnTo>
                <a:lnTo>
                  <a:pt x="1191" y="181231"/>
                </a:lnTo>
                <a:lnTo>
                  <a:pt x="1641" y="181781"/>
                </a:lnTo>
                <a:lnTo>
                  <a:pt x="2788" y="182147"/>
                </a:lnTo>
                <a:lnTo>
                  <a:pt x="4399" y="182391"/>
                </a:lnTo>
                <a:lnTo>
                  <a:pt x="5473" y="181708"/>
                </a:lnTo>
                <a:lnTo>
                  <a:pt x="6189" y="180405"/>
                </a:lnTo>
                <a:lnTo>
                  <a:pt x="7831" y="175853"/>
                </a:lnTo>
                <a:lnTo>
                  <a:pt x="9454" y="172269"/>
                </a:lnTo>
                <a:lnTo>
                  <a:pt x="11382" y="168186"/>
                </a:lnTo>
                <a:lnTo>
                  <a:pt x="14362" y="163771"/>
                </a:lnTo>
                <a:lnTo>
                  <a:pt x="18041" y="159134"/>
                </a:lnTo>
                <a:lnTo>
                  <a:pt x="22188" y="154349"/>
                </a:lnTo>
                <a:lnTo>
                  <a:pt x="26645" y="148620"/>
                </a:lnTo>
                <a:lnTo>
                  <a:pt x="31310" y="142260"/>
                </a:lnTo>
                <a:lnTo>
                  <a:pt x="36114" y="135480"/>
                </a:lnTo>
                <a:lnTo>
                  <a:pt x="41856" y="130113"/>
                </a:lnTo>
                <a:lnTo>
                  <a:pt x="48224" y="125689"/>
                </a:lnTo>
                <a:lnTo>
                  <a:pt x="55010" y="121893"/>
                </a:lnTo>
                <a:lnTo>
                  <a:pt x="62073" y="117669"/>
                </a:lnTo>
                <a:lnTo>
                  <a:pt x="76695" y="108460"/>
                </a:lnTo>
                <a:lnTo>
                  <a:pt x="84150" y="104480"/>
                </a:lnTo>
                <a:lnTo>
                  <a:pt x="91660" y="100980"/>
                </a:lnTo>
                <a:lnTo>
                  <a:pt x="99207" y="97800"/>
                </a:lnTo>
                <a:lnTo>
                  <a:pt x="105932" y="95680"/>
                </a:lnTo>
                <a:lnTo>
                  <a:pt x="112108" y="94267"/>
                </a:lnTo>
                <a:lnTo>
                  <a:pt x="117919" y="93324"/>
                </a:lnTo>
                <a:lnTo>
                  <a:pt x="124332" y="92696"/>
                </a:lnTo>
                <a:lnTo>
                  <a:pt x="131149" y="92278"/>
                </a:lnTo>
                <a:lnTo>
                  <a:pt x="138232" y="91998"/>
                </a:lnTo>
                <a:lnTo>
                  <a:pt x="144649" y="92659"/>
                </a:lnTo>
                <a:lnTo>
                  <a:pt x="150619" y="93946"/>
                </a:lnTo>
                <a:lnTo>
                  <a:pt x="156292" y="95651"/>
                </a:lnTo>
                <a:lnTo>
                  <a:pt x="160922" y="98481"/>
                </a:lnTo>
                <a:lnTo>
                  <a:pt x="164855" y="102060"/>
                </a:lnTo>
                <a:lnTo>
                  <a:pt x="168323" y="106140"/>
                </a:lnTo>
                <a:lnTo>
                  <a:pt x="171482" y="109707"/>
                </a:lnTo>
                <a:lnTo>
                  <a:pt x="177250" y="115928"/>
                </a:lnTo>
                <a:lnTo>
                  <a:pt x="179974" y="119619"/>
                </a:lnTo>
                <a:lnTo>
                  <a:pt x="182636" y="123772"/>
                </a:lnTo>
                <a:lnTo>
                  <a:pt x="185257" y="128235"/>
                </a:lnTo>
                <a:lnTo>
                  <a:pt x="186158" y="132903"/>
                </a:lnTo>
                <a:lnTo>
                  <a:pt x="185913" y="137709"/>
                </a:lnTo>
                <a:lnTo>
                  <a:pt x="184902" y="142606"/>
                </a:lnTo>
                <a:lnTo>
                  <a:pt x="183381" y="147564"/>
                </a:lnTo>
                <a:lnTo>
                  <a:pt x="181521" y="152563"/>
                </a:lnTo>
                <a:lnTo>
                  <a:pt x="179434" y="157588"/>
                </a:lnTo>
                <a:lnTo>
                  <a:pt x="177196" y="163479"/>
                </a:lnTo>
                <a:lnTo>
                  <a:pt x="172452" y="176798"/>
                </a:lnTo>
                <a:lnTo>
                  <a:pt x="169155" y="182212"/>
                </a:lnTo>
                <a:lnTo>
                  <a:pt x="165263" y="186668"/>
                </a:lnTo>
                <a:lnTo>
                  <a:pt x="160976" y="190485"/>
                </a:lnTo>
                <a:lnTo>
                  <a:pt x="156424" y="193877"/>
                </a:lnTo>
                <a:lnTo>
                  <a:pt x="151696" y="196985"/>
                </a:lnTo>
                <a:lnTo>
                  <a:pt x="146851" y="199903"/>
                </a:lnTo>
                <a:lnTo>
                  <a:pt x="141081" y="202695"/>
                </a:lnTo>
                <a:lnTo>
                  <a:pt x="134694" y="205404"/>
                </a:lnTo>
                <a:lnTo>
                  <a:pt x="127896" y="208056"/>
                </a:lnTo>
                <a:lnTo>
                  <a:pt x="113570" y="213260"/>
                </a:lnTo>
                <a:lnTo>
                  <a:pt x="106193" y="215834"/>
                </a:lnTo>
                <a:lnTo>
                  <a:pt x="97889" y="217549"/>
                </a:lnTo>
                <a:lnTo>
                  <a:pt x="88966" y="218693"/>
                </a:lnTo>
                <a:lnTo>
                  <a:pt x="79631" y="219455"/>
                </a:lnTo>
                <a:lnTo>
                  <a:pt x="71714" y="219964"/>
                </a:lnTo>
                <a:lnTo>
                  <a:pt x="58402" y="220528"/>
                </a:lnTo>
                <a:lnTo>
                  <a:pt x="37342" y="220846"/>
                </a:lnTo>
                <a:lnTo>
                  <a:pt x="30822" y="220044"/>
                </a:lnTo>
                <a:lnTo>
                  <a:pt x="24781" y="218663"/>
                </a:lnTo>
                <a:lnTo>
                  <a:pt x="11009" y="214407"/>
                </a:lnTo>
                <a:lnTo>
                  <a:pt x="6869" y="213826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InkAnnotation54"/>
          <p:cNvSpPr/>
          <p:nvPr/>
        </p:nvSpPr>
        <p:spPr>
          <a:xfrm>
            <a:off x="6066000" y="2217600"/>
            <a:ext cx="21960" cy="212760"/>
          </a:xfrm>
          <a:custGeom>
            <a:avLst/>
            <a:gdLst>
              <a:gd name="textAreaLeft" fmla="*/ 0 w 21960"/>
              <a:gd name="textAreaRight" fmla="*/ 22320 w 21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2767" h="213362">
                <a:moveTo>
                  <a:pt x="22766" y="0"/>
                </a:moveTo>
                <a:lnTo>
                  <a:pt x="18721" y="4046"/>
                </a:lnTo>
                <a:lnTo>
                  <a:pt x="17529" y="6084"/>
                </a:lnTo>
                <a:lnTo>
                  <a:pt x="16735" y="8289"/>
                </a:lnTo>
                <a:lnTo>
                  <a:pt x="16206" y="10606"/>
                </a:lnTo>
                <a:lnTo>
                  <a:pt x="15852" y="13844"/>
                </a:lnTo>
                <a:lnTo>
                  <a:pt x="15617" y="17696"/>
                </a:lnTo>
                <a:lnTo>
                  <a:pt x="15459" y="21958"/>
                </a:lnTo>
                <a:lnTo>
                  <a:pt x="14509" y="26492"/>
                </a:lnTo>
                <a:lnTo>
                  <a:pt x="13028" y="31208"/>
                </a:lnTo>
                <a:lnTo>
                  <a:pt x="11194" y="36045"/>
                </a:lnTo>
                <a:lnTo>
                  <a:pt x="9971" y="41811"/>
                </a:lnTo>
                <a:lnTo>
                  <a:pt x="9157" y="48194"/>
                </a:lnTo>
                <a:lnTo>
                  <a:pt x="8613" y="54989"/>
                </a:lnTo>
                <a:lnTo>
                  <a:pt x="8251" y="62060"/>
                </a:lnTo>
                <a:lnTo>
                  <a:pt x="7848" y="76689"/>
                </a:lnTo>
                <a:lnTo>
                  <a:pt x="7621" y="103250"/>
                </a:lnTo>
                <a:lnTo>
                  <a:pt x="6743" y="112014"/>
                </a:lnTo>
                <a:lnTo>
                  <a:pt x="5311" y="120396"/>
                </a:lnTo>
                <a:lnTo>
                  <a:pt x="3510" y="128524"/>
                </a:lnTo>
                <a:lnTo>
                  <a:pt x="2309" y="136483"/>
                </a:lnTo>
                <a:lnTo>
                  <a:pt x="1508" y="144329"/>
                </a:lnTo>
                <a:lnTo>
                  <a:pt x="974" y="152099"/>
                </a:lnTo>
                <a:lnTo>
                  <a:pt x="381" y="165249"/>
                </a:lnTo>
                <a:lnTo>
                  <a:pt x="47" y="182172"/>
                </a:lnTo>
                <a:lnTo>
                  <a:pt x="0" y="187488"/>
                </a:lnTo>
                <a:lnTo>
                  <a:pt x="816" y="192725"/>
                </a:lnTo>
                <a:lnTo>
                  <a:pt x="2206" y="197910"/>
                </a:lnTo>
                <a:lnTo>
                  <a:pt x="7527" y="2133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InkAnnotation55"/>
          <p:cNvSpPr/>
          <p:nvPr/>
        </p:nvSpPr>
        <p:spPr>
          <a:xfrm>
            <a:off x="5997600" y="2308320"/>
            <a:ext cx="182520" cy="15840"/>
          </a:xfrm>
          <a:custGeom>
            <a:avLst/>
            <a:gdLst>
              <a:gd name="textAreaLeft" fmla="*/ 0 w 182520"/>
              <a:gd name="textAreaRight" fmla="*/ 182880 w 1825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82880" h="15241">
                <a:moveTo>
                  <a:pt x="0" y="15240"/>
                </a:moveTo>
                <a:lnTo>
                  <a:pt x="4044" y="15240"/>
                </a:lnTo>
                <a:lnTo>
                  <a:pt x="6083" y="14394"/>
                </a:lnTo>
                <a:lnTo>
                  <a:pt x="8288" y="12982"/>
                </a:lnTo>
                <a:lnTo>
                  <a:pt x="10605" y="11195"/>
                </a:lnTo>
                <a:lnTo>
                  <a:pt x="12997" y="10003"/>
                </a:lnTo>
                <a:lnTo>
                  <a:pt x="15438" y="9209"/>
                </a:lnTo>
                <a:lnTo>
                  <a:pt x="17911" y="8679"/>
                </a:lnTo>
                <a:lnTo>
                  <a:pt x="22101" y="8326"/>
                </a:lnTo>
                <a:lnTo>
                  <a:pt x="27434" y="8091"/>
                </a:lnTo>
                <a:lnTo>
                  <a:pt x="40979" y="7829"/>
                </a:lnTo>
                <a:lnTo>
                  <a:pt x="87073" y="7648"/>
                </a:lnTo>
                <a:lnTo>
                  <a:pt x="96996" y="6792"/>
                </a:lnTo>
                <a:lnTo>
                  <a:pt x="106997" y="5375"/>
                </a:lnTo>
                <a:lnTo>
                  <a:pt x="117051" y="3583"/>
                </a:lnTo>
                <a:lnTo>
                  <a:pt x="127141" y="2389"/>
                </a:lnTo>
                <a:lnTo>
                  <a:pt x="137254" y="1593"/>
                </a:lnTo>
                <a:lnTo>
                  <a:pt x="155828" y="708"/>
                </a:lnTo>
                <a:lnTo>
                  <a:pt x="1828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InkAnnotation56"/>
          <p:cNvSpPr/>
          <p:nvPr/>
        </p:nvSpPr>
        <p:spPr>
          <a:xfrm>
            <a:off x="6256440" y="2193840"/>
            <a:ext cx="27000" cy="236520"/>
          </a:xfrm>
          <a:custGeom>
            <a:avLst/>
            <a:gdLst>
              <a:gd name="textAreaLeft" fmla="*/ 0 w 27000"/>
              <a:gd name="textAreaRight" fmla="*/ 27360 w 270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7042" h="236221">
                <a:moveTo>
                  <a:pt x="15241" y="0"/>
                </a:moveTo>
                <a:lnTo>
                  <a:pt x="15241" y="4045"/>
                </a:lnTo>
                <a:lnTo>
                  <a:pt x="16087" y="6084"/>
                </a:lnTo>
                <a:lnTo>
                  <a:pt x="17498" y="8289"/>
                </a:lnTo>
                <a:lnTo>
                  <a:pt x="19286" y="10606"/>
                </a:lnTo>
                <a:lnTo>
                  <a:pt x="20478" y="13844"/>
                </a:lnTo>
                <a:lnTo>
                  <a:pt x="21272" y="17696"/>
                </a:lnTo>
                <a:lnTo>
                  <a:pt x="21802" y="21957"/>
                </a:lnTo>
                <a:lnTo>
                  <a:pt x="23002" y="25645"/>
                </a:lnTo>
                <a:lnTo>
                  <a:pt x="24647" y="28950"/>
                </a:lnTo>
                <a:lnTo>
                  <a:pt x="26592" y="32000"/>
                </a:lnTo>
                <a:lnTo>
                  <a:pt x="27041" y="36574"/>
                </a:lnTo>
                <a:lnTo>
                  <a:pt x="26495" y="42162"/>
                </a:lnTo>
                <a:lnTo>
                  <a:pt x="25283" y="48428"/>
                </a:lnTo>
                <a:lnTo>
                  <a:pt x="24476" y="55146"/>
                </a:lnTo>
                <a:lnTo>
                  <a:pt x="23937" y="62164"/>
                </a:lnTo>
                <a:lnTo>
                  <a:pt x="23578" y="69383"/>
                </a:lnTo>
                <a:lnTo>
                  <a:pt x="22492" y="77582"/>
                </a:lnTo>
                <a:lnTo>
                  <a:pt x="20921" y="86434"/>
                </a:lnTo>
                <a:lnTo>
                  <a:pt x="19028" y="95723"/>
                </a:lnTo>
                <a:lnTo>
                  <a:pt x="16918" y="104455"/>
                </a:lnTo>
                <a:lnTo>
                  <a:pt x="14666" y="112817"/>
                </a:lnTo>
                <a:lnTo>
                  <a:pt x="12317" y="120931"/>
                </a:lnTo>
                <a:lnTo>
                  <a:pt x="10752" y="129728"/>
                </a:lnTo>
                <a:lnTo>
                  <a:pt x="9708" y="138979"/>
                </a:lnTo>
                <a:lnTo>
                  <a:pt x="9012" y="148532"/>
                </a:lnTo>
                <a:lnTo>
                  <a:pt x="7702" y="157442"/>
                </a:lnTo>
                <a:lnTo>
                  <a:pt x="5981" y="165921"/>
                </a:lnTo>
                <a:lnTo>
                  <a:pt x="3987" y="174114"/>
                </a:lnTo>
                <a:lnTo>
                  <a:pt x="2659" y="181269"/>
                </a:lnTo>
                <a:lnTo>
                  <a:pt x="1772" y="187733"/>
                </a:lnTo>
                <a:lnTo>
                  <a:pt x="1182" y="193735"/>
                </a:lnTo>
                <a:lnTo>
                  <a:pt x="788" y="199430"/>
                </a:lnTo>
                <a:lnTo>
                  <a:pt x="525" y="204920"/>
                </a:lnTo>
                <a:lnTo>
                  <a:pt x="156" y="218479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InkAnnotation57"/>
          <p:cNvSpPr/>
          <p:nvPr/>
        </p:nvSpPr>
        <p:spPr>
          <a:xfrm>
            <a:off x="6362640" y="2155680"/>
            <a:ext cx="206280" cy="2066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205741" h="205493">
                <a:moveTo>
                  <a:pt x="0" y="37996"/>
                </a:moveTo>
                <a:lnTo>
                  <a:pt x="0" y="26645"/>
                </a:lnTo>
                <a:lnTo>
                  <a:pt x="847" y="24502"/>
                </a:lnTo>
                <a:lnTo>
                  <a:pt x="4046" y="19863"/>
                </a:lnTo>
                <a:lnTo>
                  <a:pt x="6931" y="17441"/>
                </a:lnTo>
                <a:lnTo>
                  <a:pt x="10547" y="14979"/>
                </a:lnTo>
                <a:lnTo>
                  <a:pt x="14651" y="12492"/>
                </a:lnTo>
                <a:lnTo>
                  <a:pt x="19081" y="10833"/>
                </a:lnTo>
                <a:lnTo>
                  <a:pt x="23728" y="9727"/>
                </a:lnTo>
                <a:lnTo>
                  <a:pt x="28519" y="8990"/>
                </a:lnTo>
                <a:lnTo>
                  <a:pt x="34253" y="7652"/>
                </a:lnTo>
                <a:lnTo>
                  <a:pt x="40614" y="5913"/>
                </a:lnTo>
                <a:lnTo>
                  <a:pt x="47397" y="3908"/>
                </a:lnTo>
                <a:lnTo>
                  <a:pt x="54458" y="2570"/>
                </a:lnTo>
                <a:lnTo>
                  <a:pt x="61706" y="1679"/>
                </a:lnTo>
                <a:lnTo>
                  <a:pt x="69077" y="1085"/>
                </a:lnTo>
                <a:lnTo>
                  <a:pt x="76532" y="688"/>
                </a:lnTo>
                <a:lnTo>
                  <a:pt x="91587" y="248"/>
                </a:lnTo>
                <a:lnTo>
                  <a:pt x="114344" y="0"/>
                </a:lnTo>
                <a:lnTo>
                  <a:pt x="121102" y="812"/>
                </a:lnTo>
                <a:lnTo>
                  <a:pt x="127302" y="2200"/>
                </a:lnTo>
                <a:lnTo>
                  <a:pt x="133128" y="3972"/>
                </a:lnTo>
                <a:lnTo>
                  <a:pt x="137859" y="6000"/>
                </a:lnTo>
                <a:lnTo>
                  <a:pt x="141860" y="8199"/>
                </a:lnTo>
                <a:lnTo>
                  <a:pt x="145373" y="10511"/>
                </a:lnTo>
                <a:lnTo>
                  <a:pt x="151535" y="15338"/>
                </a:lnTo>
                <a:lnTo>
                  <a:pt x="154363" y="17811"/>
                </a:lnTo>
                <a:lnTo>
                  <a:pt x="156249" y="21153"/>
                </a:lnTo>
                <a:lnTo>
                  <a:pt x="157506" y="25074"/>
                </a:lnTo>
                <a:lnTo>
                  <a:pt x="158344" y="29381"/>
                </a:lnTo>
                <a:lnTo>
                  <a:pt x="158056" y="33946"/>
                </a:lnTo>
                <a:lnTo>
                  <a:pt x="157018" y="38683"/>
                </a:lnTo>
                <a:lnTo>
                  <a:pt x="155478" y="43534"/>
                </a:lnTo>
                <a:lnTo>
                  <a:pt x="152759" y="49308"/>
                </a:lnTo>
                <a:lnTo>
                  <a:pt x="149253" y="55697"/>
                </a:lnTo>
                <a:lnTo>
                  <a:pt x="145222" y="62497"/>
                </a:lnTo>
                <a:lnTo>
                  <a:pt x="140842" y="68723"/>
                </a:lnTo>
                <a:lnTo>
                  <a:pt x="136228" y="74567"/>
                </a:lnTo>
                <a:lnTo>
                  <a:pt x="131459" y="80157"/>
                </a:lnTo>
                <a:lnTo>
                  <a:pt x="125739" y="86424"/>
                </a:lnTo>
                <a:lnTo>
                  <a:pt x="112611" y="100159"/>
                </a:lnTo>
                <a:lnTo>
                  <a:pt x="105554" y="106532"/>
                </a:lnTo>
                <a:lnTo>
                  <a:pt x="98310" y="112473"/>
                </a:lnTo>
                <a:lnTo>
                  <a:pt x="90940" y="118127"/>
                </a:lnTo>
                <a:lnTo>
                  <a:pt x="84333" y="123590"/>
                </a:lnTo>
                <a:lnTo>
                  <a:pt x="78236" y="128926"/>
                </a:lnTo>
                <a:lnTo>
                  <a:pt x="72477" y="134176"/>
                </a:lnTo>
                <a:lnTo>
                  <a:pt x="61563" y="144525"/>
                </a:lnTo>
                <a:lnTo>
                  <a:pt x="56282" y="149655"/>
                </a:lnTo>
                <a:lnTo>
                  <a:pt x="51915" y="154769"/>
                </a:lnTo>
                <a:lnTo>
                  <a:pt x="48157" y="159871"/>
                </a:lnTo>
                <a:lnTo>
                  <a:pt x="44805" y="164966"/>
                </a:lnTo>
                <a:lnTo>
                  <a:pt x="42570" y="170056"/>
                </a:lnTo>
                <a:lnTo>
                  <a:pt x="41080" y="175143"/>
                </a:lnTo>
                <a:lnTo>
                  <a:pt x="40087" y="180227"/>
                </a:lnTo>
                <a:lnTo>
                  <a:pt x="40272" y="184463"/>
                </a:lnTo>
                <a:lnTo>
                  <a:pt x="41242" y="188134"/>
                </a:lnTo>
                <a:lnTo>
                  <a:pt x="44576" y="194471"/>
                </a:lnTo>
                <a:lnTo>
                  <a:pt x="48881" y="200109"/>
                </a:lnTo>
                <a:lnTo>
                  <a:pt x="52907" y="201952"/>
                </a:lnTo>
                <a:lnTo>
                  <a:pt x="58132" y="203180"/>
                </a:lnTo>
                <a:lnTo>
                  <a:pt x="64155" y="203999"/>
                </a:lnTo>
                <a:lnTo>
                  <a:pt x="71556" y="204544"/>
                </a:lnTo>
                <a:lnTo>
                  <a:pt x="79878" y="204908"/>
                </a:lnTo>
                <a:lnTo>
                  <a:pt x="98155" y="205313"/>
                </a:lnTo>
                <a:lnTo>
                  <a:pt x="117566" y="205492"/>
                </a:lnTo>
                <a:lnTo>
                  <a:pt x="127485" y="204694"/>
                </a:lnTo>
                <a:lnTo>
                  <a:pt x="137483" y="203314"/>
                </a:lnTo>
                <a:lnTo>
                  <a:pt x="147536" y="201548"/>
                </a:lnTo>
                <a:lnTo>
                  <a:pt x="156777" y="200371"/>
                </a:lnTo>
                <a:lnTo>
                  <a:pt x="165478" y="199586"/>
                </a:lnTo>
                <a:lnTo>
                  <a:pt x="173819" y="199063"/>
                </a:lnTo>
                <a:lnTo>
                  <a:pt x="181073" y="197867"/>
                </a:lnTo>
                <a:lnTo>
                  <a:pt x="187603" y="196224"/>
                </a:lnTo>
                <a:lnTo>
                  <a:pt x="205740" y="1903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InkAnnotation58"/>
          <p:cNvSpPr/>
          <p:nvPr/>
        </p:nvSpPr>
        <p:spPr>
          <a:xfrm>
            <a:off x="6713640" y="2263680"/>
            <a:ext cx="160200" cy="6480"/>
          </a:xfrm>
          <a:custGeom>
            <a:avLst/>
            <a:gdLst>
              <a:gd name="textAreaLeft" fmla="*/ 0 w 160200"/>
              <a:gd name="textAreaRight" fmla="*/ 160560 w 1602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0021" h="7621">
                <a:moveTo>
                  <a:pt x="0" y="0"/>
                </a:moveTo>
                <a:lnTo>
                  <a:pt x="110570" y="0"/>
                </a:lnTo>
                <a:lnTo>
                  <a:pt x="118587" y="847"/>
                </a:lnTo>
                <a:lnTo>
                  <a:pt x="125625" y="2258"/>
                </a:lnTo>
                <a:lnTo>
                  <a:pt x="132010" y="4045"/>
                </a:lnTo>
                <a:lnTo>
                  <a:pt x="137960" y="5237"/>
                </a:lnTo>
                <a:lnTo>
                  <a:pt x="143621" y="6032"/>
                </a:lnTo>
                <a:lnTo>
                  <a:pt x="160020" y="76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InkAnnotation59"/>
          <p:cNvSpPr/>
          <p:nvPr/>
        </p:nvSpPr>
        <p:spPr>
          <a:xfrm>
            <a:off x="6735600" y="2346480"/>
            <a:ext cx="244800" cy="15840"/>
          </a:xfrm>
          <a:custGeom>
            <a:avLst/>
            <a:gdLst>
              <a:gd name="textAreaLeft" fmla="*/ 0 w 244800"/>
              <a:gd name="textAreaRight" fmla="*/ 245160 w 2448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43841" h="15240">
                <a:moveTo>
                  <a:pt x="0" y="7620"/>
                </a:moveTo>
                <a:lnTo>
                  <a:pt x="4046" y="11665"/>
                </a:lnTo>
                <a:lnTo>
                  <a:pt x="6084" y="12857"/>
                </a:lnTo>
                <a:lnTo>
                  <a:pt x="8289" y="13651"/>
                </a:lnTo>
                <a:lnTo>
                  <a:pt x="10606" y="14181"/>
                </a:lnTo>
                <a:lnTo>
                  <a:pt x="13844" y="14534"/>
                </a:lnTo>
                <a:lnTo>
                  <a:pt x="17696" y="14769"/>
                </a:lnTo>
                <a:lnTo>
                  <a:pt x="21958" y="14926"/>
                </a:lnTo>
                <a:lnTo>
                  <a:pt x="52283" y="15178"/>
                </a:lnTo>
                <a:lnTo>
                  <a:pt x="157576" y="15239"/>
                </a:lnTo>
                <a:lnTo>
                  <a:pt x="166857" y="14393"/>
                </a:lnTo>
                <a:lnTo>
                  <a:pt x="176432" y="12982"/>
                </a:lnTo>
                <a:lnTo>
                  <a:pt x="186201" y="11195"/>
                </a:lnTo>
                <a:lnTo>
                  <a:pt x="194408" y="10003"/>
                </a:lnTo>
                <a:lnTo>
                  <a:pt x="201573" y="9209"/>
                </a:lnTo>
                <a:lnTo>
                  <a:pt x="208042" y="8679"/>
                </a:lnTo>
                <a:lnTo>
                  <a:pt x="214048" y="7480"/>
                </a:lnTo>
                <a:lnTo>
                  <a:pt x="219745" y="5833"/>
                </a:lnTo>
                <a:lnTo>
                  <a:pt x="225237" y="3889"/>
                </a:lnTo>
                <a:lnTo>
                  <a:pt x="229744" y="2593"/>
                </a:lnTo>
                <a:lnTo>
                  <a:pt x="233597" y="1728"/>
                </a:lnTo>
                <a:lnTo>
                  <a:pt x="2438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InkAnnotation60"/>
          <p:cNvSpPr/>
          <p:nvPr/>
        </p:nvSpPr>
        <p:spPr>
          <a:xfrm>
            <a:off x="7048440" y="2255760"/>
            <a:ext cx="130320" cy="360"/>
          </a:xfrm>
          <a:custGeom>
            <a:avLst/>
            <a:gdLst>
              <a:gd name="textAreaLeft" fmla="*/ 0 w 130320"/>
              <a:gd name="textAreaRight" fmla="*/ 130680 w 1303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9541" h="1">
                <a:moveTo>
                  <a:pt x="0" y="0"/>
                </a:moveTo>
                <a:lnTo>
                  <a:pt x="1295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InkAnnotation61"/>
          <p:cNvSpPr/>
          <p:nvPr/>
        </p:nvSpPr>
        <p:spPr>
          <a:xfrm>
            <a:off x="7272360" y="2125800"/>
            <a:ext cx="195120" cy="122040"/>
          </a:xfrm>
          <a:custGeom>
            <a:avLst/>
            <a:gdLst>
              <a:gd name="textAreaLeft" fmla="*/ 0 w 195120"/>
              <a:gd name="textAreaRight" fmla="*/ 195480 w 1951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95215" h="121680">
                <a:moveTo>
                  <a:pt x="180473" y="15145"/>
                </a:moveTo>
                <a:lnTo>
                  <a:pt x="180473" y="8584"/>
                </a:lnTo>
                <a:lnTo>
                  <a:pt x="179626" y="8231"/>
                </a:lnTo>
                <a:lnTo>
                  <a:pt x="176428" y="7839"/>
                </a:lnTo>
                <a:lnTo>
                  <a:pt x="174389" y="6888"/>
                </a:lnTo>
                <a:lnTo>
                  <a:pt x="169866" y="3573"/>
                </a:lnTo>
                <a:lnTo>
                  <a:pt x="167476" y="2350"/>
                </a:lnTo>
                <a:lnTo>
                  <a:pt x="162560" y="992"/>
                </a:lnTo>
                <a:lnTo>
                  <a:pt x="158371" y="629"/>
                </a:lnTo>
                <a:lnTo>
                  <a:pt x="153039" y="388"/>
                </a:lnTo>
                <a:lnTo>
                  <a:pt x="139493" y="120"/>
                </a:lnTo>
                <a:lnTo>
                  <a:pt x="122185" y="0"/>
                </a:lnTo>
                <a:lnTo>
                  <a:pt x="112827" y="1662"/>
                </a:lnTo>
                <a:lnTo>
                  <a:pt x="103202" y="4463"/>
                </a:lnTo>
                <a:lnTo>
                  <a:pt x="93399" y="8024"/>
                </a:lnTo>
                <a:lnTo>
                  <a:pt x="84323" y="12091"/>
                </a:lnTo>
                <a:lnTo>
                  <a:pt x="75733" y="16495"/>
                </a:lnTo>
                <a:lnTo>
                  <a:pt x="67466" y="21125"/>
                </a:lnTo>
                <a:lnTo>
                  <a:pt x="59415" y="25059"/>
                </a:lnTo>
                <a:lnTo>
                  <a:pt x="51508" y="28528"/>
                </a:lnTo>
                <a:lnTo>
                  <a:pt x="43696" y="31687"/>
                </a:lnTo>
                <a:lnTo>
                  <a:pt x="35949" y="35486"/>
                </a:lnTo>
                <a:lnTo>
                  <a:pt x="28242" y="39713"/>
                </a:lnTo>
                <a:lnTo>
                  <a:pt x="20566" y="44223"/>
                </a:lnTo>
                <a:lnTo>
                  <a:pt x="14601" y="48924"/>
                </a:lnTo>
                <a:lnTo>
                  <a:pt x="9778" y="53751"/>
                </a:lnTo>
                <a:lnTo>
                  <a:pt x="5717" y="58662"/>
                </a:lnTo>
                <a:lnTo>
                  <a:pt x="3008" y="64477"/>
                </a:lnTo>
                <a:lnTo>
                  <a:pt x="1204" y="70893"/>
                </a:lnTo>
                <a:lnTo>
                  <a:pt x="0" y="77710"/>
                </a:lnTo>
                <a:lnTo>
                  <a:pt x="44" y="83949"/>
                </a:lnTo>
                <a:lnTo>
                  <a:pt x="921" y="89801"/>
                </a:lnTo>
                <a:lnTo>
                  <a:pt x="2351" y="95396"/>
                </a:lnTo>
                <a:lnTo>
                  <a:pt x="5845" y="99972"/>
                </a:lnTo>
                <a:lnTo>
                  <a:pt x="10715" y="103870"/>
                </a:lnTo>
                <a:lnTo>
                  <a:pt x="16500" y="107315"/>
                </a:lnTo>
                <a:lnTo>
                  <a:pt x="22899" y="110458"/>
                </a:lnTo>
                <a:lnTo>
                  <a:pt x="29703" y="113401"/>
                </a:lnTo>
                <a:lnTo>
                  <a:pt x="36780" y="116209"/>
                </a:lnTo>
                <a:lnTo>
                  <a:pt x="44883" y="118081"/>
                </a:lnTo>
                <a:lnTo>
                  <a:pt x="53673" y="119329"/>
                </a:lnTo>
                <a:lnTo>
                  <a:pt x="62919" y="120161"/>
                </a:lnTo>
                <a:lnTo>
                  <a:pt x="72471" y="120716"/>
                </a:lnTo>
                <a:lnTo>
                  <a:pt x="92114" y="121332"/>
                </a:lnTo>
                <a:lnTo>
                  <a:pt x="122213" y="121679"/>
                </a:lnTo>
                <a:lnTo>
                  <a:pt x="131473" y="120881"/>
                </a:lnTo>
                <a:lnTo>
                  <a:pt x="140187" y="119502"/>
                </a:lnTo>
                <a:lnTo>
                  <a:pt x="148535" y="117736"/>
                </a:lnTo>
                <a:lnTo>
                  <a:pt x="155794" y="114866"/>
                </a:lnTo>
                <a:lnTo>
                  <a:pt x="162327" y="111259"/>
                </a:lnTo>
                <a:lnTo>
                  <a:pt x="168376" y="107161"/>
                </a:lnTo>
                <a:lnTo>
                  <a:pt x="173254" y="102736"/>
                </a:lnTo>
                <a:lnTo>
                  <a:pt x="177354" y="98092"/>
                </a:lnTo>
                <a:lnTo>
                  <a:pt x="180933" y="93303"/>
                </a:lnTo>
                <a:lnTo>
                  <a:pt x="184167" y="87571"/>
                </a:lnTo>
                <a:lnTo>
                  <a:pt x="187168" y="81209"/>
                </a:lnTo>
                <a:lnTo>
                  <a:pt x="190016" y="74428"/>
                </a:lnTo>
                <a:lnTo>
                  <a:pt x="191915" y="68213"/>
                </a:lnTo>
                <a:lnTo>
                  <a:pt x="193181" y="62377"/>
                </a:lnTo>
                <a:lnTo>
                  <a:pt x="194025" y="56793"/>
                </a:lnTo>
                <a:lnTo>
                  <a:pt x="194587" y="51377"/>
                </a:lnTo>
                <a:lnTo>
                  <a:pt x="194962" y="46073"/>
                </a:lnTo>
                <a:lnTo>
                  <a:pt x="195214" y="40844"/>
                </a:lnTo>
                <a:lnTo>
                  <a:pt x="193686" y="36511"/>
                </a:lnTo>
                <a:lnTo>
                  <a:pt x="190976" y="32776"/>
                </a:lnTo>
                <a:lnTo>
                  <a:pt x="181326" y="23473"/>
                </a:lnTo>
                <a:lnTo>
                  <a:pt x="178502" y="20697"/>
                </a:lnTo>
                <a:lnTo>
                  <a:pt x="175773" y="18846"/>
                </a:lnTo>
                <a:lnTo>
                  <a:pt x="170482" y="16790"/>
                </a:lnTo>
                <a:lnTo>
                  <a:pt x="165308" y="15876"/>
                </a:lnTo>
                <a:lnTo>
                  <a:pt x="157613" y="15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InkAnnotation62"/>
          <p:cNvSpPr/>
          <p:nvPr/>
        </p:nvSpPr>
        <p:spPr>
          <a:xfrm>
            <a:off x="7323120" y="2273400"/>
            <a:ext cx="120600" cy="162000"/>
          </a:xfrm>
          <a:custGeom>
            <a:avLst/>
            <a:gdLst>
              <a:gd name="textAreaLeft" fmla="*/ 0 w 120600"/>
              <a:gd name="textAreaRight" fmla="*/ 120960 w 1206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20277" h="161700">
                <a:moveTo>
                  <a:pt x="99061" y="20769"/>
                </a:moveTo>
                <a:lnTo>
                  <a:pt x="99061" y="16724"/>
                </a:lnTo>
                <a:lnTo>
                  <a:pt x="98215" y="15532"/>
                </a:lnTo>
                <a:lnTo>
                  <a:pt x="96802" y="14738"/>
                </a:lnTo>
                <a:lnTo>
                  <a:pt x="91534" y="13177"/>
                </a:lnTo>
                <a:lnTo>
                  <a:pt x="83378" y="17202"/>
                </a:lnTo>
                <a:lnTo>
                  <a:pt x="80139" y="19238"/>
                </a:lnTo>
                <a:lnTo>
                  <a:pt x="77132" y="21442"/>
                </a:lnTo>
                <a:lnTo>
                  <a:pt x="74281" y="23757"/>
                </a:lnTo>
                <a:lnTo>
                  <a:pt x="71535" y="26995"/>
                </a:lnTo>
                <a:lnTo>
                  <a:pt x="68857" y="30846"/>
                </a:lnTo>
                <a:lnTo>
                  <a:pt x="66224" y="35107"/>
                </a:lnTo>
                <a:lnTo>
                  <a:pt x="62776" y="39641"/>
                </a:lnTo>
                <a:lnTo>
                  <a:pt x="58784" y="44357"/>
                </a:lnTo>
                <a:lnTo>
                  <a:pt x="54430" y="49194"/>
                </a:lnTo>
                <a:lnTo>
                  <a:pt x="49834" y="54959"/>
                </a:lnTo>
                <a:lnTo>
                  <a:pt x="45076" y="61342"/>
                </a:lnTo>
                <a:lnTo>
                  <a:pt x="40210" y="68138"/>
                </a:lnTo>
                <a:lnTo>
                  <a:pt x="36121" y="75208"/>
                </a:lnTo>
                <a:lnTo>
                  <a:pt x="32547" y="82462"/>
                </a:lnTo>
                <a:lnTo>
                  <a:pt x="29319" y="89838"/>
                </a:lnTo>
                <a:lnTo>
                  <a:pt x="27166" y="97295"/>
                </a:lnTo>
                <a:lnTo>
                  <a:pt x="25730" y="104806"/>
                </a:lnTo>
                <a:lnTo>
                  <a:pt x="24773" y="112354"/>
                </a:lnTo>
                <a:lnTo>
                  <a:pt x="24982" y="119079"/>
                </a:lnTo>
                <a:lnTo>
                  <a:pt x="25968" y="125256"/>
                </a:lnTo>
                <a:lnTo>
                  <a:pt x="27472" y="131067"/>
                </a:lnTo>
                <a:lnTo>
                  <a:pt x="29321" y="136634"/>
                </a:lnTo>
                <a:lnTo>
                  <a:pt x="31401" y="142039"/>
                </a:lnTo>
                <a:lnTo>
                  <a:pt x="33635" y="147336"/>
                </a:lnTo>
                <a:lnTo>
                  <a:pt x="36817" y="150867"/>
                </a:lnTo>
                <a:lnTo>
                  <a:pt x="40632" y="153221"/>
                </a:lnTo>
                <a:lnTo>
                  <a:pt x="44867" y="154790"/>
                </a:lnTo>
                <a:lnTo>
                  <a:pt x="62966" y="161044"/>
                </a:lnTo>
                <a:lnTo>
                  <a:pt x="69071" y="161699"/>
                </a:lnTo>
                <a:lnTo>
                  <a:pt x="74835" y="161289"/>
                </a:lnTo>
                <a:lnTo>
                  <a:pt x="80369" y="160169"/>
                </a:lnTo>
                <a:lnTo>
                  <a:pt x="85753" y="157729"/>
                </a:lnTo>
                <a:lnTo>
                  <a:pt x="91034" y="154409"/>
                </a:lnTo>
                <a:lnTo>
                  <a:pt x="96250" y="150502"/>
                </a:lnTo>
                <a:lnTo>
                  <a:pt x="100574" y="145358"/>
                </a:lnTo>
                <a:lnTo>
                  <a:pt x="104303" y="139388"/>
                </a:lnTo>
                <a:lnTo>
                  <a:pt x="107635" y="132868"/>
                </a:lnTo>
                <a:lnTo>
                  <a:pt x="110704" y="125982"/>
                </a:lnTo>
                <a:lnTo>
                  <a:pt x="113597" y="118851"/>
                </a:lnTo>
                <a:lnTo>
                  <a:pt x="116372" y="111557"/>
                </a:lnTo>
                <a:lnTo>
                  <a:pt x="118221" y="103308"/>
                </a:lnTo>
                <a:lnTo>
                  <a:pt x="119454" y="94422"/>
                </a:lnTo>
                <a:lnTo>
                  <a:pt x="120276" y="85111"/>
                </a:lnTo>
                <a:lnTo>
                  <a:pt x="119978" y="76364"/>
                </a:lnTo>
                <a:lnTo>
                  <a:pt x="118932" y="67992"/>
                </a:lnTo>
                <a:lnTo>
                  <a:pt x="117388" y="59871"/>
                </a:lnTo>
                <a:lnTo>
                  <a:pt x="114665" y="51917"/>
                </a:lnTo>
                <a:lnTo>
                  <a:pt x="111156" y="44074"/>
                </a:lnTo>
                <a:lnTo>
                  <a:pt x="107126" y="36306"/>
                </a:lnTo>
                <a:lnTo>
                  <a:pt x="101897" y="29434"/>
                </a:lnTo>
                <a:lnTo>
                  <a:pt x="95872" y="23159"/>
                </a:lnTo>
                <a:lnTo>
                  <a:pt x="89314" y="17282"/>
                </a:lnTo>
                <a:lnTo>
                  <a:pt x="82402" y="12518"/>
                </a:lnTo>
                <a:lnTo>
                  <a:pt x="75256" y="8495"/>
                </a:lnTo>
                <a:lnTo>
                  <a:pt x="67951" y="4966"/>
                </a:lnTo>
                <a:lnTo>
                  <a:pt x="60540" y="2614"/>
                </a:lnTo>
                <a:lnTo>
                  <a:pt x="53060" y="1045"/>
                </a:lnTo>
                <a:lnTo>
                  <a:pt x="45534" y="0"/>
                </a:lnTo>
                <a:lnTo>
                  <a:pt x="37976" y="150"/>
                </a:lnTo>
                <a:lnTo>
                  <a:pt x="30398" y="1096"/>
                </a:lnTo>
                <a:lnTo>
                  <a:pt x="22805" y="2574"/>
                </a:lnTo>
                <a:lnTo>
                  <a:pt x="16897" y="3559"/>
                </a:lnTo>
                <a:lnTo>
                  <a:pt x="12111" y="4216"/>
                </a:lnTo>
                <a:lnTo>
                  <a:pt x="0" y="55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InkAnnotation63"/>
          <p:cNvSpPr/>
          <p:nvPr/>
        </p:nvSpPr>
        <p:spPr>
          <a:xfrm>
            <a:off x="5959440" y="2620800"/>
            <a:ext cx="158760" cy="360"/>
          </a:xfrm>
          <a:custGeom>
            <a:avLst/>
            <a:gdLst>
              <a:gd name="textAreaLeft" fmla="*/ 0 w 158760"/>
              <a:gd name="textAreaRight" fmla="*/ 159120 w 1587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60020" h="1">
                <a:moveTo>
                  <a:pt x="0" y="0"/>
                </a:moveTo>
                <a:lnTo>
                  <a:pt x="1600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InkAnnotation64"/>
          <p:cNvSpPr/>
          <p:nvPr/>
        </p:nvSpPr>
        <p:spPr>
          <a:xfrm>
            <a:off x="6240600" y="2536920"/>
            <a:ext cx="15840" cy="183960"/>
          </a:xfrm>
          <a:custGeom>
            <a:avLst/>
            <a:gdLst>
              <a:gd name="textAreaLeft" fmla="*/ 0 w 15840"/>
              <a:gd name="textAreaRight" fmla="*/ 16200 w 15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5241" h="182881">
                <a:moveTo>
                  <a:pt x="15240" y="0"/>
                </a:moveTo>
                <a:lnTo>
                  <a:pt x="15240" y="77811"/>
                </a:lnTo>
                <a:lnTo>
                  <a:pt x="14394" y="84047"/>
                </a:lnTo>
                <a:lnTo>
                  <a:pt x="12982" y="89898"/>
                </a:lnTo>
                <a:lnTo>
                  <a:pt x="4635" y="115501"/>
                </a:lnTo>
                <a:lnTo>
                  <a:pt x="3090" y="121874"/>
                </a:lnTo>
                <a:lnTo>
                  <a:pt x="2060" y="127816"/>
                </a:lnTo>
                <a:lnTo>
                  <a:pt x="1373" y="133471"/>
                </a:lnTo>
                <a:lnTo>
                  <a:pt x="916" y="138934"/>
                </a:lnTo>
                <a:lnTo>
                  <a:pt x="610" y="144269"/>
                </a:lnTo>
                <a:lnTo>
                  <a:pt x="271" y="153866"/>
                </a:lnTo>
                <a:lnTo>
                  <a:pt x="81" y="164876"/>
                </a:lnTo>
                <a:lnTo>
                  <a:pt x="0" y="1828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InkAnnotation65"/>
          <p:cNvSpPr/>
          <p:nvPr/>
        </p:nvSpPr>
        <p:spPr>
          <a:xfrm>
            <a:off x="6434280" y="2506680"/>
            <a:ext cx="179280" cy="206280"/>
          </a:xfrm>
          <a:custGeom>
            <a:avLst/>
            <a:gdLst>
              <a:gd name="textAreaLeft" fmla="*/ 0 w 179280"/>
              <a:gd name="textAreaRight" fmla="*/ 179640 w 1792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79936" h="204958">
                <a:moveTo>
                  <a:pt x="12295" y="22537"/>
                </a:moveTo>
                <a:lnTo>
                  <a:pt x="12295" y="15976"/>
                </a:lnTo>
                <a:lnTo>
                  <a:pt x="16341" y="11186"/>
                </a:lnTo>
                <a:lnTo>
                  <a:pt x="18379" y="9889"/>
                </a:lnTo>
                <a:lnTo>
                  <a:pt x="22901" y="8449"/>
                </a:lnTo>
                <a:lnTo>
                  <a:pt x="26986" y="8065"/>
                </a:lnTo>
                <a:lnTo>
                  <a:pt x="32249" y="7809"/>
                </a:lnTo>
                <a:lnTo>
                  <a:pt x="38298" y="7638"/>
                </a:lnTo>
                <a:lnTo>
                  <a:pt x="44024" y="6678"/>
                </a:lnTo>
                <a:lnTo>
                  <a:pt x="49534" y="5191"/>
                </a:lnTo>
                <a:lnTo>
                  <a:pt x="54901" y="3353"/>
                </a:lnTo>
                <a:lnTo>
                  <a:pt x="61019" y="2128"/>
                </a:lnTo>
                <a:lnTo>
                  <a:pt x="67638" y="1311"/>
                </a:lnTo>
                <a:lnTo>
                  <a:pt x="74591" y="766"/>
                </a:lnTo>
                <a:lnTo>
                  <a:pt x="80918" y="403"/>
                </a:lnTo>
                <a:lnTo>
                  <a:pt x="92466" y="0"/>
                </a:lnTo>
                <a:lnTo>
                  <a:pt x="98762" y="739"/>
                </a:lnTo>
                <a:lnTo>
                  <a:pt x="105500" y="2078"/>
                </a:lnTo>
                <a:lnTo>
                  <a:pt x="112531" y="3818"/>
                </a:lnTo>
                <a:lnTo>
                  <a:pt x="118066" y="4978"/>
                </a:lnTo>
                <a:lnTo>
                  <a:pt x="122602" y="5751"/>
                </a:lnTo>
                <a:lnTo>
                  <a:pt x="126473" y="6266"/>
                </a:lnTo>
                <a:lnTo>
                  <a:pt x="130747" y="7456"/>
                </a:lnTo>
                <a:lnTo>
                  <a:pt x="135290" y="9097"/>
                </a:lnTo>
                <a:lnTo>
                  <a:pt x="140011" y="11037"/>
                </a:lnTo>
                <a:lnTo>
                  <a:pt x="143160" y="13177"/>
                </a:lnTo>
                <a:lnTo>
                  <a:pt x="145258" y="15450"/>
                </a:lnTo>
                <a:lnTo>
                  <a:pt x="146657" y="17813"/>
                </a:lnTo>
                <a:lnTo>
                  <a:pt x="148211" y="22695"/>
                </a:lnTo>
                <a:lnTo>
                  <a:pt x="148626" y="25182"/>
                </a:lnTo>
                <a:lnTo>
                  <a:pt x="148056" y="28534"/>
                </a:lnTo>
                <a:lnTo>
                  <a:pt x="146829" y="32462"/>
                </a:lnTo>
                <a:lnTo>
                  <a:pt x="145164" y="36773"/>
                </a:lnTo>
                <a:lnTo>
                  <a:pt x="141515" y="41341"/>
                </a:lnTo>
                <a:lnTo>
                  <a:pt x="136542" y="46080"/>
                </a:lnTo>
                <a:lnTo>
                  <a:pt x="130686" y="50932"/>
                </a:lnTo>
                <a:lnTo>
                  <a:pt x="125089" y="55861"/>
                </a:lnTo>
                <a:lnTo>
                  <a:pt x="114355" y="65852"/>
                </a:lnTo>
                <a:lnTo>
                  <a:pt x="107428" y="70887"/>
                </a:lnTo>
                <a:lnTo>
                  <a:pt x="99424" y="75937"/>
                </a:lnTo>
                <a:lnTo>
                  <a:pt x="90702" y="80997"/>
                </a:lnTo>
                <a:lnTo>
                  <a:pt x="82345" y="86910"/>
                </a:lnTo>
                <a:lnTo>
                  <a:pt x="74236" y="93393"/>
                </a:lnTo>
                <a:lnTo>
                  <a:pt x="66289" y="100254"/>
                </a:lnTo>
                <a:lnTo>
                  <a:pt x="58451" y="106522"/>
                </a:lnTo>
                <a:lnTo>
                  <a:pt x="50686" y="112393"/>
                </a:lnTo>
                <a:lnTo>
                  <a:pt x="42968" y="118001"/>
                </a:lnTo>
                <a:lnTo>
                  <a:pt x="36131" y="123433"/>
                </a:lnTo>
                <a:lnTo>
                  <a:pt x="29880" y="128748"/>
                </a:lnTo>
                <a:lnTo>
                  <a:pt x="24018" y="133984"/>
                </a:lnTo>
                <a:lnTo>
                  <a:pt x="18417" y="140015"/>
                </a:lnTo>
                <a:lnTo>
                  <a:pt x="12990" y="146576"/>
                </a:lnTo>
                <a:lnTo>
                  <a:pt x="7678" y="153489"/>
                </a:lnTo>
                <a:lnTo>
                  <a:pt x="4137" y="159792"/>
                </a:lnTo>
                <a:lnTo>
                  <a:pt x="1776" y="165687"/>
                </a:lnTo>
                <a:lnTo>
                  <a:pt x="202" y="171310"/>
                </a:lnTo>
                <a:lnTo>
                  <a:pt x="0" y="175906"/>
                </a:lnTo>
                <a:lnTo>
                  <a:pt x="713" y="179816"/>
                </a:lnTo>
                <a:lnTo>
                  <a:pt x="2034" y="183270"/>
                </a:lnTo>
                <a:lnTo>
                  <a:pt x="4608" y="186419"/>
                </a:lnTo>
                <a:lnTo>
                  <a:pt x="8017" y="189365"/>
                </a:lnTo>
                <a:lnTo>
                  <a:pt x="11983" y="192175"/>
                </a:lnTo>
                <a:lnTo>
                  <a:pt x="18014" y="194896"/>
                </a:lnTo>
                <a:lnTo>
                  <a:pt x="25421" y="197556"/>
                </a:lnTo>
                <a:lnTo>
                  <a:pt x="33746" y="200177"/>
                </a:lnTo>
                <a:lnTo>
                  <a:pt x="42682" y="201923"/>
                </a:lnTo>
                <a:lnTo>
                  <a:pt x="52027" y="203088"/>
                </a:lnTo>
                <a:lnTo>
                  <a:pt x="61643" y="203864"/>
                </a:lnTo>
                <a:lnTo>
                  <a:pt x="72287" y="204382"/>
                </a:lnTo>
                <a:lnTo>
                  <a:pt x="95403" y="204957"/>
                </a:lnTo>
                <a:lnTo>
                  <a:pt x="107494" y="204263"/>
                </a:lnTo>
                <a:lnTo>
                  <a:pt x="119787" y="202955"/>
                </a:lnTo>
                <a:lnTo>
                  <a:pt x="132217" y="201235"/>
                </a:lnTo>
                <a:lnTo>
                  <a:pt x="143043" y="200089"/>
                </a:lnTo>
                <a:lnTo>
                  <a:pt x="152800" y="199325"/>
                </a:lnTo>
                <a:lnTo>
                  <a:pt x="179935" y="1977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InkAnnotation66"/>
          <p:cNvSpPr/>
          <p:nvPr/>
        </p:nvSpPr>
        <p:spPr>
          <a:xfrm>
            <a:off x="6918480" y="2552760"/>
            <a:ext cx="252360" cy="15840"/>
          </a:xfrm>
          <a:custGeom>
            <a:avLst/>
            <a:gdLst>
              <a:gd name="textAreaLeft" fmla="*/ 0 w 252360"/>
              <a:gd name="textAreaRight" fmla="*/ 252720 w 252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51460" h="15241">
                <a:moveTo>
                  <a:pt x="0" y="15240"/>
                </a:moveTo>
                <a:lnTo>
                  <a:pt x="58374" y="15240"/>
                </a:lnTo>
                <a:lnTo>
                  <a:pt x="67702" y="14393"/>
                </a:lnTo>
                <a:lnTo>
                  <a:pt x="77307" y="12982"/>
                </a:lnTo>
                <a:lnTo>
                  <a:pt x="87099" y="11195"/>
                </a:lnTo>
                <a:lnTo>
                  <a:pt x="97859" y="10003"/>
                </a:lnTo>
                <a:lnTo>
                  <a:pt x="109265" y="9209"/>
                </a:lnTo>
                <a:lnTo>
                  <a:pt x="132382" y="8326"/>
                </a:lnTo>
                <a:lnTo>
                  <a:pt x="153946" y="7934"/>
                </a:lnTo>
                <a:lnTo>
                  <a:pt x="164437" y="6983"/>
                </a:lnTo>
                <a:lnTo>
                  <a:pt x="174817" y="5502"/>
                </a:lnTo>
                <a:lnTo>
                  <a:pt x="185126" y="3668"/>
                </a:lnTo>
                <a:lnTo>
                  <a:pt x="195383" y="2445"/>
                </a:lnTo>
                <a:lnTo>
                  <a:pt x="205608" y="1630"/>
                </a:lnTo>
                <a:lnTo>
                  <a:pt x="224308" y="724"/>
                </a:lnTo>
                <a:lnTo>
                  <a:pt x="2514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InkAnnotation67"/>
          <p:cNvSpPr/>
          <p:nvPr/>
        </p:nvSpPr>
        <p:spPr>
          <a:xfrm>
            <a:off x="7323120" y="2484360"/>
            <a:ext cx="14400" cy="220680"/>
          </a:xfrm>
          <a:custGeom>
            <a:avLst/>
            <a:gdLst>
              <a:gd name="textAreaLeft" fmla="*/ 0 w 14400"/>
              <a:gd name="textAreaRight" fmla="*/ 14760 w 144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5242" h="220981">
                <a:moveTo>
                  <a:pt x="0" y="0"/>
                </a:moveTo>
                <a:lnTo>
                  <a:pt x="0" y="6561"/>
                </a:lnTo>
                <a:lnTo>
                  <a:pt x="847" y="8607"/>
                </a:lnTo>
                <a:lnTo>
                  <a:pt x="4046" y="15397"/>
                </a:lnTo>
                <a:lnTo>
                  <a:pt x="5237" y="18731"/>
                </a:lnTo>
                <a:lnTo>
                  <a:pt x="6032" y="21801"/>
                </a:lnTo>
                <a:lnTo>
                  <a:pt x="6562" y="24694"/>
                </a:lnTo>
                <a:lnTo>
                  <a:pt x="6068" y="28316"/>
                </a:lnTo>
                <a:lnTo>
                  <a:pt x="4892" y="32424"/>
                </a:lnTo>
                <a:lnTo>
                  <a:pt x="3262" y="36856"/>
                </a:lnTo>
                <a:lnTo>
                  <a:pt x="2174" y="42351"/>
                </a:lnTo>
                <a:lnTo>
                  <a:pt x="1449" y="48554"/>
                </a:lnTo>
                <a:lnTo>
                  <a:pt x="967" y="55230"/>
                </a:lnTo>
                <a:lnTo>
                  <a:pt x="645" y="61373"/>
                </a:lnTo>
                <a:lnTo>
                  <a:pt x="286" y="72715"/>
                </a:lnTo>
                <a:lnTo>
                  <a:pt x="57" y="94640"/>
                </a:lnTo>
                <a:lnTo>
                  <a:pt x="0" y="186780"/>
                </a:lnTo>
                <a:lnTo>
                  <a:pt x="847" y="192253"/>
                </a:lnTo>
                <a:lnTo>
                  <a:pt x="2258" y="197595"/>
                </a:lnTo>
                <a:lnTo>
                  <a:pt x="4046" y="202850"/>
                </a:lnTo>
                <a:lnTo>
                  <a:pt x="5237" y="207200"/>
                </a:lnTo>
                <a:lnTo>
                  <a:pt x="6032" y="210947"/>
                </a:lnTo>
                <a:lnTo>
                  <a:pt x="6562" y="214291"/>
                </a:lnTo>
                <a:lnTo>
                  <a:pt x="7760" y="216521"/>
                </a:lnTo>
                <a:lnTo>
                  <a:pt x="9407" y="218007"/>
                </a:lnTo>
                <a:lnTo>
                  <a:pt x="15241" y="2209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InkAnnotation68"/>
          <p:cNvSpPr/>
          <p:nvPr/>
        </p:nvSpPr>
        <p:spPr>
          <a:xfrm>
            <a:off x="7505640" y="2492280"/>
            <a:ext cx="228600" cy="204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28500" h="205636">
                <a:moveTo>
                  <a:pt x="15139" y="22755"/>
                </a:moveTo>
                <a:lnTo>
                  <a:pt x="1052" y="36843"/>
                </a:lnTo>
                <a:lnTo>
                  <a:pt x="667" y="38074"/>
                </a:lnTo>
                <a:lnTo>
                  <a:pt x="0" y="44455"/>
                </a:lnTo>
                <a:lnTo>
                  <a:pt x="814" y="44842"/>
                </a:lnTo>
                <a:lnTo>
                  <a:pt x="6003" y="45386"/>
                </a:lnTo>
                <a:lnTo>
                  <a:pt x="10515" y="45513"/>
                </a:lnTo>
                <a:lnTo>
                  <a:pt x="12902" y="44700"/>
                </a:lnTo>
                <a:lnTo>
                  <a:pt x="17813" y="41540"/>
                </a:lnTo>
                <a:lnTo>
                  <a:pt x="22849" y="39511"/>
                </a:lnTo>
                <a:lnTo>
                  <a:pt x="29593" y="37313"/>
                </a:lnTo>
                <a:lnTo>
                  <a:pt x="45269" y="32612"/>
                </a:lnTo>
                <a:lnTo>
                  <a:pt x="83673" y="20175"/>
                </a:lnTo>
                <a:lnTo>
                  <a:pt x="106565" y="12583"/>
                </a:lnTo>
                <a:lnTo>
                  <a:pt x="114190" y="10894"/>
                </a:lnTo>
                <a:lnTo>
                  <a:pt x="121813" y="9767"/>
                </a:lnTo>
                <a:lnTo>
                  <a:pt x="129435" y="9016"/>
                </a:lnTo>
                <a:lnTo>
                  <a:pt x="136210" y="7669"/>
                </a:lnTo>
                <a:lnTo>
                  <a:pt x="142420" y="5925"/>
                </a:lnTo>
                <a:lnTo>
                  <a:pt x="148253" y="3915"/>
                </a:lnTo>
                <a:lnTo>
                  <a:pt x="153835" y="2575"/>
                </a:lnTo>
                <a:lnTo>
                  <a:pt x="159250" y="1682"/>
                </a:lnTo>
                <a:lnTo>
                  <a:pt x="164553" y="1086"/>
                </a:lnTo>
                <a:lnTo>
                  <a:pt x="168934" y="689"/>
                </a:lnTo>
                <a:lnTo>
                  <a:pt x="176061" y="248"/>
                </a:lnTo>
                <a:lnTo>
                  <a:pt x="182051" y="52"/>
                </a:lnTo>
                <a:lnTo>
                  <a:pt x="184834" y="0"/>
                </a:lnTo>
                <a:lnTo>
                  <a:pt x="186688" y="811"/>
                </a:lnTo>
                <a:lnTo>
                  <a:pt x="187926" y="2199"/>
                </a:lnTo>
                <a:lnTo>
                  <a:pt x="189911" y="6465"/>
                </a:lnTo>
                <a:lnTo>
                  <a:pt x="185667" y="9306"/>
                </a:lnTo>
                <a:lnTo>
                  <a:pt x="182165" y="11249"/>
                </a:lnTo>
                <a:lnTo>
                  <a:pt x="178982" y="14238"/>
                </a:lnTo>
                <a:lnTo>
                  <a:pt x="176015" y="17924"/>
                </a:lnTo>
                <a:lnTo>
                  <a:pt x="173190" y="22074"/>
                </a:lnTo>
                <a:lnTo>
                  <a:pt x="170460" y="26534"/>
                </a:lnTo>
                <a:lnTo>
                  <a:pt x="167793" y="31201"/>
                </a:lnTo>
                <a:lnTo>
                  <a:pt x="165168" y="36006"/>
                </a:lnTo>
                <a:lnTo>
                  <a:pt x="160879" y="40902"/>
                </a:lnTo>
                <a:lnTo>
                  <a:pt x="155479" y="45860"/>
                </a:lnTo>
                <a:lnTo>
                  <a:pt x="149339" y="50858"/>
                </a:lnTo>
                <a:lnTo>
                  <a:pt x="143553" y="55884"/>
                </a:lnTo>
                <a:lnTo>
                  <a:pt x="138001" y="60927"/>
                </a:lnTo>
                <a:lnTo>
                  <a:pt x="132607" y="65983"/>
                </a:lnTo>
                <a:lnTo>
                  <a:pt x="126471" y="71047"/>
                </a:lnTo>
                <a:lnTo>
                  <a:pt x="119841" y="76116"/>
                </a:lnTo>
                <a:lnTo>
                  <a:pt x="112880" y="81189"/>
                </a:lnTo>
                <a:lnTo>
                  <a:pt x="106547" y="86265"/>
                </a:lnTo>
                <a:lnTo>
                  <a:pt x="100631" y="91342"/>
                </a:lnTo>
                <a:lnTo>
                  <a:pt x="94994" y="96419"/>
                </a:lnTo>
                <a:lnTo>
                  <a:pt x="84214" y="106577"/>
                </a:lnTo>
                <a:lnTo>
                  <a:pt x="78969" y="111656"/>
                </a:lnTo>
                <a:lnTo>
                  <a:pt x="72933" y="115889"/>
                </a:lnTo>
                <a:lnTo>
                  <a:pt x="66369" y="119558"/>
                </a:lnTo>
                <a:lnTo>
                  <a:pt x="59452" y="122850"/>
                </a:lnTo>
                <a:lnTo>
                  <a:pt x="53994" y="126738"/>
                </a:lnTo>
                <a:lnTo>
                  <a:pt x="49509" y="131024"/>
                </a:lnTo>
                <a:lnTo>
                  <a:pt x="45672" y="135574"/>
                </a:lnTo>
                <a:lnTo>
                  <a:pt x="42268" y="139455"/>
                </a:lnTo>
                <a:lnTo>
                  <a:pt x="36227" y="146024"/>
                </a:lnTo>
                <a:lnTo>
                  <a:pt x="34278" y="148961"/>
                </a:lnTo>
                <a:lnTo>
                  <a:pt x="32112" y="154482"/>
                </a:lnTo>
                <a:lnTo>
                  <a:pt x="31534" y="157986"/>
                </a:lnTo>
                <a:lnTo>
                  <a:pt x="31149" y="162016"/>
                </a:lnTo>
                <a:lnTo>
                  <a:pt x="30892" y="166395"/>
                </a:lnTo>
                <a:lnTo>
                  <a:pt x="31568" y="170162"/>
                </a:lnTo>
                <a:lnTo>
                  <a:pt x="32865" y="173520"/>
                </a:lnTo>
                <a:lnTo>
                  <a:pt x="34577" y="176605"/>
                </a:lnTo>
                <a:lnTo>
                  <a:pt x="36564" y="178662"/>
                </a:lnTo>
                <a:lnTo>
                  <a:pt x="38736" y="180033"/>
                </a:lnTo>
                <a:lnTo>
                  <a:pt x="45100" y="182403"/>
                </a:lnTo>
                <a:lnTo>
                  <a:pt x="56396" y="186278"/>
                </a:lnTo>
                <a:lnTo>
                  <a:pt x="62117" y="187651"/>
                </a:lnTo>
                <a:lnTo>
                  <a:pt x="67624" y="188565"/>
                </a:lnTo>
                <a:lnTo>
                  <a:pt x="72990" y="189175"/>
                </a:lnTo>
                <a:lnTo>
                  <a:pt x="79953" y="190428"/>
                </a:lnTo>
                <a:lnTo>
                  <a:pt x="87981" y="192111"/>
                </a:lnTo>
                <a:lnTo>
                  <a:pt x="96720" y="194079"/>
                </a:lnTo>
                <a:lnTo>
                  <a:pt x="105087" y="195391"/>
                </a:lnTo>
                <a:lnTo>
                  <a:pt x="113204" y="196265"/>
                </a:lnTo>
                <a:lnTo>
                  <a:pt x="121156" y="196849"/>
                </a:lnTo>
                <a:lnTo>
                  <a:pt x="129844" y="197237"/>
                </a:lnTo>
                <a:lnTo>
                  <a:pt x="148527" y="197669"/>
                </a:lnTo>
                <a:lnTo>
                  <a:pt x="158251" y="198631"/>
                </a:lnTo>
                <a:lnTo>
                  <a:pt x="168121" y="200119"/>
                </a:lnTo>
                <a:lnTo>
                  <a:pt x="178087" y="201958"/>
                </a:lnTo>
                <a:lnTo>
                  <a:pt x="186425" y="203184"/>
                </a:lnTo>
                <a:lnTo>
                  <a:pt x="193676" y="204001"/>
                </a:lnTo>
                <a:lnTo>
                  <a:pt x="200203" y="204545"/>
                </a:lnTo>
                <a:lnTo>
                  <a:pt x="206248" y="204909"/>
                </a:lnTo>
                <a:lnTo>
                  <a:pt x="228499" y="2056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InkAnnotation69"/>
          <p:cNvSpPr/>
          <p:nvPr/>
        </p:nvSpPr>
        <p:spPr>
          <a:xfrm>
            <a:off x="5381640" y="2827440"/>
            <a:ext cx="254160" cy="288720"/>
          </a:xfrm>
          <a:custGeom>
            <a:avLst/>
            <a:gdLst>
              <a:gd name="textAreaLeft" fmla="*/ 0 w 254160"/>
              <a:gd name="textAreaRight" fmla="*/ 254520 w 254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53525" h="289104">
                <a:moveTo>
                  <a:pt x="127463" y="0"/>
                </a:moveTo>
                <a:lnTo>
                  <a:pt x="127463" y="4046"/>
                </a:lnTo>
                <a:lnTo>
                  <a:pt x="126616" y="5237"/>
                </a:lnTo>
                <a:lnTo>
                  <a:pt x="125206" y="6031"/>
                </a:lnTo>
                <a:lnTo>
                  <a:pt x="123418" y="6561"/>
                </a:lnTo>
                <a:lnTo>
                  <a:pt x="122226" y="7760"/>
                </a:lnTo>
                <a:lnTo>
                  <a:pt x="121432" y="9407"/>
                </a:lnTo>
                <a:lnTo>
                  <a:pt x="119702" y="14341"/>
                </a:lnTo>
                <a:lnTo>
                  <a:pt x="116112" y="22178"/>
                </a:lnTo>
                <a:lnTo>
                  <a:pt x="113122" y="26639"/>
                </a:lnTo>
                <a:lnTo>
                  <a:pt x="109436" y="31306"/>
                </a:lnTo>
                <a:lnTo>
                  <a:pt x="105285" y="36111"/>
                </a:lnTo>
                <a:lnTo>
                  <a:pt x="101671" y="42701"/>
                </a:lnTo>
                <a:lnTo>
                  <a:pt x="98415" y="50481"/>
                </a:lnTo>
                <a:lnTo>
                  <a:pt x="95398" y="59054"/>
                </a:lnTo>
                <a:lnTo>
                  <a:pt x="90846" y="67309"/>
                </a:lnTo>
                <a:lnTo>
                  <a:pt x="85272" y="75353"/>
                </a:lnTo>
                <a:lnTo>
                  <a:pt x="72305" y="91911"/>
                </a:lnTo>
                <a:lnTo>
                  <a:pt x="35784" y="140097"/>
                </a:lnTo>
                <a:lnTo>
                  <a:pt x="29090" y="150971"/>
                </a:lnTo>
                <a:lnTo>
                  <a:pt x="22934" y="162455"/>
                </a:lnTo>
                <a:lnTo>
                  <a:pt x="17137" y="174343"/>
                </a:lnTo>
                <a:lnTo>
                  <a:pt x="12426" y="184809"/>
                </a:lnTo>
                <a:lnTo>
                  <a:pt x="8438" y="194326"/>
                </a:lnTo>
                <a:lnTo>
                  <a:pt x="4934" y="203211"/>
                </a:lnTo>
                <a:lnTo>
                  <a:pt x="2596" y="212520"/>
                </a:lnTo>
                <a:lnTo>
                  <a:pt x="1039" y="222114"/>
                </a:lnTo>
                <a:lnTo>
                  <a:pt x="0" y="231896"/>
                </a:lnTo>
                <a:lnTo>
                  <a:pt x="154" y="240111"/>
                </a:lnTo>
                <a:lnTo>
                  <a:pt x="1104" y="247281"/>
                </a:lnTo>
                <a:lnTo>
                  <a:pt x="2584" y="253754"/>
                </a:lnTo>
                <a:lnTo>
                  <a:pt x="6110" y="259763"/>
                </a:lnTo>
                <a:lnTo>
                  <a:pt x="11001" y="265462"/>
                </a:lnTo>
                <a:lnTo>
                  <a:pt x="16801" y="270955"/>
                </a:lnTo>
                <a:lnTo>
                  <a:pt x="24055" y="274617"/>
                </a:lnTo>
                <a:lnTo>
                  <a:pt x="32278" y="277058"/>
                </a:lnTo>
                <a:lnTo>
                  <a:pt x="41146" y="278685"/>
                </a:lnTo>
                <a:lnTo>
                  <a:pt x="51292" y="279771"/>
                </a:lnTo>
                <a:lnTo>
                  <a:pt x="62289" y="280494"/>
                </a:lnTo>
                <a:lnTo>
                  <a:pt x="73854" y="280976"/>
                </a:lnTo>
                <a:lnTo>
                  <a:pt x="86644" y="280451"/>
                </a:lnTo>
                <a:lnTo>
                  <a:pt x="100251" y="279254"/>
                </a:lnTo>
                <a:lnTo>
                  <a:pt x="114401" y="277609"/>
                </a:lnTo>
                <a:lnTo>
                  <a:pt x="128069" y="275666"/>
                </a:lnTo>
                <a:lnTo>
                  <a:pt x="154544" y="271249"/>
                </a:lnTo>
                <a:lnTo>
                  <a:pt x="166683" y="268040"/>
                </a:lnTo>
                <a:lnTo>
                  <a:pt x="178164" y="264206"/>
                </a:lnTo>
                <a:lnTo>
                  <a:pt x="189203" y="259958"/>
                </a:lnTo>
                <a:lnTo>
                  <a:pt x="199950" y="254585"/>
                </a:lnTo>
                <a:lnTo>
                  <a:pt x="210501" y="248464"/>
                </a:lnTo>
                <a:lnTo>
                  <a:pt x="220921" y="241843"/>
                </a:lnTo>
                <a:lnTo>
                  <a:pt x="229562" y="235735"/>
                </a:lnTo>
                <a:lnTo>
                  <a:pt x="237016" y="229970"/>
                </a:lnTo>
                <a:lnTo>
                  <a:pt x="243678" y="224434"/>
                </a:lnTo>
                <a:lnTo>
                  <a:pt x="251081" y="216024"/>
                </a:lnTo>
                <a:lnTo>
                  <a:pt x="253055" y="212596"/>
                </a:lnTo>
                <a:lnTo>
                  <a:pt x="253524" y="209464"/>
                </a:lnTo>
                <a:lnTo>
                  <a:pt x="252990" y="206530"/>
                </a:lnTo>
                <a:lnTo>
                  <a:pt x="251788" y="203726"/>
                </a:lnTo>
                <a:lnTo>
                  <a:pt x="248446" y="201858"/>
                </a:lnTo>
                <a:lnTo>
                  <a:pt x="243678" y="200612"/>
                </a:lnTo>
                <a:lnTo>
                  <a:pt x="237960" y="199781"/>
                </a:lnTo>
                <a:lnTo>
                  <a:pt x="231608" y="199228"/>
                </a:lnTo>
                <a:lnTo>
                  <a:pt x="224832" y="198858"/>
                </a:lnTo>
                <a:lnTo>
                  <a:pt x="217776" y="198613"/>
                </a:lnTo>
                <a:lnTo>
                  <a:pt x="191664" y="198266"/>
                </a:lnTo>
                <a:lnTo>
                  <a:pt x="182964" y="199911"/>
                </a:lnTo>
                <a:lnTo>
                  <a:pt x="174624" y="202701"/>
                </a:lnTo>
                <a:lnTo>
                  <a:pt x="166524" y="206254"/>
                </a:lnTo>
                <a:lnTo>
                  <a:pt x="158583" y="209469"/>
                </a:lnTo>
                <a:lnTo>
                  <a:pt x="142987" y="215300"/>
                </a:lnTo>
                <a:lnTo>
                  <a:pt x="136120" y="218887"/>
                </a:lnTo>
                <a:lnTo>
                  <a:pt x="129848" y="222971"/>
                </a:lnTo>
                <a:lnTo>
                  <a:pt x="123973" y="227388"/>
                </a:lnTo>
                <a:lnTo>
                  <a:pt x="118363" y="232025"/>
                </a:lnTo>
                <a:lnTo>
                  <a:pt x="112930" y="236810"/>
                </a:lnTo>
                <a:lnTo>
                  <a:pt x="107614" y="241694"/>
                </a:lnTo>
                <a:lnTo>
                  <a:pt x="104917" y="246642"/>
                </a:lnTo>
                <a:lnTo>
                  <a:pt x="103965" y="251635"/>
                </a:lnTo>
                <a:lnTo>
                  <a:pt x="104178" y="256657"/>
                </a:lnTo>
                <a:lnTo>
                  <a:pt x="105167" y="260851"/>
                </a:lnTo>
                <a:lnTo>
                  <a:pt x="108523" y="267770"/>
                </a:lnTo>
                <a:lnTo>
                  <a:pt x="112296" y="270800"/>
                </a:lnTo>
                <a:lnTo>
                  <a:pt x="117352" y="273667"/>
                </a:lnTo>
                <a:lnTo>
                  <a:pt x="123262" y="276424"/>
                </a:lnTo>
                <a:lnTo>
                  <a:pt x="130589" y="279110"/>
                </a:lnTo>
                <a:lnTo>
                  <a:pt x="138861" y="281746"/>
                </a:lnTo>
                <a:lnTo>
                  <a:pt x="147761" y="284351"/>
                </a:lnTo>
                <a:lnTo>
                  <a:pt x="157082" y="286087"/>
                </a:lnTo>
                <a:lnTo>
                  <a:pt x="166683" y="287245"/>
                </a:lnTo>
                <a:lnTo>
                  <a:pt x="176469" y="288017"/>
                </a:lnTo>
                <a:lnTo>
                  <a:pt x="185534" y="288531"/>
                </a:lnTo>
                <a:lnTo>
                  <a:pt x="202379" y="289103"/>
                </a:lnTo>
                <a:lnTo>
                  <a:pt x="209580" y="288409"/>
                </a:lnTo>
                <a:lnTo>
                  <a:pt x="216075" y="287099"/>
                </a:lnTo>
                <a:lnTo>
                  <a:pt x="234144" y="2819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InkAnnotation70"/>
          <p:cNvSpPr/>
          <p:nvPr/>
        </p:nvSpPr>
        <p:spPr>
          <a:xfrm>
            <a:off x="5699160" y="2903400"/>
            <a:ext cx="217440" cy="289080"/>
          </a:xfrm>
          <a:custGeom>
            <a:avLst/>
            <a:gdLst>
              <a:gd name="textAreaLeft" fmla="*/ 0 w 217440"/>
              <a:gd name="textAreaRight" fmla="*/ 217800 w 217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16961" h="289011">
                <a:moveTo>
                  <a:pt x="15201" y="0"/>
                </a:moveTo>
                <a:lnTo>
                  <a:pt x="26553" y="0"/>
                </a:lnTo>
                <a:lnTo>
                  <a:pt x="27849" y="847"/>
                </a:lnTo>
                <a:lnTo>
                  <a:pt x="28713" y="2258"/>
                </a:lnTo>
                <a:lnTo>
                  <a:pt x="29289" y="4046"/>
                </a:lnTo>
                <a:lnTo>
                  <a:pt x="32187" y="8289"/>
                </a:lnTo>
                <a:lnTo>
                  <a:pt x="34145" y="10606"/>
                </a:lnTo>
                <a:lnTo>
                  <a:pt x="35451" y="13844"/>
                </a:lnTo>
                <a:lnTo>
                  <a:pt x="38134" y="27339"/>
                </a:lnTo>
                <a:lnTo>
                  <a:pt x="39803" y="33466"/>
                </a:lnTo>
                <a:lnTo>
                  <a:pt x="41763" y="40090"/>
                </a:lnTo>
                <a:lnTo>
                  <a:pt x="43069" y="47047"/>
                </a:lnTo>
                <a:lnTo>
                  <a:pt x="43940" y="54225"/>
                </a:lnTo>
                <a:lnTo>
                  <a:pt x="44520" y="61550"/>
                </a:lnTo>
                <a:lnTo>
                  <a:pt x="44060" y="68973"/>
                </a:lnTo>
                <a:lnTo>
                  <a:pt x="42907" y="76462"/>
                </a:lnTo>
                <a:lnTo>
                  <a:pt x="34973" y="114822"/>
                </a:lnTo>
                <a:lnTo>
                  <a:pt x="32616" y="124809"/>
                </a:lnTo>
                <a:lnTo>
                  <a:pt x="30198" y="134006"/>
                </a:lnTo>
                <a:lnTo>
                  <a:pt x="25253" y="151845"/>
                </a:lnTo>
                <a:lnTo>
                  <a:pt x="20233" y="171062"/>
                </a:lnTo>
                <a:lnTo>
                  <a:pt x="17709" y="179235"/>
                </a:lnTo>
                <a:lnTo>
                  <a:pt x="15180" y="186377"/>
                </a:lnTo>
                <a:lnTo>
                  <a:pt x="12647" y="192831"/>
                </a:lnTo>
                <a:lnTo>
                  <a:pt x="10112" y="198828"/>
                </a:lnTo>
                <a:lnTo>
                  <a:pt x="5037" y="210006"/>
                </a:lnTo>
                <a:lnTo>
                  <a:pt x="3345" y="215357"/>
                </a:lnTo>
                <a:lnTo>
                  <a:pt x="2217" y="220618"/>
                </a:lnTo>
                <a:lnTo>
                  <a:pt x="407" y="233138"/>
                </a:lnTo>
                <a:lnTo>
                  <a:pt x="49" y="240002"/>
                </a:lnTo>
                <a:lnTo>
                  <a:pt x="0" y="238465"/>
                </a:lnTo>
                <a:lnTo>
                  <a:pt x="834" y="236870"/>
                </a:lnTo>
                <a:lnTo>
                  <a:pt x="6899" y="229734"/>
                </a:lnTo>
                <a:lnTo>
                  <a:pt x="19044" y="217271"/>
                </a:lnTo>
                <a:lnTo>
                  <a:pt x="28480" y="207760"/>
                </a:lnTo>
                <a:lnTo>
                  <a:pt x="34214" y="202854"/>
                </a:lnTo>
                <a:lnTo>
                  <a:pt x="40577" y="197889"/>
                </a:lnTo>
                <a:lnTo>
                  <a:pt x="47358" y="192886"/>
                </a:lnTo>
                <a:lnTo>
                  <a:pt x="61667" y="182812"/>
                </a:lnTo>
                <a:lnTo>
                  <a:pt x="69038" y="177755"/>
                </a:lnTo>
                <a:lnTo>
                  <a:pt x="77339" y="173537"/>
                </a:lnTo>
                <a:lnTo>
                  <a:pt x="86260" y="169877"/>
                </a:lnTo>
                <a:lnTo>
                  <a:pt x="95594" y="166592"/>
                </a:lnTo>
                <a:lnTo>
                  <a:pt x="105202" y="163555"/>
                </a:lnTo>
                <a:lnTo>
                  <a:pt x="124911" y="157922"/>
                </a:lnTo>
                <a:lnTo>
                  <a:pt x="134061" y="156082"/>
                </a:lnTo>
                <a:lnTo>
                  <a:pt x="142701" y="154855"/>
                </a:lnTo>
                <a:lnTo>
                  <a:pt x="151002" y="154036"/>
                </a:lnTo>
                <a:lnTo>
                  <a:pt x="159921" y="154338"/>
                </a:lnTo>
                <a:lnTo>
                  <a:pt x="169255" y="155385"/>
                </a:lnTo>
                <a:lnTo>
                  <a:pt x="178863" y="156930"/>
                </a:lnTo>
                <a:lnTo>
                  <a:pt x="186963" y="158807"/>
                </a:lnTo>
                <a:lnTo>
                  <a:pt x="194056" y="160905"/>
                </a:lnTo>
                <a:lnTo>
                  <a:pt x="200478" y="163150"/>
                </a:lnTo>
                <a:lnTo>
                  <a:pt x="204758" y="166340"/>
                </a:lnTo>
                <a:lnTo>
                  <a:pt x="207613" y="170160"/>
                </a:lnTo>
                <a:lnTo>
                  <a:pt x="211630" y="178074"/>
                </a:lnTo>
                <a:lnTo>
                  <a:pt x="216239" y="184413"/>
                </a:lnTo>
                <a:lnTo>
                  <a:pt x="216960" y="188982"/>
                </a:lnTo>
                <a:lnTo>
                  <a:pt x="216594" y="194568"/>
                </a:lnTo>
                <a:lnTo>
                  <a:pt x="215503" y="200832"/>
                </a:lnTo>
                <a:lnTo>
                  <a:pt x="213082" y="206702"/>
                </a:lnTo>
                <a:lnTo>
                  <a:pt x="209776" y="212307"/>
                </a:lnTo>
                <a:lnTo>
                  <a:pt x="205877" y="217739"/>
                </a:lnTo>
                <a:lnTo>
                  <a:pt x="200739" y="223052"/>
                </a:lnTo>
                <a:lnTo>
                  <a:pt x="194772" y="228288"/>
                </a:lnTo>
                <a:lnTo>
                  <a:pt x="188255" y="233472"/>
                </a:lnTo>
                <a:lnTo>
                  <a:pt x="181370" y="238622"/>
                </a:lnTo>
                <a:lnTo>
                  <a:pt x="166948" y="248859"/>
                </a:lnTo>
                <a:lnTo>
                  <a:pt x="159545" y="253112"/>
                </a:lnTo>
                <a:lnTo>
                  <a:pt x="152071" y="256795"/>
                </a:lnTo>
                <a:lnTo>
                  <a:pt x="144547" y="260097"/>
                </a:lnTo>
                <a:lnTo>
                  <a:pt x="136992" y="263992"/>
                </a:lnTo>
                <a:lnTo>
                  <a:pt x="129415" y="268281"/>
                </a:lnTo>
                <a:lnTo>
                  <a:pt x="121824" y="272834"/>
                </a:lnTo>
                <a:lnTo>
                  <a:pt x="114223" y="276716"/>
                </a:lnTo>
                <a:lnTo>
                  <a:pt x="106616" y="280151"/>
                </a:lnTo>
                <a:lnTo>
                  <a:pt x="99004" y="283287"/>
                </a:lnTo>
                <a:lnTo>
                  <a:pt x="91390" y="285378"/>
                </a:lnTo>
                <a:lnTo>
                  <a:pt x="83774" y="286772"/>
                </a:lnTo>
                <a:lnTo>
                  <a:pt x="76156" y="287702"/>
                </a:lnTo>
                <a:lnTo>
                  <a:pt x="69385" y="288321"/>
                </a:lnTo>
                <a:lnTo>
                  <a:pt x="63177" y="288734"/>
                </a:lnTo>
                <a:lnTo>
                  <a:pt x="57345" y="289010"/>
                </a:lnTo>
                <a:lnTo>
                  <a:pt x="51764" y="288346"/>
                </a:lnTo>
                <a:lnTo>
                  <a:pt x="46349" y="287058"/>
                </a:lnTo>
                <a:lnTo>
                  <a:pt x="33584" y="282951"/>
                </a:lnTo>
                <a:lnTo>
                  <a:pt x="32536" y="281767"/>
                </a:lnTo>
                <a:lnTo>
                  <a:pt x="31838" y="280132"/>
                </a:lnTo>
                <a:lnTo>
                  <a:pt x="30855" y="273785"/>
                </a:lnTo>
                <a:lnTo>
                  <a:pt x="30717" y="271423"/>
                </a:lnTo>
                <a:lnTo>
                  <a:pt x="31472" y="269849"/>
                </a:lnTo>
                <a:lnTo>
                  <a:pt x="32821" y="268799"/>
                </a:lnTo>
                <a:lnTo>
                  <a:pt x="38061" y="2667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InkAnnotation71"/>
          <p:cNvSpPr/>
          <p:nvPr/>
        </p:nvSpPr>
        <p:spPr>
          <a:xfrm>
            <a:off x="6087960" y="3040200"/>
            <a:ext cx="312840" cy="15840"/>
          </a:xfrm>
          <a:custGeom>
            <a:avLst/>
            <a:gdLst>
              <a:gd name="textAreaLeft" fmla="*/ 0 w 312840"/>
              <a:gd name="textAreaRight" fmla="*/ 313200 w 312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12421" h="15241">
                <a:moveTo>
                  <a:pt x="0" y="15240"/>
                </a:moveTo>
                <a:lnTo>
                  <a:pt x="29485" y="15240"/>
                </a:lnTo>
                <a:lnTo>
                  <a:pt x="35743" y="14393"/>
                </a:lnTo>
                <a:lnTo>
                  <a:pt x="43302" y="12982"/>
                </a:lnTo>
                <a:lnTo>
                  <a:pt x="51729" y="11195"/>
                </a:lnTo>
                <a:lnTo>
                  <a:pt x="60732" y="10003"/>
                </a:lnTo>
                <a:lnTo>
                  <a:pt x="70121" y="9209"/>
                </a:lnTo>
                <a:lnTo>
                  <a:pt x="79768" y="8679"/>
                </a:lnTo>
                <a:lnTo>
                  <a:pt x="89585" y="7480"/>
                </a:lnTo>
                <a:lnTo>
                  <a:pt x="99516" y="5833"/>
                </a:lnTo>
                <a:lnTo>
                  <a:pt x="109524" y="3888"/>
                </a:lnTo>
                <a:lnTo>
                  <a:pt x="120429" y="2593"/>
                </a:lnTo>
                <a:lnTo>
                  <a:pt x="131933" y="1728"/>
                </a:lnTo>
                <a:lnTo>
                  <a:pt x="143836" y="1152"/>
                </a:lnTo>
                <a:lnTo>
                  <a:pt x="168349" y="512"/>
                </a:lnTo>
                <a:lnTo>
                  <a:pt x="3124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InkAnnotation72"/>
          <p:cNvSpPr/>
          <p:nvPr/>
        </p:nvSpPr>
        <p:spPr>
          <a:xfrm>
            <a:off x="6180120" y="3132000"/>
            <a:ext cx="220680" cy="22320"/>
          </a:xfrm>
          <a:custGeom>
            <a:avLst/>
            <a:gdLst>
              <a:gd name="textAreaLeft" fmla="*/ 0 w 220680"/>
              <a:gd name="textAreaRight" fmla="*/ 221040 w 2206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0981" h="22861">
                <a:moveTo>
                  <a:pt x="0" y="0"/>
                </a:moveTo>
                <a:lnTo>
                  <a:pt x="0" y="4046"/>
                </a:lnTo>
                <a:lnTo>
                  <a:pt x="847" y="5237"/>
                </a:lnTo>
                <a:lnTo>
                  <a:pt x="2258" y="6031"/>
                </a:lnTo>
                <a:lnTo>
                  <a:pt x="4046" y="6561"/>
                </a:lnTo>
                <a:lnTo>
                  <a:pt x="8289" y="7150"/>
                </a:lnTo>
                <a:lnTo>
                  <a:pt x="10606" y="7306"/>
                </a:lnTo>
                <a:lnTo>
                  <a:pt x="12998" y="8258"/>
                </a:lnTo>
                <a:lnTo>
                  <a:pt x="15439" y="9738"/>
                </a:lnTo>
                <a:lnTo>
                  <a:pt x="17913" y="11572"/>
                </a:lnTo>
                <a:lnTo>
                  <a:pt x="21255" y="12795"/>
                </a:lnTo>
                <a:lnTo>
                  <a:pt x="25177" y="13610"/>
                </a:lnTo>
                <a:lnTo>
                  <a:pt x="29485" y="14153"/>
                </a:lnTo>
                <a:lnTo>
                  <a:pt x="34896" y="14516"/>
                </a:lnTo>
                <a:lnTo>
                  <a:pt x="41045" y="14757"/>
                </a:lnTo>
                <a:lnTo>
                  <a:pt x="55495" y="15026"/>
                </a:lnTo>
                <a:lnTo>
                  <a:pt x="102219" y="15212"/>
                </a:lnTo>
                <a:lnTo>
                  <a:pt x="112172" y="16068"/>
                </a:lnTo>
                <a:lnTo>
                  <a:pt x="122195" y="17485"/>
                </a:lnTo>
                <a:lnTo>
                  <a:pt x="132263" y="19277"/>
                </a:lnTo>
                <a:lnTo>
                  <a:pt x="142362" y="20472"/>
                </a:lnTo>
                <a:lnTo>
                  <a:pt x="152481" y="21267"/>
                </a:lnTo>
                <a:lnTo>
                  <a:pt x="171063" y="22152"/>
                </a:lnTo>
                <a:lnTo>
                  <a:pt x="184966" y="22545"/>
                </a:lnTo>
                <a:lnTo>
                  <a:pt x="220980" y="228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InkAnnotation73"/>
          <p:cNvSpPr/>
          <p:nvPr/>
        </p:nvSpPr>
        <p:spPr>
          <a:xfrm>
            <a:off x="6523200" y="3009960"/>
            <a:ext cx="204480" cy="15840"/>
          </a:xfrm>
          <a:custGeom>
            <a:avLst/>
            <a:gdLst>
              <a:gd name="textAreaLeft" fmla="*/ 0 w 204480"/>
              <a:gd name="textAreaRight" fmla="*/ 204840 w 2044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5741" h="15241">
                <a:moveTo>
                  <a:pt x="0" y="15240"/>
                </a:moveTo>
                <a:lnTo>
                  <a:pt x="68137" y="15240"/>
                </a:lnTo>
                <a:lnTo>
                  <a:pt x="76751" y="14394"/>
                </a:lnTo>
                <a:lnTo>
                  <a:pt x="85880" y="12982"/>
                </a:lnTo>
                <a:lnTo>
                  <a:pt x="95354" y="11195"/>
                </a:lnTo>
                <a:lnTo>
                  <a:pt x="105056" y="10003"/>
                </a:lnTo>
                <a:lnTo>
                  <a:pt x="114911" y="9209"/>
                </a:lnTo>
                <a:lnTo>
                  <a:pt x="124867" y="8679"/>
                </a:lnTo>
                <a:lnTo>
                  <a:pt x="134891" y="7480"/>
                </a:lnTo>
                <a:lnTo>
                  <a:pt x="144961" y="5833"/>
                </a:lnTo>
                <a:lnTo>
                  <a:pt x="155061" y="3889"/>
                </a:lnTo>
                <a:lnTo>
                  <a:pt x="163487" y="2593"/>
                </a:lnTo>
                <a:lnTo>
                  <a:pt x="170799" y="1728"/>
                </a:lnTo>
                <a:lnTo>
                  <a:pt x="177366" y="1152"/>
                </a:lnTo>
                <a:lnTo>
                  <a:pt x="183437" y="768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InkAnnotation74"/>
          <p:cNvSpPr/>
          <p:nvPr/>
        </p:nvSpPr>
        <p:spPr>
          <a:xfrm>
            <a:off x="6777000" y="2941560"/>
            <a:ext cx="233280" cy="228600"/>
          </a:xfrm>
          <a:custGeom>
            <a:avLst/>
            <a:gdLst>
              <a:gd name="textAreaLeft" fmla="*/ 0 w 233280"/>
              <a:gd name="textAreaRight" fmla="*/ 233640 w 233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32646" h="228012">
                <a:moveTo>
                  <a:pt x="4045" y="37969"/>
                </a:moveTo>
                <a:lnTo>
                  <a:pt x="0" y="33924"/>
                </a:lnTo>
                <a:lnTo>
                  <a:pt x="501" y="32732"/>
                </a:lnTo>
                <a:lnTo>
                  <a:pt x="2529" y="31938"/>
                </a:lnTo>
                <a:lnTo>
                  <a:pt x="9860" y="30663"/>
                </a:lnTo>
                <a:lnTo>
                  <a:pt x="15378" y="28231"/>
                </a:lnTo>
                <a:lnTo>
                  <a:pt x="19220" y="26397"/>
                </a:lnTo>
                <a:lnTo>
                  <a:pt x="24322" y="24327"/>
                </a:lnTo>
                <a:lnTo>
                  <a:pt x="30263" y="22101"/>
                </a:lnTo>
                <a:lnTo>
                  <a:pt x="36763" y="19771"/>
                </a:lnTo>
                <a:lnTo>
                  <a:pt x="44484" y="17370"/>
                </a:lnTo>
                <a:lnTo>
                  <a:pt x="62093" y="12445"/>
                </a:lnTo>
                <a:lnTo>
                  <a:pt x="91048" y="4912"/>
                </a:lnTo>
                <a:lnTo>
                  <a:pt x="100993" y="3231"/>
                </a:lnTo>
                <a:lnTo>
                  <a:pt x="111011" y="2111"/>
                </a:lnTo>
                <a:lnTo>
                  <a:pt x="121075" y="1363"/>
                </a:lnTo>
                <a:lnTo>
                  <a:pt x="131172" y="865"/>
                </a:lnTo>
                <a:lnTo>
                  <a:pt x="151421" y="312"/>
                </a:lnTo>
                <a:lnTo>
                  <a:pt x="177817" y="0"/>
                </a:lnTo>
                <a:lnTo>
                  <a:pt x="185086" y="803"/>
                </a:lnTo>
                <a:lnTo>
                  <a:pt x="191625" y="2185"/>
                </a:lnTo>
                <a:lnTo>
                  <a:pt x="197679" y="3953"/>
                </a:lnTo>
                <a:lnTo>
                  <a:pt x="202561" y="5979"/>
                </a:lnTo>
                <a:lnTo>
                  <a:pt x="206663" y="8175"/>
                </a:lnTo>
                <a:lnTo>
                  <a:pt x="210242" y="10486"/>
                </a:lnTo>
                <a:lnTo>
                  <a:pt x="212631" y="13721"/>
                </a:lnTo>
                <a:lnTo>
                  <a:pt x="214222" y="17570"/>
                </a:lnTo>
                <a:lnTo>
                  <a:pt x="215283" y="21830"/>
                </a:lnTo>
                <a:lnTo>
                  <a:pt x="214297" y="25516"/>
                </a:lnTo>
                <a:lnTo>
                  <a:pt x="211947" y="28821"/>
                </a:lnTo>
                <a:lnTo>
                  <a:pt x="208686" y="31870"/>
                </a:lnTo>
                <a:lnTo>
                  <a:pt x="204819" y="36443"/>
                </a:lnTo>
                <a:lnTo>
                  <a:pt x="200548" y="42031"/>
                </a:lnTo>
                <a:lnTo>
                  <a:pt x="196008" y="48298"/>
                </a:lnTo>
                <a:lnTo>
                  <a:pt x="190439" y="54168"/>
                </a:lnTo>
                <a:lnTo>
                  <a:pt x="184188" y="59775"/>
                </a:lnTo>
                <a:lnTo>
                  <a:pt x="177481" y="65206"/>
                </a:lnTo>
                <a:lnTo>
                  <a:pt x="170468" y="71367"/>
                </a:lnTo>
                <a:lnTo>
                  <a:pt x="163254" y="78014"/>
                </a:lnTo>
                <a:lnTo>
                  <a:pt x="155905" y="84986"/>
                </a:lnTo>
                <a:lnTo>
                  <a:pt x="147618" y="92174"/>
                </a:lnTo>
                <a:lnTo>
                  <a:pt x="138707" y="99505"/>
                </a:lnTo>
                <a:lnTo>
                  <a:pt x="129380" y="106933"/>
                </a:lnTo>
                <a:lnTo>
                  <a:pt x="119775" y="113579"/>
                </a:lnTo>
                <a:lnTo>
                  <a:pt x="109985" y="119702"/>
                </a:lnTo>
                <a:lnTo>
                  <a:pt x="100072" y="125478"/>
                </a:lnTo>
                <a:lnTo>
                  <a:pt x="90923" y="131868"/>
                </a:lnTo>
                <a:lnTo>
                  <a:pt x="82283" y="138668"/>
                </a:lnTo>
                <a:lnTo>
                  <a:pt x="73984" y="145742"/>
                </a:lnTo>
                <a:lnTo>
                  <a:pt x="65911" y="152151"/>
                </a:lnTo>
                <a:lnTo>
                  <a:pt x="57989" y="158117"/>
                </a:lnTo>
                <a:lnTo>
                  <a:pt x="50167" y="163788"/>
                </a:lnTo>
                <a:lnTo>
                  <a:pt x="44953" y="169262"/>
                </a:lnTo>
                <a:lnTo>
                  <a:pt x="41477" y="174604"/>
                </a:lnTo>
                <a:lnTo>
                  <a:pt x="39159" y="179859"/>
                </a:lnTo>
                <a:lnTo>
                  <a:pt x="37614" y="185056"/>
                </a:lnTo>
                <a:lnTo>
                  <a:pt x="36584" y="190213"/>
                </a:lnTo>
                <a:lnTo>
                  <a:pt x="35898" y="195345"/>
                </a:lnTo>
                <a:lnTo>
                  <a:pt x="36287" y="199613"/>
                </a:lnTo>
                <a:lnTo>
                  <a:pt x="37393" y="203305"/>
                </a:lnTo>
                <a:lnTo>
                  <a:pt x="38977" y="206613"/>
                </a:lnTo>
                <a:lnTo>
                  <a:pt x="41726" y="209665"/>
                </a:lnTo>
                <a:lnTo>
                  <a:pt x="45253" y="212546"/>
                </a:lnTo>
                <a:lnTo>
                  <a:pt x="49297" y="215314"/>
                </a:lnTo>
                <a:lnTo>
                  <a:pt x="54533" y="218005"/>
                </a:lnTo>
                <a:lnTo>
                  <a:pt x="60563" y="220647"/>
                </a:lnTo>
                <a:lnTo>
                  <a:pt x="67124" y="223254"/>
                </a:lnTo>
                <a:lnTo>
                  <a:pt x="74885" y="224992"/>
                </a:lnTo>
                <a:lnTo>
                  <a:pt x="83445" y="226151"/>
                </a:lnTo>
                <a:lnTo>
                  <a:pt x="92538" y="226924"/>
                </a:lnTo>
                <a:lnTo>
                  <a:pt x="103680" y="227439"/>
                </a:lnTo>
                <a:lnTo>
                  <a:pt x="129608" y="228011"/>
                </a:lnTo>
                <a:lnTo>
                  <a:pt x="141940" y="227317"/>
                </a:lnTo>
                <a:lnTo>
                  <a:pt x="153548" y="226008"/>
                </a:lnTo>
                <a:lnTo>
                  <a:pt x="164675" y="224288"/>
                </a:lnTo>
                <a:lnTo>
                  <a:pt x="174631" y="223142"/>
                </a:lnTo>
                <a:lnTo>
                  <a:pt x="183809" y="222378"/>
                </a:lnTo>
                <a:lnTo>
                  <a:pt x="192468" y="221868"/>
                </a:lnTo>
                <a:lnTo>
                  <a:pt x="208861" y="221302"/>
                </a:lnTo>
                <a:lnTo>
                  <a:pt x="232645" y="2208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InkAnnotation75"/>
          <p:cNvSpPr/>
          <p:nvPr/>
        </p:nvSpPr>
        <p:spPr>
          <a:xfrm>
            <a:off x="7167600" y="2941560"/>
            <a:ext cx="236520" cy="227160"/>
          </a:xfrm>
          <a:custGeom>
            <a:avLst/>
            <a:gdLst>
              <a:gd name="textAreaLeft" fmla="*/ 0 w 236520"/>
              <a:gd name="textAreaRight" fmla="*/ 236880 w 2365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7298" h="226610">
                <a:moveTo>
                  <a:pt x="71882" y="0"/>
                </a:moveTo>
                <a:lnTo>
                  <a:pt x="67837" y="0"/>
                </a:lnTo>
                <a:lnTo>
                  <a:pt x="66645" y="1694"/>
                </a:lnTo>
                <a:lnTo>
                  <a:pt x="65320" y="8091"/>
                </a:lnTo>
                <a:lnTo>
                  <a:pt x="63274" y="12167"/>
                </a:lnTo>
                <a:lnTo>
                  <a:pt x="60218" y="16578"/>
                </a:lnTo>
                <a:lnTo>
                  <a:pt x="56486" y="21212"/>
                </a:lnTo>
                <a:lnTo>
                  <a:pt x="52305" y="25995"/>
                </a:lnTo>
                <a:lnTo>
                  <a:pt x="47824" y="30877"/>
                </a:lnTo>
                <a:lnTo>
                  <a:pt x="43143" y="35825"/>
                </a:lnTo>
                <a:lnTo>
                  <a:pt x="38330" y="41663"/>
                </a:lnTo>
                <a:lnTo>
                  <a:pt x="33428" y="48095"/>
                </a:lnTo>
                <a:lnTo>
                  <a:pt x="28465" y="54923"/>
                </a:lnTo>
                <a:lnTo>
                  <a:pt x="24311" y="62016"/>
                </a:lnTo>
                <a:lnTo>
                  <a:pt x="20696" y="69284"/>
                </a:lnTo>
                <a:lnTo>
                  <a:pt x="17437" y="76669"/>
                </a:lnTo>
                <a:lnTo>
                  <a:pt x="14419" y="84980"/>
                </a:lnTo>
                <a:lnTo>
                  <a:pt x="11560" y="93907"/>
                </a:lnTo>
                <a:lnTo>
                  <a:pt x="6126" y="112010"/>
                </a:lnTo>
                <a:lnTo>
                  <a:pt x="889" y="128522"/>
                </a:lnTo>
                <a:lnTo>
                  <a:pt x="0" y="136482"/>
                </a:lnTo>
                <a:lnTo>
                  <a:pt x="254" y="144328"/>
                </a:lnTo>
                <a:lnTo>
                  <a:pt x="1270" y="152099"/>
                </a:lnTo>
                <a:lnTo>
                  <a:pt x="2795" y="159819"/>
                </a:lnTo>
                <a:lnTo>
                  <a:pt x="4657" y="167506"/>
                </a:lnTo>
                <a:lnTo>
                  <a:pt x="6745" y="175171"/>
                </a:lnTo>
                <a:lnTo>
                  <a:pt x="9832" y="181974"/>
                </a:lnTo>
                <a:lnTo>
                  <a:pt x="13582" y="188203"/>
                </a:lnTo>
                <a:lnTo>
                  <a:pt x="17775" y="194049"/>
                </a:lnTo>
                <a:lnTo>
                  <a:pt x="23958" y="199639"/>
                </a:lnTo>
                <a:lnTo>
                  <a:pt x="31465" y="205059"/>
                </a:lnTo>
                <a:lnTo>
                  <a:pt x="39858" y="210366"/>
                </a:lnTo>
                <a:lnTo>
                  <a:pt x="47993" y="214751"/>
                </a:lnTo>
                <a:lnTo>
                  <a:pt x="55956" y="218521"/>
                </a:lnTo>
                <a:lnTo>
                  <a:pt x="63804" y="221880"/>
                </a:lnTo>
                <a:lnTo>
                  <a:pt x="73271" y="224121"/>
                </a:lnTo>
                <a:lnTo>
                  <a:pt x="83815" y="225613"/>
                </a:lnTo>
                <a:lnTo>
                  <a:pt x="95077" y="226609"/>
                </a:lnTo>
                <a:lnTo>
                  <a:pt x="106819" y="226426"/>
                </a:lnTo>
                <a:lnTo>
                  <a:pt x="118879" y="225457"/>
                </a:lnTo>
                <a:lnTo>
                  <a:pt x="131154" y="223965"/>
                </a:lnTo>
                <a:lnTo>
                  <a:pt x="142723" y="222123"/>
                </a:lnTo>
                <a:lnTo>
                  <a:pt x="153823" y="220049"/>
                </a:lnTo>
                <a:lnTo>
                  <a:pt x="164610" y="217819"/>
                </a:lnTo>
                <a:lnTo>
                  <a:pt x="175187" y="214640"/>
                </a:lnTo>
                <a:lnTo>
                  <a:pt x="185625" y="210827"/>
                </a:lnTo>
                <a:lnTo>
                  <a:pt x="195971" y="206591"/>
                </a:lnTo>
                <a:lnTo>
                  <a:pt x="204561" y="201227"/>
                </a:lnTo>
                <a:lnTo>
                  <a:pt x="211981" y="195112"/>
                </a:lnTo>
                <a:lnTo>
                  <a:pt x="218621" y="188494"/>
                </a:lnTo>
                <a:lnTo>
                  <a:pt x="223895" y="181543"/>
                </a:lnTo>
                <a:lnTo>
                  <a:pt x="228258" y="174369"/>
                </a:lnTo>
                <a:lnTo>
                  <a:pt x="232013" y="167046"/>
                </a:lnTo>
                <a:lnTo>
                  <a:pt x="234515" y="158777"/>
                </a:lnTo>
                <a:lnTo>
                  <a:pt x="236184" y="149879"/>
                </a:lnTo>
                <a:lnTo>
                  <a:pt x="237297" y="140559"/>
                </a:lnTo>
                <a:lnTo>
                  <a:pt x="236346" y="131806"/>
                </a:lnTo>
                <a:lnTo>
                  <a:pt x="234018" y="123431"/>
                </a:lnTo>
                <a:lnTo>
                  <a:pt x="230772" y="115307"/>
                </a:lnTo>
                <a:lnTo>
                  <a:pt x="226069" y="107351"/>
                </a:lnTo>
                <a:lnTo>
                  <a:pt x="220393" y="99507"/>
                </a:lnTo>
                <a:lnTo>
                  <a:pt x="214069" y="91738"/>
                </a:lnTo>
                <a:lnTo>
                  <a:pt x="206468" y="84019"/>
                </a:lnTo>
                <a:lnTo>
                  <a:pt x="198012" y="76333"/>
                </a:lnTo>
                <a:lnTo>
                  <a:pt x="188988" y="68669"/>
                </a:lnTo>
                <a:lnTo>
                  <a:pt x="179586" y="62712"/>
                </a:lnTo>
                <a:lnTo>
                  <a:pt x="169931" y="57895"/>
                </a:lnTo>
                <a:lnTo>
                  <a:pt x="160108" y="53837"/>
                </a:lnTo>
                <a:lnTo>
                  <a:pt x="150173" y="50285"/>
                </a:lnTo>
                <a:lnTo>
                  <a:pt x="140162" y="47070"/>
                </a:lnTo>
                <a:lnTo>
                  <a:pt x="130102" y="44080"/>
                </a:lnTo>
                <a:lnTo>
                  <a:pt x="109894" y="38500"/>
                </a:lnTo>
                <a:lnTo>
                  <a:pt x="99763" y="35827"/>
                </a:lnTo>
                <a:lnTo>
                  <a:pt x="92163" y="34045"/>
                </a:lnTo>
                <a:lnTo>
                  <a:pt x="86249" y="32857"/>
                </a:lnTo>
                <a:lnTo>
                  <a:pt x="71882" y="304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InkAnnotation76"/>
          <p:cNvSpPr/>
          <p:nvPr/>
        </p:nvSpPr>
        <p:spPr>
          <a:xfrm>
            <a:off x="5334120" y="3260880"/>
            <a:ext cx="639720" cy="23760"/>
          </a:xfrm>
          <a:custGeom>
            <a:avLst/>
            <a:gdLst>
              <a:gd name="textAreaLeft" fmla="*/ 0 w 639720"/>
              <a:gd name="textAreaRight" fmla="*/ 640080 w 6397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640081" h="22861">
                <a:moveTo>
                  <a:pt x="0" y="0"/>
                </a:moveTo>
                <a:lnTo>
                  <a:pt x="28518" y="0"/>
                </a:lnTo>
                <a:lnTo>
                  <a:pt x="33405" y="847"/>
                </a:lnTo>
                <a:lnTo>
                  <a:pt x="38357" y="2258"/>
                </a:lnTo>
                <a:lnTo>
                  <a:pt x="43352" y="4045"/>
                </a:lnTo>
                <a:lnTo>
                  <a:pt x="49221" y="5237"/>
                </a:lnTo>
                <a:lnTo>
                  <a:pt x="55674" y="6031"/>
                </a:lnTo>
                <a:lnTo>
                  <a:pt x="62516" y="6561"/>
                </a:lnTo>
                <a:lnTo>
                  <a:pt x="76892" y="7149"/>
                </a:lnTo>
                <a:lnTo>
                  <a:pt x="84281" y="7306"/>
                </a:lnTo>
                <a:lnTo>
                  <a:pt x="92594" y="8257"/>
                </a:lnTo>
                <a:lnTo>
                  <a:pt x="101523" y="9738"/>
                </a:lnTo>
                <a:lnTo>
                  <a:pt x="110862" y="11572"/>
                </a:lnTo>
                <a:lnTo>
                  <a:pt x="120474" y="12795"/>
                </a:lnTo>
                <a:lnTo>
                  <a:pt x="130270" y="13610"/>
                </a:lnTo>
                <a:lnTo>
                  <a:pt x="140186" y="14154"/>
                </a:lnTo>
                <a:lnTo>
                  <a:pt x="160236" y="14757"/>
                </a:lnTo>
                <a:lnTo>
                  <a:pt x="217778" y="15177"/>
                </a:lnTo>
                <a:lnTo>
                  <a:pt x="245804" y="15212"/>
                </a:lnTo>
                <a:lnTo>
                  <a:pt x="259542" y="16068"/>
                </a:lnTo>
                <a:lnTo>
                  <a:pt x="272935" y="17486"/>
                </a:lnTo>
                <a:lnTo>
                  <a:pt x="286096" y="19277"/>
                </a:lnTo>
                <a:lnTo>
                  <a:pt x="299105" y="20472"/>
                </a:lnTo>
                <a:lnTo>
                  <a:pt x="312010" y="21268"/>
                </a:lnTo>
                <a:lnTo>
                  <a:pt x="324846" y="21799"/>
                </a:lnTo>
                <a:lnTo>
                  <a:pt x="352656" y="22388"/>
                </a:lnTo>
                <a:lnTo>
                  <a:pt x="640080" y="228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InkAnnotation77"/>
          <p:cNvSpPr/>
          <p:nvPr/>
        </p:nvSpPr>
        <p:spPr>
          <a:xfrm>
            <a:off x="6667560" y="3222720"/>
            <a:ext cx="807840" cy="92160"/>
          </a:xfrm>
          <a:custGeom>
            <a:avLst/>
            <a:gdLst>
              <a:gd name="textAreaLeft" fmla="*/ 0 w 807840"/>
              <a:gd name="textAreaRight" fmla="*/ 808200 w 8078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807721" h="91441">
                <a:moveTo>
                  <a:pt x="0" y="91440"/>
                </a:moveTo>
                <a:lnTo>
                  <a:pt x="10606" y="91440"/>
                </a:lnTo>
                <a:lnTo>
                  <a:pt x="17696" y="89182"/>
                </a:lnTo>
                <a:lnTo>
                  <a:pt x="21958" y="87395"/>
                </a:lnTo>
                <a:lnTo>
                  <a:pt x="31207" y="85409"/>
                </a:lnTo>
                <a:lnTo>
                  <a:pt x="41811" y="83680"/>
                </a:lnTo>
                <a:lnTo>
                  <a:pt x="48193" y="82033"/>
                </a:lnTo>
                <a:lnTo>
                  <a:pt x="54989" y="80089"/>
                </a:lnTo>
                <a:lnTo>
                  <a:pt x="76688" y="77352"/>
                </a:lnTo>
                <a:lnTo>
                  <a:pt x="93914" y="76713"/>
                </a:lnTo>
                <a:lnTo>
                  <a:pt x="112013" y="75581"/>
                </a:lnTo>
                <a:lnTo>
                  <a:pt x="120396" y="74094"/>
                </a:lnTo>
                <a:lnTo>
                  <a:pt x="128524" y="72256"/>
                </a:lnTo>
                <a:lnTo>
                  <a:pt x="148844" y="70214"/>
                </a:lnTo>
                <a:lnTo>
                  <a:pt x="171986" y="69306"/>
                </a:lnTo>
                <a:lnTo>
                  <a:pt x="219079" y="68724"/>
                </a:lnTo>
                <a:lnTo>
                  <a:pt x="241302" y="67797"/>
                </a:lnTo>
                <a:lnTo>
                  <a:pt x="253154" y="66365"/>
                </a:lnTo>
                <a:lnTo>
                  <a:pt x="265290" y="64563"/>
                </a:lnTo>
                <a:lnTo>
                  <a:pt x="290062" y="62562"/>
                </a:lnTo>
                <a:lnTo>
                  <a:pt x="315182" y="60825"/>
                </a:lnTo>
                <a:lnTo>
                  <a:pt x="327809" y="59177"/>
                </a:lnTo>
                <a:lnTo>
                  <a:pt x="340459" y="57231"/>
                </a:lnTo>
                <a:lnTo>
                  <a:pt x="353127" y="55934"/>
                </a:lnTo>
                <a:lnTo>
                  <a:pt x="365804" y="55070"/>
                </a:lnTo>
                <a:lnTo>
                  <a:pt x="378489" y="54493"/>
                </a:lnTo>
                <a:lnTo>
                  <a:pt x="403873" y="53853"/>
                </a:lnTo>
                <a:lnTo>
                  <a:pt x="416569" y="53682"/>
                </a:lnTo>
                <a:lnTo>
                  <a:pt x="430113" y="52721"/>
                </a:lnTo>
                <a:lnTo>
                  <a:pt x="444221" y="51234"/>
                </a:lnTo>
                <a:lnTo>
                  <a:pt x="458708" y="49396"/>
                </a:lnTo>
                <a:lnTo>
                  <a:pt x="472598" y="47324"/>
                </a:lnTo>
                <a:lnTo>
                  <a:pt x="499322" y="42764"/>
                </a:lnTo>
                <a:lnTo>
                  <a:pt x="538166" y="35437"/>
                </a:lnTo>
                <a:lnTo>
                  <a:pt x="551817" y="33785"/>
                </a:lnTo>
                <a:lnTo>
                  <a:pt x="565997" y="32683"/>
                </a:lnTo>
                <a:lnTo>
                  <a:pt x="580531" y="31949"/>
                </a:lnTo>
                <a:lnTo>
                  <a:pt x="594455" y="30613"/>
                </a:lnTo>
                <a:lnTo>
                  <a:pt x="607969" y="28875"/>
                </a:lnTo>
                <a:lnTo>
                  <a:pt x="621212" y="26870"/>
                </a:lnTo>
                <a:lnTo>
                  <a:pt x="633428" y="24687"/>
                </a:lnTo>
                <a:lnTo>
                  <a:pt x="644959" y="22385"/>
                </a:lnTo>
                <a:lnTo>
                  <a:pt x="691843" y="12606"/>
                </a:lnTo>
                <a:lnTo>
                  <a:pt x="714450" y="9836"/>
                </a:lnTo>
                <a:lnTo>
                  <a:pt x="734940" y="7758"/>
                </a:lnTo>
                <a:lnTo>
                  <a:pt x="743960" y="6019"/>
                </a:lnTo>
                <a:lnTo>
                  <a:pt x="752513" y="4013"/>
                </a:lnTo>
                <a:lnTo>
                  <a:pt x="771048" y="1783"/>
                </a:lnTo>
                <a:lnTo>
                  <a:pt x="793749" y="528"/>
                </a:lnTo>
                <a:lnTo>
                  <a:pt x="8077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InkAnnotation78"/>
          <p:cNvSpPr/>
          <p:nvPr/>
        </p:nvSpPr>
        <p:spPr>
          <a:xfrm>
            <a:off x="5510160" y="3352680"/>
            <a:ext cx="289080" cy="206640"/>
          </a:xfrm>
          <a:custGeom>
            <a:avLst/>
            <a:gdLst>
              <a:gd name="textAreaLeft" fmla="*/ 0 w 289080"/>
              <a:gd name="textAreaRight" fmla="*/ 289440 w 2890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289107" h="205713">
                <a:moveTo>
                  <a:pt x="52886" y="7592"/>
                </a:moveTo>
                <a:lnTo>
                  <a:pt x="52886" y="0"/>
                </a:lnTo>
                <a:lnTo>
                  <a:pt x="52886" y="4025"/>
                </a:lnTo>
                <a:lnTo>
                  <a:pt x="52040" y="5214"/>
                </a:lnTo>
                <a:lnTo>
                  <a:pt x="50628" y="6007"/>
                </a:lnTo>
                <a:lnTo>
                  <a:pt x="48841" y="6535"/>
                </a:lnTo>
                <a:lnTo>
                  <a:pt x="47649" y="7734"/>
                </a:lnTo>
                <a:lnTo>
                  <a:pt x="46855" y="9380"/>
                </a:lnTo>
                <a:lnTo>
                  <a:pt x="45126" y="14313"/>
                </a:lnTo>
                <a:lnTo>
                  <a:pt x="43479" y="18000"/>
                </a:lnTo>
                <a:lnTo>
                  <a:pt x="41535" y="22150"/>
                </a:lnTo>
                <a:lnTo>
                  <a:pt x="38545" y="26611"/>
                </a:lnTo>
                <a:lnTo>
                  <a:pt x="34859" y="31278"/>
                </a:lnTo>
                <a:lnTo>
                  <a:pt x="30708" y="36083"/>
                </a:lnTo>
                <a:lnTo>
                  <a:pt x="27095" y="41826"/>
                </a:lnTo>
                <a:lnTo>
                  <a:pt x="23838" y="48195"/>
                </a:lnTo>
                <a:lnTo>
                  <a:pt x="17963" y="61198"/>
                </a:lnTo>
                <a:lnTo>
                  <a:pt x="12529" y="72621"/>
                </a:lnTo>
                <a:lnTo>
                  <a:pt x="9895" y="78885"/>
                </a:lnTo>
                <a:lnTo>
                  <a:pt x="7291" y="85600"/>
                </a:lnTo>
                <a:lnTo>
                  <a:pt x="4710" y="92618"/>
                </a:lnTo>
                <a:lnTo>
                  <a:pt x="2989" y="98989"/>
                </a:lnTo>
                <a:lnTo>
                  <a:pt x="1841" y="104930"/>
                </a:lnTo>
                <a:lnTo>
                  <a:pt x="1076" y="110584"/>
                </a:lnTo>
                <a:lnTo>
                  <a:pt x="566" y="116894"/>
                </a:lnTo>
                <a:lnTo>
                  <a:pt x="226" y="123640"/>
                </a:lnTo>
                <a:lnTo>
                  <a:pt x="0" y="130677"/>
                </a:lnTo>
                <a:lnTo>
                  <a:pt x="695" y="136215"/>
                </a:lnTo>
                <a:lnTo>
                  <a:pt x="2005" y="140754"/>
                </a:lnTo>
                <a:lnTo>
                  <a:pt x="3726" y="144627"/>
                </a:lnTo>
                <a:lnTo>
                  <a:pt x="6566" y="148902"/>
                </a:lnTo>
                <a:lnTo>
                  <a:pt x="10153" y="153445"/>
                </a:lnTo>
                <a:lnTo>
                  <a:pt x="14237" y="158167"/>
                </a:lnTo>
                <a:lnTo>
                  <a:pt x="19500" y="163009"/>
                </a:lnTo>
                <a:lnTo>
                  <a:pt x="25549" y="167930"/>
                </a:lnTo>
                <a:lnTo>
                  <a:pt x="32121" y="172904"/>
                </a:lnTo>
                <a:lnTo>
                  <a:pt x="39043" y="176220"/>
                </a:lnTo>
                <a:lnTo>
                  <a:pt x="46198" y="178430"/>
                </a:lnTo>
                <a:lnTo>
                  <a:pt x="53507" y="179904"/>
                </a:lnTo>
                <a:lnTo>
                  <a:pt x="70660" y="183800"/>
                </a:lnTo>
                <a:lnTo>
                  <a:pt x="79975" y="186024"/>
                </a:lnTo>
                <a:lnTo>
                  <a:pt x="90419" y="187507"/>
                </a:lnTo>
                <a:lnTo>
                  <a:pt x="101615" y="188495"/>
                </a:lnTo>
                <a:lnTo>
                  <a:pt x="113312" y="189154"/>
                </a:lnTo>
                <a:lnTo>
                  <a:pt x="124497" y="188747"/>
                </a:lnTo>
                <a:lnTo>
                  <a:pt x="135339" y="187628"/>
                </a:lnTo>
                <a:lnTo>
                  <a:pt x="145956" y="186037"/>
                </a:lnTo>
                <a:lnTo>
                  <a:pt x="169039" y="182009"/>
                </a:lnTo>
                <a:lnTo>
                  <a:pt x="181122" y="179751"/>
                </a:lnTo>
                <a:lnTo>
                  <a:pt x="191716" y="177398"/>
                </a:lnTo>
                <a:lnTo>
                  <a:pt x="201320" y="174982"/>
                </a:lnTo>
                <a:lnTo>
                  <a:pt x="210262" y="172525"/>
                </a:lnTo>
                <a:lnTo>
                  <a:pt x="218763" y="169194"/>
                </a:lnTo>
                <a:lnTo>
                  <a:pt x="226971" y="165280"/>
                </a:lnTo>
                <a:lnTo>
                  <a:pt x="234983" y="160978"/>
                </a:lnTo>
                <a:lnTo>
                  <a:pt x="241170" y="157262"/>
                </a:lnTo>
                <a:lnTo>
                  <a:pt x="246142" y="153939"/>
                </a:lnTo>
                <a:lnTo>
                  <a:pt x="250303" y="150876"/>
                </a:lnTo>
                <a:lnTo>
                  <a:pt x="253078" y="147988"/>
                </a:lnTo>
                <a:lnTo>
                  <a:pt x="254928" y="145216"/>
                </a:lnTo>
                <a:lnTo>
                  <a:pt x="256160" y="142521"/>
                </a:lnTo>
                <a:lnTo>
                  <a:pt x="256982" y="139032"/>
                </a:lnTo>
                <a:lnTo>
                  <a:pt x="257531" y="135012"/>
                </a:lnTo>
                <a:lnTo>
                  <a:pt x="257896" y="130638"/>
                </a:lnTo>
                <a:lnTo>
                  <a:pt x="256446" y="126876"/>
                </a:lnTo>
                <a:lnTo>
                  <a:pt x="253786" y="123522"/>
                </a:lnTo>
                <a:lnTo>
                  <a:pt x="246315" y="117537"/>
                </a:lnTo>
                <a:lnTo>
                  <a:pt x="237351" y="112054"/>
                </a:lnTo>
                <a:lnTo>
                  <a:pt x="232589" y="110253"/>
                </a:lnTo>
                <a:lnTo>
                  <a:pt x="227721" y="109053"/>
                </a:lnTo>
                <a:lnTo>
                  <a:pt x="222783" y="108253"/>
                </a:lnTo>
                <a:lnTo>
                  <a:pt x="216951" y="107719"/>
                </a:lnTo>
                <a:lnTo>
                  <a:pt x="210523" y="107363"/>
                </a:lnTo>
                <a:lnTo>
                  <a:pt x="203697" y="107126"/>
                </a:lnTo>
                <a:lnTo>
                  <a:pt x="197454" y="107815"/>
                </a:lnTo>
                <a:lnTo>
                  <a:pt x="191598" y="109121"/>
                </a:lnTo>
                <a:lnTo>
                  <a:pt x="186000" y="110837"/>
                </a:lnTo>
                <a:lnTo>
                  <a:pt x="179729" y="111983"/>
                </a:lnTo>
                <a:lnTo>
                  <a:pt x="173009" y="112746"/>
                </a:lnTo>
                <a:lnTo>
                  <a:pt x="165988" y="113255"/>
                </a:lnTo>
                <a:lnTo>
                  <a:pt x="159614" y="115287"/>
                </a:lnTo>
                <a:lnTo>
                  <a:pt x="153671" y="118336"/>
                </a:lnTo>
                <a:lnTo>
                  <a:pt x="148017" y="122061"/>
                </a:lnTo>
                <a:lnTo>
                  <a:pt x="139476" y="128458"/>
                </a:lnTo>
                <a:lnTo>
                  <a:pt x="136013" y="131350"/>
                </a:lnTo>
                <a:lnTo>
                  <a:pt x="133704" y="134124"/>
                </a:lnTo>
                <a:lnTo>
                  <a:pt x="132164" y="136820"/>
                </a:lnTo>
                <a:lnTo>
                  <a:pt x="131139" y="139464"/>
                </a:lnTo>
                <a:lnTo>
                  <a:pt x="131301" y="142920"/>
                </a:lnTo>
                <a:lnTo>
                  <a:pt x="132256" y="146918"/>
                </a:lnTo>
                <a:lnTo>
                  <a:pt x="133740" y="151276"/>
                </a:lnTo>
                <a:lnTo>
                  <a:pt x="136422" y="155028"/>
                </a:lnTo>
                <a:lnTo>
                  <a:pt x="143917" y="161455"/>
                </a:lnTo>
                <a:lnTo>
                  <a:pt x="149134" y="165201"/>
                </a:lnTo>
                <a:lnTo>
                  <a:pt x="161703" y="173878"/>
                </a:lnTo>
                <a:lnTo>
                  <a:pt x="169457" y="177716"/>
                </a:lnTo>
                <a:lnTo>
                  <a:pt x="178014" y="181121"/>
                </a:lnTo>
                <a:lnTo>
                  <a:pt x="187105" y="184238"/>
                </a:lnTo>
                <a:lnTo>
                  <a:pt x="196552" y="187163"/>
                </a:lnTo>
                <a:lnTo>
                  <a:pt x="216080" y="192670"/>
                </a:lnTo>
                <a:lnTo>
                  <a:pt x="226875" y="195324"/>
                </a:lnTo>
                <a:lnTo>
                  <a:pt x="250159" y="200531"/>
                </a:lnTo>
                <a:lnTo>
                  <a:pt x="259755" y="202258"/>
                </a:lnTo>
                <a:lnTo>
                  <a:pt x="267845" y="203410"/>
                </a:lnTo>
                <a:lnTo>
                  <a:pt x="289106" y="2057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InkAnnotation79"/>
          <p:cNvSpPr/>
          <p:nvPr/>
        </p:nvSpPr>
        <p:spPr>
          <a:xfrm>
            <a:off x="6980400" y="3330720"/>
            <a:ext cx="249120" cy="212760"/>
          </a:xfrm>
          <a:custGeom>
            <a:avLst/>
            <a:gdLst>
              <a:gd name="textAreaLeft" fmla="*/ 0 w 249120"/>
              <a:gd name="textAreaRight" fmla="*/ 249480 w 2491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48531" h="213361">
                <a:moveTo>
                  <a:pt x="90955" y="0"/>
                </a:moveTo>
                <a:lnTo>
                  <a:pt x="80349" y="10606"/>
                </a:lnTo>
                <a:lnTo>
                  <a:pt x="78804" y="13844"/>
                </a:lnTo>
                <a:lnTo>
                  <a:pt x="77774" y="17696"/>
                </a:lnTo>
                <a:lnTo>
                  <a:pt x="77088" y="21957"/>
                </a:lnTo>
                <a:lnTo>
                  <a:pt x="74937" y="26492"/>
                </a:lnTo>
                <a:lnTo>
                  <a:pt x="71810" y="31208"/>
                </a:lnTo>
                <a:lnTo>
                  <a:pt x="68032" y="36045"/>
                </a:lnTo>
                <a:lnTo>
                  <a:pt x="63819" y="40963"/>
                </a:lnTo>
                <a:lnTo>
                  <a:pt x="59318" y="45936"/>
                </a:lnTo>
                <a:lnTo>
                  <a:pt x="54625" y="50944"/>
                </a:lnTo>
                <a:lnTo>
                  <a:pt x="49802" y="56823"/>
                </a:lnTo>
                <a:lnTo>
                  <a:pt x="44892" y="63282"/>
                </a:lnTo>
                <a:lnTo>
                  <a:pt x="39927" y="70128"/>
                </a:lnTo>
                <a:lnTo>
                  <a:pt x="34923" y="76385"/>
                </a:lnTo>
                <a:lnTo>
                  <a:pt x="29893" y="82250"/>
                </a:lnTo>
                <a:lnTo>
                  <a:pt x="24847" y="87853"/>
                </a:lnTo>
                <a:lnTo>
                  <a:pt x="20637" y="94129"/>
                </a:lnTo>
                <a:lnTo>
                  <a:pt x="16983" y="100853"/>
                </a:lnTo>
                <a:lnTo>
                  <a:pt x="7795" y="120193"/>
                </a:lnTo>
                <a:lnTo>
                  <a:pt x="5035" y="125849"/>
                </a:lnTo>
                <a:lnTo>
                  <a:pt x="3195" y="131313"/>
                </a:lnTo>
                <a:lnTo>
                  <a:pt x="1968" y="136648"/>
                </a:lnTo>
                <a:lnTo>
                  <a:pt x="1150" y="141899"/>
                </a:lnTo>
                <a:lnTo>
                  <a:pt x="605" y="147093"/>
                </a:lnTo>
                <a:lnTo>
                  <a:pt x="242" y="152249"/>
                </a:lnTo>
                <a:lnTo>
                  <a:pt x="0" y="157379"/>
                </a:lnTo>
                <a:lnTo>
                  <a:pt x="1532" y="162493"/>
                </a:lnTo>
                <a:lnTo>
                  <a:pt x="4246" y="167595"/>
                </a:lnTo>
                <a:lnTo>
                  <a:pt x="7749" y="172690"/>
                </a:lnTo>
                <a:lnTo>
                  <a:pt x="12624" y="177780"/>
                </a:lnTo>
                <a:lnTo>
                  <a:pt x="18414" y="182867"/>
                </a:lnTo>
                <a:lnTo>
                  <a:pt x="24815" y="187951"/>
                </a:lnTo>
                <a:lnTo>
                  <a:pt x="32468" y="192187"/>
                </a:lnTo>
                <a:lnTo>
                  <a:pt x="40957" y="195858"/>
                </a:lnTo>
                <a:lnTo>
                  <a:pt x="50003" y="199152"/>
                </a:lnTo>
                <a:lnTo>
                  <a:pt x="59420" y="201348"/>
                </a:lnTo>
                <a:lnTo>
                  <a:pt x="69086" y="202812"/>
                </a:lnTo>
                <a:lnTo>
                  <a:pt x="78916" y="203788"/>
                </a:lnTo>
                <a:lnTo>
                  <a:pt x="88856" y="204439"/>
                </a:lnTo>
                <a:lnTo>
                  <a:pt x="98869" y="204873"/>
                </a:lnTo>
                <a:lnTo>
                  <a:pt x="119872" y="205355"/>
                </a:lnTo>
                <a:lnTo>
                  <a:pt x="143318" y="205569"/>
                </a:lnTo>
                <a:lnTo>
                  <a:pt x="154651" y="203932"/>
                </a:lnTo>
                <a:lnTo>
                  <a:pt x="165592" y="201148"/>
                </a:lnTo>
                <a:lnTo>
                  <a:pt x="203441" y="188558"/>
                </a:lnTo>
                <a:lnTo>
                  <a:pt x="211666" y="184972"/>
                </a:lnTo>
                <a:lnTo>
                  <a:pt x="219689" y="180888"/>
                </a:lnTo>
                <a:lnTo>
                  <a:pt x="227578" y="176472"/>
                </a:lnTo>
                <a:lnTo>
                  <a:pt x="233683" y="171835"/>
                </a:lnTo>
                <a:lnTo>
                  <a:pt x="238601" y="167050"/>
                </a:lnTo>
                <a:lnTo>
                  <a:pt x="242725" y="162167"/>
                </a:lnTo>
                <a:lnTo>
                  <a:pt x="245476" y="157218"/>
                </a:lnTo>
                <a:lnTo>
                  <a:pt x="247310" y="152225"/>
                </a:lnTo>
                <a:lnTo>
                  <a:pt x="248530" y="147203"/>
                </a:lnTo>
                <a:lnTo>
                  <a:pt x="248499" y="142162"/>
                </a:lnTo>
                <a:lnTo>
                  <a:pt x="247631" y="137108"/>
                </a:lnTo>
                <a:lnTo>
                  <a:pt x="246206" y="132046"/>
                </a:lnTo>
                <a:lnTo>
                  <a:pt x="244409" y="127824"/>
                </a:lnTo>
                <a:lnTo>
                  <a:pt x="242364" y="124163"/>
                </a:lnTo>
                <a:lnTo>
                  <a:pt x="240154" y="120875"/>
                </a:lnTo>
                <a:lnTo>
                  <a:pt x="233183" y="114964"/>
                </a:lnTo>
                <a:lnTo>
                  <a:pt x="228954" y="112203"/>
                </a:lnTo>
                <a:lnTo>
                  <a:pt x="224441" y="109515"/>
                </a:lnTo>
                <a:lnTo>
                  <a:pt x="219740" y="106877"/>
                </a:lnTo>
                <a:lnTo>
                  <a:pt x="214912" y="104271"/>
                </a:lnTo>
                <a:lnTo>
                  <a:pt x="209999" y="102534"/>
                </a:lnTo>
                <a:lnTo>
                  <a:pt x="205031" y="101376"/>
                </a:lnTo>
                <a:lnTo>
                  <a:pt x="200026" y="100604"/>
                </a:lnTo>
                <a:lnTo>
                  <a:pt x="194995" y="100090"/>
                </a:lnTo>
                <a:lnTo>
                  <a:pt x="189949" y="99746"/>
                </a:lnTo>
                <a:lnTo>
                  <a:pt x="184891" y="99518"/>
                </a:lnTo>
                <a:lnTo>
                  <a:pt x="174756" y="99263"/>
                </a:lnTo>
                <a:lnTo>
                  <a:pt x="169682" y="99196"/>
                </a:lnTo>
                <a:lnTo>
                  <a:pt x="166299" y="99997"/>
                </a:lnTo>
                <a:lnTo>
                  <a:pt x="164045" y="101378"/>
                </a:lnTo>
                <a:lnTo>
                  <a:pt x="160692" y="106017"/>
                </a:lnTo>
                <a:lnTo>
                  <a:pt x="158614" y="109624"/>
                </a:lnTo>
                <a:lnTo>
                  <a:pt x="156381" y="113723"/>
                </a:lnTo>
                <a:lnTo>
                  <a:pt x="155739" y="118149"/>
                </a:lnTo>
                <a:lnTo>
                  <a:pt x="156158" y="122793"/>
                </a:lnTo>
                <a:lnTo>
                  <a:pt x="157283" y="127582"/>
                </a:lnTo>
                <a:lnTo>
                  <a:pt x="158034" y="133314"/>
                </a:lnTo>
                <a:lnTo>
                  <a:pt x="158534" y="139677"/>
                </a:lnTo>
                <a:lnTo>
                  <a:pt x="158869" y="146457"/>
                </a:lnTo>
                <a:lnTo>
                  <a:pt x="160783" y="153518"/>
                </a:lnTo>
                <a:lnTo>
                  <a:pt x="163754" y="160766"/>
                </a:lnTo>
                <a:lnTo>
                  <a:pt x="167428" y="168137"/>
                </a:lnTo>
                <a:lnTo>
                  <a:pt x="171571" y="175591"/>
                </a:lnTo>
                <a:lnTo>
                  <a:pt x="176026" y="183101"/>
                </a:lnTo>
                <a:lnTo>
                  <a:pt x="180688" y="190647"/>
                </a:lnTo>
                <a:lnTo>
                  <a:pt x="185491" y="196525"/>
                </a:lnTo>
                <a:lnTo>
                  <a:pt x="190385" y="201290"/>
                </a:lnTo>
                <a:lnTo>
                  <a:pt x="205255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InkAnnotation80"/>
          <p:cNvSpPr/>
          <p:nvPr/>
        </p:nvSpPr>
        <p:spPr>
          <a:xfrm>
            <a:off x="5273640" y="2727360"/>
            <a:ext cx="380880" cy="846000"/>
          </a:xfrm>
          <a:custGeom>
            <a:avLst/>
            <a:gdLst>
              <a:gd name="textAreaLeft" fmla="*/ 0 w 380880"/>
              <a:gd name="textAreaRight" fmla="*/ 381240 w 3808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381001" h="845821">
                <a:moveTo>
                  <a:pt x="0" y="0"/>
                </a:moveTo>
                <a:lnTo>
                  <a:pt x="0" y="10606"/>
                </a:lnTo>
                <a:lnTo>
                  <a:pt x="846" y="12997"/>
                </a:lnTo>
                <a:lnTo>
                  <a:pt x="4044" y="17912"/>
                </a:lnTo>
                <a:lnTo>
                  <a:pt x="14650" y="29485"/>
                </a:lnTo>
                <a:lnTo>
                  <a:pt x="21468" y="41044"/>
                </a:lnTo>
                <a:lnTo>
                  <a:pt x="29015" y="55495"/>
                </a:lnTo>
                <a:lnTo>
                  <a:pt x="40835" y="73207"/>
                </a:lnTo>
                <a:lnTo>
                  <a:pt x="50040" y="92368"/>
                </a:lnTo>
                <a:lnTo>
                  <a:pt x="58646" y="113019"/>
                </a:lnTo>
                <a:lnTo>
                  <a:pt x="64497" y="124453"/>
                </a:lnTo>
                <a:lnTo>
                  <a:pt x="70938" y="136308"/>
                </a:lnTo>
                <a:lnTo>
                  <a:pt x="76925" y="149292"/>
                </a:lnTo>
                <a:lnTo>
                  <a:pt x="82610" y="163028"/>
                </a:lnTo>
                <a:lnTo>
                  <a:pt x="88093" y="177265"/>
                </a:lnTo>
                <a:lnTo>
                  <a:pt x="98701" y="206631"/>
                </a:lnTo>
                <a:lnTo>
                  <a:pt x="103901" y="221574"/>
                </a:lnTo>
                <a:lnTo>
                  <a:pt x="109906" y="236616"/>
                </a:lnTo>
                <a:lnTo>
                  <a:pt x="116451" y="251724"/>
                </a:lnTo>
                <a:lnTo>
                  <a:pt x="137797" y="299516"/>
                </a:lnTo>
                <a:lnTo>
                  <a:pt x="145205" y="316517"/>
                </a:lnTo>
                <a:lnTo>
                  <a:pt x="160208" y="353470"/>
                </a:lnTo>
                <a:lnTo>
                  <a:pt x="190537" y="432383"/>
                </a:lnTo>
                <a:lnTo>
                  <a:pt x="198991" y="452508"/>
                </a:lnTo>
                <a:lnTo>
                  <a:pt x="208014" y="472699"/>
                </a:lnTo>
                <a:lnTo>
                  <a:pt x="217415" y="492933"/>
                </a:lnTo>
                <a:lnTo>
                  <a:pt x="226223" y="513195"/>
                </a:lnTo>
                <a:lnTo>
                  <a:pt x="242784" y="553771"/>
                </a:lnTo>
                <a:lnTo>
                  <a:pt x="251602" y="574074"/>
                </a:lnTo>
                <a:lnTo>
                  <a:pt x="310115" y="701200"/>
                </a:lnTo>
                <a:lnTo>
                  <a:pt x="330304" y="743162"/>
                </a:lnTo>
                <a:lnTo>
                  <a:pt x="337889" y="760448"/>
                </a:lnTo>
                <a:lnTo>
                  <a:pt x="343793" y="775358"/>
                </a:lnTo>
                <a:lnTo>
                  <a:pt x="354303" y="800957"/>
                </a:lnTo>
                <a:lnTo>
                  <a:pt x="360662" y="812525"/>
                </a:lnTo>
                <a:lnTo>
                  <a:pt x="381000" y="8458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InkAnnotation81"/>
          <p:cNvSpPr/>
          <p:nvPr/>
        </p:nvSpPr>
        <p:spPr>
          <a:xfrm>
            <a:off x="6370560" y="2041560"/>
            <a:ext cx="38160" cy="793800"/>
          </a:xfrm>
          <a:custGeom>
            <a:avLst/>
            <a:gdLst>
              <a:gd name="textAreaLeft" fmla="*/ 0 w 38160"/>
              <a:gd name="textAreaRight" fmla="*/ 38520 w 38160"/>
              <a:gd name="textAreaTop" fmla="*/ 0 h 793800"/>
              <a:gd name="textAreaBottom" fmla="*/ 794160 h 793800"/>
            </a:gdLst>
            <a:ahLst/>
            <a:rect l="textAreaLeft" t="textAreaTop" r="textAreaRight" b="textAreaBottom"/>
            <a:pathLst>
              <a:path w="38101" h="792481">
                <a:moveTo>
                  <a:pt x="38100" y="0"/>
                </a:moveTo>
                <a:lnTo>
                  <a:pt x="38100" y="20428"/>
                </a:lnTo>
                <a:lnTo>
                  <a:pt x="37254" y="22932"/>
                </a:lnTo>
                <a:lnTo>
                  <a:pt x="35843" y="26295"/>
                </a:lnTo>
                <a:lnTo>
                  <a:pt x="34055" y="30230"/>
                </a:lnTo>
                <a:lnTo>
                  <a:pt x="32864" y="34547"/>
                </a:lnTo>
                <a:lnTo>
                  <a:pt x="32069" y="39118"/>
                </a:lnTo>
                <a:lnTo>
                  <a:pt x="30951" y="53642"/>
                </a:lnTo>
                <a:lnTo>
                  <a:pt x="30620" y="73185"/>
                </a:lnTo>
                <a:lnTo>
                  <a:pt x="30508" y="106084"/>
                </a:lnTo>
                <a:lnTo>
                  <a:pt x="29653" y="114750"/>
                </a:lnTo>
                <a:lnTo>
                  <a:pt x="28235" y="123913"/>
                </a:lnTo>
                <a:lnTo>
                  <a:pt x="26443" y="133409"/>
                </a:lnTo>
                <a:lnTo>
                  <a:pt x="25249" y="143126"/>
                </a:lnTo>
                <a:lnTo>
                  <a:pt x="24453" y="152991"/>
                </a:lnTo>
                <a:lnTo>
                  <a:pt x="23568" y="172983"/>
                </a:lnTo>
                <a:lnTo>
                  <a:pt x="23175" y="193157"/>
                </a:lnTo>
                <a:lnTo>
                  <a:pt x="22224" y="204971"/>
                </a:lnTo>
                <a:lnTo>
                  <a:pt x="20743" y="217928"/>
                </a:lnTo>
                <a:lnTo>
                  <a:pt x="18909" y="231645"/>
                </a:lnTo>
                <a:lnTo>
                  <a:pt x="17686" y="245023"/>
                </a:lnTo>
                <a:lnTo>
                  <a:pt x="16871" y="258175"/>
                </a:lnTo>
                <a:lnTo>
                  <a:pt x="16328" y="271177"/>
                </a:lnTo>
                <a:lnTo>
                  <a:pt x="15119" y="284925"/>
                </a:lnTo>
                <a:lnTo>
                  <a:pt x="13466" y="299170"/>
                </a:lnTo>
                <a:lnTo>
                  <a:pt x="9372" y="328545"/>
                </a:lnTo>
                <a:lnTo>
                  <a:pt x="4730" y="358533"/>
                </a:lnTo>
                <a:lnTo>
                  <a:pt x="3153" y="373642"/>
                </a:lnTo>
                <a:lnTo>
                  <a:pt x="2102" y="388795"/>
                </a:lnTo>
                <a:lnTo>
                  <a:pt x="1402" y="403977"/>
                </a:lnTo>
                <a:lnTo>
                  <a:pt x="623" y="434392"/>
                </a:lnTo>
                <a:lnTo>
                  <a:pt x="0" y="7924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InkAnnotation82"/>
          <p:cNvSpPr/>
          <p:nvPr/>
        </p:nvSpPr>
        <p:spPr>
          <a:xfrm>
            <a:off x="7832880" y="2971800"/>
            <a:ext cx="222120" cy="255600"/>
          </a:xfrm>
          <a:custGeom>
            <a:avLst/>
            <a:gdLst>
              <a:gd name="textAreaLeft" fmla="*/ 0 w 222120"/>
              <a:gd name="textAreaRight" fmla="*/ 222480 w 222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20832" h="255543">
                <a:moveTo>
                  <a:pt x="53336" y="7617"/>
                </a:moveTo>
                <a:lnTo>
                  <a:pt x="53336" y="0"/>
                </a:lnTo>
                <a:lnTo>
                  <a:pt x="53336" y="36042"/>
                </a:lnTo>
                <a:lnTo>
                  <a:pt x="52490" y="40961"/>
                </a:lnTo>
                <a:lnTo>
                  <a:pt x="51078" y="45933"/>
                </a:lnTo>
                <a:lnTo>
                  <a:pt x="49291" y="50941"/>
                </a:lnTo>
                <a:lnTo>
                  <a:pt x="47253" y="55973"/>
                </a:lnTo>
                <a:lnTo>
                  <a:pt x="45047" y="61021"/>
                </a:lnTo>
                <a:lnTo>
                  <a:pt x="42730" y="66079"/>
                </a:lnTo>
                <a:lnTo>
                  <a:pt x="40339" y="71992"/>
                </a:lnTo>
                <a:lnTo>
                  <a:pt x="35424" y="85335"/>
                </a:lnTo>
                <a:lnTo>
                  <a:pt x="33774" y="91602"/>
                </a:lnTo>
                <a:lnTo>
                  <a:pt x="32675" y="97474"/>
                </a:lnTo>
                <a:lnTo>
                  <a:pt x="31942" y="103082"/>
                </a:lnTo>
                <a:lnTo>
                  <a:pt x="30607" y="108513"/>
                </a:lnTo>
                <a:lnTo>
                  <a:pt x="28870" y="113828"/>
                </a:lnTo>
                <a:lnTo>
                  <a:pt x="26866" y="119065"/>
                </a:lnTo>
                <a:lnTo>
                  <a:pt x="24682" y="124249"/>
                </a:lnTo>
                <a:lnTo>
                  <a:pt x="22380" y="129398"/>
                </a:lnTo>
                <a:lnTo>
                  <a:pt x="17565" y="139635"/>
                </a:lnTo>
                <a:lnTo>
                  <a:pt x="12602" y="149830"/>
                </a:lnTo>
                <a:lnTo>
                  <a:pt x="7574" y="157747"/>
                </a:lnTo>
                <a:lnTo>
                  <a:pt x="5048" y="161044"/>
                </a:lnTo>
                <a:lnTo>
                  <a:pt x="2241" y="166965"/>
                </a:lnTo>
                <a:lnTo>
                  <a:pt x="994" y="172418"/>
                </a:lnTo>
                <a:lnTo>
                  <a:pt x="292" y="179402"/>
                </a:lnTo>
                <a:lnTo>
                  <a:pt x="35" y="182420"/>
                </a:lnTo>
                <a:lnTo>
                  <a:pt x="0" y="176276"/>
                </a:lnTo>
                <a:lnTo>
                  <a:pt x="2255" y="171195"/>
                </a:lnTo>
                <a:lnTo>
                  <a:pt x="4042" y="167469"/>
                </a:lnTo>
                <a:lnTo>
                  <a:pt x="6927" y="164138"/>
                </a:lnTo>
                <a:lnTo>
                  <a:pt x="10543" y="161071"/>
                </a:lnTo>
                <a:lnTo>
                  <a:pt x="14648" y="158180"/>
                </a:lnTo>
                <a:lnTo>
                  <a:pt x="19077" y="154559"/>
                </a:lnTo>
                <a:lnTo>
                  <a:pt x="23723" y="150452"/>
                </a:lnTo>
                <a:lnTo>
                  <a:pt x="33402" y="141372"/>
                </a:lnTo>
                <a:lnTo>
                  <a:pt x="43348" y="131693"/>
                </a:lnTo>
                <a:lnTo>
                  <a:pt x="50064" y="127588"/>
                </a:lnTo>
                <a:lnTo>
                  <a:pt x="57927" y="124004"/>
                </a:lnTo>
                <a:lnTo>
                  <a:pt x="66557" y="120769"/>
                </a:lnTo>
                <a:lnTo>
                  <a:pt x="74004" y="117765"/>
                </a:lnTo>
                <a:lnTo>
                  <a:pt x="80661" y="114915"/>
                </a:lnTo>
                <a:lnTo>
                  <a:pt x="86793" y="112169"/>
                </a:lnTo>
                <a:lnTo>
                  <a:pt x="94268" y="110339"/>
                </a:lnTo>
                <a:lnTo>
                  <a:pt x="102638" y="109118"/>
                </a:lnTo>
                <a:lnTo>
                  <a:pt x="111603" y="108305"/>
                </a:lnTo>
                <a:lnTo>
                  <a:pt x="119275" y="107762"/>
                </a:lnTo>
                <a:lnTo>
                  <a:pt x="126081" y="107401"/>
                </a:lnTo>
                <a:lnTo>
                  <a:pt x="132313" y="107159"/>
                </a:lnTo>
                <a:lnTo>
                  <a:pt x="157264" y="106820"/>
                </a:lnTo>
                <a:lnTo>
                  <a:pt x="164955" y="107619"/>
                </a:lnTo>
                <a:lnTo>
                  <a:pt x="171775" y="108998"/>
                </a:lnTo>
                <a:lnTo>
                  <a:pt x="178016" y="110764"/>
                </a:lnTo>
                <a:lnTo>
                  <a:pt x="183868" y="112789"/>
                </a:lnTo>
                <a:lnTo>
                  <a:pt x="189466" y="114985"/>
                </a:lnTo>
                <a:lnTo>
                  <a:pt x="194889" y="117296"/>
                </a:lnTo>
                <a:lnTo>
                  <a:pt x="199351" y="119683"/>
                </a:lnTo>
                <a:lnTo>
                  <a:pt x="203173" y="122121"/>
                </a:lnTo>
                <a:lnTo>
                  <a:pt x="209678" y="127088"/>
                </a:lnTo>
                <a:lnTo>
                  <a:pt x="215390" y="132118"/>
                </a:lnTo>
                <a:lnTo>
                  <a:pt x="217252" y="135491"/>
                </a:lnTo>
                <a:lnTo>
                  <a:pt x="218493" y="139433"/>
                </a:lnTo>
                <a:lnTo>
                  <a:pt x="219320" y="143754"/>
                </a:lnTo>
                <a:lnTo>
                  <a:pt x="219873" y="148329"/>
                </a:lnTo>
                <a:lnTo>
                  <a:pt x="220241" y="153072"/>
                </a:lnTo>
                <a:lnTo>
                  <a:pt x="220486" y="157927"/>
                </a:lnTo>
                <a:lnTo>
                  <a:pt x="220758" y="167837"/>
                </a:lnTo>
                <a:lnTo>
                  <a:pt x="220831" y="172850"/>
                </a:lnTo>
                <a:lnTo>
                  <a:pt x="220032" y="177886"/>
                </a:lnTo>
                <a:lnTo>
                  <a:pt x="218654" y="182936"/>
                </a:lnTo>
                <a:lnTo>
                  <a:pt x="216888" y="187997"/>
                </a:lnTo>
                <a:lnTo>
                  <a:pt x="214018" y="193063"/>
                </a:lnTo>
                <a:lnTo>
                  <a:pt x="210410" y="198135"/>
                </a:lnTo>
                <a:lnTo>
                  <a:pt x="206312" y="203209"/>
                </a:lnTo>
                <a:lnTo>
                  <a:pt x="202734" y="208285"/>
                </a:lnTo>
                <a:lnTo>
                  <a:pt x="199501" y="213362"/>
                </a:lnTo>
                <a:lnTo>
                  <a:pt x="196499" y="218441"/>
                </a:lnTo>
                <a:lnTo>
                  <a:pt x="191959" y="222673"/>
                </a:lnTo>
                <a:lnTo>
                  <a:pt x="186391" y="226341"/>
                </a:lnTo>
                <a:lnTo>
                  <a:pt x="180140" y="229633"/>
                </a:lnTo>
                <a:lnTo>
                  <a:pt x="173432" y="232674"/>
                </a:lnTo>
                <a:lnTo>
                  <a:pt x="166420" y="235549"/>
                </a:lnTo>
                <a:lnTo>
                  <a:pt x="159205" y="238312"/>
                </a:lnTo>
                <a:lnTo>
                  <a:pt x="152702" y="241000"/>
                </a:lnTo>
                <a:lnTo>
                  <a:pt x="146674" y="243639"/>
                </a:lnTo>
                <a:lnTo>
                  <a:pt x="140962" y="246245"/>
                </a:lnTo>
                <a:lnTo>
                  <a:pt x="133767" y="247983"/>
                </a:lnTo>
                <a:lnTo>
                  <a:pt x="125583" y="249141"/>
                </a:lnTo>
                <a:lnTo>
                  <a:pt x="116741" y="249913"/>
                </a:lnTo>
                <a:lnTo>
                  <a:pt x="108306" y="251274"/>
                </a:lnTo>
                <a:lnTo>
                  <a:pt x="100142" y="253028"/>
                </a:lnTo>
                <a:lnTo>
                  <a:pt x="92161" y="255045"/>
                </a:lnTo>
                <a:lnTo>
                  <a:pt x="84299" y="255542"/>
                </a:lnTo>
                <a:lnTo>
                  <a:pt x="76518" y="255027"/>
                </a:lnTo>
                <a:lnTo>
                  <a:pt x="68791" y="253838"/>
                </a:lnTo>
                <a:lnTo>
                  <a:pt x="61099" y="253044"/>
                </a:lnTo>
                <a:lnTo>
                  <a:pt x="53431" y="252515"/>
                </a:lnTo>
                <a:lnTo>
                  <a:pt x="45779" y="252162"/>
                </a:lnTo>
                <a:lnTo>
                  <a:pt x="38986" y="251081"/>
                </a:lnTo>
                <a:lnTo>
                  <a:pt x="32763" y="249513"/>
                </a:lnTo>
                <a:lnTo>
                  <a:pt x="26920" y="247621"/>
                </a:lnTo>
                <a:lnTo>
                  <a:pt x="22179" y="246359"/>
                </a:lnTo>
                <a:lnTo>
                  <a:pt x="18171" y="245519"/>
                </a:lnTo>
                <a:lnTo>
                  <a:pt x="14653" y="244958"/>
                </a:lnTo>
                <a:lnTo>
                  <a:pt x="11460" y="242891"/>
                </a:lnTo>
                <a:lnTo>
                  <a:pt x="5656" y="236079"/>
                </a:lnTo>
                <a:lnTo>
                  <a:pt x="2511" y="229665"/>
                </a:lnTo>
                <a:lnTo>
                  <a:pt x="1673" y="226769"/>
                </a:lnTo>
                <a:lnTo>
                  <a:pt x="1961" y="224838"/>
                </a:lnTo>
                <a:lnTo>
                  <a:pt x="2999" y="223551"/>
                </a:lnTo>
                <a:lnTo>
                  <a:pt x="7616" y="2209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InkAnnotation83"/>
          <p:cNvSpPr/>
          <p:nvPr/>
        </p:nvSpPr>
        <p:spPr>
          <a:xfrm>
            <a:off x="8115480" y="3063960"/>
            <a:ext cx="198360" cy="22320"/>
          </a:xfrm>
          <a:custGeom>
            <a:avLst/>
            <a:gdLst>
              <a:gd name="textAreaLeft" fmla="*/ 0 w 198360"/>
              <a:gd name="textAreaRight" fmla="*/ 198720 w 1983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98120" h="22831">
                <a:moveTo>
                  <a:pt x="0" y="22830"/>
                </a:moveTo>
                <a:lnTo>
                  <a:pt x="4045" y="22830"/>
                </a:lnTo>
                <a:lnTo>
                  <a:pt x="5237" y="21984"/>
                </a:lnTo>
                <a:lnTo>
                  <a:pt x="6031" y="20572"/>
                </a:lnTo>
                <a:lnTo>
                  <a:pt x="7307" y="16269"/>
                </a:lnTo>
                <a:lnTo>
                  <a:pt x="8258" y="15916"/>
                </a:lnTo>
                <a:lnTo>
                  <a:pt x="11572" y="15524"/>
                </a:lnTo>
                <a:lnTo>
                  <a:pt x="12795" y="14573"/>
                </a:lnTo>
                <a:lnTo>
                  <a:pt x="13609" y="13092"/>
                </a:lnTo>
                <a:lnTo>
                  <a:pt x="14153" y="11258"/>
                </a:lnTo>
                <a:lnTo>
                  <a:pt x="16208" y="10036"/>
                </a:lnTo>
                <a:lnTo>
                  <a:pt x="19272" y="9220"/>
                </a:lnTo>
                <a:lnTo>
                  <a:pt x="23008" y="8677"/>
                </a:lnTo>
                <a:lnTo>
                  <a:pt x="27192" y="7468"/>
                </a:lnTo>
                <a:lnTo>
                  <a:pt x="31675" y="5816"/>
                </a:lnTo>
                <a:lnTo>
                  <a:pt x="36357" y="3867"/>
                </a:lnTo>
                <a:lnTo>
                  <a:pt x="41171" y="2568"/>
                </a:lnTo>
                <a:lnTo>
                  <a:pt x="46073" y="1702"/>
                </a:lnTo>
                <a:lnTo>
                  <a:pt x="51036" y="1125"/>
                </a:lnTo>
                <a:lnTo>
                  <a:pt x="57731" y="740"/>
                </a:lnTo>
                <a:lnTo>
                  <a:pt x="74200" y="312"/>
                </a:lnTo>
                <a:lnTo>
                  <a:pt x="115184" y="0"/>
                </a:lnTo>
                <a:lnTo>
                  <a:pt x="122509" y="837"/>
                </a:lnTo>
                <a:lnTo>
                  <a:pt x="129932" y="2241"/>
                </a:lnTo>
                <a:lnTo>
                  <a:pt x="137421" y="4024"/>
                </a:lnTo>
                <a:lnTo>
                  <a:pt x="144107" y="5213"/>
                </a:lnTo>
                <a:lnTo>
                  <a:pt x="150258" y="6006"/>
                </a:lnTo>
                <a:lnTo>
                  <a:pt x="156052" y="6534"/>
                </a:lnTo>
                <a:lnTo>
                  <a:pt x="162455" y="6886"/>
                </a:lnTo>
                <a:lnTo>
                  <a:pt x="176341" y="7277"/>
                </a:lnTo>
                <a:lnTo>
                  <a:pt x="181908" y="8228"/>
                </a:lnTo>
                <a:lnTo>
                  <a:pt x="186464" y="9709"/>
                </a:lnTo>
                <a:lnTo>
                  <a:pt x="198119" y="152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InkAnnotation84"/>
          <p:cNvSpPr/>
          <p:nvPr/>
        </p:nvSpPr>
        <p:spPr>
          <a:xfrm>
            <a:off x="8153280" y="3116160"/>
            <a:ext cx="174600" cy="30240"/>
          </a:xfrm>
          <a:custGeom>
            <a:avLst/>
            <a:gdLst>
              <a:gd name="textAreaLeft" fmla="*/ 0 w 174600"/>
              <a:gd name="textAreaRight" fmla="*/ 174960 w 174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75261" h="30473">
                <a:moveTo>
                  <a:pt x="0" y="22860"/>
                </a:moveTo>
                <a:lnTo>
                  <a:pt x="6562" y="29421"/>
                </a:lnTo>
                <a:lnTo>
                  <a:pt x="9407" y="30010"/>
                </a:lnTo>
                <a:lnTo>
                  <a:pt x="14341" y="30271"/>
                </a:lnTo>
                <a:lnTo>
                  <a:pt x="26639" y="30418"/>
                </a:lnTo>
                <a:lnTo>
                  <a:pt x="55009" y="30472"/>
                </a:lnTo>
                <a:lnTo>
                  <a:pt x="62919" y="29628"/>
                </a:lnTo>
                <a:lnTo>
                  <a:pt x="71580" y="28219"/>
                </a:lnTo>
                <a:lnTo>
                  <a:pt x="80740" y="26433"/>
                </a:lnTo>
                <a:lnTo>
                  <a:pt x="89386" y="24395"/>
                </a:lnTo>
                <a:lnTo>
                  <a:pt x="97691" y="22190"/>
                </a:lnTo>
                <a:lnTo>
                  <a:pt x="114538" y="17482"/>
                </a:lnTo>
                <a:lnTo>
                  <a:pt x="133314" y="12568"/>
                </a:lnTo>
                <a:lnTo>
                  <a:pt x="141370" y="10072"/>
                </a:lnTo>
                <a:lnTo>
                  <a:pt x="148433" y="7561"/>
                </a:lnTo>
                <a:lnTo>
                  <a:pt x="154836" y="5041"/>
                </a:lnTo>
                <a:lnTo>
                  <a:pt x="159950" y="3361"/>
                </a:lnTo>
                <a:lnTo>
                  <a:pt x="164207" y="2241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InkAnnotation85"/>
          <p:cNvSpPr/>
          <p:nvPr/>
        </p:nvSpPr>
        <p:spPr>
          <a:xfrm>
            <a:off x="8313840" y="2925720"/>
            <a:ext cx="152280" cy="30240"/>
          </a:xfrm>
          <a:custGeom>
            <a:avLst/>
            <a:gdLst>
              <a:gd name="textAreaLeft" fmla="*/ 0 w 152280"/>
              <a:gd name="textAreaRight" fmla="*/ 152640 w 1522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2401" h="30481">
                <a:moveTo>
                  <a:pt x="0" y="30480"/>
                </a:moveTo>
                <a:lnTo>
                  <a:pt x="0" y="26435"/>
                </a:lnTo>
                <a:lnTo>
                  <a:pt x="1693" y="25243"/>
                </a:lnTo>
                <a:lnTo>
                  <a:pt x="4515" y="24449"/>
                </a:lnTo>
                <a:lnTo>
                  <a:pt x="8090" y="23919"/>
                </a:lnTo>
                <a:lnTo>
                  <a:pt x="12166" y="22719"/>
                </a:lnTo>
                <a:lnTo>
                  <a:pt x="16578" y="21073"/>
                </a:lnTo>
                <a:lnTo>
                  <a:pt x="21212" y="19129"/>
                </a:lnTo>
                <a:lnTo>
                  <a:pt x="25994" y="17832"/>
                </a:lnTo>
                <a:lnTo>
                  <a:pt x="30876" y="16968"/>
                </a:lnTo>
                <a:lnTo>
                  <a:pt x="35824" y="16392"/>
                </a:lnTo>
                <a:lnTo>
                  <a:pt x="41662" y="15162"/>
                </a:lnTo>
                <a:lnTo>
                  <a:pt x="48095" y="13494"/>
                </a:lnTo>
                <a:lnTo>
                  <a:pt x="54924" y="11536"/>
                </a:lnTo>
                <a:lnTo>
                  <a:pt x="62862" y="10230"/>
                </a:lnTo>
                <a:lnTo>
                  <a:pt x="71542" y="9360"/>
                </a:lnTo>
                <a:lnTo>
                  <a:pt x="80714" y="8781"/>
                </a:lnTo>
                <a:lnTo>
                  <a:pt x="89369" y="7547"/>
                </a:lnTo>
                <a:lnTo>
                  <a:pt x="97680" y="5878"/>
                </a:lnTo>
                <a:lnTo>
                  <a:pt x="105760" y="3919"/>
                </a:lnTo>
                <a:lnTo>
                  <a:pt x="113687" y="2612"/>
                </a:lnTo>
                <a:lnTo>
                  <a:pt x="121511" y="1741"/>
                </a:lnTo>
                <a:lnTo>
                  <a:pt x="135284" y="774"/>
                </a:lnTo>
                <a:lnTo>
                  <a:pt x="15240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InkAnnotation86"/>
          <p:cNvSpPr/>
          <p:nvPr/>
        </p:nvSpPr>
        <p:spPr>
          <a:xfrm>
            <a:off x="8520120" y="2805120"/>
            <a:ext cx="220680" cy="181080"/>
          </a:xfrm>
          <a:custGeom>
            <a:avLst/>
            <a:gdLst>
              <a:gd name="textAreaLeft" fmla="*/ 0 w 220680"/>
              <a:gd name="textAreaRight" fmla="*/ 221040 w 2206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19609" h="181984">
                <a:moveTo>
                  <a:pt x="13867" y="52900"/>
                </a:moveTo>
                <a:lnTo>
                  <a:pt x="9822" y="52900"/>
                </a:lnTo>
                <a:lnTo>
                  <a:pt x="7784" y="52053"/>
                </a:lnTo>
                <a:lnTo>
                  <a:pt x="1716" y="47663"/>
                </a:lnTo>
                <a:lnTo>
                  <a:pt x="0" y="46339"/>
                </a:lnTo>
                <a:lnTo>
                  <a:pt x="389" y="45140"/>
                </a:lnTo>
                <a:lnTo>
                  <a:pt x="3079" y="41549"/>
                </a:lnTo>
                <a:lnTo>
                  <a:pt x="4981" y="38559"/>
                </a:lnTo>
                <a:lnTo>
                  <a:pt x="7097" y="34873"/>
                </a:lnTo>
                <a:lnTo>
                  <a:pt x="9353" y="30722"/>
                </a:lnTo>
                <a:lnTo>
                  <a:pt x="12552" y="27954"/>
                </a:lnTo>
                <a:lnTo>
                  <a:pt x="16376" y="26110"/>
                </a:lnTo>
                <a:lnTo>
                  <a:pt x="20620" y="24880"/>
                </a:lnTo>
                <a:lnTo>
                  <a:pt x="25142" y="23213"/>
                </a:lnTo>
                <a:lnTo>
                  <a:pt x="29851" y="21255"/>
                </a:lnTo>
                <a:lnTo>
                  <a:pt x="34683" y="19104"/>
                </a:lnTo>
                <a:lnTo>
                  <a:pt x="44567" y="14455"/>
                </a:lnTo>
                <a:lnTo>
                  <a:pt x="49573" y="12030"/>
                </a:lnTo>
                <a:lnTo>
                  <a:pt x="56298" y="9567"/>
                </a:lnTo>
                <a:lnTo>
                  <a:pt x="64167" y="7078"/>
                </a:lnTo>
                <a:lnTo>
                  <a:pt x="72801" y="4572"/>
                </a:lnTo>
                <a:lnTo>
                  <a:pt x="81096" y="2901"/>
                </a:lnTo>
                <a:lnTo>
                  <a:pt x="89166" y="1788"/>
                </a:lnTo>
                <a:lnTo>
                  <a:pt x="97088" y="1045"/>
                </a:lnTo>
                <a:lnTo>
                  <a:pt x="104061" y="550"/>
                </a:lnTo>
                <a:lnTo>
                  <a:pt x="110403" y="220"/>
                </a:lnTo>
                <a:lnTo>
                  <a:pt x="116324" y="0"/>
                </a:lnTo>
                <a:lnTo>
                  <a:pt x="122812" y="700"/>
                </a:lnTo>
                <a:lnTo>
                  <a:pt x="129677" y="2014"/>
                </a:lnTo>
                <a:lnTo>
                  <a:pt x="136794" y="3736"/>
                </a:lnTo>
                <a:lnTo>
                  <a:pt x="143231" y="4884"/>
                </a:lnTo>
                <a:lnTo>
                  <a:pt x="149217" y="5649"/>
                </a:lnTo>
                <a:lnTo>
                  <a:pt x="154900" y="6159"/>
                </a:lnTo>
                <a:lnTo>
                  <a:pt x="158689" y="7346"/>
                </a:lnTo>
                <a:lnTo>
                  <a:pt x="161216" y="8984"/>
                </a:lnTo>
                <a:lnTo>
                  <a:pt x="162900" y="10923"/>
                </a:lnTo>
                <a:lnTo>
                  <a:pt x="164021" y="13062"/>
                </a:lnTo>
                <a:lnTo>
                  <a:pt x="165269" y="17696"/>
                </a:lnTo>
                <a:lnTo>
                  <a:pt x="164755" y="20118"/>
                </a:lnTo>
                <a:lnTo>
                  <a:pt x="161926" y="25066"/>
                </a:lnTo>
                <a:lnTo>
                  <a:pt x="159140" y="28417"/>
                </a:lnTo>
                <a:lnTo>
                  <a:pt x="155589" y="32345"/>
                </a:lnTo>
                <a:lnTo>
                  <a:pt x="147129" y="41224"/>
                </a:lnTo>
                <a:lnTo>
                  <a:pt x="118864" y="69780"/>
                </a:lnTo>
                <a:lnTo>
                  <a:pt x="111804" y="76007"/>
                </a:lnTo>
                <a:lnTo>
                  <a:pt x="104559" y="81852"/>
                </a:lnTo>
                <a:lnTo>
                  <a:pt x="97188" y="87441"/>
                </a:lnTo>
                <a:lnTo>
                  <a:pt x="90582" y="92861"/>
                </a:lnTo>
                <a:lnTo>
                  <a:pt x="84483" y="98167"/>
                </a:lnTo>
                <a:lnTo>
                  <a:pt x="78724" y="103398"/>
                </a:lnTo>
                <a:lnTo>
                  <a:pt x="67811" y="113726"/>
                </a:lnTo>
                <a:lnTo>
                  <a:pt x="62529" y="118851"/>
                </a:lnTo>
                <a:lnTo>
                  <a:pt x="59008" y="123961"/>
                </a:lnTo>
                <a:lnTo>
                  <a:pt x="56661" y="129061"/>
                </a:lnTo>
                <a:lnTo>
                  <a:pt x="55097" y="134154"/>
                </a:lnTo>
                <a:lnTo>
                  <a:pt x="54054" y="139243"/>
                </a:lnTo>
                <a:lnTo>
                  <a:pt x="53358" y="144328"/>
                </a:lnTo>
                <a:lnTo>
                  <a:pt x="52894" y="149413"/>
                </a:lnTo>
                <a:lnTo>
                  <a:pt x="53432" y="153648"/>
                </a:lnTo>
                <a:lnTo>
                  <a:pt x="54637" y="157319"/>
                </a:lnTo>
                <a:lnTo>
                  <a:pt x="56287" y="160613"/>
                </a:lnTo>
                <a:lnTo>
                  <a:pt x="59926" y="163655"/>
                </a:lnTo>
                <a:lnTo>
                  <a:pt x="64893" y="166530"/>
                </a:lnTo>
                <a:lnTo>
                  <a:pt x="70744" y="169294"/>
                </a:lnTo>
                <a:lnTo>
                  <a:pt x="77186" y="171982"/>
                </a:lnTo>
                <a:lnTo>
                  <a:pt x="84020" y="174622"/>
                </a:lnTo>
                <a:lnTo>
                  <a:pt x="91116" y="177228"/>
                </a:lnTo>
                <a:lnTo>
                  <a:pt x="98386" y="178966"/>
                </a:lnTo>
                <a:lnTo>
                  <a:pt x="105773" y="180124"/>
                </a:lnTo>
                <a:lnTo>
                  <a:pt x="113238" y="180896"/>
                </a:lnTo>
                <a:lnTo>
                  <a:pt x="122447" y="181411"/>
                </a:lnTo>
                <a:lnTo>
                  <a:pt x="143969" y="181983"/>
                </a:lnTo>
                <a:lnTo>
                  <a:pt x="154789" y="181288"/>
                </a:lnTo>
                <a:lnTo>
                  <a:pt x="165388" y="179979"/>
                </a:lnTo>
                <a:lnTo>
                  <a:pt x="175842" y="178259"/>
                </a:lnTo>
                <a:lnTo>
                  <a:pt x="185350" y="177113"/>
                </a:lnTo>
                <a:lnTo>
                  <a:pt x="194228" y="176349"/>
                </a:lnTo>
                <a:lnTo>
                  <a:pt x="219608" y="1748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InkAnnotation87"/>
          <p:cNvSpPr/>
          <p:nvPr/>
        </p:nvSpPr>
        <p:spPr>
          <a:xfrm>
            <a:off x="8802720" y="2803680"/>
            <a:ext cx="142920" cy="152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3825" h="151601">
                <a:moveTo>
                  <a:pt x="143824" y="15240"/>
                </a:moveTo>
                <a:lnTo>
                  <a:pt x="137262" y="8679"/>
                </a:lnTo>
                <a:lnTo>
                  <a:pt x="134417" y="8091"/>
                </a:lnTo>
                <a:lnTo>
                  <a:pt x="132473" y="7934"/>
                </a:lnTo>
                <a:lnTo>
                  <a:pt x="130330" y="6983"/>
                </a:lnTo>
                <a:lnTo>
                  <a:pt x="128055" y="5502"/>
                </a:lnTo>
                <a:lnTo>
                  <a:pt x="125691" y="3668"/>
                </a:lnTo>
                <a:lnTo>
                  <a:pt x="123269" y="3292"/>
                </a:lnTo>
                <a:lnTo>
                  <a:pt x="120807" y="3888"/>
                </a:lnTo>
                <a:lnTo>
                  <a:pt x="118319" y="5132"/>
                </a:lnTo>
                <a:lnTo>
                  <a:pt x="115814" y="5961"/>
                </a:lnTo>
                <a:lnTo>
                  <a:pt x="113297" y="6514"/>
                </a:lnTo>
                <a:lnTo>
                  <a:pt x="110773" y="6883"/>
                </a:lnTo>
                <a:lnTo>
                  <a:pt x="106550" y="7975"/>
                </a:lnTo>
                <a:lnTo>
                  <a:pt x="101195" y="9550"/>
                </a:lnTo>
                <a:lnTo>
                  <a:pt x="95084" y="11447"/>
                </a:lnTo>
                <a:lnTo>
                  <a:pt x="88471" y="14405"/>
                </a:lnTo>
                <a:lnTo>
                  <a:pt x="81522" y="18070"/>
                </a:lnTo>
                <a:lnTo>
                  <a:pt x="74349" y="22206"/>
                </a:lnTo>
                <a:lnTo>
                  <a:pt x="57348" y="31318"/>
                </a:lnTo>
                <a:lnTo>
                  <a:pt x="48073" y="36119"/>
                </a:lnTo>
                <a:lnTo>
                  <a:pt x="40197" y="41013"/>
                </a:lnTo>
                <a:lnTo>
                  <a:pt x="33253" y="45969"/>
                </a:lnTo>
                <a:lnTo>
                  <a:pt x="26930" y="50966"/>
                </a:lnTo>
                <a:lnTo>
                  <a:pt x="21022" y="56837"/>
                </a:lnTo>
                <a:lnTo>
                  <a:pt x="15389" y="63292"/>
                </a:lnTo>
                <a:lnTo>
                  <a:pt x="9940" y="70135"/>
                </a:lnTo>
                <a:lnTo>
                  <a:pt x="6308" y="76390"/>
                </a:lnTo>
                <a:lnTo>
                  <a:pt x="3886" y="82253"/>
                </a:lnTo>
                <a:lnTo>
                  <a:pt x="2272" y="87856"/>
                </a:lnTo>
                <a:lnTo>
                  <a:pt x="1196" y="93284"/>
                </a:lnTo>
                <a:lnTo>
                  <a:pt x="479" y="98596"/>
                </a:lnTo>
                <a:lnTo>
                  <a:pt x="0" y="103831"/>
                </a:lnTo>
                <a:lnTo>
                  <a:pt x="1375" y="109014"/>
                </a:lnTo>
                <a:lnTo>
                  <a:pt x="3984" y="114163"/>
                </a:lnTo>
                <a:lnTo>
                  <a:pt x="7418" y="119288"/>
                </a:lnTo>
                <a:lnTo>
                  <a:pt x="11400" y="123552"/>
                </a:lnTo>
                <a:lnTo>
                  <a:pt x="15747" y="127242"/>
                </a:lnTo>
                <a:lnTo>
                  <a:pt x="20339" y="130548"/>
                </a:lnTo>
                <a:lnTo>
                  <a:pt x="38938" y="143291"/>
                </a:lnTo>
                <a:lnTo>
                  <a:pt x="45960" y="146328"/>
                </a:lnTo>
                <a:lnTo>
                  <a:pt x="53181" y="148352"/>
                </a:lnTo>
                <a:lnTo>
                  <a:pt x="60535" y="149701"/>
                </a:lnTo>
                <a:lnTo>
                  <a:pt x="67978" y="150601"/>
                </a:lnTo>
                <a:lnTo>
                  <a:pt x="75480" y="151201"/>
                </a:lnTo>
                <a:lnTo>
                  <a:pt x="83021" y="151600"/>
                </a:lnTo>
                <a:lnTo>
                  <a:pt x="89743" y="150174"/>
                </a:lnTo>
                <a:lnTo>
                  <a:pt x="95916" y="147529"/>
                </a:lnTo>
                <a:lnTo>
                  <a:pt x="101725" y="144073"/>
                </a:lnTo>
                <a:lnTo>
                  <a:pt x="106445" y="140075"/>
                </a:lnTo>
                <a:lnTo>
                  <a:pt x="110438" y="135717"/>
                </a:lnTo>
                <a:lnTo>
                  <a:pt x="113947" y="131118"/>
                </a:lnTo>
                <a:lnTo>
                  <a:pt x="117133" y="126359"/>
                </a:lnTo>
                <a:lnTo>
                  <a:pt x="120104" y="121493"/>
                </a:lnTo>
                <a:lnTo>
                  <a:pt x="122930" y="116555"/>
                </a:lnTo>
                <a:lnTo>
                  <a:pt x="125662" y="110724"/>
                </a:lnTo>
                <a:lnTo>
                  <a:pt x="128329" y="104296"/>
                </a:lnTo>
                <a:lnTo>
                  <a:pt x="130954" y="97471"/>
                </a:lnTo>
                <a:lnTo>
                  <a:pt x="136128" y="83114"/>
                </a:lnTo>
                <a:lnTo>
                  <a:pt x="138694" y="75730"/>
                </a:lnTo>
                <a:lnTo>
                  <a:pt x="139557" y="68266"/>
                </a:lnTo>
                <a:lnTo>
                  <a:pt x="139286" y="60751"/>
                </a:lnTo>
                <a:lnTo>
                  <a:pt x="138259" y="53201"/>
                </a:lnTo>
                <a:lnTo>
                  <a:pt x="136728" y="46474"/>
                </a:lnTo>
                <a:lnTo>
                  <a:pt x="134860" y="40296"/>
                </a:lnTo>
                <a:lnTo>
                  <a:pt x="132768" y="34484"/>
                </a:lnTo>
                <a:lnTo>
                  <a:pt x="130526" y="29763"/>
                </a:lnTo>
                <a:lnTo>
                  <a:pt x="128186" y="25769"/>
                </a:lnTo>
                <a:lnTo>
                  <a:pt x="125779" y="22259"/>
                </a:lnTo>
                <a:lnTo>
                  <a:pt x="124173" y="19073"/>
                </a:lnTo>
                <a:lnTo>
                  <a:pt x="123104" y="16102"/>
                </a:lnTo>
                <a:lnTo>
                  <a:pt x="122391" y="13275"/>
                </a:lnTo>
                <a:lnTo>
                  <a:pt x="121068" y="10543"/>
                </a:lnTo>
                <a:lnTo>
                  <a:pt x="119340" y="7875"/>
                </a:lnTo>
                <a:lnTo>
                  <a:pt x="1133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InkAnnotation88"/>
          <p:cNvSpPr/>
          <p:nvPr/>
        </p:nvSpPr>
        <p:spPr>
          <a:xfrm>
            <a:off x="8572680" y="2827440"/>
            <a:ext cx="479160" cy="487440"/>
          </a:xfrm>
          <a:custGeom>
            <a:avLst/>
            <a:gdLst>
              <a:gd name="textAreaLeft" fmla="*/ 0 w 479160"/>
              <a:gd name="textAreaRight" fmla="*/ 479520 w 4791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480061" h="487681">
                <a:moveTo>
                  <a:pt x="480060" y="0"/>
                </a:moveTo>
                <a:lnTo>
                  <a:pt x="480060" y="4046"/>
                </a:lnTo>
                <a:lnTo>
                  <a:pt x="479213" y="6084"/>
                </a:lnTo>
                <a:lnTo>
                  <a:pt x="473976" y="12997"/>
                </a:lnTo>
                <a:lnTo>
                  <a:pt x="462148" y="25439"/>
                </a:lnTo>
                <a:lnTo>
                  <a:pt x="452627" y="32755"/>
                </a:lnTo>
                <a:lnTo>
                  <a:pt x="440774" y="42498"/>
                </a:lnTo>
                <a:lnTo>
                  <a:pt x="417109" y="69449"/>
                </a:lnTo>
                <a:lnTo>
                  <a:pt x="402129" y="84206"/>
                </a:lnTo>
                <a:lnTo>
                  <a:pt x="393393" y="91698"/>
                </a:lnTo>
                <a:lnTo>
                  <a:pt x="384181" y="99232"/>
                </a:lnTo>
                <a:lnTo>
                  <a:pt x="375501" y="107641"/>
                </a:lnTo>
                <a:lnTo>
                  <a:pt x="367174" y="116634"/>
                </a:lnTo>
                <a:lnTo>
                  <a:pt x="359083" y="126016"/>
                </a:lnTo>
                <a:lnTo>
                  <a:pt x="350302" y="135657"/>
                </a:lnTo>
                <a:lnTo>
                  <a:pt x="331514" y="155401"/>
                </a:lnTo>
                <a:lnTo>
                  <a:pt x="321763" y="166254"/>
                </a:lnTo>
                <a:lnTo>
                  <a:pt x="301897" y="189602"/>
                </a:lnTo>
                <a:lnTo>
                  <a:pt x="291011" y="200908"/>
                </a:lnTo>
                <a:lnTo>
                  <a:pt x="279521" y="211832"/>
                </a:lnTo>
                <a:lnTo>
                  <a:pt x="267628" y="222502"/>
                </a:lnTo>
                <a:lnTo>
                  <a:pt x="243123" y="245645"/>
                </a:lnTo>
                <a:lnTo>
                  <a:pt x="230663" y="257744"/>
                </a:lnTo>
                <a:lnTo>
                  <a:pt x="218122" y="269196"/>
                </a:lnTo>
                <a:lnTo>
                  <a:pt x="205528" y="280217"/>
                </a:lnTo>
                <a:lnTo>
                  <a:pt x="180246" y="301494"/>
                </a:lnTo>
                <a:lnTo>
                  <a:pt x="116828" y="352959"/>
                </a:lnTo>
                <a:lnTo>
                  <a:pt x="105826" y="362306"/>
                </a:lnTo>
                <a:lnTo>
                  <a:pt x="95951" y="371078"/>
                </a:lnTo>
                <a:lnTo>
                  <a:pt x="86827" y="379465"/>
                </a:lnTo>
                <a:lnTo>
                  <a:pt x="67659" y="397816"/>
                </a:lnTo>
                <a:lnTo>
                  <a:pt x="18617" y="446240"/>
                </a:lnTo>
                <a:lnTo>
                  <a:pt x="10251" y="456844"/>
                </a:lnTo>
                <a:lnTo>
                  <a:pt x="4556" y="466355"/>
                </a:lnTo>
                <a:lnTo>
                  <a:pt x="2025" y="473405"/>
                </a:lnTo>
                <a:lnTo>
                  <a:pt x="0" y="487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InkAnnotation89"/>
          <p:cNvSpPr/>
          <p:nvPr/>
        </p:nvSpPr>
        <p:spPr>
          <a:xfrm>
            <a:off x="8767800" y="3124080"/>
            <a:ext cx="176040" cy="235080"/>
          </a:xfrm>
          <a:custGeom>
            <a:avLst/>
            <a:gdLst>
              <a:gd name="textAreaLeft" fmla="*/ 0 w 176040"/>
              <a:gd name="textAreaRight" fmla="*/ 176400 w 1760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76255" h="234600">
                <a:moveTo>
                  <a:pt x="117385" y="0"/>
                </a:moveTo>
                <a:lnTo>
                  <a:pt x="117385" y="15397"/>
                </a:lnTo>
                <a:lnTo>
                  <a:pt x="116538" y="18731"/>
                </a:lnTo>
                <a:lnTo>
                  <a:pt x="113339" y="24694"/>
                </a:lnTo>
                <a:lnTo>
                  <a:pt x="110455" y="28316"/>
                </a:lnTo>
                <a:lnTo>
                  <a:pt x="106837" y="32424"/>
                </a:lnTo>
                <a:lnTo>
                  <a:pt x="102733" y="36856"/>
                </a:lnTo>
                <a:lnTo>
                  <a:pt x="98304" y="42351"/>
                </a:lnTo>
                <a:lnTo>
                  <a:pt x="93657" y="48554"/>
                </a:lnTo>
                <a:lnTo>
                  <a:pt x="88866" y="55229"/>
                </a:lnTo>
                <a:lnTo>
                  <a:pt x="83133" y="61373"/>
                </a:lnTo>
                <a:lnTo>
                  <a:pt x="76770" y="67162"/>
                </a:lnTo>
                <a:lnTo>
                  <a:pt x="69988" y="72715"/>
                </a:lnTo>
                <a:lnTo>
                  <a:pt x="63774" y="78956"/>
                </a:lnTo>
                <a:lnTo>
                  <a:pt x="57938" y="85658"/>
                </a:lnTo>
                <a:lnTo>
                  <a:pt x="52353" y="92665"/>
                </a:lnTo>
                <a:lnTo>
                  <a:pt x="46936" y="100724"/>
                </a:lnTo>
                <a:lnTo>
                  <a:pt x="41633" y="109482"/>
                </a:lnTo>
                <a:lnTo>
                  <a:pt x="36403" y="118708"/>
                </a:lnTo>
                <a:lnTo>
                  <a:pt x="31223" y="126552"/>
                </a:lnTo>
                <a:lnTo>
                  <a:pt x="26077" y="133475"/>
                </a:lnTo>
                <a:lnTo>
                  <a:pt x="20953" y="139784"/>
                </a:lnTo>
                <a:lnTo>
                  <a:pt x="16690" y="146529"/>
                </a:lnTo>
                <a:lnTo>
                  <a:pt x="13001" y="153566"/>
                </a:lnTo>
                <a:lnTo>
                  <a:pt x="9697" y="160797"/>
                </a:lnTo>
                <a:lnTo>
                  <a:pt x="6646" y="168158"/>
                </a:lnTo>
                <a:lnTo>
                  <a:pt x="3765" y="175606"/>
                </a:lnTo>
                <a:lnTo>
                  <a:pt x="998" y="183111"/>
                </a:lnTo>
                <a:lnTo>
                  <a:pt x="0" y="188960"/>
                </a:lnTo>
                <a:lnTo>
                  <a:pt x="181" y="193707"/>
                </a:lnTo>
                <a:lnTo>
                  <a:pt x="1148" y="197718"/>
                </a:lnTo>
                <a:lnTo>
                  <a:pt x="3488" y="202085"/>
                </a:lnTo>
                <a:lnTo>
                  <a:pt x="6740" y="206690"/>
                </a:lnTo>
                <a:lnTo>
                  <a:pt x="10601" y="211454"/>
                </a:lnTo>
                <a:lnTo>
                  <a:pt x="14868" y="215476"/>
                </a:lnTo>
                <a:lnTo>
                  <a:pt x="19408" y="219004"/>
                </a:lnTo>
                <a:lnTo>
                  <a:pt x="24127" y="222203"/>
                </a:lnTo>
                <a:lnTo>
                  <a:pt x="29812" y="225182"/>
                </a:lnTo>
                <a:lnTo>
                  <a:pt x="36142" y="228015"/>
                </a:lnTo>
                <a:lnTo>
                  <a:pt x="42904" y="230750"/>
                </a:lnTo>
                <a:lnTo>
                  <a:pt x="49950" y="232573"/>
                </a:lnTo>
                <a:lnTo>
                  <a:pt x="57188" y="233789"/>
                </a:lnTo>
                <a:lnTo>
                  <a:pt x="64554" y="234599"/>
                </a:lnTo>
                <a:lnTo>
                  <a:pt x="72851" y="234293"/>
                </a:lnTo>
                <a:lnTo>
                  <a:pt x="81768" y="233242"/>
                </a:lnTo>
                <a:lnTo>
                  <a:pt x="91101" y="231695"/>
                </a:lnTo>
                <a:lnTo>
                  <a:pt x="99862" y="228970"/>
                </a:lnTo>
                <a:lnTo>
                  <a:pt x="108243" y="225460"/>
                </a:lnTo>
                <a:lnTo>
                  <a:pt x="116369" y="221427"/>
                </a:lnTo>
                <a:lnTo>
                  <a:pt x="124328" y="217045"/>
                </a:lnTo>
                <a:lnTo>
                  <a:pt x="132174" y="212430"/>
                </a:lnTo>
                <a:lnTo>
                  <a:pt x="139945" y="207660"/>
                </a:lnTo>
                <a:lnTo>
                  <a:pt x="146818" y="201940"/>
                </a:lnTo>
                <a:lnTo>
                  <a:pt x="153093" y="195587"/>
                </a:lnTo>
                <a:lnTo>
                  <a:pt x="158971" y="188811"/>
                </a:lnTo>
                <a:lnTo>
                  <a:pt x="163735" y="182601"/>
                </a:lnTo>
                <a:lnTo>
                  <a:pt x="167758" y="176768"/>
                </a:lnTo>
                <a:lnTo>
                  <a:pt x="171287" y="171185"/>
                </a:lnTo>
                <a:lnTo>
                  <a:pt x="173640" y="165770"/>
                </a:lnTo>
                <a:lnTo>
                  <a:pt x="175208" y="160467"/>
                </a:lnTo>
                <a:lnTo>
                  <a:pt x="176254" y="155238"/>
                </a:lnTo>
                <a:lnTo>
                  <a:pt x="176104" y="150059"/>
                </a:lnTo>
                <a:lnTo>
                  <a:pt x="175156" y="144912"/>
                </a:lnTo>
                <a:lnTo>
                  <a:pt x="173680" y="139788"/>
                </a:lnTo>
                <a:lnTo>
                  <a:pt x="171001" y="135526"/>
                </a:lnTo>
                <a:lnTo>
                  <a:pt x="167522" y="131837"/>
                </a:lnTo>
                <a:lnTo>
                  <a:pt x="163511" y="128531"/>
                </a:lnTo>
                <a:lnTo>
                  <a:pt x="159141" y="125481"/>
                </a:lnTo>
                <a:lnTo>
                  <a:pt x="154536" y="122601"/>
                </a:lnTo>
                <a:lnTo>
                  <a:pt x="149772" y="119834"/>
                </a:lnTo>
                <a:lnTo>
                  <a:pt x="144056" y="117989"/>
                </a:lnTo>
                <a:lnTo>
                  <a:pt x="137705" y="116759"/>
                </a:lnTo>
                <a:lnTo>
                  <a:pt x="130931" y="115940"/>
                </a:lnTo>
                <a:lnTo>
                  <a:pt x="124722" y="115393"/>
                </a:lnTo>
                <a:lnTo>
                  <a:pt x="118890" y="115029"/>
                </a:lnTo>
                <a:lnTo>
                  <a:pt x="113309" y="114786"/>
                </a:lnTo>
                <a:lnTo>
                  <a:pt x="107894" y="115470"/>
                </a:lnTo>
                <a:lnTo>
                  <a:pt x="102591" y="116774"/>
                </a:lnTo>
                <a:lnTo>
                  <a:pt x="97363" y="118489"/>
                </a:lnTo>
                <a:lnTo>
                  <a:pt x="93030" y="121326"/>
                </a:lnTo>
                <a:lnTo>
                  <a:pt x="89295" y="124911"/>
                </a:lnTo>
                <a:lnTo>
                  <a:pt x="85959" y="128994"/>
                </a:lnTo>
                <a:lnTo>
                  <a:pt x="83734" y="133409"/>
                </a:lnTo>
                <a:lnTo>
                  <a:pt x="82250" y="138047"/>
                </a:lnTo>
                <a:lnTo>
                  <a:pt x="81262" y="142831"/>
                </a:lnTo>
                <a:lnTo>
                  <a:pt x="80602" y="147714"/>
                </a:lnTo>
                <a:lnTo>
                  <a:pt x="80164" y="152663"/>
                </a:lnTo>
                <a:lnTo>
                  <a:pt x="79871" y="157655"/>
                </a:lnTo>
                <a:lnTo>
                  <a:pt x="80522" y="163523"/>
                </a:lnTo>
                <a:lnTo>
                  <a:pt x="81804" y="169976"/>
                </a:lnTo>
                <a:lnTo>
                  <a:pt x="83504" y="176817"/>
                </a:lnTo>
                <a:lnTo>
                  <a:pt x="86331" y="183919"/>
                </a:lnTo>
                <a:lnTo>
                  <a:pt x="89908" y="191193"/>
                </a:lnTo>
                <a:lnTo>
                  <a:pt x="93987" y="198582"/>
                </a:lnTo>
                <a:lnTo>
                  <a:pt x="96705" y="204355"/>
                </a:lnTo>
                <a:lnTo>
                  <a:pt x="98519" y="209050"/>
                </a:lnTo>
                <a:lnTo>
                  <a:pt x="102145" y="2209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InkAnnotation90"/>
          <p:cNvSpPr/>
          <p:nvPr/>
        </p:nvSpPr>
        <p:spPr>
          <a:xfrm>
            <a:off x="2720880" y="426708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66177" h="228446">
                <a:moveTo>
                  <a:pt x="0" y="37976"/>
                </a:moveTo>
                <a:lnTo>
                  <a:pt x="0" y="33931"/>
                </a:lnTo>
                <a:lnTo>
                  <a:pt x="847" y="32739"/>
                </a:lnTo>
                <a:lnTo>
                  <a:pt x="2258" y="31945"/>
                </a:lnTo>
                <a:lnTo>
                  <a:pt x="10547" y="28569"/>
                </a:lnTo>
                <a:lnTo>
                  <a:pt x="23727" y="22206"/>
                </a:lnTo>
                <a:lnTo>
                  <a:pt x="28518" y="19843"/>
                </a:lnTo>
                <a:lnTo>
                  <a:pt x="34252" y="18268"/>
                </a:lnTo>
                <a:lnTo>
                  <a:pt x="40615" y="17217"/>
                </a:lnTo>
                <a:lnTo>
                  <a:pt x="47397" y="16517"/>
                </a:lnTo>
                <a:lnTo>
                  <a:pt x="54458" y="15203"/>
                </a:lnTo>
                <a:lnTo>
                  <a:pt x="61705" y="13481"/>
                </a:lnTo>
                <a:lnTo>
                  <a:pt x="69077" y="11485"/>
                </a:lnTo>
                <a:lnTo>
                  <a:pt x="84041" y="7011"/>
                </a:lnTo>
                <a:lnTo>
                  <a:pt x="91587" y="4633"/>
                </a:lnTo>
                <a:lnTo>
                  <a:pt x="100005" y="3048"/>
                </a:lnTo>
                <a:lnTo>
                  <a:pt x="109004" y="1990"/>
                </a:lnTo>
                <a:lnTo>
                  <a:pt x="118389" y="1286"/>
                </a:lnTo>
                <a:lnTo>
                  <a:pt x="127186" y="815"/>
                </a:lnTo>
                <a:lnTo>
                  <a:pt x="143734" y="294"/>
                </a:lnTo>
                <a:lnTo>
                  <a:pt x="163285" y="0"/>
                </a:lnTo>
                <a:lnTo>
                  <a:pt x="170663" y="805"/>
                </a:lnTo>
                <a:lnTo>
                  <a:pt x="178969" y="2188"/>
                </a:lnTo>
                <a:lnTo>
                  <a:pt x="187893" y="3958"/>
                </a:lnTo>
                <a:lnTo>
                  <a:pt x="194688" y="5984"/>
                </a:lnTo>
                <a:lnTo>
                  <a:pt x="200066" y="8181"/>
                </a:lnTo>
                <a:lnTo>
                  <a:pt x="208298" y="12034"/>
                </a:lnTo>
                <a:lnTo>
                  <a:pt x="214779" y="13746"/>
                </a:lnTo>
                <a:lnTo>
                  <a:pt x="220482" y="16765"/>
                </a:lnTo>
                <a:lnTo>
                  <a:pt x="223188" y="18755"/>
                </a:lnTo>
                <a:lnTo>
                  <a:pt x="224992" y="20929"/>
                </a:lnTo>
                <a:lnTo>
                  <a:pt x="226195" y="23225"/>
                </a:lnTo>
                <a:lnTo>
                  <a:pt x="226997" y="25602"/>
                </a:lnTo>
                <a:lnTo>
                  <a:pt x="225838" y="27186"/>
                </a:lnTo>
                <a:lnTo>
                  <a:pt x="223371" y="28243"/>
                </a:lnTo>
                <a:lnTo>
                  <a:pt x="220034" y="28947"/>
                </a:lnTo>
                <a:lnTo>
                  <a:pt x="214069" y="31988"/>
                </a:lnTo>
                <a:lnTo>
                  <a:pt x="211292" y="33984"/>
                </a:lnTo>
                <a:lnTo>
                  <a:pt x="206902" y="35315"/>
                </a:lnTo>
                <a:lnTo>
                  <a:pt x="201434" y="36202"/>
                </a:lnTo>
                <a:lnTo>
                  <a:pt x="195250" y="36793"/>
                </a:lnTo>
                <a:lnTo>
                  <a:pt x="188587" y="38034"/>
                </a:lnTo>
                <a:lnTo>
                  <a:pt x="181605" y="39708"/>
                </a:lnTo>
                <a:lnTo>
                  <a:pt x="174410" y="41671"/>
                </a:lnTo>
                <a:lnTo>
                  <a:pt x="168766" y="43826"/>
                </a:lnTo>
                <a:lnTo>
                  <a:pt x="164157" y="46109"/>
                </a:lnTo>
                <a:lnTo>
                  <a:pt x="155932" y="50904"/>
                </a:lnTo>
                <a:lnTo>
                  <a:pt x="146632" y="55857"/>
                </a:lnTo>
                <a:lnTo>
                  <a:pt x="139112" y="60881"/>
                </a:lnTo>
                <a:lnTo>
                  <a:pt x="135922" y="63406"/>
                </a:lnTo>
                <a:lnTo>
                  <a:pt x="133795" y="65936"/>
                </a:lnTo>
                <a:lnTo>
                  <a:pt x="132376" y="68469"/>
                </a:lnTo>
                <a:lnTo>
                  <a:pt x="131431" y="71005"/>
                </a:lnTo>
                <a:lnTo>
                  <a:pt x="131647" y="73542"/>
                </a:lnTo>
                <a:lnTo>
                  <a:pt x="132638" y="76080"/>
                </a:lnTo>
                <a:lnTo>
                  <a:pt x="135997" y="81157"/>
                </a:lnTo>
                <a:lnTo>
                  <a:pt x="140312" y="86237"/>
                </a:lnTo>
                <a:lnTo>
                  <a:pt x="147310" y="91317"/>
                </a:lnTo>
                <a:lnTo>
                  <a:pt x="151547" y="93856"/>
                </a:lnTo>
                <a:lnTo>
                  <a:pt x="163027" y="101194"/>
                </a:lnTo>
                <a:lnTo>
                  <a:pt x="191094" y="119702"/>
                </a:lnTo>
                <a:lnTo>
                  <a:pt x="198516" y="123787"/>
                </a:lnTo>
                <a:lnTo>
                  <a:pt x="206004" y="127357"/>
                </a:lnTo>
                <a:lnTo>
                  <a:pt x="213536" y="130583"/>
                </a:lnTo>
                <a:lnTo>
                  <a:pt x="221098" y="134427"/>
                </a:lnTo>
                <a:lnTo>
                  <a:pt x="228678" y="138683"/>
                </a:lnTo>
                <a:lnTo>
                  <a:pt x="236272" y="143214"/>
                </a:lnTo>
                <a:lnTo>
                  <a:pt x="242182" y="147081"/>
                </a:lnTo>
                <a:lnTo>
                  <a:pt x="246968" y="150506"/>
                </a:lnTo>
                <a:lnTo>
                  <a:pt x="251005" y="153636"/>
                </a:lnTo>
                <a:lnTo>
                  <a:pt x="254543" y="157416"/>
                </a:lnTo>
                <a:lnTo>
                  <a:pt x="257749" y="161629"/>
                </a:lnTo>
                <a:lnTo>
                  <a:pt x="260733" y="166131"/>
                </a:lnTo>
                <a:lnTo>
                  <a:pt x="262722" y="169980"/>
                </a:lnTo>
                <a:lnTo>
                  <a:pt x="264932" y="176513"/>
                </a:lnTo>
                <a:lnTo>
                  <a:pt x="265914" y="182239"/>
                </a:lnTo>
                <a:lnTo>
                  <a:pt x="266176" y="184952"/>
                </a:lnTo>
                <a:lnTo>
                  <a:pt x="265504" y="187606"/>
                </a:lnTo>
                <a:lnTo>
                  <a:pt x="262500" y="192814"/>
                </a:lnTo>
                <a:lnTo>
                  <a:pt x="256084" y="197950"/>
                </a:lnTo>
                <a:lnTo>
                  <a:pt x="252003" y="200506"/>
                </a:lnTo>
                <a:lnTo>
                  <a:pt x="247589" y="203056"/>
                </a:lnTo>
                <a:lnTo>
                  <a:pt x="238168" y="208147"/>
                </a:lnTo>
                <a:lnTo>
                  <a:pt x="223345" y="215773"/>
                </a:lnTo>
                <a:lnTo>
                  <a:pt x="217476" y="217467"/>
                </a:lnTo>
                <a:lnTo>
                  <a:pt x="211024" y="218597"/>
                </a:lnTo>
                <a:lnTo>
                  <a:pt x="204183" y="219350"/>
                </a:lnTo>
                <a:lnTo>
                  <a:pt x="197082" y="220699"/>
                </a:lnTo>
                <a:lnTo>
                  <a:pt x="189808" y="222444"/>
                </a:lnTo>
                <a:lnTo>
                  <a:pt x="182419" y="224455"/>
                </a:lnTo>
                <a:lnTo>
                  <a:pt x="175799" y="225795"/>
                </a:lnTo>
                <a:lnTo>
                  <a:pt x="169693" y="226689"/>
                </a:lnTo>
                <a:lnTo>
                  <a:pt x="163929" y="227285"/>
                </a:lnTo>
                <a:lnTo>
                  <a:pt x="158392" y="227682"/>
                </a:lnTo>
                <a:lnTo>
                  <a:pt x="153008" y="227946"/>
                </a:lnTo>
                <a:lnTo>
                  <a:pt x="142511" y="228241"/>
                </a:lnTo>
                <a:lnTo>
                  <a:pt x="120921" y="228445"/>
                </a:lnTo>
                <a:lnTo>
                  <a:pt x="118714" y="227609"/>
                </a:lnTo>
                <a:lnTo>
                  <a:pt x="117243" y="226204"/>
                </a:lnTo>
                <a:lnTo>
                  <a:pt x="114300" y="2208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InkAnnotation91"/>
          <p:cNvSpPr/>
          <p:nvPr/>
        </p:nvSpPr>
        <p:spPr>
          <a:xfrm>
            <a:off x="2971800" y="4389480"/>
            <a:ext cx="206280" cy="87120"/>
          </a:xfrm>
          <a:custGeom>
            <a:avLst/>
            <a:gdLst>
              <a:gd name="textAreaLeft" fmla="*/ 0 w 206280"/>
              <a:gd name="textAreaRight" fmla="*/ 206640 w 20628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205741" h="87889">
                <a:moveTo>
                  <a:pt x="205740" y="0"/>
                </a:moveTo>
                <a:lnTo>
                  <a:pt x="198434" y="0"/>
                </a:lnTo>
                <a:lnTo>
                  <a:pt x="196002" y="2258"/>
                </a:lnTo>
                <a:lnTo>
                  <a:pt x="194168" y="4045"/>
                </a:lnTo>
                <a:lnTo>
                  <a:pt x="191252" y="6084"/>
                </a:lnTo>
                <a:lnTo>
                  <a:pt x="187615" y="8289"/>
                </a:lnTo>
                <a:lnTo>
                  <a:pt x="183497" y="10606"/>
                </a:lnTo>
                <a:lnTo>
                  <a:pt x="174405" y="15439"/>
                </a:lnTo>
                <a:lnTo>
                  <a:pt x="169610" y="17912"/>
                </a:lnTo>
                <a:lnTo>
                  <a:pt x="164720" y="21255"/>
                </a:lnTo>
                <a:lnTo>
                  <a:pt x="159767" y="25176"/>
                </a:lnTo>
                <a:lnTo>
                  <a:pt x="154771" y="29485"/>
                </a:lnTo>
                <a:lnTo>
                  <a:pt x="148055" y="34050"/>
                </a:lnTo>
                <a:lnTo>
                  <a:pt x="140190" y="38787"/>
                </a:lnTo>
                <a:lnTo>
                  <a:pt x="131560" y="43638"/>
                </a:lnTo>
                <a:lnTo>
                  <a:pt x="123267" y="48565"/>
                </a:lnTo>
                <a:lnTo>
                  <a:pt x="107279" y="58556"/>
                </a:lnTo>
                <a:lnTo>
                  <a:pt x="98612" y="62744"/>
                </a:lnTo>
                <a:lnTo>
                  <a:pt x="89448" y="66383"/>
                </a:lnTo>
                <a:lnTo>
                  <a:pt x="54452" y="78307"/>
                </a:lnTo>
                <a:lnTo>
                  <a:pt x="47308" y="80144"/>
                </a:lnTo>
                <a:lnTo>
                  <a:pt x="40852" y="81370"/>
                </a:lnTo>
                <a:lnTo>
                  <a:pt x="34855" y="82187"/>
                </a:lnTo>
                <a:lnTo>
                  <a:pt x="29164" y="83578"/>
                </a:lnTo>
                <a:lnTo>
                  <a:pt x="23675" y="85352"/>
                </a:lnTo>
                <a:lnTo>
                  <a:pt x="18323" y="87382"/>
                </a:lnTo>
                <a:lnTo>
                  <a:pt x="13909" y="87888"/>
                </a:lnTo>
                <a:lnTo>
                  <a:pt x="10119" y="87379"/>
                </a:lnTo>
                <a:lnTo>
                  <a:pt x="0" y="838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InkAnnotation92"/>
          <p:cNvSpPr/>
          <p:nvPr/>
        </p:nvSpPr>
        <p:spPr>
          <a:xfrm>
            <a:off x="3017880" y="4321080"/>
            <a:ext cx="250920" cy="190440"/>
          </a:xfrm>
          <a:custGeom>
            <a:avLst/>
            <a:gdLst>
              <a:gd name="textAreaLeft" fmla="*/ 0 w 250920"/>
              <a:gd name="textAreaRight" fmla="*/ 251280 w 250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51461" h="190501">
                <a:moveTo>
                  <a:pt x="0" y="0"/>
                </a:moveTo>
                <a:lnTo>
                  <a:pt x="4045" y="0"/>
                </a:lnTo>
                <a:lnTo>
                  <a:pt x="6084" y="847"/>
                </a:lnTo>
                <a:lnTo>
                  <a:pt x="10606" y="4045"/>
                </a:lnTo>
                <a:lnTo>
                  <a:pt x="14691" y="6084"/>
                </a:lnTo>
                <a:lnTo>
                  <a:pt x="19954" y="8289"/>
                </a:lnTo>
                <a:lnTo>
                  <a:pt x="26003" y="10606"/>
                </a:lnTo>
                <a:lnTo>
                  <a:pt x="31729" y="13844"/>
                </a:lnTo>
                <a:lnTo>
                  <a:pt x="37239" y="17696"/>
                </a:lnTo>
                <a:lnTo>
                  <a:pt x="42606" y="21957"/>
                </a:lnTo>
                <a:lnTo>
                  <a:pt x="48724" y="26492"/>
                </a:lnTo>
                <a:lnTo>
                  <a:pt x="79052" y="48193"/>
                </a:lnTo>
                <a:lnTo>
                  <a:pt x="147487" y="99205"/>
                </a:lnTo>
                <a:lnTo>
                  <a:pt x="157591" y="107623"/>
                </a:lnTo>
                <a:lnTo>
                  <a:pt x="167715" y="116622"/>
                </a:lnTo>
                <a:lnTo>
                  <a:pt x="177849" y="126008"/>
                </a:lnTo>
                <a:lnTo>
                  <a:pt x="187146" y="133959"/>
                </a:lnTo>
                <a:lnTo>
                  <a:pt x="195884" y="140953"/>
                </a:lnTo>
                <a:lnTo>
                  <a:pt x="204250" y="147308"/>
                </a:lnTo>
                <a:lnTo>
                  <a:pt x="212367" y="154086"/>
                </a:lnTo>
                <a:lnTo>
                  <a:pt x="220318" y="161144"/>
                </a:lnTo>
                <a:lnTo>
                  <a:pt x="239128" y="178697"/>
                </a:lnTo>
                <a:lnTo>
                  <a:pt x="251460" y="1905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InkAnnotation93"/>
          <p:cNvSpPr/>
          <p:nvPr/>
        </p:nvSpPr>
        <p:spPr>
          <a:xfrm>
            <a:off x="3429000" y="4229280"/>
            <a:ext cx="7920" cy="266400"/>
          </a:xfrm>
          <a:custGeom>
            <a:avLst/>
            <a:gdLst>
              <a:gd name="textAreaLeft" fmla="*/ 0 w 7920"/>
              <a:gd name="textAreaRight" fmla="*/ 8280 w 792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7621" h="266701">
                <a:moveTo>
                  <a:pt x="7620" y="0"/>
                </a:moveTo>
                <a:lnTo>
                  <a:pt x="7620" y="220981"/>
                </a:lnTo>
                <a:lnTo>
                  <a:pt x="6774" y="226907"/>
                </a:lnTo>
                <a:lnTo>
                  <a:pt x="5362" y="231705"/>
                </a:lnTo>
                <a:lnTo>
                  <a:pt x="3575" y="235750"/>
                </a:lnTo>
                <a:lnTo>
                  <a:pt x="2383" y="240140"/>
                </a:lnTo>
                <a:lnTo>
                  <a:pt x="1589" y="244760"/>
                </a:lnTo>
                <a:lnTo>
                  <a:pt x="1059" y="249534"/>
                </a:lnTo>
                <a:lnTo>
                  <a:pt x="706" y="253562"/>
                </a:lnTo>
                <a:lnTo>
                  <a:pt x="471" y="257095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InkAnnotation94"/>
          <p:cNvSpPr/>
          <p:nvPr/>
        </p:nvSpPr>
        <p:spPr>
          <a:xfrm>
            <a:off x="3344760" y="4351320"/>
            <a:ext cx="206640" cy="38160"/>
          </a:xfrm>
          <a:custGeom>
            <a:avLst/>
            <a:gdLst>
              <a:gd name="textAreaLeft" fmla="*/ 0 w 206640"/>
              <a:gd name="textAreaRight" fmla="*/ 207000 w 2066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5741" h="38008">
                <a:moveTo>
                  <a:pt x="0" y="7528"/>
                </a:moveTo>
                <a:lnTo>
                  <a:pt x="4045" y="7528"/>
                </a:lnTo>
                <a:lnTo>
                  <a:pt x="5236" y="6681"/>
                </a:lnTo>
                <a:lnTo>
                  <a:pt x="6031" y="5270"/>
                </a:lnTo>
                <a:lnTo>
                  <a:pt x="7306" y="966"/>
                </a:lnTo>
                <a:lnTo>
                  <a:pt x="11996" y="378"/>
                </a:lnTo>
                <a:lnTo>
                  <a:pt x="18878" y="117"/>
                </a:lnTo>
                <a:lnTo>
                  <a:pt x="24759" y="0"/>
                </a:lnTo>
                <a:lnTo>
                  <a:pt x="29206" y="816"/>
                </a:lnTo>
                <a:lnTo>
                  <a:pt x="34711" y="2206"/>
                </a:lnTo>
                <a:lnTo>
                  <a:pt x="40920" y="3980"/>
                </a:lnTo>
                <a:lnTo>
                  <a:pt x="54593" y="8209"/>
                </a:lnTo>
                <a:lnTo>
                  <a:pt x="61795" y="10522"/>
                </a:lnTo>
                <a:lnTo>
                  <a:pt x="69137" y="12063"/>
                </a:lnTo>
                <a:lnTo>
                  <a:pt x="76571" y="13092"/>
                </a:lnTo>
                <a:lnTo>
                  <a:pt x="84067" y="13776"/>
                </a:lnTo>
                <a:lnTo>
                  <a:pt x="91605" y="15081"/>
                </a:lnTo>
                <a:lnTo>
                  <a:pt x="99169" y="16796"/>
                </a:lnTo>
                <a:lnTo>
                  <a:pt x="106753" y="18787"/>
                </a:lnTo>
                <a:lnTo>
                  <a:pt x="114348" y="20960"/>
                </a:lnTo>
                <a:lnTo>
                  <a:pt x="129561" y="25633"/>
                </a:lnTo>
                <a:lnTo>
                  <a:pt x="137174" y="27217"/>
                </a:lnTo>
                <a:lnTo>
                  <a:pt x="144789" y="28274"/>
                </a:lnTo>
                <a:lnTo>
                  <a:pt x="152406" y="28979"/>
                </a:lnTo>
                <a:lnTo>
                  <a:pt x="160024" y="30295"/>
                </a:lnTo>
                <a:lnTo>
                  <a:pt x="167642" y="32019"/>
                </a:lnTo>
                <a:lnTo>
                  <a:pt x="175261" y="34015"/>
                </a:lnTo>
                <a:lnTo>
                  <a:pt x="182034" y="35346"/>
                </a:lnTo>
                <a:lnTo>
                  <a:pt x="188243" y="36233"/>
                </a:lnTo>
                <a:lnTo>
                  <a:pt x="205740" y="380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InkAnnotation95"/>
          <p:cNvSpPr/>
          <p:nvPr/>
        </p:nvSpPr>
        <p:spPr>
          <a:xfrm>
            <a:off x="3560760" y="4224240"/>
            <a:ext cx="171360" cy="293760"/>
          </a:xfrm>
          <a:custGeom>
            <a:avLst/>
            <a:gdLst>
              <a:gd name="textAreaLeft" fmla="*/ 0 w 171360"/>
              <a:gd name="textAreaRight" fmla="*/ 171720 w 1713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72405" h="293592">
                <a:moveTo>
                  <a:pt x="158251" y="64991"/>
                </a:moveTo>
                <a:lnTo>
                  <a:pt x="162296" y="64991"/>
                </a:lnTo>
                <a:lnTo>
                  <a:pt x="163488" y="64145"/>
                </a:lnTo>
                <a:lnTo>
                  <a:pt x="164282" y="62734"/>
                </a:lnTo>
                <a:lnTo>
                  <a:pt x="165557" y="58430"/>
                </a:lnTo>
                <a:lnTo>
                  <a:pt x="169823" y="53640"/>
                </a:lnTo>
                <a:lnTo>
                  <a:pt x="171046" y="51497"/>
                </a:lnTo>
                <a:lnTo>
                  <a:pt x="172404" y="46858"/>
                </a:lnTo>
                <a:lnTo>
                  <a:pt x="171920" y="44436"/>
                </a:lnTo>
                <a:lnTo>
                  <a:pt x="168040" y="36981"/>
                </a:lnTo>
                <a:lnTo>
                  <a:pt x="166835" y="31940"/>
                </a:lnTo>
                <a:lnTo>
                  <a:pt x="161784" y="24620"/>
                </a:lnTo>
                <a:lnTo>
                  <a:pt x="158066" y="20297"/>
                </a:lnTo>
                <a:lnTo>
                  <a:pt x="153894" y="16568"/>
                </a:lnTo>
                <a:lnTo>
                  <a:pt x="149420" y="13235"/>
                </a:lnTo>
                <a:lnTo>
                  <a:pt x="144744" y="10167"/>
                </a:lnTo>
                <a:lnTo>
                  <a:pt x="139933" y="8122"/>
                </a:lnTo>
                <a:lnTo>
                  <a:pt x="135032" y="6758"/>
                </a:lnTo>
                <a:lnTo>
                  <a:pt x="130072" y="5849"/>
                </a:lnTo>
                <a:lnTo>
                  <a:pt x="125071" y="4396"/>
                </a:lnTo>
                <a:lnTo>
                  <a:pt x="120045" y="2581"/>
                </a:lnTo>
                <a:lnTo>
                  <a:pt x="115000" y="524"/>
                </a:lnTo>
                <a:lnTo>
                  <a:pt x="109098" y="0"/>
                </a:lnTo>
                <a:lnTo>
                  <a:pt x="102622" y="497"/>
                </a:lnTo>
                <a:lnTo>
                  <a:pt x="95765" y="1675"/>
                </a:lnTo>
                <a:lnTo>
                  <a:pt x="88654" y="2461"/>
                </a:lnTo>
                <a:lnTo>
                  <a:pt x="81373" y="2984"/>
                </a:lnTo>
                <a:lnTo>
                  <a:pt x="73979" y="3333"/>
                </a:lnTo>
                <a:lnTo>
                  <a:pt x="66510" y="4412"/>
                </a:lnTo>
                <a:lnTo>
                  <a:pt x="58991" y="5979"/>
                </a:lnTo>
                <a:lnTo>
                  <a:pt x="51438" y="7870"/>
                </a:lnTo>
                <a:lnTo>
                  <a:pt x="43862" y="10823"/>
                </a:lnTo>
                <a:lnTo>
                  <a:pt x="36271" y="14486"/>
                </a:lnTo>
                <a:lnTo>
                  <a:pt x="28672" y="18621"/>
                </a:lnTo>
                <a:lnTo>
                  <a:pt x="22758" y="22224"/>
                </a:lnTo>
                <a:lnTo>
                  <a:pt x="17969" y="25473"/>
                </a:lnTo>
                <a:lnTo>
                  <a:pt x="13930" y="28486"/>
                </a:lnTo>
                <a:lnTo>
                  <a:pt x="10390" y="32187"/>
                </a:lnTo>
                <a:lnTo>
                  <a:pt x="7184" y="36349"/>
                </a:lnTo>
                <a:lnTo>
                  <a:pt x="2210" y="44641"/>
                </a:lnTo>
                <a:lnTo>
                  <a:pt x="0" y="51149"/>
                </a:lnTo>
                <a:lnTo>
                  <a:pt x="257" y="54916"/>
                </a:lnTo>
                <a:lnTo>
                  <a:pt x="2801" y="63618"/>
                </a:lnTo>
                <a:lnTo>
                  <a:pt x="6754" y="70871"/>
                </a:lnTo>
                <a:lnTo>
                  <a:pt x="8993" y="73992"/>
                </a:lnTo>
                <a:lnTo>
                  <a:pt x="13026" y="76918"/>
                </a:lnTo>
                <a:lnTo>
                  <a:pt x="18254" y="79716"/>
                </a:lnTo>
                <a:lnTo>
                  <a:pt x="24280" y="82427"/>
                </a:lnTo>
                <a:lnTo>
                  <a:pt x="29990" y="84235"/>
                </a:lnTo>
                <a:lnTo>
                  <a:pt x="35491" y="85440"/>
                </a:lnTo>
                <a:lnTo>
                  <a:pt x="40851" y="86245"/>
                </a:lnTo>
                <a:lnTo>
                  <a:pt x="46965" y="86779"/>
                </a:lnTo>
                <a:lnTo>
                  <a:pt x="53580" y="87137"/>
                </a:lnTo>
                <a:lnTo>
                  <a:pt x="60530" y="87375"/>
                </a:lnTo>
                <a:lnTo>
                  <a:pt x="67704" y="86687"/>
                </a:lnTo>
                <a:lnTo>
                  <a:pt x="75026" y="85382"/>
                </a:lnTo>
                <a:lnTo>
                  <a:pt x="82448" y="83665"/>
                </a:lnTo>
                <a:lnTo>
                  <a:pt x="89089" y="81674"/>
                </a:lnTo>
                <a:lnTo>
                  <a:pt x="95209" y="79500"/>
                </a:lnTo>
                <a:lnTo>
                  <a:pt x="100983" y="77203"/>
                </a:lnTo>
                <a:lnTo>
                  <a:pt x="106526" y="73979"/>
                </a:lnTo>
                <a:lnTo>
                  <a:pt x="111914" y="70136"/>
                </a:lnTo>
                <a:lnTo>
                  <a:pt x="117200" y="65881"/>
                </a:lnTo>
                <a:lnTo>
                  <a:pt x="121570" y="61351"/>
                </a:lnTo>
                <a:lnTo>
                  <a:pt x="125331" y="56637"/>
                </a:lnTo>
                <a:lnTo>
                  <a:pt x="128684" y="51802"/>
                </a:lnTo>
                <a:lnTo>
                  <a:pt x="131767" y="47732"/>
                </a:lnTo>
                <a:lnTo>
                  <a:pt x="134667" y="44172"/>
                </a:lnTo>
                <a:lnTo>
                  <a:pt x="137449" y="40952"/>
                </a:lnTo>
                <a:lnTo>
                  <a:pt x="142797" y="35116"/>
                </a:lnTo>
                <a:lnTo>
                  <a:pt x="145409" y="32375"/>
                </a:lnTo>
                <a:lnTo>
                  <a:pt x="147149" y="29700"/>
                </a:lnTo>
                <a:lnTo>
                  <a:pt x="150172" y="20812"/>
                </a:lnTo>
                <a:lnTo>
                  <a:pt x="150591" y="19406"/>
                </a:lnTo>
                <a:lnTo>
                  <a:pt x="150620" y="23357"/>
                </a:lnTo>
                <a:lnTo>
                  <a:pt x="148368" y="29836"/>
                </a:lnTo>
                <a:lnTo>
                  <a:pt x="144545" y="38360"/>
                </a:lnTo>
                <a:lnTo>
                  <a:pt x="137633" y="52679"/>
                </a:lnTo>
                <a:lnTo>
                  <a:pt x="132719" y="62623"/>
                </a:lnTo>
                <a:lnTo>
                  <a:pt x="131070" y="68493"/>
                </a:lnTo>
                <a:lnTo>
                  <a:pt x="129970" y="74946"/>
                </a:lnTo>
                <a:lnTo>
                  <a:pt x="129237" y="81787"/>
                </a:lnTo>
                <a:lnTo>
                  <a:pt x="127902" y="89735"/>
                </a:lnTo>
                <a:lnTo>
                  <a:pt x="126165" y="98421"/>
                </a:lnTo>
                <a:lnTo>
                  <a:pt x="124160" y="107597"/>
                </a:lnTo>
                <a:lnTo>
                  <a:pt x="122824" y="116256"/>
                </a:lnTo>
                <a:lnTo>
                  <a:pt x="121933" y="124568"/>
                </a:lnTo>
                <a:lnTo>
                  <a:pt x="121339" y="132649"/>
                </a:lnTo>
                <a:lnTo>
                  <a:pt x="120943" y="140576"/>
                </a:lnTo>
                <a:lnTo>
                  <a:pt x="120503" y="156158"/>
                </a:lnTo>
                <a:lnTo>
                  <a:pt x="120182" y="206172"/>
                </a:lnTo>
                <a:lnTo>
                  <a:pt x="121019" y="214145"/>
                </a:lnTo>
                <a:lnTo>
                  <a:pt x="122422" y="221154"/>
                </a:lnTo>
                <a:lnTo>
                  <a:pt x="124206" y="227520"/>
                </a:lnTo>
                <a:lnTo>
                  <a:pt x="125394" y="234303"/>
                </a:lnTo>
                <a:lnTo>
                  <a:pt x="126187" y="241366"/>
                </a:lnTo>
                <a:lnTo>
                  <a:pt x="126715" y="248615"/>
                </a:lnTo>
                <a:lnTo>
                  <a:pt x="126220" y="255140"/>
                </a:lnTo>
                <a:lnTo>
                  <a:pt x="125044" y="261184"/>
                </a:lnTo>
                <a:lnTo>
                  <a:pt x="123413" y="266906"/>
                </a:lnTo>
                <a:lnTo>
                  <a:pt x="121601" y="275522"/>
                </a:lnTo>
                <a:lnTo>
                  <a:pt x="120795" y="282174"/>
                </a:lnTo>
                <a:lnTo>
                  <a:pt x="120581" y="285132"/>
                </a:lnTo>
                <a:lnTo>
                  <a:pt x="120151" y="2935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InkAnnotation96"/>
          <p:cNvSpPr/>
          <p:nvPr/>
        </p:nvSpPr>
        <p:spPr>
          <a:xfrm>
            <a:off x="2492280" y="4335480"/>
            <a:ext cx="174600" cy="158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75261" h="15241">
                <a:moveTo>
                  <a:pt x="0" y="0"/>
                </a:moveTo>
                <a:lnTo>
                  <a:pt x="84281" y="0"/>
                </a:lnTo>
                <a:lnTo>
                  <a:pt x="91748" y="846"/>
                </a:lnTo>
                <a:lnTo>
                  <a:pt x="99265" y="2258"/>
                </a:lnTo>
                <a:lnTo>
                  <a:pt x="106817" y="4045"/>
                </a:lnTo>
                <a:lnTo>
                  <a:pt x="114391" y="5237"/>
                </a:lnTo>
                <a:lnTo>
                  <a:pt x="121981" y="6032"/>
                </a:lnTo>
                <a:lnTo>
                  <a:pt x="129580" y="6562"/>
                </a:lnTo>
                <a:lnTo>
                  <a:pt x="136340" y="7761"/>
                </a:lnTo>
                <a:lnTo>
                  <a:pt x="142540" y="9408"/>
                </a:lnTo>
                <a:lnTo>
                  <a:pt x="148367" y="11352"/>
                </a:lnTo>
                <a:lnTo>
                  <a:pt x="153945" y="12648"/>
                </a:lnTo>
                <a:lnTo>
                  <a:pt x="159357" y="13512"/>
                </a:lnTo>
                <a:lnTo>
                  <a:pt x="17526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InkAnnotation97"/>
          <p:cNvSpPr/>
          <p:nvPr/>
        </p:nvSpPr>
        <p:spPr>
          <a:xfrm>
            <a:off x="2468520" y="4397400"/>
            <a:ext cx="206280" cy="38160"/>
          </a:xfrm>
          <a:custGeom>
            <a:avLst/>
            <a:gdLst>
              <a:gd name="textAreaLeft" fmla="*/ 0 w 206280"/>
              <a:gd name="textAreaRight" fmla="*/ 206640 w 206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5741" h="38101">
                <a:moveTo>
                  <a:pt x="0" y="0"/>
                </a:moveTo>
                <a:lnTo>
                  <a:pt x="0" y="6561"/>
                </a:lnTo>
                <a:lnTo>
                  <a:pt x="847" y="6914"/>
                </a:lnTo>
                <a:lnTo>
                  <a:pt x="6084" y="7411"/>
                </a:lnTo>
                <a:lnTo>
                  <a:pt x="10606" y="7527"/>
                </a:lnTo>
                <a:lnTo>
                  <a:pt x="13844" y="8405"/>
                </a:lnTo>
                <a:lnTo>
                  <a:pt x="17696" y="9836"/>
                </a:lnTo>
                <a:lnTo>
                  <a:pt x="21957" y="11637"/>
                </a:lnTo>
                <a:lnTo>
                  <a:pt x="28185" y="12839"/>
                </a:lnTo>
                <a:lnTo>
                  <a:pt x="35723" y="13639"/>
                </a:lnTo>
                <a:lnTo>
                  <a:pt x="44135" y="14173"/>
                </a:lnTo>
                <a:lnTo>
                  <a:pt x="52284" y="15375"/>
                </a:lnTo>
                <a:lnTo>
                  <a:pt x="60256" y="17024"/>
                </a:lnTo>
                <a:lnTo>
                  <a:pt x="68110" y="18969"/>
                </a:lnTo>
                <a:lnTo>
                  <a:pt x="76734" y="20266"/>
                </a:lnTo>
                <a:lnTo>
                  <a:pt x="85869" y="21131"/>
                </a:lnTo>
                <a:lnTo>
                  <a:pt x="95346" y="21707"/>
                </a:lnTo>
                <a:lnTo>
                  <a:pt x="114908" y="22348"/>
                </a:lnTo>
                <a:lnTo>
                  <a:pt x="124865" y="22519"/>
                </a:lnTo>
                <a:lnTo>
                  <a:pt x="134890" y="23479"/>
                </a:lnTo>
                <a:lnTo>
                  <a:pt x="144960" y="24966"/>
                </a:lnTo>
                <a:lnTo>
                  <a:pt x="155060" y="26804"/>
                </a:lnTo>
                <a:lnTo>
                  <a:pt x="163487" y="28029"/>
                </a:lnTo>
                <a:lnTo>
                  <a:pt x="170798" y="28846"/>
                </a:lnTo>
                <a:lnTo>
                  <a:pt x="177365" y="29391"/>
                </a:lnTo>
                <a:lnTo>
                  <a:pt x="183437" y="30601"/>
                </a:lnTo>
                <a:lnTo>
                  <a:pt x="189178" y="32254"/>
                </a:lnTo>
                <a:lnTo>
                  <a:pt x="205740" y="381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4171"/>
          <p:cNvSpPr/>
          <p:nvPr/>
        </p:nvSpPr>
        <p:spPr>
          <a:xfrm>
            <a:off x="1477800" y="425916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InkAnnotation99"/>
          <p:cNvSpPr/>
          <p:nvPr/>
        </p:nvSpPr>
        <p:spPr>
          <a:xfrm>
            <a:off x="1273320" y="4267080"/>
            <a:ext cx="228600" cy="7920"/>
          </a:xfrm>
          <a:custGeom>
            <a:avLst/>
            <a:gdLst>
              <a:gd name="textAreaLeft" fmla="*/ 0 w 228600"/>
              <a:gd name="textAreaRight" fmla="*/ 228960 w 228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01" h="7621">
                <a:moveTo>
                  <a:pt x="0" y="7620"/>
                </a:moveTo>
                <a:lnTo>
                  <a:pt x="0" y="2"/>
                </a:lnTo>
                <a:lnTo>
                  <a:pt x="0" y="4046"/>
                </a:lnTo>
                <a:lnTo>
                  <a:pt x="847" y="5237"/>
                </a:lnTo>
                <a:lnTo>
                  <a:pt x="2258" y="6032"/>
                </a:lnTo>
                <a:lnTo>
                  <a:pt x="4045" y="6561"/>
                </a:lnTo>
                <a:lnTo>
                  <a:pt x="6084" y="6914"/>
                </a:lnTo>
                <a:lnTo>
                  <a:pt x="8289" y="7150"/>
                </a:lnTo>
                <a:lnTo>
                  <a:pt x="10606" y="7307"/>
                </a:lnTo>
                <a:lnTo>
                  <a:pt x="13844" y="6565"/>
                </a:lnTo>
                <a:lnTo>
                  <a:pt x="17696" y="5223"/>
                </a:lnTo>
                <a:lnTo>
                  <a:pt x="21957" y="3482"/>
                </a:lnTo>
                <a:lnTo>
                  <a:pt x="26491" y="2321"/>
                </a:lnTo>
                <a:lnTo>
                  <a:pt x="31208" y="1548"/>
                </a:lnTo>
                <a:lnTo>
                  <a:pt x="36045" y="1032"/>
                </a:lnTo>
                <a:lnTo>
                  <a:pt x="41810" y="688"/>
                </a:lnTo>
                <a:lnTo>
                  <a:pt x="54989" y="306"/>
                </a:lnTo>
                <a:lnTo>
                  <a:pt x="132092" y="5"/>
                </a:ln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InkAnnotation100"/>
          <p:cNvSpPr/>
          <p:nvPr/>
        </p:nvSpPr>
        <p:spPr>
          <a:xfrm>
            <a:off x="1515960" y="4213080"/>
            <a:ext cx="176400" cy="152640"/>
          </a:xfrm>
          <a:custGeom>
            <a:avLst/>
            <a:gdLst>
              <a:gd name="textAreaLeft" fmla="*/ 0 w 176400"/>
              <a:gd name="textAreaRight" fmla="*/ 176760 w 176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1" h="152401">
                <a:moveTo>
                  <a:pt x="175260" y="0"/>
                </a:moveTo>
                <a:lnTo>
                  <a:pt x="171215" y="0"/>
                </a:lnTo>
                <a:lnTo>
                  <a:pt x="170023" y="847"/>
                </a:lnTo>
                <a:lnTo>
                  <a:pt x="169229" y="2258"/>
                </a:lnTo>
                <a:lnTo>
                  <a:pt x="167954" y="6561"/>
                </a:lnTo>
                <a:lnTo>
                  <a:pt x="165522" y="9408"/>
                </a:lnTo>
                <a:lnTo>
                  <a:pt x="163688" y="11352"/>
                </a:lnTo>
                <a:lnTo>
                  <a:pt x="161619" y="14341"/>
                </a:lnTo>
                <a:lnTo>
                  <a:pt x="159393" y="18027"/>
                </a:lnTo>
                <a:lnTo>
                  <a:pt x="157062" y="22178"/>
                </a:lnTo>
                <a:lnTo>
                  <a:pt x="153814" y="25792"/>
                </a:lnTo>
                <a:lnTo>
                  <a:pt x="149956" y="29048"/>
                </a:lnTo>
                <a:lnTo>
                  <a:pt x="145691" y="32066"/>
                </a:lnTo>
                <a:lnTo>
                  <a:pt x="142001" y="35771"/>
                </a:lnTo>
                <a:lnTo>
                  <a:pt x="138694" y="39934"/>
                </a:lnTo>
                <a:lnTo>
                  <a:pt x="135642" y="44403"/>
                </a:lnTo>
                <a:lnTo>
                  <a:pt x="131068" y="49075"/>
                </a:lnTo>
                <a:lnTo>
                  <a:pt x="125479" y="53883"/>
                </a:lnTo>
                <a:lnTo>
                  <a:pt x="119213" y="58782"/>
                </a:lnTo>
                <a:lnTo>
                  <a:pt x="113342" y="64588"/>
                </a:lnTo>
                <a:lnTo>
                  <a:pt x="107735" y="70999"/>
                </a:lnTo>
                <a:lnTo>
                  <a:pt x="102303" y="77813"/>
                </a:lnTo>
                <a:lnTo>
                  <a:pt x="96142" y="84049"/>
                </a:lnTo>
                <a:lnTo>
                  <a:pt x="89495" y="89899"/>
                </a:lnTo>
                <a:lnTo>
                  <a:pt x="82523" y="95492"/>
                </a:lnTo>
                <a:lnTo>
                  <a:pt x="76182" y="100915"/>
                </a:lnTo>
                <a:lnTo>
                  <a:pt x="70261" y="106224"/>
                </a:lnTo>
                <a:lnTo>
                  <a:pt x="64621" y="111456"/>
                </a:lnTo>
                <a:lnTo>
                  <a:pt x="58321" y="116637"/>
                </a:lnTo>
                <a:lnTo>
                  <a:pt x="51580" y="121785"/>
                </a:lnTo>
                <a:lnTo>
                  <a:pt x="44547" y="126910"/>
                </a:lnTo>
                <a:lnTo>
                  <a:pt x="39011" y="131174"/>
                </a:lnTo>
                <a:lnTo>
                  <a:pt x="34475" y="134863"/>
                </a:lnTo>
                <a:lnTo>
                  <a:pt x="30603" y="138169"/>
                </a:lnTo>
                <a:lnTo>
                  <a:pt x="26329" y="140372"/>
                </a:lnTo>
                <a:lnTo>
                  <a:pt x="21786" y="141842"/>
                </a:lnTo>
                <a:lnTo>
                  <a:pt x="17064" y="142821"/>
                </a:lnTo>
                <a:lnTo>
                  <a:pt x="13916" y="144320"/>
                </a:lnTo>
                <a:lnTo>
                  <a:pt x="11818" y="146167"/>
                </a:lnTo>
                <a:lnTo>
                  <a:pt x="10419" y="148245"/>
                </a:lnTo>
                <a:lnTo>
                  <a:pt x="8639" y="149630"/>
                </a:lnTo>
                <a:lnTo>
                  <a:pt x="6606" y="150553"/>
                </a:lnTo>
                <a:lnTo>
                  <a:pt x="0" y="152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InkAnnotation101"/>
          <p:cNvSpPr/>
          <p:nvPr/>
        </p:nvSpPr>
        <p:spPr>
          <a:xfrm>
            <a:off x="1547640" y="4229280"/>
            <a:ext cx="120960" cy="122040"/>
          </a:xfrm>
          <a:custGeom>
            <a:avLst/>
            <a:gdLst>
              <a:gd name="textAreaLeft" fmla="*/ 0 w 120960"/>
              <a:gd name="textAreaRight" fmla="*/ 121320 w 1209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20862" h="121921">
                <a:moveTo>
                  <a:pt x="6561" y="0"/>
                </a:moveTo>
                <a:lnTo>
                  <a:pt x="0" y="0"/>
                </a:lnTo>
                <a:lnTo>
                  <a:pt x="9640" y="0"/>
                </a:lnTo>
                <a:lnTo>
                  <a:pt x="11154" y="846"/>
                </a:lnTo>
                <a:lnTo>
                  <a:pt x="12163" y="2258"/>
                </a:lnTo>
                <a:lnTo>
                  <a:pt x="12836" y="4045"/>
                </a:lnTo>
                <a:lnTo>
                  <a:pt x="14131" y="6083"/>
                </a:lnTo>
                <a:lnTo>
                  <a:pt x="15841" y="8289"/>
                </a:lnTo>
                <a:lnTo>
                  <a:pt x="17828" y="10606"/>
                </a:lnTo>
                <a:lnTo>
                  <a:pt x="21692" y="13844"/>
                </a:lnTo>
                <a:lnTo>
                  <a:pt x="26809" y="17697"/>
                </a:lnTo>
                <a:lnTo>
                  <a:pt x="32759" y="21957"/>
                </a:lnTo>
                <a:lnTo>
                  <a:pt x="38420" y="27338"/>
                </a:lnTo>
                <a:lnTo>
                  <a:pt x="43887" y="33466"/>
                </a:lnTo>
                <a:lnTo>
                  <a:pt x="49225" y="40091"/>
                </a:lnTo>
                <a:lnTo>
                  <a:pt x="54477" y="47047"/>
                </a:lnTo>
                <a:lnTo>
                  <a:pt x="64828" y="61550"/>
                </a:lnTo>
                <a:lnTo>
                  <a:pt x="70806" y="68973"/>
                </a:lnTo>
                <a:lnTo>
                  <a:pt x="77331" y="76462"/>
                </a:lnTo>
                <a:lnTo>
                  <a:pt x="84221" y="83995"/>
                </a:lnTo>
                <a:lnTo>
                  <a:pt x="89661" y="90710"/>
                </a:lnTo>
                <a:lnTo>
                  <a:pt x="94134" y="96880"/>
                </a:lnTo>
                <a:lnTo>
                  <a:pt x="97964" y="102687"/>
                </a:lnTo>
                <a:lnTo>
                  <a:pt x="102209" y="107405"/>
                </a:lnTo>
                <a:lnTo>
                  <a:pt x="106733" y="111396"/>
                </a:lnTo>
                <a:lnTo>
                  <a:pt x="120861" y="121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InkAnnotation102"/>
          <p:cNvSpPr/>
          <p:nvPr/>
        </p:nvSpPr>
        <p:spPr>
          <a:xfrm>
            <a:off x="1782720" y="4327560"/>
            <a:ext cx="130320" cy="15840"/>
          </a:xfrm>
          <a:custGeom>
            <a:avLst/>
            <a:gdLst>
              <a:gd name="textAreaLeft" fmla="*/ 0 w 130320"/>
              <a:gd name="textAreaRight" fmla="*/ 130680 w 1303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29541" h="15241">
                <a:moveTo>
                  <a:pt x="0" y="15240"/>
                </a:moveTo>
                <a:lnTo>
                  <a:pt x="10606" y="15240"/>
                </a:lnTo>
                <a:lnTo>
                  <a:pt x="12151" y="14394"/>
                </a:lnTo>
                <a:lnTo>
                  <a:pt x="13181" y="12983"/>
                </a:lnTo>
                <a:lnTo>
                  <a:pt x="13867" y="11195"/>
                </a:lnTo>
                <a:lnTo>
                  <a:pt x="16018" y="10003"/>
                </a:lnTo>
                <a:lnTo>
                  <a:pt x="19146" y="9209"/>
                </a:lnTo>
                <a:lnTo>
                  <a:pt x="22924" y="8679"/>
                </a:lnTo>
                <a:lnTo>
                  <a:pt x="27136" y="8326"/>
                </a:lnTo>
                <a:lnTo>
                  <a:pt x="31638" y="8091"/>
                </a:lnTo>
                <a:lnTo>
                  <a:pt x="36332" y="7934"/>
                </a:lnTo>
                <a:lnTo>
                  <a:pt x="62116" y="7682"/>
                </a:lnTo>
                <a:lnTo>
                  <a:pt x="99212" y="7629"/>
                </a:lnTo>
                <a:lnTo>
                  <a:pt x="105935" y="6779"/>
                </a:lnTo>
                <a:lnTo>
                  <a:pt x="112110" y="5366"/>
                </a:lnTo>
                <a:lnTo>
                  <a:pt x="1295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InkAnnotation103"/>
          <p:cNvSpPr/>
          <p:nvPr/>
        </p:nvSpPr>
        <p:spPr>
          <a:xfrm>
            <a:off x="2003400" y="4229280"/>
            <a:ext cx="204840" cy="228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4083" h="228600">
                <a:moveTo>
                  <a:pt x="0" y="22859"/>
                </a:moveTo>
                <a:lnTo>
                  <a:pt x="4045" y="18814"/>
                </a:lnTo>
                <a:lnTo>
                  <a:pt x="6930" y="16776"/>
                </a:lnTo>
                <a:lnTo>
                  <a:pt x="10547" y="14570"/>
                </a:lnTo>
                <a:lnTo>
                  <a:pt x="14651" y="12253"/>
                </a:lnTo>
                <a:lnTo>
                  <a:pt x="19928" y="10709"/>
                </a:lnTo>
                <a:lnTo>
                  <a:pt x="25985" y="9679"/>
                </a:lnTo>
                <a:lnTo>
                  <a:pt x="32564" y="8992"/>
                </a:lnTo>
                <a:lnTo>
                  <a:pt x="40336" y="7688"/>
                </a:lnTo>
                <a:lnTo>
                  <a:pt x="48904" y="5972"/>
                </a:lnTo>
                <a:lnTo>
                  <a:pt x="58003" y="3981"/>
                </a:lnTo>
                <a:lnTo>
                  <a:pt x="67455" y="2653"/>
                </a:lnTo>
                <a:lnTo>
                  <a:pt x="77144" y="1769"/>
                </a:lnTo>
                <a:lnTo>
                  <a:pt x="86989" y="1179"/>
                </a:lnTo>
                <a:lnTo>
                  <a:pt x="104702" y="523"/>
                </a:lnTo>
                <a:lnTo>
                  <a:pt x="131212" y="155"/>
                </a:lnTo>
                <a:lnTo>
                  <a:pt x="200144" y="0"/>
                </a:lnTo>
                <a:lnTo>
                  <a:pt x="202010" y="847"/>
                </a:lnTo>
                <a:lnTo>
                  <a:pt x="203253" y="2257"/>
                </a:lnTo>
                <a:lnTo>
                  <a:pt x="204082" y="4044"/>
                </a:lnTo>
                <a:lnTo>
                  <a:pt x="203788" y="5236"/>
                </a:lnTo>
                <a:lnTo>
                  <a:pt x="202746" y="6030"/>
                </a:lnTo>
                <a:lnTo>
                  <a:pt x="201204" y="6560"/>
                </a:lnTo>
                <a:lnTo>
                  <a:pt x="194989" y="11351"/>
                </a:lnTo>
                <a:lnTo>
                  <a:pt x="191799" y="14340"/>
                </a:lnTo>
                <a:lnTo>
                  <a:pt x="174513" y="31305"/>
                </a:lnTo>
                <a:lnTo>
                  <a:pt x="169683" y="36110"/>
                </a:lnTo>
                <a:lnTo>
                  <a:pt x="164768" y="41853"/>
                </a:lnTo>
                <a:lnTo>
                  <a:pt x="159799" y="48222"/>
                </a:lnTo>
                <a:lnTo>
                  <a:pt x="154793" y="55007"/>
                </a:lnTo>
                <a:lnTo>
                  <a:pt x="148915" y="62071"/>
                </a:lnTo>
                <a:lnTo>
                  <a:pt x="142457" y="69320"/>
                </a:lnTo>
                <a:lnTo>
                  <a:pt x="135611" y="76694"/>
                </a:lnTo>
                <a:lnTo>
                  <a:pt x="129354" y="84149"/>
                </a:lnTo>
                <a:lnTo>
                  <a:pt x="123489" y="91659"/>
                </a:lnTo>
                <a:lnTo>
                  <a:pt x="117886" y="99206"/>
                </a:lnTo>
                <a:lnTo>
                  <a:pt x="111611" y="106777"/>
                </a:lnTo>
                <a:lnTo>
                  <a:pt x="104887" y="114364"/>
                </a:lnTo>
                <a:lnTo>
                  <a:pt x="97865" y="121962"/>
                </a:lnTo>
                <a:lnTo>
                  <a:pt x="92337" y="128721"/>
                </a:lnTo>
                <a:lnTo>
                  <a:pt x="87804" y="134921"/>
                </a:lnTo>
                <a:lnTo>
                  <a:pt x="70402" y="161082"/>
                </a:lnTo>
                <a:lnTo>
                  <a:pt x="66408" y="168348"/>
                </a:lnTo>
                <a:lnTo>
                  <a:pt x="62899" y="175732"/>
                </a:lnTo>
                <a:lnTo>
                  <a:pt x="59712" y="183194"/>
                </a:lnTo>
                <a:lnTo>
                  <a:pt x="57589" y="189016"/>
                </a:lnTo>
                <a:lnTo>
                  <a:pt x="56172" y="193743"/>
                </a:lnTo>
                <a:lnTo>
                  <a:pt x="55228" y="197742"/>
                </a:lnTo>
                <a:lnTo>
                  <a:pt x="53752" y="202101"/>
                </a:lnTo>
                <a:lnTo>
                  <a:pt x="51921" y="206700"/>
                </a:lnTo>
                <a:lnTo>
                  <a:pt x="46945" y="218158"/>
                </a:lnTo>
                <a:lnTo>
                  <a:pt x="46083" y="224189"/>
                </a:lnTo>
                <a:lnTo>
                  <a:pt x="45720" y="22859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InkAnnotation104"/>
          <p:cNvSpPr/>
          <p:nvPr/>
        </p:nvSpPr>
        <p:spPr>
          <a:xfrm>
            <a:off x="2035080" y="4313160"/>
            <a:ext cx="166680" cy="30240"/>
          </a:xfrm>
          <a:custGeom>
            <a:avLst/>
            <a:gdLst>
              <a:gd name="textAreaLeft" fmla="*/ 0 w 166680"/>
              <a:gd name="textAreaRight" fmla="*/ 167040 w 1666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67641" h="30481">
                <a:moveTo>
                  <a:pt x="0" y="0"/>
                </a:moveTo>
                <a:lnTo>
                  <a:pt x="4046" y="0"/>
                </a:lnTo>
                <a:lnTo>
                  <a:pt x="6084" y="847"/>
                </a:lnTo>
                <a:lnTo>
                  <a:pt x="8289" y="2258"/>
                </a:lnTo>
                <a:lnTo>
                  <a:pt x="10606" y="4045"/>
                </a:lnTo>
                <a:lnTo>
                  <a:pt x="13844" y="5237"/>
                </a:lnTo>
                <a:lnTo>
                  <a:pt x="17696" y="6031"/>
                </a:lnTo>
                <a:lnTo>
                  <a:pt x="21958" y="6561"/>
                </a:lnTo>
                <a:lnTo>
                  <a:pt x="27339" y="7760"/>
                </a:lnTo>
                <a:lnTo>
                  <a:pt x="33466" y="9408"/>
                </a:lnTo>
                <a:lnTo>
                  <a:pt x="40091" y="11352"/>
                </a:lnTo>
                <a:lnTo>
                  <a:pt x="48741" y="12648"/>
                </a:lnTo>
                <a:lnTo>
                  <a:pt x="58740" y="13512"/>
                </a:lnTo>
                <a:lnTo>
                  <a:pt x="69640" y="14088"/>
                </a:lnTo>
                <a:lnTo>
                  <a:pt x="80294" y="15319"/>
                </a:lnTo>
                <a:lnTo>
                  <a:pt x="90783" y="16986"/>
                </a:lnTo>
                <a:lnTo>
                  <a:pt x="101162" y="18944"/>
                </a:lnTo>
                <a:lnTo>
                  <a:pt x="121725" y="23377"/>
                </a:lnTo>
                <a:lnTo>
                  <a:pt x="131950" y="25745"/>
                </a:lnTo>
                <a:lnTo>
                  <a:pt x="140460" y="27323"/>
                </a:lnTo>
                <a:lnTo>
                  <a:pt x="147827" y="28375"/>
                </a:lnTo>
                <a:lnTo>
                  <a:pt x="167640" y="304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InkAnnotation105"/>
          <p:cNvSpPr/>
          <p:nvPr/>
        </p:nvSpPr>
        <p:spPr>
          <a:xfrm>
            <a:off x="3216240" y="4708440"/>
            <a:ext cx="311040" cy="31680"/>
          </a:xfrm>
          <a:custGeom>
            <a:avLst/>
            <a:gdLst>
              <a:gd name="textAreaLeft" fmla="*/ 0 w 311040"/>
              <a:gd name="textAreaRight" fmla="*/ 311040 w 3110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312421" h="3048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1"/>
                </a:lnTo>
                <a:lnTo>
                  <a:pt x="6561" y="7306"/>
                </a:lnTo>
                <a:lnTo>
                  <a:pt x="15397" y="7527"/>
                </a:lnTo>
                <a:lnTo>
                  <a:pt x="20424" y="8404"/>
                </a:lnTo>
                <a:lnTo>
                  <a:pt x="26316" y="9836"/>
                </a:lnTo>
                <a:lnTo>
                  <a:pt x="32784" y="11638"/>
                </a:lnTo>
                <a:lnTo>
                  <a:pt x="41330" y="12838"/>
                </a:lnTo>
                <a:lnTo>
                  <a:pt x="51260" y="13639"/>
                </a:lnTo>
                <a:lnTo>
                  <a:pt x="62113" y="14173"/>
                </a:lnTo>
                <a:lnTo>
                  <a:pt x="71889" y="15375"/>
                </a:lnTo>
                <a:lnTo>
                  <a:pt x="80946" y="17024"/>
                </a:lnTo>
                <a:lnTo>
                  <a:pt x="89524" y="18969"/>
                </a:lnTo>
                <a:lnTo>
                  <a:pt x="99476" y="20266"/>
                </a:lnTo>
                <a:lnTo>
                  <a:pt x="110344" y="21130"/>
                </a:lnTo>
                <a:lnTo>
                  <a:pt x="121823" y="21707"/>
                </a:lnTo>
                <a:lnTo>
                  <a:pt x="145866" y="22348"/>
                </a:lnTo>
                <a:lnTo>
                  <a:pt x="158204" y="22519"/>
                </a:lnTo>
                <a:lnTo>
                  <a:pt x="170663" y="23479"/>
                </a:lnTo>
                <a:lnTo>
                  <a:pt x="183202" y="24966"/>
                </a:lnTo>
                <a:lnTo>
                  <a:pt x="195795" y="26804"/>
                </a:lnTo>
                <a:lnTo>
                  <a:pt x="207576" y="28029"/>
                </a:lnTo>
                <a:lnTo>
                  <a:pt x="218817" y="28846"/>
                </a:lnTo>
                <a:lnTo>
                  <a:pt x="229698" y="29390"/>
                </a:lnTo>
                <a:lnTo>
                  <a:pt x="250819" y="29996"/>
                </a:lnTo>
                <a:lnTo>
                  <a:pt x="312420" y="304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InkAnnotation106"/>
          <p:cNvSpPr/>
          <p:nvPr/>
        </p:nvSpPr>
        <p:spPr>
          <a:xfrm>
            <a:off x="3581280" y="4632480"/>
            <a:ext cx="190800" cy="312480"/>
          </a:xfrm>
          <a:custGeom>
            <a:avLst/>
            <a:gdLst>
              <a:gd name="textAreaLeft" fmla="*/ 0 w 190800"/>
              <a:gd name="textAreaRight" fmla="*/ 191160 w 19080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189567" h="312289">
                <a:moveTo>
                  <a:pt x="182260" y="53208"/>
                </a:moveTo>
                <a:lnTo>
                  <a:pt x="182260" y="46647"/>
                </a:lnTo>
                <a:lnTo>
                  <a:pt x="187497" y="39713"/>
                </a:lnTo>
                <a:lnTo>
                  <a:pt x="188821" y="35075"/>
                </a:lnTo>
                <a:lnTo>
                  <a:pt x="189566" y="27703"/>
                </a:lnTo>
                <a:lnTo>
                  <a:pt x="188824" y="25198"/>
                </a:lnTo>
                <a:lnTo>
                  <a:pt x="185741" y="20157"/>
                </a:lnTo>
                <a:lnTo>
                  <a:pt x="182888" y="17627"/>
                </a:lnTo>
                <a:lnTo>
                  <a:pt x="179292" y="15094"/>
                </a:lnTo>
                <a:lnTo>
                  <a:pt x="175201" y="12559"/>
                </a:lnTo>
                <a:lnTo>
                  <a:pt x="169934" y="10022"/>
                </a:lnTo>
                <a:lnTo>
                  <a:pt x="163882" y="7484"/>
                </a:lnTo>
                <a:lnTo>
                  <a:pt x="157309" y="4945"/>
                </a:lnTo>
                <a:lnTo>
                  <a:pt x="151232" y="3253"/>
                </a:lnTo>
                <a:lnTo>
                  <a:pt x="145488" y="2125"/>
                </a:lnTo>
                <a:lnTo>
                  <a:pt x="139966" y="1372"/>
                </a:lnTo>
                <a:lnTo>
                  <a:pt x="132897" y="871"/>
                </a:lnTo>
                <a:lnTo>
                  <a:pt x="124798" y="536"/>
                </a:lnTo>
                <a:lnTo>
                  <a:pt x="106768" y="165"/>
                </a:lnTo>
                <a:lnTo>
                  <a:pt x="87466" y="0"/>
                </a:lnTo>
                <a:lnTo>
                  <a:pt x="78424" y="803"/>
                </a:lnTo>
                <a:lnTo>
                  <a:pt x="69856" y="2184"/>
                </a:lnTo>
                <a:lnTo>
                  <a:pt x="61604" y="3952"/>
                </a:lnTo>
                <a:lnTo>
                  <a:pt x="53562" y="5978"/>
                </a:lnTo>
                <a:lnTo>
                  <a:pt x="45662" y="8174"/>
                </a:lnTo>
                <a:lnTo>
                  <a:pt x="37854" y="10485"/>
                </a:lnTo>
                <a:lnTo>
                  <a:pt x="30956" y="13720"/>
                </a:lnTo>
                <a:lnTo>
                  <a:pt x="24664" y="17569"/>
                </a:lnTo>
                <a:lnTo>
                  <a:pt x="18776" y="21829"/>
                </a:lnTo>
                <a:lnTo>
                  <a:pt x="14004" y="26362"/>
                </a:lnTo>
                <a:lnTo>
                  <a:pt x="9976" y="31077"/>
                </a:lnTo>
                <a:lnTo>
                  <a:pt x="6444" y="35914"/>
                </a:lnTo>
                <a:lnTo>
                  <a:pt x="4089" y="40832"/>
                </a:lnTo>
                <a:lnTo>
                  <a:pt x="2519" y="45804"/>
                </a:lnTo>
                <a:lnTo>
                  <a:pt x="775" y="54998"/>
                </a:lnTo>
                <a:lnTo>
                  <a:pt x="0" y="61906"/>
                </a:lnTo>
                <a:lnTo>
                  <a:pt x="1486" y="65780"/>
                </a:lnTo>
                <a:lnTo>
                  <a:pt x="4170" y="70056"/>
                </a:lnTo>
                <a:lnTo>
                  <a:pt x="7654" y="74600"/>
                </a:lnTo>
                <a:lnTo>
                  <a:pt x="12516" y="78476"/>
                </a:lnTo>
                <a:lnTo>
                  <a:pt x="18297" y="81907"/>
                </a:lnTo>
                <a:lnTo>
                  <a:pt x="24691" y="85041"/>
                </a:lnTo>
                <a:lnTo>
                  <a:pt x="31494" y="87976"/>
                </a:lnTo>
                <a:lnTo>
                  <a:pt x="38569" y="90780"/>
                </a:lnTo>
                <a:lnTo>
                  <a:pt x="45826" y="93496"/>
                </a:lnTo>
                <a:lnTo>
                  <a:pt x="53204" y="95307"/>
                </a:lnTo>
                <a:lnTo>
                  <a:pt x="60663" y="96514"/>
                </a:lnTo>
                <a:lnTo>
                  <a:pt x="68175" y="97318"/>
                </a:lnTo>
                <a:lnTo>
                  <a:pt x="75724" y="97855"/>
                </a:lnTo>
                <a:lnTo>
                  <a:pt x="83295" y="98213"/>
                </a:lnTo>
                <a:lnTo>
                  <a:pt x="98482" y="98610"/>
                </a:lnTo>
                <a:lnTo>
                  <a:pt x="132500" y="98886"/>
                </a:lnTo>
                <a:lnTo>
                  <a:pt x="137234" y="98054"/>
                </a:lnTo>
                <a:lnTo>
                  <a:pt x="141236" y="96652"/>
                </a:lnTo>
                <a:lnTo>
                  <a:pt x="144751" y="94871"/>
                </a:lnTo>
                <a:lnTo>
                  <a:pt x="147940" y="93683"/>
                </a:lnTo>
                <a:lnTo>
                  <a:pt x="153742" y="92364"/>
                </a:lnTo>
                <a:lnTo>
                  <a:pt x="159254" y="91336"/>
                </a:lnTo>
                <a:lnTo>
                  <a:pt x="155311" y="95361"/>
                </a:lnTo>
                <a:lnTo>
                  <a:pt x="148781" y="101916"/>
                </a:lnTo>
                <a:lnTo>
                  <a:pt x="143956" y="111263"/>
                </a:lnTo>
                <a:lnTo>
                  <a:pt x="141485" y="117311"/>
                </a:lnTo>
                <a:lnTo>
                  <a:pt x="138990" y="123037"/>
                </a:lnTo>
                <a:lnTo>
                  <a:pt x="133960" y="133914"/>
                </a:lnTo>
                <a:lnTo>
                  <a:pt x="132280" y="140032"/>
                </a:lnTo>
                <a:lnTo>
                  <a:pt x="131160" y="146651"/>
                </a:lnTo>
                <a:lnTo>
                  <a:pt x="130413" y="153603"/>
                </a:lnTo>
                <a:lnTo>
                  <a:pt x="129069" y="160778"/>
                </a:lnTo>
                <a:lnTo>
                  <a:pt x="127326" y="168101"/>
                </a:lnTo>
                <a:lnTo>
                  <a:pt x="125317" y="175523"/>
                </a:lnTo>
                <a:lnTo>
                  <a:pt x="123978" y="183012"/>
                </a:lnTo>
                <a:lnTo>
                  <a:pt x="123086" y="190544"/>
                </a:lnTo>
                <a:lnTo>
                  <a:pt x="122490" y="198105"/>
                </a:lnTo>
                <a:lnTo>
                  <a:pt x="122093" y="206533"/>
                </a:lnTo>
                <a:lnTo>
                  <a:pt x="121653" y="224928"/>
                </a:lnTo>
                <a:lnTo>
                  <a:pt x="121405" y="250279"/>
                </a:lnTo>
                <a:lnTo>
                  <a:pt x="122216" y="257402"/>
                </a:lnTo>
                <a:lnTo>
                  <a:pt x="123605" y="263844"/>
                </a:lnTo>
                <a:lnTo>
                  <a:pt x="125376" y="269832"/>
                </a:lnTo>
                <a:lnTo>
                  <a:pt x="126557" y="275517"/>
                </a:lnTo>
                <a:lnTo>
                  <a:pt x="127344" y="281001"/>
                </a:lnTo>
                <a:lnTo>
                  <a:pt x="127870" y="286350"/>
                </a:lnTo>
                <a:lnTo>
                  <a:pt x="129067" y="291609"/>
                </a:lnTo>
                <a:lnTo>
                  <a:pt x="130711" y="296809"/>
                </a:lnTo>
                <a:lnTo>
                  <a:pt x="136540" y="31228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InkAnnotation107"/>
          <p:cNvSpPr/>
          <p:nvPr/>
        </p:nvSpPr>
        <p:spPr>
          <a:xfrm>
            <a:off x="1706400" y="4564080"/>
            <a:ext cx="206640" cy="15840"/>
          </a:xfrm>
          <a:custGeom>
            <a:avLst/>
            <a:gdLst>
              <a:gd name="textAreaLeft" fmla="*/ 0 w 206640"/>
              <a:gd name="textAreaRight" fmla="*/ 207000 w 206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05741" h="15241">
                <a:moveTo>
                  <a:pt x="0" y="0"/>
                </a:moveTo>
                <a:lnTo>
                  <a:pt x="4046" y="4045"/>
                </a:lnTo>
                <a:lnTo>
                  <a:pt x="6930" y="5237"/>
                </a:lnTo>
                <a:lnTo>
                  <a:pt x="10547" y="6032"/>
                </a:lnTo>
                <a:lnTo>
                  <a:pt x="14652" y="6562"/>
                </a:lnTo>
                <a:lnTo>
                  <a:pt x="19081" y="6914"/>
                </a:lnTo>
                <a:lnTo>
                  <a:pt x="23727" y="7150"/>
                </a:lnTo>
                <a:lnTo>
                  <a:pt x="28518" y="7306"/>
                </a:lnTo>
                <a:lnTo>
                  <a:pt x="47397" y="7527"/>
                </a:lnTo>
                <a:lnTo>
                  <a:pt x="73122" y="7593"/>
                </a:lnTo>
                <a:lnTo>
                  <a:pt x="82615" y="8449"/>
                </a:lnTo>
                <a:lnTo>
                  <a:pt x="92330" y="9866"/>
                </a:lnTo>
                <a:lnTo>
                  <a:pt x="102193" y="11657"/>
                </a:lnTo>
                <a:lnTo>
                  <a:pt x="111309" y="12852"/>
                </a:lnTo>
                <a:lnTo>
                  <a:pt x="119926" y="13648"/>
                </a:lnTo>
                <a:lnTo>
                  <a:pt x="128211" y="14179"/>
                </a:lnTo>
                <a:lnTo>
                  <a:pt x="137121" y="14533"/>
                </a:lnTo>
                <a:lnTo>
                  <a:pt x="164148" y="15031"/>
                </a:lnTo>
                <a:lnTo>
                  <a:pt x="20574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InkAnnotation108"/>
          <p:cNvSpPr/>
          <p:nvPr/>
        </p:nvSpPr>
        <p:spPr>
          <a:xfrm>
            <a:off x="1944720" y="4522680"/>
            <a:ext cx="177840" cy="316080"/>
          </a:xfrm>
          <a:custGeom>
            <a:avLst/>
            <a:gdLst>
              <a:gd name="textAreaLeft" fmla="*/ 0 w 177840"/>
              <a:gd name="textAreaRight" fmla="*/ 177840 w 17784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178585" h="316494">
                <a:moveTo>
                  <a:pt x="166636" y="72653"/>
                </a:moveTo>
                <a:lnTo>
                  <a:pt x="173197" y="66092"/>
                </a:lnTo>
                <a:lnTo>
                  <a:pt x="173786" y="63246"/>
                </a:lnTo>
                <a:lnTo>
                  <a:pt x="173942" y="61302"/>
                </a:lnTo>
                <a:lnTo>
                  <a:pt x="176375" y="54626"/>
                </a:lnTo>
                <a:lnTo>
                  <a:pt x="178209" y="50475"/>
                </a:lnTo>
                <a:lnTo>
                  <a:pt x="178584" y="46861"/>
                </a:lnTo>
                <a:lnTo>
                  <a:pt x="177989" y="43605"/>
                </a:lnTo>
                <a:lnTo>
                  <a:pt x="176744" y="40587"/>
                </a:lnTo>
                <a:lnTo>
                  <a:pt x="175362" y="32720"/>
                </a:lnTo>
                <a:lnTo>
                  <a:pt x="174994" y="28251"/>
                </a:lnTo>
                <a:lnTo>
                  <a:pt x="173901" y="24425"/>
                </a:lnTo>
                <a:lnTo>
                  <a:pt x="170430" y="17916"/>
                </a:lnTo>
                <a:lnTo>
                  <a:pt x="167472" y="14995"/>
                </a:lnTo>
                <a:lnTo>
                  <a:pt x="163807" y="12201"/>
                </a:lnTo>
                <a:lnTo>
                  <a:pt x="159670" y="9492"/>
                </a:lnTo>
                <a:lnTo>
                  <a:pt x="156065" y="7685"/>
                </a:lnTo>
                <a:lnTo>
                  <a:pt x="152816" y="6481"/>
                </a:lnTo>
                <a:lnTo>
                  <a:pt x="149803" y="5679"/>
                </a:lnTo>
                <a:lnTo>
                  <a:pt x="139681" y="2529"/>
                </a:lnTo>
                <a:lnTo>
                  <a:pt x="133426" y="503"/>
                </a:lnTo>
                <a:lnTo>
                  <a:pt x="127563" y="0"/>
                </a:lnTo>
                <a:lnTo>
                  <a:pt x="121961" y="511"/>
                </a:lnTo>
                <a:lnTo>
                  <a:pt x="116533" y="1698"/>
                </a:lnTo>
                <a:lnTo>
                  <a:pt x="110374" y="3337"/>
                </a:lnTo>
                <a:lnTo>
                  <a:pt x="88724" y="9688"/>
                </a:lnTo>
                <a:lnTo>
                  <a:pt x="70766" y="14470"/>
                </a:lnTo>
                <a:lnTo>
                  <a:pt x="62930" y="17778"/>
                </a:lnTo>
                <a:lnTo>
                  <a:pt x="56012" y="21676"/>
                </a:lnTo>
                <a:lnTo>
                  <a:pt x="28697" y="40100"/>
                </a:lnTo>
                <a:lnTo>
                  <a:pt x="22183" y="45024"/>
                </a:lnTo>
                <a:lnTo>
                  <a:pt x="16148" y="50000"/>
                </a:lnTo>
                <a:lnTo>
                  <a:pt x="10431" y="55011"/>
                </a:lnTo>
                <a:lnTo>
                  <a:pt x="6619" y="60045"/>
                </a:lnTo>
                <a:lnTo>
                  <a:pt x="4078" y="65094"/>
                </a:lnTo>
                <a:lnTo>
                  <a:pt x="2384" y="70154"/>
                </a:lnTo>
                <a:lnTo>
                  <a:pt x="1255" y="75220"/>
                </a:lnTo>
                <a:lnTo>
                  <a:pt x="502" y="80291"/>
                </a:lnTo>
                <a:lnTo>
                  <a:pt x="0" y="85365"/>
                </a:lnTo>
                <a:lnTo>
                  <a:pt x="512" y="89594"/>
                </a:lnTo>
                <a:lnTo>
                  <a:pt x="1700" y="93261"/>
                </a:lnTo>
                <a:lnTo>
                  <a:pt x="3339" y="96551"/>
                </a:lnTo>
                <a:lnTo>
                  <a:pt x="6125" y="98745"/>
                </a:lnTo>
                <a:lnTo>
                  <a:pt x="9675" y="100207"/>
                </a:lnTo>
                <a:lnTo>
                  <a:pt x="13736" y="101183"/>
                </a:lnTo>
                <a:lnTo>
                  <a:pt x="18136" y="102679"/>
                </a:lnTo>
                <a:lnTo>
                  <a:pt x="22763" y="104524"/>
                </a:lnTo>
                <a:lnTo>
                  <a:pt x="27541" y="106600"/>
                </a:lnTo>
                <a:lnTo>
                  <a:pt x="32419" y="107985"/>
                </a:lnTo>
                <a:lnTo>
                  <a:pt x="37365" y="108908"/>
                </a:lnTo>
                <a:lnTo>
                  <a:pt x="42355" y="109523"/>
                </a:lnTo>
                <a:lnTo>
                  <a:pt x="48222" y="109086"/>
                </a:lnTo>
                <a:lnTo>
                  <a:pt x="54674" y="107948"/>
                </a:lnTo>
                <a:lnTo>
                  <a:pt x="61514" y="106343"/>
                </a:lnTo>
                <a:lnTo>
                  <a:pt x="68615" y="104426"/>
                </a:lnTo>
                <a:lnTo>
                  <a:pt x="83278" y="100039"/>
                </a:lnTo>
                <a:lnTo>
                  <a:pt x="89897" y="97683"/>
                </a:lnTo>
                <a:lnTo>
                  <a:pt x="96004" y="95267"/>
                </a:lnTo>
                <a:lnTo>
                  <a:pt x="101768" y="92809"/>
                </a:lnTo>
                <a:lnTo>
                  <a:pt x="106457" y="90323"/>
                </a:lnTo>
                <a:lnTo>
                  <a:pt x="110430" y="87820"/>
                </a:lnTo>
                <a:lnTo>
                  <a:pt x="113926" y="85304"/>
                </a:lnTo>
                <a:lnTo>
                  <a:pt x="117949" y="82780"/>
                </a:lnTo>
                <a:lnTo>
                  <a:pt x="122325" y="80252"/>
                </a:lnTo>
                <a:lnTo>
                  <a:pt x="126935" y="77719"/>
                </a:lnTo>
                <a:lnTo>
                  <a:pt x="130856" y="76030"/>
                </a:lnTo>
                <a:lnTo>
                  <a:pt x="134316" y="74905"/>
                </a:lnTo>
                <a:lnTo>
                  <a:pt x="143612" y="72692"/>
                </a:lnTo>
                <a:lnTo>
                  <a:pt x="143728" y="76710"/>
                </a:lnTo>
                <a:lnTo>
                  <a:pt x="142897" y="78744"/>
                </a:lnTo>
                <a:lnTo>
                  <a:pt x="139717" y="83263"/>
                </a:lnTo>
                <a:lnTo>
                  <a:pt x="138530" y="86499"/>
                </a:lnTo>
                <a:lnTo>
                  <a:pt x="137211" y="94612"/>
                </a:lnTo>
                <a:lnTo>
                  <a:pt x="134367" y="103861"/>
                </a:lnTo>
                <a:lnTo>
                  <a:pt x="132424" y="108698"/>
                </a:lnTo>
                <a:lnTo>
                  <a:pt x="128007" y="120846"/>
                </a:lnTo>
                <a:lnTo>
                  <a:pt x="118271" y="149342"/>
                </a:lnTo>
                <a:lnTo>
                  <a:pt x="116613" y="156798"/>
                </a:lnTo>
                <a:lnTo>
                  <a:pt x="115507" y="164310"/>
                </a:lnTo>
                <a:lnTo>
                  <a:pt x="114770" y="171858"/>
                </a:lnTo>
                <a:lnTo>
                  <a:pt x="114279" y="180276"/>
                </a:lnTo>
                <a:lnTo>
                  <a:pt x="113733" y="198661"/>
                </a:lnTo>
                <a:lnTo>
                  <a:pt x="112741" y="207458"/>
                </a:lnTo>
                <a:lnTo>
                  <a:pt x="111232" y="215863"/>
                </a:lnTo>
                <a:lnTo>
                  <a:pt x="109381" y="224006"/>
                </a:lnTo>
                <a:lnTo>
                  <a:pt x="108146" y="231975"/>
                </a:lnTo>
                <a:lnTo>
                  <a:pt x="107322" y="239828"/>
                </a:lnTo>
                <a:lnTo>
                  <a:pt x="106774" y="247603"/>
                </a:lnTo>
                <a:lnTo>
                  <a:pt x="106408" y="255327"/>
                </a:lnTo>
                <a:lnTo>
                  <a:pt x="106001" y="270681"/>
                </a:lnTo>
                <a:lnTo>
                  <a:pt x="105773" y="289561"/>
                </a:lnTo>
                <a:lnTo>
                  <a:pt x="104894" y="295151"/>
                </a:lnTo>
                <a:lnTo>
                  <a:pt x="103462" y="300572"/>
                </a:lnTo>
                <a:lnTo>
                  <a:pt x="98056" y="3164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InkAnnotation109"/>
          <p:cNvSpPr/>
          <p:nvPr/>
        </p:nvSpPr>
        <p:spPr>
          <a:xfrm>
            <a:off x="1165320" y="4960800"/>
            <a:ext cx="298440" cy="52560"/>
          </a:xfrm>
          <a:custGeom>
            <a:avLst/>
            <a:gdLst>
              <a:gd name="textAreaLeft" fmla="*/ 0 w 298440"/>
              <a:gd name="textAreaRight" fmla="*/ 298800 w 2984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97181" h="53341">
                <a:moveTo>
                  <a:pt x="0" y="0"/>
                </a:moveTo>
                <a:lnTo>
                  <a:pt x="4045" y="0"/>
                </a:lnTo>
                <a:lnTo>
                  <a:pt x="6084" y="847"/>
                </a:lnTo>
                <a:lnTo>
                  <a:pt x="8289" y="2258"/>
                </a:lnTo>
                <a:lnTo>
                  <a:pt x="10606" y="4045"/>
                </a:lnTo>
                <a:lnTo>
                  <a:pt x="12997" y="5237"/>
                </a:lnTo>
                <a:lnTo>
                  <a:pt x="17912" y="6561"/>
                </a:lnTo>
                <a:lnTo>
                  <a:pt x="21255" y="7760"/>
                </a:lnTo>
                <a:lnTo>
                  <a:pt x="25177" y="9408"/>
                </a:lnTo>
                <a:lnTo>
                  <a:pt x="29485" y="11352"/>
                </a:lnTo>
                <a:lnTo>
                  <a:pt x="35743" y="12648"/>
                </a:lnTo>
                <a:lnTo>
                  <a:pt x="43302" y="13512"/>
                </a:lnTo>
                <a:lnTo>
                  <a:pt x="51728" y="14088"/>
                </a:lnTo>
                <a:lnTo>
                  <a:pt x="59886" y="15319"/>
                </a:lnTo>
                <a:lnTo>
                  <a:pt x="67864" y="16986"/>
                </a:lnTo>
                <a:lnTo>
                  <a:pt x="75722" y="18944"/>
                </a:lnTo>
                <a:lnTo>
                  <a:pt x="95743" y="23377"/>
                </a:lnTo>
                <a:lnTo>
                  <a:pt x="107009" y="25745"/>
                </a:lnTo>
                <a:lnTo>
                  <a:pt x="117906" y="27323"/>
                </a:lnTo>
                <a:lnTo>
                  <a:pt x="128557" y="28375"/>
                </a:lnTo>
                <a:lnTo>
                  <a:pt x="139045" y="29077"/>
                </a:lnTo>
                <a:lnTo>
                  <a:pt x="150270" y="30391"/>
                </a:lnTo>
                <a:lnTo>
                  <a:pt x="161987" y="32114"/>
                </a:lnTo>
                <a:lnTo>
                  <a:pt x="174031" y="34110"/>
                </a:lnTo>
                <a:lnTo>
                  <a:pt x="186294" y="35440"/>
                </a:lnTo>
                <a:lnTo>
                  <a:pt x="198703" y="36327"/>
                </a:lnTo>
                <a:lnTo>
                  <a:pt x="211208" y="36918"/>
                </a:lnTo>
                <a:lnTo>
                  <a:pt x="222086" y="38159"/>
                </a:lnTo>
                <a:lnTo>
                  <a:pt x="231877" y="39832"/>
                </a:lnTo>
                <a:lnTo>
                  <a:pt x="240945" y="41795"/>
                </a:lnTo>
                <a:lnTo>
                  <a:pt x="249530" y="43103"/>
                </a:lnTo>
                <a:lnTo>
                  <a:pt x="257793" y="43975"/>
                </a:lnTo>
                <a:lnTo>
                  <a:pt x="272055" y="44945"/>
                </a:lnTo>
                <a:lnTo>
                  <a:pt x="281216" y="45375"/>
                </a:lnTo>
                <a:lnTo>
                  <a:pt x="284844" y="46337"/>
                </a:lnTo>
                <a:lnTo>
                  <a:pt x="288109" y="47825"/>
                </a:lnTo>
                <a:lnTo>
                  <a:pt x="297180" y="533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InkAnnotation110"/>
          <p:cNvSpPr/>
          <p:nvPr/>
        </p:nvSpPr>
        <p:spPr>
          <a:xfrm>
            <a:off x="1447920" y="4906800"/>
            <a:ext cx="190440" cy="176400"/>
          </a:xfrm>
          <a:custGeom>
            <a:avLst/>
            <a:gdLst>
              <a:gd name="textAreaLeft" fmla="*/ 0 w 190440"/>
              <a:gd name="textAreaRight" fmla="*/ 190800 w 1904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90501" h="175261">
                <a:moveTo>
                  <a:pt x="190500" y="0"/>
                </a:moveTo>
                <a:lnTo>
                  <a:pt x="190500" y="11352"/>
                </a:lnTo>
                <a:lnTo>
                  <a:pt x="188807" y="13494"/>
                </a:lnTo>
                <a:lnTo>
                  <a:pt x="185985" y="15770"/>
                </a:lnTo>
                <a:lnTo>
                  <a:pt x="182410" y="18133"/>
                </a:lnTo>
                <a:lnTo>
                  <a:pt x="179180" y="21402"/>
                </a:lnTo>
                <a:lnTo>
                  <a:pt x="176180" y="25275"/>
                </a:lnTo>
                <a:lnTo>
                  <a:pt x="173333" y="29550"/>
                </a:lnTo>
                <a:lnTo>
                  <a:pt x="169743" y="34093"/>
                </a:lnTo>
                <a:lnTo>
                  <a:pt x="165655" y="38816"/>
                </a:lnTo>
                <a:lnTo>
                  <a:pt x="161237" y="43657"/>
                </a:lnTo>
                <a:lnTo>
                  <a:pt x="151812" y="53552"/>
                </a:lnTo>
                <a:lnTo>
                  <a:pt x="127919" y="77747"/>
                </a:lnTo>
                <a:lnTo>
                  <a:pt x="120839" y="84005"/>
                </a:lnTo>
                <a:lnTo>
                  <a:pt x="113580" y="89870"/>
                </a:lnTo>
                <a:lnTo>
                  <a:pt x="106200" y="95473"/>
                </a:lnTo>
                <a:lnTo>
                  <a:pt x="91227" y="106215"/>
                </a:lnTo>
                <a:lnTo>
                  <a:pt x="83678" y="111450"/>
                </a:lnTo>
                <a:lnTo>
                  <a:pt x="76105" y="117480"/>
                </a:lnTo>
                <a:lnTo>
                  <a:pt x="68517" y="124040"/>
                </a:lnTo>
                <a:lnTo>
                  <a:pt x="60918" y="130954"/>
                </a:lnTo>
                <a:lnTo>
                  <a:pt x="52465" y="137255"/>
                </a:lnTo>
                <a:lnTo>
                  <a:pt x="43444" y="143150"/>
                </a:lnTo>
                <a:lnTo>
                  <a:pt x="34042" y="148774"/>
                </a:lnTo>
                <a:lnTo>
                  <a:pt x="26928" y="154216"/>
                </a:lnTo>
                <a:lnTo>
                  <a:pt x="21339" y="159537"/>
                </a:lnTo>
                <a:lnTo>
                  <a:pt x="16766" y="164778"/>
                </a:lnTo>
                <a:lnTo>
                  <a:pt x="12871" y="168272"/>
                </a:lnTo>
                <a:lnTo>
                  <a:pt x="9427" y="170601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InkAnnotation111"/>
          <p:cNvSpPr/>
          <p:nvPr/>
        </p:nvSpPr>
        <p:spPr>
          <a:xfrm>
            <a:off x="1455840" y="4884840"/>
            <a:ext cx="152280" cy="160200"/>
          </a:xfrm>
          <a:custGeom>
            <a:avLst/>
            <a:gdLst>
              <a:gd name="textAreaLeft" fmla="*/ 0 w 152280"/>
              <a:gd name="textAreaRight" fmla="*/ 152640 w 1522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52401" h="160022">
                <a:moveTo>
                  <a:pt x="0" y="0"/>
                </a:moveTo>
                <a:lnTo>
                  <a:pt x="10606" y="10606"/>
                </a:lnTo>
                <a:lnTo>
                  <a:pt x="12151" y="12997"/>
                </a:lnTo>
                <a:lnTo>
                  <a:pt x="13867" y="17912"/>
                </a:lnTo>
                <a:lnTo>
                  <a:pt x="16018" y="20409"/>
                </a:lnTo>
                <a:lnTo>
                  <a:pt x="19146" y="22919"/>
                </a:lnTo>
                <a:lnTo>
                  <a:pt x="22924" y="25439"/>
                </a:lnTo>
                <a:lnTo>
                  <a:pt x="27983" y="29660"/>
                </a:lnTo>
                <a:lnTo>
                  <a:pt x="33895" y="35013"/>
                </a:lnTo>
                <a:lnTo>
                  <a:pt x="40377" y="41122"/>
                </a:lnTo>
                <a:lnTo>
                  <a:pt x="46391" y="47735"/>
                </a:lnTo>
                <a:lnTo>
                  <a:pt x="52094" y="54684"/>
                </a:lnTo>
                <a:lnTo>
                  <a:pt x="57589" y="61856"/>
                </a:lnTo>
                <a:lnTo>
                  <a:pt x="63793" y="68331"/>
                </a:lnTo>
                <a:lnTo>
                  <a:pt x="70469" y="74341"/>
                </a:lnTo>
                <a:lnTo>
                  <a:pt x="77459" y="80041"/>
                </a:lnTo>
                <a:lnTo>
                  <a:pt x="83813" y="86380"/>
                </a:lnTo>
                <a:lnTo>
                  <a:pt x="89742" y="93147"/>
                </a:lnTo>
                <a:lnTo>
                  <a:pt x="95388" y="100198"/>
                </a:lnTo>
                <a:lnTo>
                  <a:pt x="101692" y="107439"/>
                </a:lnTo>
                <a:lnTo>
                  <a:pt x="108435" y="114806"/>
                </a:lnTo>
                <a:lnTo>
                  <a:pt x="127802" y="135053"/>
                </a:lnTo>
                <a:lnTo>
                  <a:pt x="152400" y="1600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InkAnnotation112"/>
          <p:cNvSpPr/>
          <p:nvPr/>
        </p:nvSpPr>
        <p:spPr>
          <a:xfrm>
            <a:off x="1684440" y="5006880"/>
            <a:ext cx="166680" cy="6480"/>
          </a:xfrm>
          <a:custGeom>
            <a:avLst/>
            <a:gdLst>
              <a:gd name="textAreaLeft" fmla="*/ 0 w 166680"/>
              <a:gd name="textAreaRight" fmla="*/ 167040 w 166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7641" h="7621">
                <a:moveTo>
                  <a:pt x="0" y="0"/>
                </a:moveTo>
                <a:lnTo>
                  <a:pt x="4045" y="4045"/>
                </a:lnTo>
                <a:lnTo>
                  <a:pt x="6930" y="5237"/>
                </a:lnTo>
                <a:lnTo>
                  <a:pt x="10547" y="6032"/>
                </a:lnTo>
                <a:lnTo>
                  <a:pt x="14652" y="6561"/>
                </a:lnTo>
                <a:lnTo>
                  <a:pt x="18234" y="6914"/>
                </a:lnTo>
                <a:lnTo>
                  <a:pt x="21470" y="7149"/>
                </a:lnTo>
                <a:lnTo>
                  <a:pt x="24473" y="7306"/>
                </a:lnTo>
                <a:lnTo>
                  <a:pt x="34584" y="7481"/>
                </a:lnTo>
                <a:lnTo>
                  <a:pt x="16764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InkAnnotation113"/>
          <p:cNvSpPr/>
          <p:nvPr/>
        </p:nvSpPr>
        <p:spPr>
          <a:xfrm>
            <a:off x="1943280" y="4906800"/>
            <a:ext cx="37800" cy="214560"/>
          </a:xfrm>
          <a:custGeom>
            <a:avLst/>
            <a:gdLst>
              <a:gd name="textAreaLeft" fmla="*/ 0 w 37800"/>
              <a:gd name="textAreaRight" fmla="*/ 38160 w 378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38101" h="213361">
                <a:moveTo>
                  <a:pt x="38100" y="0"/>
                </a:moveTo>
                <a:lnTo>
                  <a:pt x="38100" y="29771"/>
                </a:lnTo>
                <a:lnTo>
                  <a:pt x="37254" y="34240"/>
                </a:lnTo>
                <a:lnTo>
                  <a:pt x="35842" y="38913"/>
                </a:lnTo>
                <a:lnTo>
                  <a:pt x="34055" y="43722"/>
                </a:lnTo>
                <a:lnTo>
                  <a:pt x="32017" y="48622"/>
                </a:lnTo>
                <a:lnTo>
                  <a:pt x="29811" y="53581"/>
                </a:lnTo>
                <a:lnTo>
                  <a:pt x="27494" y="58580"/>
                </a:lnTo>
                <a:lnTo>
                  <a:pt x="25950" y="64454"/>
                </a:lnTo>
                <a:lnTo>
                  <a:pt x="24920" y="70909"/>
                </a:lnTo>
                <a:lnTo>
                  <a:pt x="24233" y="77753"/>
                </a:lnTo>
                <a:lnTo>
                  <a:pt x="23775" y="84008"/>
                </a:lnTo>
                <a:lnTo>
                  <a:pt x="23470" y="89872"/>
                </a:lnTo>
                <a:lnTo>
                  <a:pt x="23267" y="95475"/>
                </a:lnTo>
                <a:lnTo>
                  <a:pt x="22284" y="101750"/>
                </a:lnTo>
                <a:lnTo>
                  <a:pt x="20783" y="108474"/>
                </a:lnTo>
                <a:lnTo>
                  <a:pt x="18935" y="115496"/>
                </a:lnTo>
                <a:lnTo>
                  <a:pt x="17704" y="122717"/>
                </a:lnTo>
                <a:lnTo>
                  <a:pt x="16882" y="130071"/>
                </a:lnTo>
                <a:lnTo>
                  <a:pt x="16335" y="137514"/>
                </a:lnTo>
                <a:lnTo>
                  <a:pt x="15123" y="144169"/>
                </a:lnTo>
                <a:lnTo>
                  <a:pt x="13469" y="150300"/>
                </a:lnTo>
                <a:lnTo>
                  <a:pt x="11519" y="156080"/>
                </a:lnTo>
                <a:lnTo>
                  <a:pt x="9373" y="161626"/>
                </a:lnTo>
                <a:lnTo>
                  <a:pt x="7095" y="167018"/>
                </a:lnTo>
                <a:lnTo>
                  <a:pt x="4730" y="172305"/>
                </a:lnTo>
                <a:lnTo>
                  <a:pt x="3153" y="177524"/>
                </a:lnTo>
                <a:lnTo>
                  <a:pt x="2102" y="182696"/>
                </a:lnTo>
                <a:lnTo>
                  <a:pt x="1402" y="187837"/>
                </a:lnTo>
                <a:lnTo>
                  <a:pt x="935" y="192111"/>
                </a:lnTo>
                <a:lnTo>
                  <a:pt x="623" y="195808"/>
                </a:lnTo>
                <a:lnTo>
                  <a:pt x="277" y="202172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InkAnnotation114"/>
          <p:cNvSpPr/>
          <p:nvPr/>
        </p:nvSpPr>
        <p:spPr>
          <a:xfrm>
            <a:off x="2057400" y="493092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2291" h="228601">
                <a:moveTo>
                  <a:pt x="45610" y="0"/>
                </a:moveTo>
                <a:lnTo>
                  <a:pt x="41565" y="0"/>
                </a:lnTo>
                <a:lnTo>
                  <a:pt x="40373" y="847"/>
                </a:lnTo>
                <a:lnTo>
                  <a:pt x="39579" y="2258"/>
                </a:lnTo>
                <a:lnTo>
                  <a:pt x="39049" y="4045"/>
                </a:lnTo>
                <a:lnTo>
                  <a:pt x="36203" y="8289"/>
                </a:lnTo>
                <a:lnTo>
                  <a:pt x="32116" y="12997"/>
                </a:lnTo>
                <a:lnTo>
                  <a:pt x="27477" y="17912"/>
                </a:lnTo>
                <a:lnTo>
                  <a:pt x="25901" y="21255"/>
                </a:lnTo>
                <a:lnTo>
                  <a:pt x="24851" y="25176"/>
                </a:lnTo>
                <a:lnTo>
                  <a:pt x="24151" y="29484"/>
                </a:lnTo>
                <a:lnTo>
                  <a:pt x="21991" y="34050"/>
                </a:lnTo>
                <a:lnTo>
                  <a:pt x="18857" y="38787"/>
                </a:lnTo>
                <a:lnTo>
                  <a:pt x="15075" y="43637"/>
                </a:lnTo>
                <a:lnTo>
                  <a:pt x="12553" y="48565"/>
                </a:lnTo>
                <a:lnTo>
                  <a:pt x="10872" y="53543"/>
                </a:lnTo>
                <a:lnTo>
                  <a:pt x="9752" y="58555"/>
                </a:lnTo>
                <a:lnTo>
                  <a:pt x="8158" y="63590"/>
                </a:lnTo>
                <a:lnTo>
                  <a:pt x="6249" y="68641"/>
                </a:lnTo>
                <a:lnTo>
                  <a:pt x="4129" y="73700"/>
                </a:lnTo>
                <a:lnTo>
                  <a:pt x="2716" y="79614"/>
                </a:lnTo>
                <a:lnTo>
                  <a:pt x="1774" y="86096"/>
                </a:lnTo>
                <a:lnTo>
                  <a:pt x="1146" y="92957"/>
                </a:lnTo>
                <a:lnTo>
                  <a:pt x="728" y="99225"/>
                </a:lnTo>
                <a:lnTo>
                  <a:pt x="448" y="105097"/>
                </a:lnTo>
                <a:lnTo>
                  <a:pt x="138" y="116136"/>
                </a:lnTo>
                <a:lnTo>
                  <a:pt x="0" y="126687"/>
                </a:lnTo>
                <a:lnTo>
                  <a:pt x="810" y="131872"/>
                </a:lnTo>
                <a:lnTo>
                  <a:pt x="2197" y="137021"/>
                </a:lnTo>
                <a:lnTo>
                  <a:pt x="3968" y="142148"/>
                </a:lnTo>
                <a:lnTo>
                  <a:pt x="6842" y="147259"/>
                </a:lnTo>
                <a:lnTo>
                  <a:pt x="10451" y="152359"/>
                </a:lnTo>
                <a:lnTo>
                  <a:pt x="14551" y="157452"/>
                </a:lnTo>
                <a:lnTo>
                  <a:pt x="18977" y="162542"/>
                </a:lnTo>
                <a:lnTo>
                  <a:pt x="23622" y="167628"/>
                </a:lnTo>
                <a:lnTo>
                  <a:pt x="28411" y="172712"/>
                </a:lnTo>
                <a:lnTo>
                  <a:pt x="33297" y="176101"/>
                </a:lnTo>
                <a:lnTo>
                  <a:pt x="38248" y="178361"/>
                </a:lnTo>
                <a:lnTo>
                  <a:pt x="43242" y="179867"/>
                </a:lnTo>
                <a:lnTo>
                  <a:pt x="48265" y="180871"/>
                </a:lnTo>
                <a:lnTo>
                  <a:pt x="53307" y="181541"/>
                </a:lnTo>
                <a:lnTo>
                  <a:pt x="58361" y="181987"/>
                </a:lnTo>
                <a:lnTo>
                  <a:pt x="64271" y="182285"/>
                </a:lnTo>
                <a:lnTo>
                  <a:pt x="77610" y="182615"/>
                </a:lnTo>
                <a:lnTo>
                  <a:pt x="91310" y="182802"/>
                </a:lnTo>
                <a:lnTo>
                  <a:pt x="96397" y="181134"/>
                </a:lnTo>
                <a:lnTo>
                  <a:pt x="102328" y="178330"/>
                </a:lnTo>
                <a:lnTo>
                  <a:pt x="108822" y="174767"/>
                </a:lnTo>
                <a:lnTo>
                  <a:pt x="113998" y="171544"/>
                </a:lnTo>
                <a:lnTo>
                  <a:pt x="118295" y="168550"/>
                </a:lnTo>
                <a:lnTo>
                  <a:pt x="122007" y="165706"/>
                </a:lnTo>
                <a:lnTo>
                  <a:pt x="125328" y="162118"/>
                </a:lnTo>
                <a:lnTo>
                  <a:pt x="128389" y="158032"/>
                </a:lnTo>
                <a:lnTo>
                  <a:pt x="131276" y="153615"/>
                </a:lnTo>
                <a:lnTo>
                  <a:pt x="133200" y="149823"/>
                </a:lnTo>
                <a:lnTo>
                  <a:pt x="135339" y="143352"/>
                </a:lnTo>
                <a:lnTo>
                  <a:pt x="136290" y="137655"/>
                </a:lnTo>
                <a:lnTo>
                  <a:pt x="136543" y="134950"/>
                </a:lnTo>
                <a:lnTo>
                  <a:pt x="135865" y="131453"/>
                </a:lnTo>
                <a:lnTo>
                  <a:pt x="134567" y="127428"/>
                </a:lnTo>
                <a:lnTo>
                  <a:pt x="132855" y="123053"/>
                </a:lnTo>
                <a:lnTo>
                  <a:pt x="130867" y="120135"/>
                </a:lnTo>
                <a:lnTo>
                  <a:pt x="128694" y="118190"/>
                </a:lnTo>
                <a:lnTo>
                  <a:pt x="126400" y="116893"/>
                </a:lnTo>
                <a:lnTo>
                  <a:pt x="119334" y="113195"/>
                </a:lnTo>
                <a:lnTo>
                  <a:pt x="115080" y="111024"/>
                </a:lnTo>
                <a:lnTo>
                  <a:pt x="110550" y="109576"/>
                </a:lnTo>
                <a:lnTo>
                  <a:pt x="105836" y="108610"/>
                </a:lnTo>
                <a:lnTo>
                  <a:pt x="101001" y="107967"/>
                </a:lnTo>
                <a:lnTo>
                  <a:pt x="96931" y="108385"/>
                </a:lnTo>
                <a:lnTo>
                  <a:pt x="93370" y="109510"/>
                </a:lnTo>
                <a:lnTo>
                  <a:pt x="77528" y="117399"/>
                </a:lnTo>
                <a:lnTo>
                  <a:pt x="74509" y="119753"/>
                </a:lnTo>
                <a:lnTo>
                  <a:pt x="72496" y="122168"/>
                </a:lnTo>
                <a:lnTo>
                  <a:pt x="69413" y="127111"/>
                </a:lnTo>
                <a:lnTo>
                  <a:pt x="65220" y="132129"/>
                </a:lnTo>
                <a:lnTo>
                  <a:pt x="63764" y="135499"/>
                </a:lnTo>
                <a:lnTo>
                  <a:pt x="62792" y="139439"/>
                </a:lnTo>
                <a:lnTo>
                  <a:pt x="62145" y="143760"/>
                </a:lnTo>
                <a:lnTo>
                  <a:pt x="61713" y="148333"/>
                </a:lnTo>
                <a:lnTo>
                  <a:pt x="61426" y="153075"/>
                </a:lnTo>
                <a:lnTo>
                  <a:pt x="61234" y="157930"/>
                </a:lnTo>
                <a:lnTo>
                  <a:pt x="61953" y="162860"/>
                </a:lnTo>
                <a:lnTo>
                  <a:pt x="63279" y="167840"/>
                </a:lnTo>
                <a:lnTo>
                  <a:pt x="65009" y="172853"/>
                </a:lnTo>
                <a:lnTo>
                  <a:pt x="67010" y="177889"/>
                </a:lnTo>
                <a:lnTo>
                  <a:pt x="69189" y="182939"/>
                </a:lnTo>
                <a:lnTo>
                  <a:pt x="73870" y="193066"/>
                </a:lnTo>
                <a:lnTo>
                  <a:pt x="78772" y="203212"/>
                </a:lnTo>
                <a:lnTo>
                  <a:pt x="82112" y="207441"/>
                </a:lnTo>
                <a:lnTo>
                  <a:pt x="86031" y="211107"/>
                </a:lnTo>
                <a:lnTo>
                  <a:pt x="90337" y="214398"/>
                </a:lnTo>
                <a:lnTo>
                  <a:pt x="94902" y="217439"/>
                </a:lnTo>
                <a:lnTo>
                  <a:pt x="99638" y="220312"/>
                </a:lnTo>
                <a:lnTo>
                  <a:pt x="104489" y="223075"/>
                </a:lnTo>
                <a:lnTo>
                  <a:pt x="109416" y="224917"/>
                </a:lnTo>
                <a:lnTo>
                  <a:pt x="114394" y="226144"/>
                </a:lnTo>
                <a:lnTo>
                  <a:pt x="119406" y="226963"/>
                </a:lnTo>
                <a:lnTo>
                  <a:pt x="124441" y="227508"/>
                </a:lnTo>
                <a:lnTo>
                  <a:pt x="129490" y="227873"/>
                </a:lnTo>
                <a:lnTo>
                  <a:pt x="138770" y="228277"/>
                </a:lnTo>
                <a:lnTo>
                  <a:pt x="152290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InkAnnotation115"/>
          <p:cNvSpPr/>
          <p:nvPr/>
        </p:nvSpPr>
        <p:spPr>
          <a:xfrm>
            <a:off x="2259000" y="5051520"/>
            <a:ext cx="171360" cy="360"/>
          </a:xfrm>
          <a:custGeom>
            <a:avLst/>
            <a:gdLst>
              <a:gd name="textAreaLeft" fmla="*/ 0 w 171360"/>
              <a:gd name="textAreaRight" fmla="*/ 171720 w 171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72031" h="1">
                <a:moveTo>
                  <a:pt x="4390" y="0"/>
                </a:moveTo>
                <a:lnTo>
                  <a:pt x="0" y="0"/>
                </a:lnTo>
                <a:lnTo>
                  <a:pt x="17203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InkAnnotation116"/>
          <p:cNvSpPr/>
          <p:nvPr/>
        </p:nvSpPr>
        <p:spPr>
          <a:xfrm>
            <a:off x="2346480" y="5089680"/>
            <a:ext cx="160200" cy="23760"/>
          </a:xfrm>
          <a:custGeom>
            <a:avLst/>
            <a:gdLst>
              <a:gd name="textAreaLeft" fmla="*/ 0 w 160200"/>
              <a:gd name="textAreaRight" fmla="*/ 160560 w 1602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60021" h="22861">
                <a:moveTo>
                  <a:pt x="0" y="22860"/>
                </a:moveTo>
                <a:lnTo>
                  <a:pt x="62756" y="22860"/>
                </a:lnTo>
                <a:lnTo>
                  <a:pt x="68931" y="22014"/>
                </a:lnTo>
                <a:lnTo>
                  <a:pt x="74741" y="20602"/>
                </a:lnTo>
                <a:lnTo>
                  <a:pt x="80307" y="18815"/>
                </a:lnTo>
                <a:lnTo>
                  <a:pt x="86558" y="17623"/>
                </a:lnTo>
                <a:lnTo>
                  <a:pt x="93265" y="16828"/>
                </a:lnTo>
                <a:lnTo>
                  <a:pt x="100277" y="16299"/>
                </a:lnTo>
                <a:lnTo>
                  <a:pt x="107491" y="15099"/>
                </a:lnTo>
                <a:lnTo>
                  <a:pt x="114841" y="13453"/>
                </a:lnTo>
                <a:lnTo>
                  <a:pt x="122281" y="11508"/>
                </a:lnTo>
                <a:lnTo>
                  <a:pt x="128934" y="9366"/>
                </a:lnTo>
                <a:lnTo>
                  <a:pt x="135062" y="7090"/>
                </a:lnTo>
                <a:lnTo>
                  <a:pt x="140842" y="4727"/>
                </a:lnTo>
                <a:lnTo>
                  <a:pt x="145541" y="3151"/>
                </a:lnTo>
                <a:lnTo>
                  <a:pt x="149521" y="2101"/>
                </a:lnTo>
                <a:lnTo>
                  <a:pt x="1600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InkAnnotation117"/>
          <p:cNvSpPr/>
          <p:nvPr/>
        </p:nvSpPr>
        <p:spPr>
          <a:xfrm>
            <a:off x="2590920" y="4876920"/>
            <a:ext cx="196560" cy="39600"/>
          </a:xfrm>
          <a:custGeom>
            <a:avLst/>
            <a:gdLst>
              <a:gd name="textAreaLeft" fmla="*/ 0 w 196560"/>
              <a:gd name="textAreaRight" fmla="*/ 196920 w 1965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96973" h="39613">
                <a:moveTo>
                  <a:pt x="0" y="15205"/>
                </a:moveTo>
                <a:lnTo>
                  <a:pt x="10606" y="4599"/>
                </a:lnTo>
                <a:lnTo>
                  <a:pt x="13844" y="3055"/>
                </a:lnTo>
                <a:lnTo>
                  <a:pt x="17696" y="2025"/>
                </a:lnTo>
                <a:lnTo>
                  <a:pt x="21958" y="1338"/>
                </a:lnTo>
                <a:lnTo>
                  <a:pt x="26492" y="880"/>
                </a:lnTo>
                <a:lnTo>
                  <a:pt x="31208" y="575"/>
                </a:lnTo>
                <a:lnTo>
                  <a:pt x="36045" y="372"/>
                </a:lnTo>
                <a:lnTo>
                  <a:pt x="48194" y="146"/>
                </a:lnTo>
                <a:lnTo>
                  <a:pt x="76689" y="0"/>
                </a:lnTo>
                <a:lnTo>
                  <a:pt x="84992" y="835"/>
                </a:lnTo>
                <a:lnTo>
                  <a:pt x="93915" y="2239"/>
                </a:lnTo>
                <a:lnTo>
                  <a:pt x="103250" y="4021"/>
                </a:lnTo>
                <a:lnTo>
                  <a:pt x="122653" y="8259"/>
                </a:lnTo>
                <a:lnTo>
                  <a:pt x="132569" y="10574"/>
                </a:lnTo>
                <a:lnTo>
                  <a:pt x="140873" y="12118"/>
                </a:lnTo>
                <a:lnTo>
                  <a:pt x="148102" y="13147"/>
                </a:lnTo>
                <a:lnTo>
                  <a:pt x="154615" y="13833"/>
                </a:lnTo>
                <a:lnTo>
                  <a:pt x="160650" y="15983"/>
                </a:lnTo>
                <a:lnTo>
                  <a:pt x="166366" y="19111"/>
                </a:lnTo>
                <a:lnTo>
                  <a:pt x="171871" y="22889"/>
                </a:lnTo>
                <a:lnTo>
                  <a:pt x="177234" y="25408"/>
                </a:lnTo>
                <a:lnTo>
                  <a:pt x="182503" y="27087"/>
                </a:lnTo>
                <a:lnTo>
                  <a:pt x="187708" y="28206"/>
                </a:lnTo>
                <a:lnTo>
                  <a:pt x="191179" y="29799"/>
                </a:lnTo>
                <a:lnTo>
                  <a:pt x="193493" y="31708"/>
                </a:lnTo>
                <a:lnTo>
                  <a:pt x="195035" y="33827"/>
                </a:lnTo>
                <a:lnTo>
                  <a:pt x="196749" y="38439"/>
                </a:lnTo>
                <a:lnTo>
                  <a:pt x="196972" y="396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InkAnnotation118"/>
          <p:cNvSpPr/>
          <p:nvPr/>
        </p:nvSpPr>
        <p:spPr>
          <a:xfrm>
            <a:off x="2676600" y="4927680"/>
            <a:ext cx="102960" cy="145800"/>
          </a:xfrm>
          <a:custGeom>
            <a:avLst/>
            <a:gdLst>
              <a:gd name="textAreaLeft" fmla="*/ 0 w 102960"/>
              <a:gd name="textAreaRight" fmla="*/ 103320 w 10296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103090" h="146301">
                <a:moveTo>
                  <a:pt x="103089" y="0"/>
                </a:moveTo>
                <a:lnTo>
                  <a:pt x="96327" y="3587"/>
                </a:lnTo>
                <a:lnTo>
                  <a:pt x="77110" y="13362"/>
                </a:lnTo>
                <a:lnTo>
                  <a:pt x="71273" y="15023"/>
                </a:lnTo>
                <a:lnTo>
                  <a:pt x="64842" y="16131"/>
                </a:lnTo>
                <a:lnTo>
                  <a:pt x="58016" y="16870"/>
                </a:lnTo>
                <a:lnTo>
                  <a:pt x="50924" y="18209"/>
                </a:lnTo>
                <a:lnTo>
                  <a:pt x="43656" y="19948"/>
                </a:lnTo>
                <a:lnTo>
                  <a:pt x="36271" y="21954"/>
                </a:lnTo>
                <a:lnTo>
                  <a:pt x="29655" y="24139"/>
                </a:lnTo>
                <a:lnTo>
                  <a:pt x="23550" y="26441"/>
                </a:lnTo>
                <a:lnTo>
                  <a:pt x="17787" y="28823"/>
                </a:lnTo>
                <a:lnTo>
                  <a:pt x="13945" y="31258"/>
                </a:lnTo>
                <a:lnTo>
                  <a:pt x="11384" y="33727"/>
                </a:lnTo>
                <a:lnTo>
                  <a:pt x="5521" y="41249"/>
                </a:lnTo>
                <a:lnTo>
                  <a:pt x="3228" y="43775"/>
                </a:lnTo>
                <a:lnTo>
                  <a:pt x="1699" y="47152"/>
                </a:lnTo>
                <a:lnTo>
                  <a:pt x="680" y="51097"/>
                </a:lnTo>
                <a:lnTo>
                  <a:pt x="0" y="55421"/>
                </a:lnTo>
                <a:lnTo>
                  <a:pt x="394" y="59996"/>
                </a:lnTo>
                <a:lnTo>
                  <a:pt x="1503" y="64739"/>
                </a:lnTo>
                <a:lnTo>
                  <a:pt x="3089" y="69595"/>
                </a:lnTo>
                <a:lnTo>
                  <a:pt x="4852" y="77249"/>
                </a:lnTo>
                <a:lnTo>
                  <a:pt x="5321" y="80475"/>
                </a:lnTo>
                <a:lnTo>
                  <a:pt x="7328" y="84319"/>
                </a:lnTo>
                <a:lnTo>
                  <a:pt x="10359" y="88575"/>
                </a:lnTo>
                <a:lnTo>
                  <a:pt x="14073" y="93106"/>
                </a:lnTo>
                <a:lnTo>
                  <a:pt x="17396" y="98666"/>
                </a:lnTo>
                <a:lnTo>
                  <a:pt x="20458" y="104913"/>
                </a:lnTo>
                <a:lnTo>
                  <a:pt x="23345" y="111618"/>
                </a:lnTo>
                <a:lnTo>
                  <a:pt x="26964" y="117781"/>
                </a:lnTo>
                <a:lnTo>
                  <a:pt x="31070" y="123583"/>
                </a:lnTo>
                <a:lnTo>
                  <a:pt x="35500" y="129144"/>
                </a:lnTo>
                <a:lnTo>
                  <a:pt x="39301" y="134545"/>
                </a:lnTo>
                <a:lnTo>
                  <a:pt x="42680" y="139839"/>
                </a:lnTo>
                <a:lnTo>
                  <a:pt x="45781" y="145062"/>
                </a:lnTo>
                <a:lnTo>
                  <a:pt x="46276" y="1463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InkAnnotation119"/>
          <p:cNvSpPr/>
          <p:nvPr/>
        </p:nvSpPr>
        <p:spPr>
          <a:xfrm>
            <a:off x="2575080" y="5097600"/>
            <a:ext cx="147600" cy="29880"/>
          </a:xfrm>
          <a:custGeom>
            <a:avLst/>
            <a:gdLst>
              <a:gd name="textAreaLeft" fmla="*/ 0 w 147600"/>
              <a:gd name="textAreaRight" fmla="*/ 147960 w 1476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46261" h="30155">
                <a:moveTo>
                  <a:pt x="146260" y="11315"/>
                </a:moveTo>
                <a:lnTo>
                  <a:pt x="141782" y="15039"/>
                </a:lnTo>
                <a:lnTo>
                  <a:pt x="137701" y="17646"/>
                </a:lnTo>
                <a:lnTo>
                  <a:pt x="133287" y="19384"/>
                </a:lnTo>
                <a:lnTo>
                  <a:pt x="128652" y="20542"/>
                </a:lnTo>
                <a:lnTo>
                  <a:pt x="123868" y="21315"/>
                </a:lnTo>
                <a:lnTo>
                  <a:pt x="118138" y="21830"/>
                </a:lnTo>
                <a:lnTo>
                  <a:pt x="111779" y="22173"/>
                </a:lnTo>
                <a:lnTo>
                  <a:pt x="104999" y="22402"/>
                </a:lnTo>
                <a:lnTo>
                  <a:pt x="97940" y="23401"/>
                </a:lnTo>
                <a:lnTo>
                  <a:pt x="90693" y="24914"/>
                </a:lnTo>
                <a:lnTo>
                  <a:pt x="83322" y="26770"/>
                </a:lnTo>
                <a:lnTo>
                  <a:pt x="75868" y="28006"/>
                </a:lnTo>
                <a:lnTo>
                  <a:pt x="68359" y="28831"/>
                </a:lnTo>
                <a:lnTo>
                  <a:pt x="60813" y="29380"/>
                </a:lnTo>
                <a:lnTo>
                  <a:pt x="54089" y="29747"/>
                </a:lnTo>
                <a:lnTo>
                  <a:pt x="42102" y="30154"/>
                </a:lnTo>
                <a:lnTo>
                  <a:pt x="36534" y="29416"/>
                </a:lnTo>
                <a:lnTo>
                  <a:pt x="31130" y="28077"/>
                </a:lnTo>
                <a:lnTo>
                  <a:pt x="25833" y="26338"/>
                </a:lnTo>
                <a:lnTo>
                  <a:pt x="20609" y="25179"/>
                </a:lnTo>
                <a:lnTo>
                  <a:pt x="15432" y="24406"/>
                </a:lnTo>
                <a:lnTo>
                  <a:pt x="10288" y="23891"/>
                </a:lnTo>
                <a:lnTo>
                  <a:pt x="6859" y="22700"/>
                </a:lnTo>
                <a:lnTo>
                  <a:pt x="4572" y="21061"/>
                </a:lnTo>
                <a:lnTo>
                  <a:pt x="3048" y="19120"/>
                </a:lnTo>
                <a:lnTo>
                  <a:pt x="2032" y="16980"/>
                </a:lnTo>
                <a:lnTo>
                  <a:pt x="903" y="12344"/>
                </a:lnTo>
                <a:lnTo>
                  <a:pt x="401" y="746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InkAnnotation120"/>
          <p:cNvSpPr/>
          <p:nvPr/>
        </p:nvSpPr>
        <p:spPr>
          <a:xfrm>
            <a:off x="2781360" y="4960800"/>
            <a:ext cx="250920" cy="204840"/>
          </a:xfrm>
          <a:custGeom>
            <a:avLst/>
            <a:gdLst>
              <a:gd name="textAreaLeft" fmla="*/ 0 w 250920"/>
              <a:gd name="textAreaRight" fmla="*/ 251280 w 2509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50402" h="205182">
                <a:moveTo>
                  <a:pt x="243840" y="0"/>
                </a:moveTo>
                <a:lnTo>
                  <a:pt x="243840" y="4045"/>
                </a:lnTo>
                <a:lnTo>
                  <a:pt x="244686" y="5237"/>
                </a:lnTo>
                <a:lnTo>
                  <a:pt x="246098" y="6031"/>
                </a:lnTo>
                <a:lnTo>
                  <a:pt x="247885" y="6561"/>
                </a:lnTo>
                <a:lnTo>
                  <a:pt x="249077" y="7760"/>
                </a:lnTo>
                <a:lnTo>
                  <a:pt x="249872" y="9408"/>
                </a:lnTo>
                <a:lnTo>
                  <a:pt x="250401" y="11352"/>
                </a:lnTo>
                <a:lnTo>
                  <a:pt x="249907" y="13495"/>
                </a:lnTo>
                <a:lnTo>
                  <a:pt x="247101" y="18133"/>
                </a:lnTo>
                <a:lnTo>
                  <a:pt x="245289" y="23018"/>
                </a:lnTo>
                <a:lnTo>
                  <a:pt x="244807" y="25505"/>
                </a:lnTo>
                <a:lnTo>
                  <a:pt x="242012" y="30527"/>
                </a:lnTo>
                <a:lnTo>
                  <a:pt x="237947" y="36428"/>
                </a:lnTo>
                <a:lnTo>
                  <a:pt x="235678" y="40372"/>
                </a:lnTo>
                <a:lnTo>
                  <a:pt x="233319" y="44695"/>
                </a:lnTo>
                <a:lnTo>
                  <a:pt x="230052" y="49270"/>
                </a:lnTo>
                <a:lnTo>
                  <a:pt x="226182" y="54013"/>
                </a:lnTo>
                <a:lnTo>
                  <a:pt x="221908" y="58869"/>
                </a:lnTo>
                <a:lnTo>
                  <a:pt x="217366" y="63799"/>
                </a:lnTo>
                <a:lnTo>
                  <a:pt x="207802" y="73793"/>
                </a:lnTo>
                <a:lnTo>
                  <a:pt x="192899" y="88939"/>
                </a:lnTo>
                <a:lnTo>
                  <a:pt x="186173" y="94853"/>
                </a:lnTo>
                <a:lnTo>
                  <a:pt x="178302" y="101335"/>
                </a:lnTo>
                <a:lnTo>
                  <a:pt x="169668" y="108197"/>
                </a:lnTo>
                <a:lnTo>
                  <a:pt x="162219" y="114465"/>
                </a:lnTo>
                <a:lnTo>
                  <a:pt x="155559" y="120337"/>
                </a:lnTo>
                <a:lnTo>
                  <a:pt x="149426" y="125944"/>
                </a:lnTo>
                <a:lnTo>
                  <a:pt x="141951" y="131376"/>
                </a:lnTo>
                <a:lnTo>
                  <a:pt x="133580" y="136691"/>
                </a:lnTo>
                <a:lnTo>
                  <a:pt x="124614" y="141927"/>
                </a:lnTo>
                <a:lnTo>
                  <a:pt x="116096" y="147958"/>
                </a:lnTo>
                <a:lnTo>
                  <a:pt x="107877" y="154519"/>
                </a:lnTo>
                <a:lnTo>
                  <a:pt x="99858" y="161432"/>
                </a:lnTo>
                <a:lnTo>
                  <a:pt x="91972" y="166888"/>
                </a:lnTo>
                <a:lnTo>
                  <a:pt x="84175" y="171373"/>
                </a:lnTo>
                <a:lnTo>
                  <a:pt x="76437" y="175208"/>
                </a:lnTo>
                <a:lnTo>
                  <a:pt x="69585" y="179459"/>
                </a:lnTo>
                <a:lnTo>
                  <a:pt x="63323" y="183986"/>
                </a:lnTo>
                <a:lnTo>
                  <a:pt x="57455" y="188697"/>
                </a:lnTo>
                <a:lnTo>
                  <a:pt x="51004" y="192685"/>
                </a:lnTo>
                <a:lnTo>
                  <a:pt x="44162" y="196190"/>
                </a:lnTo>
                <a:lnTo>
                  <a:pt x="37062" y="199374"/>
                </a:lnTo>
                <a:lnTo>
                  <a:pt x="31481" y="201496"/>
                </a:lnTo>
                <a:lnTo>
                  <a:pt x="26914" y="202911"/>
                </a:lnTo>
                <a:lnTo>
                  <a:pt x="19582" y="204483"/>
                </a:lnTo>
                <a:lnTo>
                  <a:pt x="13501" y="205181"/>
                </a:lnTo>
                <a:lnTo>
                  <a:pt x="10694" y="204521"/>
                </a:lnTo>
                <a:lnTo>
                  <a:pt x="7976" y="203235"/>
                </a:lnTo>
                <a:lnTo>
                  <a:pt x="0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InkAnnotation121"/>
          <p:cNvSpPr/>
          <p:nvPr/>
        </p:nvSpPr>
        <p:spPr>
          <a:xfrm>
            <a:off x="2819520" y="4944960"/>
            <a:ext cx="220680" cy="244440"/>
          </a:xfrm>
          <a:custGeom>
            <a:avLst/>
            <a:gdLst>
              <a:gd name="textAreaLeft" fmla="*/ 0 w 220680"/>
              <a:gd name="textAreaRight" fmla="*/ 221040 w 220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20981" h="243721">
                <a:moveTo>
                  <a:pt x="0" y="15120"/>
                </a:moveTo>
                <a:lnTo>
                  <a:pt x="4045" y="11075"/>
                </a:lnTo>
                <a:lnTo>
                  <a:pt x="5237" y="9037"/>
                </a:lnTo>
                <a:lnTo>
                  <a:pt x="7149" y="1939"/>
                </a:lnTo>
                <a:lnTo>
                  <a:pt x="7306" y="1253"/>
                </a:lnTo>
                <a:lnTo>
                  <a:pt x="8257" y="795"/>
                </a:lnTo>
                <a:lnTo>
                  <a:pt x="14153" y="0"/>
                </a:lnTo>
                <a:lnTo>
                  <a:pt x="17015" y="2191"/>
                </a:lnTo>
                <a:lnTo>
                  <a:pt x="21956" y="5987"/>
                </a:lnTo>
                <a:lnTo>
                  <a:pt x="25644" y="8185"/>
                </a:lnTo>
                <a:lnTo>
                  <a:pt x="29796" y="10496"/>
                </a:lnTo>
                <a:lnTo>
                  <a:pt x="35104" y="13731"/>
                </a:lnTo>
                <a:lnTo>
                  <a:pt x="47775" y="21841"/>
                </a:lnTo>
                <a:lnTo>
                  <a:pt x="53017" y="26373"/>
                </a:lnTo>
                <a:lnTo>
                  <a:pt x="57358" y="31089"/>
                </a:lnTo>
                <a:lnTo>
                  <a:pt x="61099" y="35926"/>
                </a:lnTo>
                <a:lnTo>
                  <a:pt x="66133" y="41691"/>
                </a:lnTo>
                <a:lnTo>
                  <a:pt x="72028" y="48073"/>
                </a:lnTo>
                <a:lnTo>
                  <a:pt x="78499" y="54869"/>
                </a:lnTo>
                <a:lnTo>
                  <a:pt x="84506" y="61939"/>
                </a:lnTo>
                <a:lnTo>
                  <a:pt x="90204" y="69193"/>
                </a:lnTo>
                <a:lnTo>
                  <a:pt x="95696" y="76569"/>
                </a:lnTo>
                <a:lnTo>
                  <a:pt x="106314" y="91537"/>
                </a:lnTo>
                <a:lnTo>
                  <a:pt x="111516" y="99084"/>
                </a:lnTo>
                <a:lnTo>
                  <a:pt x="117524" y="106656"/>
                </a:lnTo>
                <a:lnTo>
                  <a:pt x="124069" y="114245"/>
                </a:lnTo>
                <a:lnTo>
                  <a:pt x="130973" y="121843"/>
                </a:lnTo>
                <a:lnTo>
                  <a:pt x="137269" y="129448"/>
                </a:lnTo>
                <a:lnTo>
                  <a:pt x="143159" y="137059"/>
                </a:lnTo>
                <a:lnTo>
                  <a:pt x="148779" y="144672"/>
                </a:lnTo>
                <a:lnTo>
                  <a:pt x="153373" y="152288"/>
                </a:lnTo>
                <a:lnTo>
                  <a:pt x="157282" y="159905"/>
                </a:lnTo>
                <a:lnTo>
                  <a:pt x="160735" y="167523"/>
                </a:lnTo>
                <a:lnTo>
                  <a:pt x="165576" y="175142"/>
                </a:lnTo>
                <a:lnTo>
                  <a:pt x="171344" y="182761"/>
                </a:lnTo>
                <a:lnTo>
                  <a:pt x="177729" y="190381"/>
                </a:lnTo>
                <a:lnTo>
                  <a:pt x="182833" y="197154"/>
                </a:lnTo>
                <a:lnTo>
                  <a:pt x="187082" y="203362"/>
                </a:lnTo>
                <a:lnTo>
                  <a:pt x="190761" y="209195"/>
                </a:lnTo>
                <a:lnTo>
                  <a:pt x="194061" y="214776"/>
                </a:lnTo>
                <a:lnTo>
                  <a:pt x="197107" y="220191"/>
                </a:lnTo>
                <a:lnTo>
                  <a:pt x="199984" y="225494"/>
                </a:lnTo>
                <a:lnTo>
                  <a:pt x="203596" y="229876"/>
                </a:lnTo>
                <a:lnTo>
                  <a:pt x="207697" y="233644"/>
                </a:lnTo>
                <a:lnTo>
                  <a:pt x="220980" y="2437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InkAnnotation122"/>
          <p:cNvSpPr/>
          <p:nvPr/>
        </p:nvSpPr>
        <p:spPr>
          <a:xfrm>
            <a:off x="1249200" y="5211720"/>
            <a:ext cx="54000" cy="304920"/>
          </a:xfrm>
          <a:custGeom>
            <a:avLst/>
            <a:gdLst>
              <a:gd name="textAreaLeft" fmla="*/ 0 w 54000"/>
              <a:gd name="textAreaRight" fmla="*/ 54360 w 54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3341" h="304801">
                <a:moveTo>
                  <a:pt x="0" y="0"/>
                </a:moveTo>
                <a:lnTo>
                  <a:pt x="0" y="4045"/>
                </a:lnTo>
                <a:lnTo>
                  <a:pt x="847" y="6083"/>
                </a:lnTo>
                <a:lnTo>
                  <a:pt x="2258" y="8289"/>
                </a:lnTo>
                <a:lnTo>
                  <a:pt x="4046" y="10606"/>
                </a:lnTo>
                <a:lnTo>
                  <a:pt x="5237" y="13844"/>
                </a:lnTo>
                <a:lnTo>
                  <a:pt x="6561" y="21957"/>
                </a:lnTo>
                <a:lnTo>
                  <a:pt x="6914" y="27338"/>
                </a:lnTo>
                <a:lnTo>
                  <a:pt x="7150" y="33466"/>
                </a:lnTo>
                <a:lnTo>
                  <a:pt x="7306" y="40090"/>
                </a:lnTo>
                <a:lnTo>
                  <a:pt x="8258" y="46201"/>
                </a:lnTo>
                <a:lnTo>
                  <a:pt x="9738" y="51967"/>
                </a:lnTo>
                <a:lnTo>
                  <a:pt x="11573" y="57505"/>
                </a:lnTo>
                <a:lnTo>
                  <a:pt x="12795" y="64583"/>
                </a:lnTo>
                <a:lnTo>
                  <a:pt x="13610" y="72689"/>
                </a:lnTo>
                <a:lnTo>
                  <a:pt x="14154" y="81479"/>
                </a:lnTo>
                <a:lnTo>
                  <a:pt x="15362" y="89880"/>
                </a:lnTo>
                <a:lnTo>
                  <a:pt x="17015" y="98020"/>
                </a:lnTo>
                <a:lnTo>
                  <a:pt x="18963" y="105986"/>
                </a:lnTo>
                <a:lnTo>
                  <a:pt x="20262" y="114684"/>
                </a:lnTo>
                <a:lnTo>
                  <a:pt x="21128" y="123869"/>
                </a:lnTo>
                <a:lnTo>
                  <a:pt x="21706" y="133380"/>
                </a:lnTo>
                <a:lnTo>
                  <a:pt x="22347" y="150720"/>
                </a:lnTo>
                <a:lnTo>
                  <a:pt x="22518" y="158900"/>
                </a:lnTo>
                <a:lnTo>
                  <a:pt x="23479" y="167740"/>
                </a:lnTo>
                <a:lnTo>
                  <a:pt x="24966" y="177020"/>
                </a:lnTo>
                <a:lnTo>
                  <a:pt x="26804" y="186593"/>
                </a:lnTo>
                <a:lnTo>
                  <a:pt x="31104" y="206261"/>
                </a:lnTo>
                <a:lnTo>
                  <a:pt x="33436" y="216248"/>
                </a:lnTo>
                <a:lnTo>
                  <a:pt x="34991" y="225445"/>
                </a:lnTo>
                <a:lnTo>
                  <a:pt x="36027" y="234117"/>
                </a:lnTo>
                <a:lnTo>
                  <a:pt x="36718" y="242438"/>
                </a:lnTo>
                <a:lnTo>
                  <a:pt x="38026" y="250525"/>
                </a:lnTo>
                <a:lnTo>
                  <a:pt x="39744" y="258457"/>
                </a:lnTo>
                <a:lnTo>
                  <a:pt x="41736" y="266284"/>
                </a:lnTo>
                <a:lnTo>
                  <a:pt x="43064" y="273197"/>
                </a:lnTo>
                <a:lnTo>
                  <a:pt x="43949" y="279497"/>
                </a:lnTo>
                <a:lnTo>
                  <a:pt x="44540" y="285392"/>
                </a:lnTo>
                <a:lnTo>
                  <a:pt x="45780" y="290168"/>
                </a:lnTo>
                <a:lnTo>
                  <a:pt x="47453" y="294198"/>
                </a:lnTo>
                <a:lnTo>
                  <a:pt x="53340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InkAnnotation123"/>
          <p:cNvSpPr/>
          <p:nvPr/>
        </p:nvSpPr>
        <p:spPr>
          <a:xfrm>
            <a:off x="1173240" y="5334120"/>
            <a:ext cx="182520" cy="21960"/>
          </a:xfrm>
          <a:custGeom>
            <a:avLst/>
            <a:gdLst>
              <a:gd name="textAreaLeft" fmla="*/ 0 w 182520"/>
              <a:gd name="textAreaRight" fmla="*/ 182880 w 182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82881" h="22860">
                <a:moveTo>
                  <a:pt x="0" y="0"/>
                </a:moveTo>
                <a:lnTo>
                  <a:pt x="4046" y="0"/>
                </a:lnTo>
                <a:lnTo>
                  <a:pt x="7777" y="846"/>
                </a:lnTo>
                <a:lnTo>
                  <a:pt x="12805" y="2257"/>
                </a:lnTo>
                <a:lnTo>
                  <a:pt x="18696" y="4044"/>
                </a:lnTo>
                <a:lnTo>
                  <a:pt x="25164" y="5237"/>
                </a:lnTo>
                <a:lnTo>
                  <a:pt x="32017" y="6031"/>
                </a:lnTo>
                <a:lnTo>
                  <a:pt x="39124" y="6560"/>
                </a:lnTo>
                <a:lnTo>
                  <a:pt x="47250" y="7760"/>
                </a:lnTo>
                <a:lnTo>
                  <a:pt x="56053" y="9407"/>
                </a:lnTo>
                <a:lnTo>
                  <a:pt x="65309" y="11351"/>
                </a:lnTo>
                <a:lnTo>
                  <a:pt x="74866" y="12647"/>
                </a:lnTo>
                <a:lnTo>
                  <a:pt x="84624" y="13511"/>
                </a:lnTo>
                <a:lnTo>
                  <a:pt x="94516" y="14088"/>
                </a:lnTo>
                <a:lnTo>
                  <a:pt x="104498" y="15318"/>
                </a:lnTo>
                <a:lnTo>
                  <a:pt x="114538" y="16985"/>
                </a:lnTo>
                <a:lnTo>
                  <a:pt x="124619" y="18943"/>
                </a:lnTo>
                <a:lnTo>
                  <a:pt x="133879" y="20249"/>
                </a:lnTo>
                <a:lnTo>
                  <a:pt x="142593" y="21119"/>
                </a:lnTo>
                <a:lnTo>
                  <a:pt x="150942" y="21699"/>
                </a:lnTo>
                <a:lnTo>
                  <a:pt x="164734" y="22344"/>
                </a:lnTo>
                <a:lnTo>
                  <a:pt x="182880" y="228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InkAnnotation124"/>
          <p:cNvSpPr/>
          <p:nvPr/>
        </p:nvSpPr>
        <p:spPr>
          <a:xfrm>
            <a:off x="1387440" y="5280120"/>
            <a:ext cx="106560" cy="168120"/>
          </a:xfrm>
          <a:custGeom>
            <a:avLst/>
            <a:gdLst>
              <a:gd name="textAreaLeft" fmla="*/ 0 w 106560"/>
              <a:gd name="textAreaRight" fmla="*/ 106920 w 106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06588" h="167641">
                <a:moveTo>
                  <a:pt x="99060" y="0"/>
                </a:moveTo>
                <a:lnTo>
                  <a:pt x="103106" y="0"/>
                </a:lnTo>
                <a:lnTo>
                  <a:pt x="104297" y="846"/>
                </a:lnTo>
                <a:lnTo>
                  <a:pt x="105092" y="2257"/>
                </a:lnTo>
                <a:lnTo>
                  <a:pt x="105974" y="6083"/>
                </a:lnTo>
                <a:lnTo>
                  <a:pt x="106367" y="10606"/>
                </a:lnTo>
                <a:lnTo>
                  <a:pt x="106541" y="17696"/>
                </a:lnTo>
                <a:lnTo>
                  <a:pt x="106587" y="21957"/>
                </a:lnTo>
                <a:lnTo>
                  <a:pt x="105771" y="26491"/>
                </a:lnTo>
                <a:lnTo>
                  <a:pt x="104381" y="31207"/>
                </a:lnTo>
                <a:lnTo>
                  <a:pt x="102607" y="36045"/>
                </a:lnTo>
                <a:lnTo>
                  <a:pt x="100578" y="40964"/>
                </a:lnTo>
                <a:lnTo>
                  <a:pt x="98379" y="45935"/>
                </a:lnTo>
                <a:lnTo>
                  <a:pt x="96066" y="50943"/>
                </a:lnTo>
                <a:lnTo>
                  <a:pt x="92831" y="55975"/>
                </a:lnTo>
                <a:lnTo>
                  <a:pt x="88981" y="61024"/>
                </a:lnTo>
                <a:lnTo>
                  <a:pt x="84720" y="66083"/>
                </a:lnTo>
                <a:lnTo>
                  <a:pt x="80187" y="71995"/>
                </a:lnTo>
                <a:lnTo>
                  <a:pt x="75471" y="78476"/>
                </a:lnTo>
                <a:lnTo>
                  <a:pt x="70634" y="85338"/>
                </a:lnTo>
                <a:lnTo>
                  <a:pt x="66563" y="91605"/>
                </a:lnTo>
                <a:lnTo>
                  <a:pt x="63002" y="97477"/>
                </a:lnTo>
                <a:lnTo>
                  <a:pt x="59781" y="103085"/>
                </a:lnTo>
                <a:lnTo>
                  <a:pt x="55094" y="109363"/>
                </a:lnTo>
                <a:lnTo>
                  <a:pt x="49430" y="116088"/>
                </a:lnTo>
                <a:lnTo>
                  <a:pt x="43113" y="123112"/>
                </a:lnTo>
                <a:lnTo>
                  <a:pt x="38055" y="129488"/>
                </a:lnTo>
                <a:lnTo>
                  <a:pt x="33837" y="135432"/>
                </a:lnTo>
                <a:lnTo>
                  <a:pt x="30178" y="141088"/>
                </a:lnTo>
                <a:lnTo>
                  <a:pt x="26046" y="145706"/>
                </a:lnTo>
                <a:lnTo>
                  <a:pt x="21597" y="149630"/>
                </a:lnTo>
                <a:lnTo>
                  <a:pt x="16938" y="153094"/>
                </a:lnTo>
                <a:lnTo>
                  <a:pt x="13832" y="156250"/>
                </a:lnTo>
                <a:lnTo>
                  <a:pt x="11761" y="159199"/>
                </a:lnTo>
                <a:lnTo>
                  <a:pt x="10381" y="162013"/>
                </a:lnTo>
                <a:lnTo>
                  <a:pt x="8614" y="163889"/>
                </a:lnTo>
                <a:lnTo>
                  <a:pt x="6589" y="165139"/>
                </a:lnTo>
                <a:lnTo>
                  <a:pt x="0" y="1676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InkAnnotation125"/>
          <p:cNvSpPr/>
          <p:nvPr/>
        </p:nvSpPr>
        <p:spPr>
          <a:xfrm>
            <a:off x="1393920" y="5241960"/>
            <a:ext cx="176040" cy="160200"/>
          </a:xfrm>
          <a:custGeom>
            <a:avLst/>
            <a:gdLst>
              <a:gd name="textAreaLeft" fmla="*/ 0 w 176040"/>
              <a:gd name="textAreaRight" fmla="*/ 176400 w 1760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75261" h="160021">
                <a:moveTo>
                  <a:pt x="0" y="0"/>
                </a:moveTo>
                <a:lnTo>
                  <a:pt x="10606" y="10606"/>
                </a:lnTo>
                <a:lnTo>
                  <a:pt x="12151" y="12997"/>
                </a:lnTo>
                <a:lnTo>
                  <a:pt x="13867" y="17912"/>
                </a:lnTo>
                <a:lnTo>
                  <a:pt x="16018" y="20408"/>
                </a:lnTo>
                <a:lnTo>
                  <a:pt x="19145" y="22919"/>
                </a:lnTo>
                <a:lnTo>
                  <a:pt x="22924" y="25439"/>
                </a:lnTo>
                <a:lnTo>
                  <a:pt x="27982" y="29660"/>
                </a:lnTo>
                <a:lnTo>
                  <a:pt x="33895" y="35013"/>
                </a:lnTo>
                <a:lnTo>
                  <a:pt x="40377" y="41122"/>
                </a:lnTo>
                <a:lnTo>
                  <a:pt x="48085" y="47735"/>
                </a:lnTo>
                <a:lnTo>
                  <a:pt x="56610" y="54683"/>
                </a:lnTo>
                <a:lnTo>
                  <a:pt x="75113" y="69177"/>
                </a:lnTo>
                <a:lnTo>
                  <a:pt x="94626" y="84085"/>
                </a:lnTo>
                <a:lnTo>
                  <a:pt x="103724" y="92464"/>
                </a:lnTo>
                <a:lnTo>
                  <a:pt x="112330" y="101436"/>
                </a:lnTo>
                <a:lnTo>
                  <a:pt x="120606" y="110804"/>
                </a:lnTo>
                <a:lnTo>
                  <a:pt x="136576" y="127986"/>
                </a:lnTo>
                <a:lnTo>
                  <a:pt x="144391" y="136124"/>
                </a:lnTo>
                <a:lnTo>
                  <a:pt x="151294" y="142396"/>
                </a:lnTo>
                <a:lnTo>
                  <a:pt x="157590" y="147424"/>
                </a:lnTo>
                <a:lnTo>
                  <a:pt x="175260" y="1600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InkAnnotation126"/>
          <p:cNvSpPr/>
          <p:nvPr/>
        </p:nvSpPr>
        <p:spPr>
          <a:xfrm>
            <a:off x="2598840" y="5249880"/>
            <a:ext cx="38160" cy="236520"/>
          </a:xfrm>
          <a:custGeom>
            <a:avLst/>
            <a:gdLst>
              <a:gd name="textAreaLeft" fmla="*/ 0 w 38160"/>
              <a:gd name="textAreaRight" fmla="*/ 38520 w 381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8101" h="236221">
                <a:moveTo>
                  <a:pt x="0" y="0"/>
                </a:moveTo>
                <a:lnTo>
                  <a:pt x="0" y="10606"/>
                </a:lnTo>
                <a:lnTo>
                  <a:pt x="847" y="12997"/>
                </a:lnTo>
                <a:lnTo>
                  <a:pt x="2258" y="15438"/>
                </a:lnTo>
                <a:lnTo>
                  <a:pt x="4045" y="17912"/>
                </a:lnTo>
                <a:lnTo>
                  <a:pt x="5237" y="21254"/>
                </a:lnTo>
                <a:lnTo>
                  <a:pt x="6031" y="25176"/>
                </a:lnTo>
                <a:lnTo>
                  <a:pt x="6561" y="29484"/>
                </a:lnTo>
                <a:lnTo>
                  <a:pt x="7760" y="34896"/>
                </a:lnTo>
                <a:lnTo>
                  <a:pt x="9407" y="41044"/>
                </a:lnTo>
                <a:lnTo>
                  <a:pt x="11352" y="47683"/>
                </a:lnTo>
                <a:lnTo>
                  <a:pt x="12648" y="53802"/>
                </a:lnTo>
                <a:lnTo>
                  <a:pt x="13512" y="59575"/>
                </a:lnTo>
                <a:lnTo>
                  <a:pt x="14088" y="65116"/>
                </a:lnTo>
                <a:lnTo>
                  <a:pt x="14472" y="71351"/>
                </a:lnTo>
                <a:lnTo>
                  <a:pt x="14899" y="85052"/>
                </a:lnTo>
                <a:lnTo>
                  <a:pt x="15859" y="93108"/>
                </a:lnTo>
                <a:lnTo>
                  <a:pt x="17346" y="101865"/>
                </a:lnTo>
                <a:lnTo>
                  <a:pt x="19184" y="111090"/>
                </a:lnTo>
                <a:lnTo>
                  <a:pt x="20410" y="119780"/>
                </a:lnTo>
                <a:lnTo>
                  <a:pt x="21226" y="128113"/>
                </a:lnTo>
                <a:lnTo>
                  <a:pt x="21771" y="136209"/>
                </a:lnTo>
                <a:lnTo>
                  <a:pt x="22134" y="144146"/>
                </a:lnTo>
                <a:lnTo>
                  <a:pt x="22537" y="159739"/>
                </a:lnTo>
                <a:lnTo>
                  <a:pt x="23492" y="168299"/>
                </a:lnTo>
                <a:lnTo>
                  <a:pt x="24975" y="177393"/>
                </a:lnTo>
                <a:lnTo>
                  <a:pt x="26810" y="186842"/>
                </a:lnTo>
                <a:lnTo>
                  <a:pt x="28033" y="194835"/>
                </a:lnTo>
                <a:lnTo>
                  <a:pt x="28849" y="201857"/>
                </a:lnTo>
                <a:lnTo>
                  <a:pt x="29392" y="208231"/>
                </a:lnTo>
                <a:lnTo>
                  <a:pt x="30602" y="214174"/>
                </a:lnTo>
                <a:lnTo>
                  <a:pt x="32254" y="219830"/>
                </a:lnTo>
                <a:lnTo>
                  <a:pt x="38100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InkAnnotation127"/>
          <p:cNvSpPr/>
          <p:nvPr/>
        </p:nvSpPr>
        <p:spPr>
          <a:xfrm>
            <a:off x="2568600" y="5372280"/>
            <a:ext cx="158760" cy="12600"/>
          </a:xfrm>
          <a:custGeom>
            <a:avLst/>
            <a:gdLst>
              <a:gd name="textAreaLeft" fmla="*/ 0 w 158760"/>
              <a:gd name="textAreaRight" fmla="*/ 159120 w 158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0021" h="12502">
                <a:moveTo>
                  <a:pt x="0" y="0"/>
                </a:moveTo>
                <a:lnTo>
                  <a:pt x="10606" y="0"/>
                </a:lnTo>
                <a:lnTo>
                  <a:pt x="13844" y="846"/>
                </a:lnTo>
                <a:lnTo>
                  <a:pt x="17697" y="2257"/>
                </a:lnTo>
                <a:lnTo>
                  <a:pt x="21958" y="4044"/>
                </a:lnTo>
                <a:lnTo>
                  <a:pt x="27339" y="5237"/>
                </a:lnTo>
                <a:lnTo>
                  <a:pt x="33466" y="6031"/>
                </a:lnTo>
                <a:lnTo>
                  <a:pt x="40091" y="6560"/>
                </a:lnTo>
                <a:lnTo>
                  <a:pt x="47047" y="6914"/>
                </a:lnTo>
                <a:lnTo>
                  <a:pt x="61550" y="7306"/>
                </a:lnTo>
                <a:lnTo>
                  <a:pt x="69820" y="8257"/>
                </a:lnTo>
                <a:lnTo>
                  <a:pt x="78720" y="9738"/>
                </a:lnTo>
                <a:lnTo>
                  <a:pt x="88040" y="11571"/>
                </a:lnTo>
                <a:lnTo>
                  <a:pt x="97640" y="11948"/>
                </a:lnTo>
                <a:lnTo>
                  <a:pt x="107427" y="11352"/>
                </a:lnTo>
                <a:lnTo>
                  <a:pt x="117338" y="10108"/>
                </a:lnTo>
                <a:lnTo>
                  <a:pt x="125639" y="10125"/>
                </a:lnTo>
                <a:lnTo>
                  <a:pt x="132866" y="10983"/>
                </a:lnTo>
                <a:lnTo>
                  <a:pt x="139377" y="12402"/>
                </a:lnTo>
                <a:lnTo>
                  <a:pt x="144565" y="12501"/>
                </a:lnTo>
                <a:lnTo>
                  <a:pt x="148870" y="11720"/>
                </a:lnTo>
                <a:lnTo>
                  <a:pt x="16002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2760" bIns="-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InkAnnotation128"/>
          <p:cNvSpPr/>
          <p:nvPr/>
        </p:nvSpPr>
        <p:spPr>
          <a:xfrm>
            <a:off x="2811600" y="5356080"/>
            <a:ext cx="122040" cy="168480"/>
          </a:xfrm>
          <a:custGeom>
            <a:avLst/>
            <a:gdLst>
              <a:gd name="textAreaLeft" fmla="*/ 0 w 122040"/>
              <a:gd name="textAreaRight" fmla="*/ 122400 w 1220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1921" h="167641">
                <a:moveTo>
                  <a:pt x="121920" y="0"/>
                </a:moveTo>
                <a:lnTo>
                  <a:pt x="121920" y="18133"/>
                </a:lnTo>
                <a:lnTo>
                  <a:pt x="121074" y="21402"/>
                </a:lnTo>
                <a:lnTo>
                  <a:pt x="119663" y="25275"/>
                </a:lnTo>
                <a:lnTo>
                  <a:pt x="117875" y="29550"/>
                </a:lnTo>
                <a:lnTo>
                  <a:pt x="116683" y="34094"/>
                </a:lnTo>
                <a:lnTo>
                  <a:pt x="115889" y="38815"/>
                </a:lnTo>
                <a:lnTo>
                  <a:pt x="115359" y="43657"/>
                </a:lnTo>
                <a:lnTo>
                  <a:pt x="113313" y="48578"/>
                </a:lnTo>
                <a:lnTo>
                  <a:pt x="110255" y="53552"/>
                </a:lnTo>
                <a:lnTo>
                  <a:pt x="106524" y="58562"/>
                </a:lnTo>
                <a:lnTo>
                  <a:pt x="103189" y="64440"/>
                </a:lnTo>
                <a:lnTo>
                  <a:pt x="100119" y="70901"/>
                </a:lnTo>
                <a:lnTo>
                  <a:pt x="97226" y="77747"/>
                </a:lnTo>
                <a:lnTo>
                  <a:pt x="93604" y="84005"/>
                </a:lnTo>
                <a:lnTo>
                  <a:pt x="89496" y="89870"/>
                </a:lnTo>
                <a:lnTo>
                  <a:pt x="85064" y="95473"/>
                </a:lnTo>
                <a:lnTo>
                  <a:pt x="79569" y="101749"/>
                </a:lnTo>
                <a:lnTo>
                  <a:pt x="73366" y="108472"/>
                </a:lnTo>
                <a:lnTo>
                  <a:pt x="54758" y="127813"/>
                </a:lnTo>
                <a:lnTo>
                  <a:pt x="49206" y="133469"/>
                </a:lnTo>
                <a:lnTo>
                  <a:pt x="42964" y="138932"/>
                </a:lnTo>
                <a:lnTo>
                  <a:pt x="36263" y="144269"/>
                </a:lnTo>
                <a:lnTo>
                  <a:pt x="29255" y="149519"/>
                </a:lnTo>
                <a:lnTo>
                  <a:pt x="22890" y="153866"/>
                </a:lnTo>
                <a:lnTo>
                  <a:pt x="16953" y="157611"/>
                </a:lnTo>
                <a:lnTo>
                  <a:pt x="0" y="1676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InkAnnotation129"/>
          <p:cNvSpPr/>
          <p:nvPr/>
        </p:nvSpPr>
        <p:spPr>
          <a:xfrm>
            <a:off x="2789280" y="5349960"/>
            <a:ext cx="190440" cy="182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90501" h="182881">
                <a:moveTo>
                  <a:pt x="0" y="0"/>
                </a:moveTo>
                <a:lnTo>
                  <a:pt x="6561" y="6561"/>
                </a:lnTo>
                <a:lnTo>
                  <a:pt x="11665" y="9407"/>
                </a:lnTo>
                <a:lnTo>
                  <a:pt x="15397" y="11351"/>
                </a:lnTo>
                <a:lnTo>
                  <a:pt x="19578" y="14341"/>
                </a:lnTo>
                <a:lnTo>
                  <a:pt x="24059" y="18027"/>
                </a:lnTo>
                <a:lnTo>
                  <a:pt x="28739" y="22178"/>
                </a:lnTo>
                <a:lnTo>
                  <a:pt x="40713" y="33564"/>
                </a:lnTo>
                <a:lnTo>
                  <a:pt x="65051" y="57524"/>
                </a:lnTo>
                <a:lnTo>
                  <a:pt x="72154" y="63749"/>
                </a:lnTo>
                <a:lnTo>
                  <a:pt x="80276" y="70439"/>
                </a:lnTo>
                <a:lnTo>
                  <a:pt x="89077" y="77440"/>
                </a:lnTo>
                <a:lnTo>
                  <a:pt x="97485" y="85493"/>
                </a:lnTo>
                <a:lnTo>
                  <a:pt x="105630" y="94249"/>
                </a:lnTo>
                <a:lnTo>
                  <a:pt x="113600" y="103473"/>
                </a:lnTo>
                <a:lnTo>
                  <a:pt x="121454" y="112162"/>
                </a:lnTo>
                <a:lnTo>
                  <a:pt x="136953" y="128590"/>
                </a:lnTo>
                <a:lnTo>
                  <a:pt x="190500" y="1828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InkAnnotation130"/>
          <p:cNvSpPr/>
          <p:nvPr/>
        </p:nvSpPr>
        <p:spPr>
          <a:xfrm>
            <a:off x="1523880" y="5654520"/>
            <a:ext cx="258840" cy="38160"/>
          </a:xfrm>
          <a:custGeom>
            <a:avLst/>
            <a:gdLst>
              <a:gd name="textAreaLeft" fmla="*/ 0 w 258840"/>
              <a:gd name="textAreaRight" fmla="*/ 259200 w 258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59070" h="38072">
                <a:moveTo>
                  <a:pt x="22849" y="0"/>
                </a:moveTo>
                <a:lnTo>
                  <a:pt x="11277" y="0"/>
                </a:lnTo>
                <a:lnTo>
                  <a:pt x="9207" y="846"/>
                </a:lnTo>
                <a:lnTo>
                  <a:pt x="6981" y="2257"/>
                </a:lnTo>
                <a:lnTo>
                  <a:pt x="110" y="7527"/>
                </a:lnTo>
                <a:lnTo>
                  <a:pt x="70" y="8404"/>
                </a:lnTo>
                <a:lnTo>
                  <a:pt x="0" y="14172"/>
                </a:lnTo>
                <a:lnTo>
                  <a:pt x="843" y="15374"/>
                </a:lnTo>
                <a:lnTo>
                  <a:pt x="2251" y="17023"/>
                </a:lnTo>
                <a:lnTo>
                  <a:pt x="4037" y="18969"/>
                </a:lnTo>
                <a:lnTo>
                  <a:pt x="6074" y="20265"/>
                </a:lnTo>
                <a:lnTo>
                  <a:pt x="8280" y="21130"/>
                </a:lnTo>
                <a:lnTo>
                  <a:pt x="10596" y="21706"/>
                </a:lnTo>
                <a:lnTo>
                  <a:pt x="13833" y="22938"/>
                </a:lnTo>
                <a:lnTo>
                  <a:pt x="17686" y="24605"/>
                </a:lnTo>
                <a:lnTo>
                  <a:pt x="21947" y="26563"/>
                </a:lnTo>
                <a:lnTo>
                  <a:pt x="27327" y="27868"/>
                </a:lnTo>
                <a:lnTo>
                  <a:pt x="33455" y="28739"/>
                </a:lnTo>
                <a:lnTo>
                  <a:pt x="40079" y="29319"/>
                </a:lnTo>
                <a:lnTo>
                  <a:pt x="47036" y="29706"/>
                </a:lnTo>
                <a:lnTo>
                  <a:pt x="61539" y="30136"/>
                </a:lnTo>
                <a:lnTo>
                  <a:pt x="70656" y="31097"/>
                </a:lnTo>
                <a:lnTo>
                  <a:pt x="80967" y="32584"/>
                </a:lnTo>
                <a:lnTo>
                  <a:pt x="92074" y="34423"/>
                </a:lnTo>
                <a:lnTo>
                  <a:pt x="102866" y="35649"/>
                </a:lnTo>
                <a:lnTo>
                  <a:pt x="113447" y="36465"/>
                </a:lnTo>
                <a:lnTo>
                  <a:pt x="123887" y="37010"/>
                </a:lnTo>
                <a:lnTo>
                  <a:pt x="144520" y="37615"/>
                </a:lnTo>
                <a:lnTo>
                  <a:pt x="205269" y="38071"/>
                </a:lnTo>
                <a:lnTo>
                  <a:pt x="213042" y="37234"/>
                </a:lnTo>
                <a:lnTo>
                  <a:pt x="220765" y="35828"/>
                </a:lnTo>
                <a:lnTo>
                  <a:pt x="228453" y="34046"/>
                </a:lnTo>
                <a:lnTo>
                  <a:pt x="234425" y="32856"/>
                </a:lnTo>
                <a:lnTo>
                  <a:pt x="239253" y="32065"/>
                </a:lnTo>
                <a:lnTo>
                  <a:pt x="243318" y="31536"/>
                </a:lnTo>
                <a:lnTo>
                  <a:pt x="246875" y="30337"/>
                </a:lnTo>
                <a:lnTo>
                  <a:pt x="250093" y="28691"/>
                </a:lnTo>
                <a:lnTo>
                  <a:pt x="259069" y="228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InkAnnotation131"/>
          <p:cNvSpPr/>
          <p:nvPr/>
        </p:nvSpPr>
        <p:spPr>
          <a:xfrm>
            <a:off x="1844640" y="5578560"/>
            <a:ext cx="68400" cy="234720"/>
          </a:xfrm>
          <a:custGeom>
            <a:avLst/>
            <a:gdLst>
              <a:gd name="textAreaLeft" fmla="*/ 0 w 68400"/>
              <a:gd name="textAreaRight" fmla="*/ 68760 w 68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68476" h="236220">
                <a:moveTo>
                  <a:pt x="68475" y="0"/>
                </a:moveTo>
                <a:lnTo>
                  <a:pt x="61914" y="6560"/>
                </a:lnTo>
                <a:lnTo>
                  <a:pt x="61326" y="9407"/>
                </a:lnTo>
                <a:lnTo>
                  <a:pt x="61169" y="11351"/>
                </a:lnTo>
                <a:lnTo>
                  <a:pt x="60218" y="13494"/>
                </a:lnTo>
                <a:lnTo>
                  <a:pt x="58737" y="15769"/>
                </a:lnTo>
                <a:lnTo>
                  <a:pt x="56903" y="18133"/>
                </a:lnTo>
                <a:lnTo>
                  <a:pt x="55680" y="21401"/>
                </a:lnTo>
                <a:lnTo>
                  <a:pt x="54865" y="25274"/>
                </a:lnTo>
                <a:lnTo>
                  <a:pt x="54322" y="29549"/>
                </a:lnTo>
                <a:lnTo>
                  <a:pt x="53113" y="33246"/>
                </a:lnTo>
                <a:lnTo>
                  <a:pt x="51460" y="36557"/>
                </a:lnTo>
                <a:lnTo>
                  <a:pt x="49512" y="39611"/>
                </a:lnTo>
                <a:lnTo>
                  <a:pt x="47366" y="44188"/>
                </a:lnTo>
                <a:lnTo>
                  <a:pt x="45089" y="49778"/>
                </a:lnTo>
                <a:lnTo>
                  <a:pt x="42725" y="56045"/>
                </a:lnTo>
                <a:lnTo>
                  <a:pt x="40301" y="61917"/>
                </a:lnTo>
                <a:lnTo>
                  <a:pt x="37839" y="67524"/>
                </a:lnTo>
                <a:lnTo>
                  <a:pt x="32846" y="78270"/>
                </a:lnTo>
                <a:lnTo>
                  <a:pt x="27804" y="88691"/>
                </a:lnTo>
                <a:lnTo>
                  <a:pt x="25275" y="95534"/>
                </a:lnTo>
                <a:lnTo>
                  <a:pt x="22741" y="103482"/>
                </a:lnTo>
                <a:lnTo>
                  <a:pt x="20206" y="112168"/>
                </a:lnTo>
                <a:lnTo>
                  <a:pt x="17669" y="119652"/>
                </a:lnTo>
                <a:lnTo>
                  <a:pt x="15131" y="126334"/>
                </a:lnTo>
                <a:lnTo>
                  <a:pt x="12592" y="132483"/>
                </a:lnTo>
                <a:lnTo>
                  <a:pt x="10900" y="139121"/>
                </a:lnTo>
                <a:lnTo>
                  <a:pt x="9772" y="146087"/>
                </a:lnTo>
                <a:lnTo>
                  <a:pt x="9019" y="153271"/>
                </a:lnTo>
                <a:lnTo>
                  <a:pt x="7671" y="160600"/>
                </a:lnTo>
                <a:lnTo>
                  <a:pt x="5926" y="168026"/>
                </a:lnTo>
                <a:lnTo>
                  <a:pt x="3915" y="175517"/>
                </a:lnTo>
                <a:lnTo>
                  <a:pt x="2575" y="182205"/>
                </a:lnTo>
                <a:lnTo>
                  <a:pt x="1682" y="188356"/>
                </a:lnTo>
                <a:lnTo>
                  <a:pt x="1086" y="194150"/>
                </a:lnTo>
                <a:lnTo>
                  <a:pt x="689" y="199706"/>
                </a:lnTo>
                <a:lnTo>
                  <a:pt x="424" y="205104"/>
                </a:lnTo>
                <a:lnTo>
                  <a:pt x="52" y="218533"/>
                </a:lnTo>
                <a:lnTo>
                  <a:pt x="0" y="221889"/>
                </a:lnTo>
                <a:lnTo>
                  <a:pt x="812" y="224972"/>
                </a:lnTo>
                <a:lnTo>
                  <a:pt x="2199" y="227875"/>
                </a:lnTo>
                <a:lnTo>
                  <a:pt x="7515" y="236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InkAnnotation132"/>
          <p:cNvSpPr/>
          <p:nvPr/>
        </p:nvSpPr>
        <p:spPr>
          <a:xfrm>
            <a:off x="1967040" y="5554800"/>
            <a:ext cx="144360" cy="304560"/>
          </a:xfrm>
          <a:custGeom>
            <a:avLst/>
            <a:gdLst>
              <a:gd name="textAreaLeft" fmla="*/ 0 w 144360"/>
              <a:gd name="textAreaRight" fmla="*/ 144720 w 14436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143278" h="304801">
                <a:moveTo>
                  <a:pt x="44217" y="0"/>
                </a:moveTo>
                <a:lnTo>
                  <a:pt x="44217" y="10606"/>
                </a:lnTo>
                <a:lnTo>
                  <a:pt x="41960" y="17696"/>
                </a:lnTo>
                <a:lnTo>
                  <a:pt x="40172" y="21957"/>
                </a:lnTo>
                <a:lnTo>
                  <a:pt x="38980" y="27339"/>
                </a:lnTo>
                <a:lnTo>
                  <a:pt x="38186" y="33466"/>
                </a:lnTo>
                <a:lnTo>
                  <a:pt x="37656" y="40090"/>
                </a:lnTo>
                <a:lnTo>
                  <a:pt x="36457" y="47047"/>
                </a:lnTo>
                <a:lnTo>
                  <a:pt x="34811" y="54225"/>
                </a:lnTo>
                <a:lnTo>
                  <a:pt x="32866" y="61550"/>
                </a:lnTo>
                <a:lnTo>
                  <a:pt x="28448" y="76462"/>
                </a:lnTo>
                <a:lnTo>
                  <a:pt x="18713" y="106732"/>
                </a:lnTo>
                <a:lnTo>
                  <a:pt x="16208" y="116028"/>
                </a:lnTo>
                <a:lnTo>
                  <a:pt x="13691" y="126458"/>
                </a:lnTo>
                <a:lnTo>
                  <a:pt x="11166" y="137645"/>
                </a:lnTo>
                <a:lnTo>
                  <a:pt x="8637" y="147644"/>
                </a:lnTo>
                <a:lnTo>
                  <a:pt x="6103" y="156849"/>
                </a:lnTo>
                <a:lnTo>
                  <a:pt x="3568" y="165526"/>
                </a:lnTo>
                <a:lnTo>
                  <a:pt x="1878" y="174697"/>
                </a:lnTo>
                <a:lnTo>
                  <a:pt x="751" y="184199"/>
                </a:lnTo>
                <a:lnTo>
                  <a:pt x="0" y="193919"/>
                </a:lnTo>
                <a:lnTo>
                  <a:pt x="346" y="202939"/>
                </a:lnTo>
                <a:lnTo>
                  <a:pt x="1422" y="211494"/>
                </a:lnTo>
                <a:lnTo>
                  <a:pt x="2987" y="219735"/>
                </a:lnTo>
                <a:lnTo>
                  <a:pt x="4877" y="227770"/>
                </a:lnTo>
                <a:lnTo>
                  <a:pt x="6984" y="235667"/>
                </a:lnTo>
                <a:lnTo>
                  <a:pt x="9235" y="243471"/>
                </a:lnTo>
                <a:lnTo>
                  <a:pt x="11582" y="250368"/>
                </a:lnTo>
                <a:lnTo>
                  <a:pt x="13994" y="256658"/>
                </a:lnTo>
                <a:lnTo>
                  <a:pt x="16448" y="262546"/>
                </a:lnTo>
                <a:lnTo>
                  <a:pt x="19778" y="268164"/>
                </a:lnTo>
                <a:lnTo>
                  <a:pt x="23691" y="273603"/>
                </a:lnTo>
                <a:lnTo>
                  <a:pt x="27993" y="278922"/>
                </a:lnTo>
                <a:lnTo>
                  <a:pt x="31708" y="282468"/>
                </a:lnTo>
                <a:lnTo>
                  <a:pt x="35031" y="284832"/>
                </a:lnTo>
                <a:lnTo>
                  <a:pt x="38093" y="286408"/>
                </a:lnTo>
                <a:lnTo>
                  <a:pt x="42675" y="287459"/>
                </a:lnTo>
                <a:lnTo>
                  <a:pt x="48268" y="288159"/>
                </a:lnTo>
                <a:lnTo>
                  <a:pt x="54538" y="288626"/>
                </a:lnTo>
                <a:lnTo>
                  <a:pt x="60411" y="288937"/>
                </a:lnTo>
                <a:lnTo>
                  <a:pt x="71452" y="289283"/>
                </a:lnTo>
                <a:lnTo>
                  <a:pt x="76767" y="287682"/>
                </a:lnTo>
                <a:lnTo>
                  <a:pt x="82004" y="284922"/>
                </a:lnTo>
                <a:lnTo>
                  <a:pt x="87188" y="281387"/>
                </a:lnTo>
                <a:lnTo>
                  <a:pt x="92338" y="276492"/>
                </a:lnTo>
                <a:lnTo>
                  <a:pt x="97464" y="270688"/>
                </a:lnTo>
                <a:lnTo>
                  <a:pt x="102576" y="264278"/>
                </a:lnTo>
                <a:lnTo>
                  <a:pt x="107676" y="258312"/>
                </a:lnTo>
                <a:lnTo>
                  <a:pt x="112770" y="252641"/>
                </a:lnTo>
                <a:lnTo>
                  <a:pt x="117859" y="247168"/>
                </a:lnTo>
                <a:lnTo>
                  <a:pt x="122098" y="240979"/>
                </a:lnTo>
                <a:lnTo>
                  <a:pt x="125771" y="234312"/>
                </a:lnTo>
                <a:lnTo>
                  <a:pt x="129067" y="227328"/>
                </a:lnTo>
                <a:lnTo>
                  <a:pt x="131264" y="220132"/>
                </a:lnTo>
                <a:lnTo>
                  <a:pt x="132728" y="212795"/>
                </a:lnTo>
                <a:lnTo>
                  <a:pt x="133704" y="205364"/>
                </a:lnTo>
                <a:lnTo>
                  <a:pt x="135202" y="198716"/>
                </a:lnTo>
                <a:lnTo>
                  <a:pt x="137047" y="192590"/>
                </a:lnTo>
                <a:lnTo>
                  <a:pt x="139124" y="186813"/>
                </a:lnTo>
                <a:lnTo>
                  <a:pt x="140508" y="181269"/>
                </a:lnTo>
                <a:lnTo>
                  <a:pt x="141431" y="175880"/>
                </a:lnTo>
                <a:lnTo>
                  <a:pt x="142047" y="170593"/>
                </a:lnTo>
                <a:lnTo>
                  <a:pt x="141610" y="165375"/>
                </a:lnTo>
                <a:lnTo>
                  <a:pt x="140472" y="160204"/>
                </a:lnTo>
                <a:lnTo>
                  <a:pt x="138867" y="155063"/>
                </a:lnTo>
                <a:lnTo>
                  <a:pt x="137797" y="149942"/>
                </a:lnTo>
                <a:lnTo>
                  <a:pt x="137084" y="144834"/>
                </a:lnTo>
                <a:lnTo>
                  <a:pt x="136608" y="139736"/>
                </a:lnTo>
                <a:lnTo>
                  <a:pt x="135445" y="136338"/>
                </a:lnTo>
                <a:lnTo>
                  <a:pt x="133822" y="134072"/>
                </a:lnTo>
                <a:lnTo>
                  <a:pt x="129762" y="130708"/>
                </a:lnTo>
                <a:lnTo>
                  <a:pt x="127493" y="128625"/>
                </a:lnTo>
                <a:lnTo>
                  <a:pt x="125135" y="126390"/>
                </a:lnTo>
                <a:lnTo>
                  <a:pt x="123562" y="125747"/>
                </a:lnTo>
                <a:lnTo>
                  <a:pt x="122514" y="126164"/>
                </a:lnTo>
                <a:lnTo>
                  <a:pt x="120502" y="128887"/>
                </a:lnTo>
                <a:lnTo>
                  <a:pt x="116786" y="132918"/>
                </a:lnTo>
                <a:lnTo>
                  <a:pt x="112312" y="139791"/>
                </a:lnTo>
                <a:lnTo>
                  <a:pt x="109934" y="143993"/>
                </a:lnTo>
                <a:lnTo>
                  <a:pt x="105034" y="153179"/>
                </a:lnTo>
                <a:lnTo>
                  <a:pt x="102541" y="158000"/>
                </a:lnTo>
                <a:lnTo>
                  <a:pt x="100880" y="163753"/>
                </a:lnTo>
                <a:lnTo>
                  <a:pt x="99772" y="170129"/>
                </a:lnTo>
                <a:lnTo>
                  <a:pt x="99034" y="176919"/>
                </a:lnTo>
                <a:lnTo>
                  <a:pt x="98542" y="183986"/>
                </a:lnTo>
                <a:lnTo>
                  <a:pt x="98214" y="191237"/>
                </a:lnTo>
                <a:lnTo>
                  <a:pt x="97849" y="206068"/>
                </a:lnTo>
                <a:lnTo>
                  <a:pt x="97687" y="221126"/>
                </a:lnTo>
                <a:lnTo>
                  <a:pt x="98490" y="228697"/>
                </a:lnTo>
                <a:lnTo>
                  <a:pt x="99873" y="236285"/>
                </a:lnTo>
                <a:lnTo>
                  <a:pt x="101641" y="243883"/>
                </a:lnTo>
                <a:lnTo>
                  <a:pt x="104513" y="250643"/>
                </a:lnTo>
                <a:lnTo>
                  <a:pt x="108121" y="256842"/>
                </a:lnTo>
                <a:lnTo>
                  <a:pt x="112220" y="262668"/>
                </a:lnTo>
                <a:lnTo>
                  <a:pt x="115799" y="268245"/>
                </a:lnTo>
                <a:lnTo>
                  <a:pt x="119032" y="273657"/>
                </a:lnTo>
                <a:lnTo>
                  <a:pt x="122034" y="278958"/>
                </a:lnTo>
                <a:lnTo>
                  <a:pt x="127627" y="289364"/>
                </a:lnTo>
                <a:lnTo>
                  <a:pt x="134071" y="301751"/>
                </a:lnTo>
                <a:lnTo>
                  <a:pt x="135446" y="302767"/>
                </a:lnTo>
                <a:lnTo>
                  <a:pt x="137210" y="303445"/>
                </a:lnTo>
                <a:lnTo>
                  <a:pt x="143277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InkAnnotation133"/>
          <p:cNvSpPr/>
          <p:nvPr/>
        </p:nvSpPr>
        <p:spPr>
          <a:xfrm>
            <a:off x="2193840" y="5684760"/>
            <a:ext cx="130320" cy="360"/>
          </a:xfrm>
          <a:custGeom>
            <a:avLst/>
            <a:gdLst>
              <a:gd name="textAreaLeft" fmla="*/ 0 w 130320"/>
              <a:gd name="textAreaRight" fmla="*/ 130680 w 1303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9541" h="1">
                <a:moveTo>
                  <a:pt x="0" y="0"/>
                </a:moveTo>
                <a:lnTo>
                  <a:pt x="1295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InkAnnotation134"/>
          <p:cNvSpPr/>
          <p:nvPr/>
        </p:nvSpPr>
        <p:spPr>
          <a:xfrm>
            <a:off x="2193840" y="5761080"/>
            <a:ext cx="160560" cy="14400"/>
          </a:xfrm>
          <a:custGeom>
            <a:avLst/>
            <a:gdLst>
              <a:gd name="textAreaLeft" fmla="*/ 0 w 160560"/>
              <a:gd name="textAreaRight" fmla="*/ 160920 w 1605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0021" h="15213">
                <a:moveTo>
                  <a:pt x="0" y="0"/>
                </a:moveTo>
                <a:lnTo>
                  <a:pt x="6561" y="6561"/>
                </a:lnTo>
                <a:lnTo>
                  <a:pt x="9454" y="6914"/>
                </a:lnTo>
                <a:lnTo>
                  <a:pt x="13923" y="7149"/>
                </a:lnTo>
                <a:lnTo>
                  <a:pt x="19442" y="7306"/>
                </a:lnTo>
                <a:lnTo>
                  <a:pt x="23968" y="8258"/>
                </a:lnTo>
                <a:lnTo>
                  <a:pt x="27832" y="9739"/>
                </a:lnTo>
                <a:lnTo>
                  <a:pt x="31255" y="11572"/>
                </a:lnTo>
                <a:lnTo>
                  <a:pt x="35230" y="12795"/>
                </a:lnTo>
                <a:lnTo>
                  <a:pt x="39573" y="13610"/>
                </a:lnTo>
                <a:lnTo>
                  <a:pt x="44162" y="14153"/>
                </a:lnTo>
                <a:lnTo>
                  <a:pt x="49762" y="14516"/>
                </a:lnTo>
                <a:lnTo>
                  <a:pt x="56034" y="14758"/>
                </a:lnTo>
                <a:lnTo>
                  <a:pt x="76998" y="15097"/>
                </a:lnTo>
                <a:lnTo>
                  <a:pt x="102793" y="15212"/>
                </a:lnTo>
                <a:lnTo>
                  <a:pt x="109169" y="14375"/>
                </a:lnTo>
                <a:lnTo>
                  <a:pt x="115959" y="12970"/>
                </a:lnTo>
                <a:lnTo>
                  <a:pt x="123026" y="11186"/>
                </a:lnTo>
                <a:lnTo>
                  <a:pt x="129431" y="9998"/>
                </a:lnTo>
                <a:lnTo>
                  <a:pt x="135394" y="9205"/>
                </a:lnTo>
                <a:lnTo>
                  <a:pt x="141063" y="8677"/>
                </a:lnTo>
                <a:lnTo>
                  <a:pt x="145688" y="8325"/>
                </a:lnTo>
                <a:lnTo>
                  <a:pt x="149619" y="8090"/>
                </a:lnTo>
                <a:lnTo>
                  <a:pt x="160020" y="76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InkAnnotation135"/>
          <p:cNvSpPr/>
          <p:nvPr/>
        </p:nvSpPr>
        <p:spPr>
          <a:xfrm>
            <a:off x="2362320" y="5554800"/>
            <a:ext cx="168120" cy="91800"/>
          </a:xfrm>
          <a:custGeom>
            <a:avLst/>
            <a:gdLst>
              <a:gd name="textAreaLeft" fmla="*/ 0 w 168120"/>
              <a:gd name="textAreaRight" fmla="*/ 168480 w 1681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67501" h="91408">
                <a:moveTo>
                  <a:pt x="83680" y="0"/>
                </a:moveTo>
                <a:lnTo>
                  <a:pt x="72042" y="0"/>
                </a:lnTo>
                <a:lnTo>
                  <a:pt x="70842" y="846"/>
                </a:lnTo>
                <a:lnTo>
                  <a:pt x="70041" y="2258"/>
                </a:lnTo>
                <a:lnTo>
                  <a:pt x="69508" y="4045"/>
                </a:lnTo>
                <a:lnTo>
                  <a:pt x="67458" y="5237"/>
                </a:lnTo>
                <a:lnTo>
                  <a:pt x="64399" y="6032"/>
                </a:lnTo>
                <a:lnTo>
                  <a:pt x="60666" y="6561"/>
                </a:lnTo>
                <a:lnTo>
                  <a:pt x="57331" y="7760"/>
                </a:lnTo>
                <a:lnTo>
                  <a:pt x="54260" y="9407"/>
                </a:lnTo>
                <a:lnTo>
                  <a:pt x="51367" y="11352"/>
                </a:lnTo>
                <a:lnTo>
                  <a:pt x="48591" y="13495"/>
                </a:lnTo>
                <a:lnTo>
                  <a:pt x="45894" y="15770"/>
                </a:lnTo>
                <a:lnTo>
                  <a:pt x="43249" y="18133"/>
                </a:lnTo>
                <a:lnTo>
                  <a:pt x="38053" y="23017"/>
                </a:lnTo>
                <a:lnTo>
                  <a:pt x="35482" y="25505"/>
                </a:lnTo>
                <a:lnTo>
                  <a:pt x="32075" y="27163"/>
                </a:lnTo>
                <a:lnTo>
                  <a:pt x="28110" y="28269"/>
                </a:lnTo>
                <a:lnTo>
                  <a:pt x="23773" y="29006"/>
                </a:lnTo>
                <a:lnTo>
                  <a:pt x="20036" y="30344"/>
                </a:lnTo>
                <a:lnTo>
                  <a:pt x="16697" y="32082"/>
                </a:lnTo>
                <a:lnTo>
                  <a:pt x="13625" y="34088"/>
                </a:lnTo>
                <a:lnTo>
                  <a:pt x="10730" y="35425"/>
                </a:lnTo>
                <a:lnTo>
                  <a:pt x="7953" y="36317"/>
                </a:lnTo>
                <a:lnTo>
                  <a:pt x="5255" y="36911"/>
                </a:lnTo>
                <a:lnTo>
                  <a:pt x="3457" y="38155"/>
                </a:lnTo>
                <a:lnTo>
                  <a:pt x="2258" y="39830"/>
                </a:lnTo>
                <a:lnTo>
                  <a:pt x="1459" y="41793"/>
                </a:lnTo>
                <a:lnTo>
                  <a:pt x="926" y="43949"/>
                </a:lnTo>
                <a:lnTo>
                  <a:pt x="570" y="46232"/>
                </a:lnTo>
                <a:lnTo>
                  <a:pt x="0" y="51936"/>
                </a:lnTo>
                <a:lnTo>
                  <a:pt x="800" y="53251"/>
                </a:lnTo>
                <a:lnTo>
                  <a:pt x="2180" y="54974"/>
                </a:lnTo>
                <a:lnTo>
                  <a:pt x="3947" y="56969"/>
                </a:lnTo>
                <a:lnTo>
                  <a:pt x="5125" y="59146"/>
                </a:lnTo>
                <a:lnTo>
                  <a:pt x="5910" y="61444"/>
                </a:lnTo>
                <a:lnTo>
                  <a:pt x="6433" y="63823"/>
                </a:lnTo>
                <a:lnTo>
                  <a:pt x="8476" y="65409"/>
                </a:lnTo>
                <a:lnTo>
                  <a:pt x="11530" y="66466"/>
                </a:lnTo>
                <a:lnTo>
                  <a:pt x="15260" y="67171"/>
                </a:lnTo>
                <a:lnTo>
                  <a:pt x="19440" y="69334"/>
                </a:lnTo>
                <a:lnTo>
                  <a:pt x="23920" y="72470"/>
                </a:lnTo>
                <a:lnTo>
                  <a:pt x="28600" y="76253"/>
                </a:lnTo>
                <a:lnTo>
                  <a:pt x="33414" y="78775"/>
                </a:lnTo>
                <a:lnTo>
                  <a:pt x="38316" y="80457"/>
                </a:lnTo>
                <a:lnTo>
                  <a:pt x="43277" y="81578"/>
                </a:lnTo>
                <a:lnTo>
                  <a:pt x="49125" y="83172"/>
                </a:lnTo>
                <a:lnTo>
                  <a:pt x="62396" y="87201"/>
                </a:lnTo>
                <a:lnTo>
                  <a:pt x="69490" y="88615"/>
                </a:lnTo>
                <a:lnTo>
                  <a:pt x="76760" y="89556"/>
                </a:lnTo>
                <a:lnTo>
                  <a:pt x="84147" y="90185"/>
                </a:lnTo>
                <a:lnTo>
                  <a:pt x="90765" y="90603"/>
                </a:lnTo>
                <a:lnTo>
                  <a:pt x="102633" y="91068"/>
                </a:lnTo>
                <a:lnTo>
                  <a:pt x="118835" y="91330"/>
                </a:lnTo>
                <a:lnTo>
                  <a:pt x="134360" y="91407"/>
                </a:lnTo>
                <a:lnTo>
                  <a:pt x="139481" y="90572"/>
                </a:lnTo>
                <a:lnTo>
                  <a:pt x="144587" y="89167"/>
                </a:lnTo>
                <a:lnTo>
                  <a:pt x="149685" y="87385"/>
                </a:lnTo>
                <a:lnTo>
                  <a:pt x="153930" y="86197"/>
                </a:lnTo>
                <a:lnTo>
                  <a:pt x="157607" y="85405"/>
                </a:lnTo>
                <a:lnTo>
                  <a:pt x="167500" y="838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InkAnnotation136"/>
          <p:cNvSpPr/>
          <p:nvPr/>
        </p:nvSpPr>
        <p:spPr>
          <a:xfrm>
            <a:off x="2514600" y="5562720"/>
            <a:ext cx="30240" cy="220680"/>
          </a:xfrm>
          <a:custGeom>
            <a:avLst/>
            <a:gdLst>
              <a:gd name="textAreaLeft" fmla="*/ 0 w 30240"/>
              <a:gd name="textAreaRight" fmla="*/ 30600 w 30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0451" h="220981">
                <a:moveTo>
                  <a:pt x="30450" y="0"/>
                </a:moveTo>
                <a:lnTo>
                  <a:pt x="30450" y="18133"/>
                </a:lnTo>
                <a:lnTo>
                  <a:pt x="29603" y="21402"/>
                </a:lnTo>
                <a:lnTo>
                  <a:pt x="28192" y="25275"/>
                </a:lnTo>
                <a:lnTo>
                  <a:pt x="26405" y="29550"/>
                </a:lnTo>
                <a:lnTo>
                  <a:pt x="24367" y="34093"/>
                </a:lnTo>
                <a:lnTo>
                  <a:pt x="19844" y="43657"/>
                </a:lnTo>
                <a:lnTo>
                  <a:pt x="18300" y="48578"/>
                </a:lnTo>
                <a:lnTo>
                  <a:pt x="17270" y="53553"/>
                </a:lnTo>
                <a:lnTo>
                  <a:pt x="16583" y="58562"/>
                </a:lnTo>
                <a:lnTo>
                  <a:pt x="15279" y="64441"/>
                </a:lnTo>
                <a:lnTo>
                  <a:pt x="13563" y="70900"/>
                </a:lnTo>
                <a:lnTo>
                  <a:pt x="11572" y="77747"/>
                </a:lnTo>
                <a:lnTo>
                  <a:pt x="10245" y="84005"/>
                </a:lnTo>
                <a:lnTo>
                  <a:pt x="9360" y="89870"/>
                </a:lnTo>
                <a:lnTo>
                  <a:pt x="8770" y="95473"/>
                </a:lnTo>
                <a:lnTo>
                  <a:pt x="7530" y="101749"/>
                </a:lnTo>
                <a:lnTo>
                  <a:pt x="5857" y="108472"/>
                </a:lnTo>
                <a:lnTo>
                  <a:pt x="3894" y="115495"/>
                </a:lnTo>
                <a:lnTo>
                  <a:pt x="2587" y="121870"/>
                </a:lnTo>
                <a:lnTo>
                  <a:pt x="1714" y="127813"/>
                </a:lnTo>
                <a:lnTo>
                  <a:pt x="1133" y="133469"/>
                </a:lnTo>
                <a:lnTo>
                  <a:pt x="746" y="139780"/>
                </a:lnTo>
                <a:lnTo>
                  <a:pt x="315" y="153564"/>
                </a:lnTo>
                <a:lnTo>
                  <a:pt x="16" y="182364"/>
                </a:lnTo>
                <a:lnTo>
                  <a:pt x="0" y="187617"/>
                </a:lnTo>
                <a:lnTo>
                  <a:pt x="837" y="191964"/>
                </a:lnTo>
                <a:lnTo>
                  <a:pt x="2241" y="195710"/>
                </a:lnTo>
                <a:lnTo>
                  <a:pt x="4024" y="199053"/>
                </a:lnTo>
                <a:lnTo>
                  <a:pt x="6059" y="202129"/>
                </a:lnTo>
                <a:lnTo>
                  <a:pt x="8263" y="205025"/>
                </a:lnTo>
                <a:lnTo>
                  <a:pt x="10579" y="207804"/>
                </a:lnTo>
                <a:lnTo>
                  <a:pt x="12969" y="210502"/>
                </a:lnTo>
                <a:lnTo>
                  <a:pt x="22830" y="220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InkAnnotation137"/>
          <p:cNvSpPr/>
          <p:nvPr/>
        </p:nvSpPr>
        <p:spPr>
          <a:xfrm>
            <a:off x="2583000" y="5638680"/>
            <a:ext cx="220680" cy="212760"/>
          </a:xfrm>
          <a:custGeom>
            <a:avLst/>
            <a:gdLst>
              <a:gd name="textAreaLeft" fmla="*/ 0 w 220680"/>
              <a:gd name="textAreaRight" fmla="*/ 221040 w 2206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20849" h="213361">
                <a:moveTo>
                  <a:pt x="182880" y="0"/>
                </a:moveTo>
                <a:lnTo>
                  <a:pt x="193486" y="0"/>
                </a:lnTo>
                <a:lnTo>
                  <a:pt x="195878" y="846"/>
                </a:lnTo>
                <a:lnTo>
                  <a:pt x="200792" y="4045"/>
                </a:lnTo>
                <a:lnTo>
                  <a:pt x="205799" y="8289"/>
                </a:lnTo>
                <a:lnTo>
                  <a:pt x="210847" y="12997"/>
                </a:lnTo>
                <a:lnTo>
                  <a:pt x="215912" y="17912"/>
                </a:lnTo>
                <a:lnTo>
                  <a:pt x="217602" y="20408"/>
                </a:lnTo>
                <a:lnTo>
                  <a:pt x="219479" y="25439"/>
                </a:lnTo>
                <a:lnTo>
                  <a:pt x="220313" y="30497"/>
                </a:lnTo>
                <a:lnTo>
                  <a:pt x="220684" y="36414"/>
                </a:lnTo>
                <a:lnTo>
                  <a:pt x="220848" y="44689"/>
                </a:lnTo>
                <a:lnTo>
                  <a:pt x="219199" y="49266"/>
                </a:lnTo>
                <a:lnTo>
                  <a:pt x="216406" y="54011"/>
                </a:lnTo>
                <a:lnTo>
                  <a:pt x="212851" y="58867"/>
                </a:lnTo>
                <a:lnTo>
                  <a:pt x="209634" y="63798"/>
                </a:lnTo>
                <a:lnTo>
                  <a:pt x="206643" y="68780"/>
                </a:lnTo>
                <a:lnTo>
                  <a:pt x="203802" y="73793"/>
                </a:lnTo>
                <a:lnTo>
                  <a:pt x="200215" y="78829"/>
                </a:lnTo>
                <a:lnTo>
                  <a:pt x="196130" y="83879"/>
                </a:lnTo>
                <a:lnTo>
                  <a:pt x="191713" y="88940"/>
                </a:lnTo>
                <a:lnTo>
                  <a:pt x="186229" y="94853"/>
                </a:lnTo>
                <a:lnTo>
                  <a:pt x="173362" y="108197"/>
                </a:lnTo>
                <a:lnTo>
                  <a:pt x="166375" y="114465"/>
                </a:lnTo>
                <a:lnTo>
                  <a:pt x="159177" y="120336"/>
                </a:lnTo>
                <a:lnTo>
                  <a:pt x="151838" y="125944"/>
                </a:lnTo>
                <a:lnTo>
                  <a:pt x="143558" y="131376"/>
                </a:lnTo>
                <a:lnTo>
                  <a:pt x="134653" y="136691"/>
                </a:lnTo>
                <a:lnTo>
                  <a:pt x="125328" y="141927"/>
                </a:lnTo>
                <a:lnTo>
                  <a:pt x="105937" y="152261"/>
                </a:lnTo>
                <a:lnTo>
                  <a:pt x="96025" y="157387"/>
                </a:lnTo>
                <a:lnTo>
                  <a:pt x="86877" y="162499"/>
                </a:lnTo>
                <a:lnTo>
                  <a:pt x="78238" y="167599"/>
                </a:lnTo>
                <a:lnTo>
                  <a:pt x="69938" y="172692"/>
                </a:lnTo>
                <a:lnTo>
                  <a:pt x="62712" y="176935"/>
                </a:lnTo>
                <a:lnTo>
                  <a:pt x="50168" y="183907"/>
                </a:lnTo>
                <a:lnTo>
                  <a:pt x="44452" y="187798"/>
                </a:lnTo>
                <a:lnTo>
                  <a:pt x="38948" y="192085"/>
                </a:lnTo>
                <a:lnTo>
                  <a:pt x="33585" y="196637"/>
                </a:lnTo>
                <a:lnTo>
                  <a:pt x="28317" y="199671"/>
                </a:lnTo>
                <a:lnTo>
                  <a:pt x="23111" y="201694"/>
                </a:lnTo>
                <a:lnTo>
                  <a:pt x="17947" y="203042"/>
                </a:lnTo>
                <a:lnTo>
                  <a:pt x="13659" y="204788"/>
                </a:lnTo>
                <a:lnTo>
                  <a:pt x="9952" y="206798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InkAnnotation138"/>
          <p:cNvSpPr/>
          <p:nvPr/>
        </p:nvSpPr>
        <p:spPr>
          <a:xfrm>
            <a:off x="2620800" y="5707080"/>
            <a:ext cx="214560" cy="152280"/>
          </a:xfrm>
          <a:custGeom>
            <a:avLst/>
            <a:gdLst>
              <a:gd name="textAreaLeft" fmla="*/ 0 w 214560"/>
              <a:gd name="textAreaRight" fmla="*/ 214920 w 2145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3361" h="152401">
                <a:moveTo>
                  <a:pt x="0" y="0"/>
                </a:moveTo>
                <a:lnTo>
                  <a:pt x="6561" y="0"/>
                </a:lnTo>
                <a:lnTo>
                  <a:pt x="11351" y="4045"/>
                </a:lnTo>
                <a:lnTo>
                  <a:pt x="15770" y="8289"/>
                </a:lnTo>
                <a:lnTo>
                  <a:pt x="18133" y="10606"/>
                </a:lnTo>
                <a:lnTo>
                  <a:pt x="22249" y="12997"/>
                </a:lnTo>
                <a:lnTo>
                  <a:pt x="27532" y="15439"/>
                </a:lnTo>
                <a:lnTo>
                  <a:pt x="33595" y="17912"/>
                </a:lnTo>
                <a:lnTo>
                  <a:pt x="39330" y="21254"/>
                </a:lnTo>
                <a:lnTo>
                  <a:pt x="44847" y="25176"/>
                </a:lnTo>
                <a:lnTo>
                  <a:pt x="50218" y="29485"/>
                </a:lnTo>
                <a:lnTo>
                  <a:pt x="55492" y="34050"/>
                </a:lnTo>
                <a:lnTo>
                  <a:pt x="60701" y="38786"/>
                </a:lnTo>
                <a:lnTo>
                  <a:pt x="65867" y="43637"/>
                </a:lnTo>
                <a:lnTo>
                  <a:pt x="71852" y="48565"/>
                </a:lnTo>
                <a:lnTo>
                  <a:pt x="78381" y="53543"/>
                </a:lnTo>
                <a:lnTo>
                  <a:pt x="85274" y="58555"/>
                </a:lnTo>
                <a:lnTo>
                  <a:pt x="99706" y="68640"/>
                </a:lnTo>
                <a:lnTo>
                  <a:pt x="129668" y="88912"/>
                </a:lnTo>
                <a:lnTo>
                  <a:pt x="137245" y="94835"/>
                </a:lnTo>
                <a:lnTo>
                  <a:pt x="144837" y="101324"/>
                </a:lnTo>
                <a:lnTo>
                  <a:pt x="152438" y="108189"/>
                </a:lnTo>
                <a:lnTo>
                  <a:pt x="159199" y="113612"/>
                </a:lnTo>
                <a:lnTo>
                  <a:pt x="165399" y="118074"/>
                </a:lnTo>
                <a:lnTo>
                  <a:pt x="191563" y="135366"/>
                </a:lnTo>
                <a:lnTo>
                  <a:pt x="197135" y="139350"/>
                </a:lnTo>
                <a:lnTo>
                  <a:pt x="201697" y="142854"/>
                </a:lnTo>
                <a:lnTo>
                  <a:pt x="213360" y="152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InkAnnotation139"/>
          <p:cNvSpPr/>
          <p:nvPr/>
        </p:nvSpPr>
        <p:spPr>
          <a:xfrm>
            <a:off x="2430360" y="5965920"/>
            <a:ext cx="563760" cy="15840"/>
          </a:xfrm>
          <a:custGeom>
            <a:avLst/>
            <a:gdLst>
              <a:gd name="textAreaLeft" fmla="*/ 0 w 563760"/>
              <a:gd name="textAreaRight" fmla="*/ 564120 w 563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63881" h="15241">
                <a:moveTo>
                  <a:pt x="0" y="0"/>
                </a:moveTo>
                <a:lnTo>
                  <a:pt x="4045" y="4045"/>
                </a:lnTo>
                <a:lnTo>
                  <a:pt x="6930" y="5237"/>
                </a:lnTo>
                <a:lnTo>
                  <a:pt x="10547" y="6032"/>
                </a:lnTo>
                <a:lnTo>
                  <a:pt x="14651" y="6561"/>
                </a:lnTo>
                <a:lnTo>
                  <a:pt x="19081" y="6914"/>
                </a:lnTo>
                <a:lnTo>
                  <a:pt x="28518" y="7306"/>
                </a:lnTo>
                <a:lnTo>
                  <a:pt x="47396" y="7527"/>
                </a:lnTo>
                <a:lnTo>
                  <a:pt x="56151" y="8405"/>
                </a:lnTo>
                <a:lnTo>
                  <a:pt x="66220" y="9836"/>
                </a:lnTo>
                <a:lnTo>
                  <a:pt x="77167" y="11638"/>
                </a:lnTo>
                <a:lnTo>
                  <a:pt x="89545" y="12838"/>
                </a:lnTo>
                <a:lnTo>
                  <a:pt x="102876" y="13639"/>
                </a:lnTo>
                <a:lnTo>
                  <a:pt x="131236" y="14529"/>
                </a:lnTo>
                <a:lnTo>
                  <a:pt x="205963" y="15147"/>
                </a:lnTo>
                <a:lnTo>
                  <a:pt x="56388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InkAnnotation140"/>
          <p:cNvSpPr/>
          <p:nvPr/>
        </p:nvSpPr>
        <p:spPr>
          <a:xfrm>
            <a:off x="1706400" y="5959440"/>
            <a:ext cx="405000" cy="6480"/>
          </a:xfrm>
          <a:custGeom>
            <a:avLst/>
            <a:gdLst>
              <a:gd name="textAreaLeft" fmla="*/ 0 w 405000"/>
              <a:gd name="textAreaRight" fmla="*/ 405360 w 4050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03861" h="7620">
                <a:moveTo>
                  <a:pt x="0" y="0"/>
                </a:moveTo>
                <a:lnTo>
                  <a:pt x="379361" y="0"/>
                </a:lnTo>
                <a:lnTo>
                  <a:pt x="385834" y="846"/>
                </a:lnTo>
                <a:lnTo>
                  <a:pt x="390996" y="2257"/>
                </a:lnTo>
                <a:lnTo>
                  <a:pt x="403860" y="76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InkAnnotation141"/>
          <p:cNvSpPr/>
          <p:nvPr/>
        </p:nvSpPr>
        <p:spPr>
          <a:xfrm>
            <a:off x="1706400" y="6035760"/>
            <a:ext cx="198720" cy="114120"/>
          </a:xfrm>
          <a:custGeom>
            <a:avLst/>
            <a:gdLst>
              <a:gd name="textAreaLeft" fmla="*/ 0 w 198720"/>
              <a:gd name="textAreaRight" fmla="*/ 199080 w 198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97757" h="114301">
                <a:moveTo>
                  <a:pt x="98696" y="0"/>
                </a:moveTo>
                <a:lnTo>
                  <a:pt x="98696" y="4044"/>
                </a:lnTo>
                <a:lnTo>
                  <a:pt x="97849" y="5236"/>
                </a:lnTo>
                <a:lnTo>
                  <a:pt x="96438" y="6031"/>
                </a:lnTo>
                <a:lnTo>
                  <a:pt x="94651" y="6560"/>
                </a:lnTo>
                <a:lnTo>
                  <a:pt x="93459" y="7760"/>
                </a:lnTo>
                <a:lnTo>
                  <a:pt x="92665" y="9407"/>
                </a:lnTo>
                <a:lnTo>
                  <a:pt x="92135" y="11351"/>
                </a:lnTo>
                <a:lnTo>
                  <a:pt x="90936" y="13494"/>
                </a:lnTo>
                <a:lnTo>
                  <a:pt x="89289" y="15769"/>
                </a:lnTo>
                <a:lnTo>
                  <a:pt x="87345" y="18133"/>
                </a:lnTo>
                <a:lnTo>
                  <a:pt x="85202" y="20555"/>
                </a:lnTo>
                <a:lnTo>
                  <a:pt x="80563" y="25504"/>
                </a:lnTo>
                <a:lnTo>
                  <a:pt x="68170" y="38113"/>
                </a:lnTo>
                <a:lnTo>
                  <a:pt x="65645" y="40649"/>
                </a:lnTo>
                <a:lnTo>
                  <a:pt x="62269" y="42338"/>
                </a:lnTo>
                <a:lnTo>
                  <a:pt x="58324" y="43466"/>
                </a:lnTo>
                <a:lnTo>
                  <a:pt x="54002" y="44217"/>
                </a:lnTo>
                <a:lnTo>
                  <a:pt x="49426" y="45565"/>
                </a:lnTo>
                <a:lnTo>
                  <a:pt x="44683" y="47309"/>
                </a:lnTo>
                <a:lnTo>
                  <a:pt x="39827" y="49319"/>
                </a:lnTo>
                <a:lnTo>
                  <a:pt x="34897" y="51506"/>
                </a:lnTo>
                <a:lnTo>
                  <a:pt x="24903" y="56194"/>
                </a:lnTo>
                <a:lnTo>
                  <a:pt x="20714" y="58629"/>
                </a:lnTo>
                <a:lnTo>
                  <a:pt x="17075" y="61099"/>
                </a:lnTo>
                <a:lnTo>
                  <a:pt x="9195" y="67102"/>
                </a:lnTo>
                <a:lnTo>
                  <a:pt x="5860" y="70181"/>
                </a:lnTo>
                <a:lnTo>
                  <a:pt x="0" y="75847"/>
                </a:lnTo>
                <a:lnTo>
                  <a:pt x="2056" y="78301"/>
                </a:lnTo>
                <a:lnTo>
                  <a:pt x="3789" y="80140"/>
                </a:lnTo>
                <a:lnTo>
                  <a:pt x="6638" y="81367"/>
                </a:lnTo>
                <a:lnTo>
                  <a:pt x="10231" y="82184"/>
                </a:lnTo>
                <a:lnTo>
                  <a:pt x="14319" y="82729"/>
                </a:lnTo>
                <a:lnTo>
                  <a:pt x="19585" y="83093"/>
                </a:lnTo>
                <a:lnTo>
                  <a:pt x="25635" y="83335"/>
                </a:lnTo>
                <a:lnTo>
                  <a:pt x="32209" y="83496"/>
                </a:lnTo>
                <a:lnTo>
                  <a:pt x="39131" y="84451"/>
                </a:lnTo>
                <a:lnTo>
                  <a:pt x="46286" y="85934"/>
                </a:lnTo>
                <a:lnTo>
                  <a:pt x="80065" y="94397"/>
                </a:lnTo>
                <a:lnTo>
                  <a:pt x="88815" y="95951"/>
                </a:lnTo>
                <a:lnTo>
                  <a:pt x="97189" y="96987"/>
                </a:lnTo>
                <a:lnTo>
                  <a:pt x="105311" y="97678"/>
                </a:lnTo>
                <a:lnTo>
                  <a:pt x="113266" y="98985"/>
                </a:lnTo>
                <a:lnTo>
                  <a:pt x="121110" y="100703"/>
                </a:lnTo>
                <a:lnTo>
                  <a:pt x="128879" y="102695"/>
                </a:lnTo>
                <a:lnTo>
                  <a:pt x="136598" y="104024"/>
                </a:lnTo>
                <a:lnTo>
                  <a:pt x="144283" y="104909"/>
                </a:lnTo>
                <a:lnTo>
                  <a:pt x="151948" y="105499"/>
                </a:lnTo>
                <a:lnTo>
                  <a:pt x="158750" y="106739"/>
                </a:lnTo>
                <a:lnTo>
                  <a:pt x="164979" y="108412"/>
                </a:lnTo>
                <a:lnTo>
                  <a:pt x="170825" y="110375"/>
                </a:lnTo>
                <a:lnTo>
                  <a:pt x="175569" y="111683"/>
                </a:lnTo>
                <a:lnTo>
                  <a:pt x="179578" y="112555"/>
                </a:lnTo>
                <a:lnTo>
                  <a:pt x="183097" y="113137"/>
                </a:lnTo>
                <a:lnTo>
                  <a:pt x="189266" y="113783"/>
                </a:lnTo>
                <a:lnTo>
                  <a:pt x="197756" y="1143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InkAnnotation142"/>
          <p:cNvSpPr/>
          <p:nvPr/>
        </p:nvSpPr>
        <p:spPr>
          <a:xfrm>
            <a:off x="1874880" y="6095880"/>
            <a:ext cx="46080" cy="160560"/>
          </a:xfrm>
          <a:custGeom>
            <a:avLst/>
            <a:gdLst>
              <a:gd name="textAreaLeft" fmla="*/ 0 w 46080"/>
              <a:gd name="textAreaRight" fmla="*/ 46440 w 460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45721" h="160021">
                <a:moveTo>
                  <a:pt x="45720" y="0"/>
                </a:moveTo>
                <a:lnTo>
                  <a:pt x="41675" y="4045"/>
                </a:lnTo>
                <a:lnTo>
                  <a:pt x="40483" y="6084"/>
                </a:lnTo>
                <a:lnTo>
                  <a:pt x="39159" y="10606"/>
                </a:lnTo>
                <a:lnTo>
                  <a:pt x="38571" y="15439"/>
                </a:lnTo>
                <a:lnTo>
                  <a:pt x="38414" y="17912"/>
                </a:lnTo>
                <a:lnTo>
                  <a:pt x="37463" y="21255"/>
                </a:lnTo>
                <a:lnTo>
                  <a:pt x="35982" y="25176"/>
                </a:lnTo>
                <a:lnTo>
                  <a:pt x="34148" y="29484"/>
                </a:lnTo>
                <a:lnTo>
                  <a:pt x="32925" y="34050"/>
                </a:lnTo>
                <a:lnTo>
                  <a:pt x="32110" y="38786"/>
                </a:lnTo>
                <a:lnTo>
                  <a:pt x="31567" y="43637"/>
                </a:lnTo>
                <a:lnTo>
                  <a:pt x="31205" y="48565"/>
                </a:lnTo>
                <a:lnTo>
                  <a:pt x="30963" y="53543"/>
                </a:lnTo>
                <a:lnTo>
                  <a:pt x="30802" y="58555"/>
                </a:lnTo>
                <a:lnTo>
                  <a:pt x="29848" y="63590"/>
                </a:lnTo>
                <a:lnTo>
                  <a:pt x="28366" y="68640"/>
                </a:lnTo>
                <a:lnTo>
                  <a:pt x="26530" y="73700"/>
                </a:lnTo>
                <a:lnTo>
                  <a:pt x="24460" y="78767"/>
                </a:lnTo>
                <a:lnTo>
                  <a:pt x="22234" y="83838"/>
                </a:lnTo>
                <a:lnTo>
                  <a:pt x="19902" y="88912"/>
                </a:lnTo>
                <a:lnTo>
                  <a:pt x="18348" y="93988"/>
                </a:lnTo>
                <a:lnTo>
                  <a:pt x="17312" y="99065"/>
                </a:lnTo>
                <a:lnTo>
                  <a:pt x="16622" y="104143"/>
                </a:lnTo>
                <a:lnTo>
                  <a:pt x="15314" y="109222"/>
                </a:lnTo>
                <a:lnTo>
                  <a:pt x="13597" y="114302"/>
                </a:lnTo>
                <a:lnTo>
                  <a:pt x="11604" y="119381"/>
                </a:lnTo>
                <a:lnTo>
                  <a:pt x="10276" y="124460"/>
                </a:lnTo>
                <a:lnTo>
                  <a:pt x="9391" y="129541"/>
                </a:lnTo>
                <a:lnTo>
                  <a:pt x="8801" y="134620"/>
                </a:lnTo>
                <a:lnTo>
                  <a:pt x="7560" y="138853"/>
                </a:lnTo>
                <a:lnTo>
                  <a:pt x="5887" y="142522"/>
                </a:lnTo>
                <a:lnTo>
                  <a:pt x="3925" y="145815"/>
                </a:lnTo>
                <a:lnTo>
                  <a:pt x="2617" y="148856"/>
                </a:lnTo>
                <a:lnTo>
                  <a:pt x="1745" y="151731"/>
                </a:lnTo>
                <a:lnTo>
                  <a:pt x="0" y="1600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InkAnnotation143"/>
          <p:cNvSpPr/>
          <p:nvPr/>
        </p:nvSpPr>
        <p:spPr>
          <a:xfrm>
            <a:off x="2522520" y="6118200"/>
            <a:ext cx="228600" cy="84240"/>
          </a:xfrm>
          <a:custGeom>
            <a:avLst/>
            <a:gdLst>
              <a:gd name="textAreaLeft" fmla="*/ 0 w 228600"/>
              <a:gd name="textAreaRight" fmla="*/ 228960 w 2286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28571" h="83719">
                <a:moveTo>
                  <a:pt x="45690" y="0"/>
                </a:moveTo>
                <a:lnTo>
                  <a:pt x="37600" y="0"/>
                </a:lnTo>
                <a:lnTo>
                  <a:pt x="35216" y="846"/>
                </a:lnTo>
                <a:lnTo>
                  <a:pt x="33627" y="2257"/>
                </a:lnTo>
                <a:lnTo>
                  <a:pt x="31078" y="6561"/>
                </a:lnTo>
                <a:lnTo>
                  <a:pt x="30022" y="6914"/>
                </a:lnTo>
                <a:lnTo>
                  <a:pt x="26591" y="7306"/>
                </a:lnTo>
                <a:lnTo>
                  <a:pt x="25337" y="8257"/>
                </a:lnTo>
                <a:lnTo>
                  <a:pt x="24502" y="9738"/>
                </a:lnTo>
                <a:lnTo>
                  <a:pt x="23944" y="11572"/>
                </a:lnTo>
                <a:lnTo>
                  <a:pt x="22726" y="13642"/>
                </a:lnTo>
                <a:lnTo>
                  <a:pt x="21067" y="15867"/>
                </a:lnTo>
                <a:lnTo>
                  <a:pt x="16367" y="21479"/>
                </a:lnTo>
                <a:lnTo>
                  <a:pt x="15134" y="22786"/>
                </a:lnTo>
                <a:lnTo>
                  <a:pt x="3889" y="34175"/>
                </a:lnTo>
                <a:lnTo>
                  <a:pt x="2582" y="36331"/>
                </a:lnTo>
                <a:lnTo>
                  <a:pt x="1712" y="38613"/>
                </a:lnTo>
                <a:lnTo>
                  <a:pt x="314" y="44316"/>
                </a:lnTo>
                <a:lnTo>
                  <a:pt x="199" y="45631"/>
                </a:lnTo>
                <a:lnTo>
                  <a:pt x="123" y="47354"/>
                </a:lnTo>
                <a:lnTo>
                  <a:pt x="0" y="52158"/>
                </a:lnTo>
                <a:lnTo>
                  <a:pt x="837" y="53399"/>
                </a:lnTo>
                <a:lnTo>
                  <a:pt x="2241" y="55072"/>
                </a:lnTo>
                <a:lnTo>
                  <a:pt x="4024" y="57035"/>
                </a:lnTo>
                <a:lnTo>
                  <a:pt x="6059" y="58344"/>
                </a:lnTo>
                <a:lnTo>
                  <a:pt x="13816" y="61031"/>
                </a:lnTo>
                <a:lnTo>
                  <a:pt x="17667" y="62701"/>
                </a:lnTo>
                <a:lnTo>
                  <a:pt x="21928" y="64661"/>
                </a:lnTo>
                <a:lnTo>
                  <a:pt x="27309" y="65968"/>
                </a:lnTo>
                <a:lnTo>
                  <a:pt x="33436" y="66838"/>
                </a:lnTo>
                <a:lnTo>
                  <a:pt x="40060" y="67419"/>
                </a:lnTo>
                <a:lnTo>
                  <a:pt x="46170" y="68653"/>
                </a:lnTo>
                <a:lnTo>
                  <a:pt x="51937" y="70322"/>
                </a:lnTo>
                <a:lnTo>
                  <a:pt x="57475" y="72281"/>
                </a:lnTo>
                <a:lnTo>
                  <a:pt x="64553" y="73588"/>
                </a:lnTo>
                <a:lnTo>
                  <a:pt x="72659" y="74458"/>
                </a:lnTo>
                <a:lnTo>
                  <a:pt x="81449" y="75039"/>
                </a:lnTo>
                <a:lnTo>
                  <a:pt x="90696" y="76273"/>
                </a:lnTo>
                <a:lnTo>
                  <a:pt x="100247" y="77942"/>
                </a:lnTo>
                <a:lnTo>
                  <a:pt x="110002" y="79902"/>
                </a:lnTo>
                <a:lnTo>
                  <a:pt x="118198" y="81208"/>
                </a:lnTo>
                <a:lnTo>
                  <a:pt x="125355" y="82079"/>
                </a:lnTo>
                <a:lnTo>
                  <a:pt x="131820" y="82659"/>
                </a:lnTo>
                <a:lnTo>
                  <a:pt x="138670" y="83046"/>
                </a:lnTo>
                <a:lnTo>
                  <a:pt x="153055" y="83476"/>
                </a:lnTo>
                <a:lnTo>
                  <a:pt x="171388" y="83718"/>
                </a:lnTo>
                <a:lnTo>
                  <a:pt x="176902" y="82905"/>
                </a:lnTo>
                <a:lnTo>
                  <a:pt x="182271" y="81517"/>
                </a:lnTo>
                <a:lnTo>
                  <a:pt x="187544" y="79745"/>
                </a:lnTo>
                <a:lnTo>
                  <a:pt x="192753" y="78563"/>
                </a:lnTo>
                <a:lnTo>
                  <a:pt x="197919" y="77776"/>
                </a:lnTo>
                <a:lnTo>
                  <a:pt x="203056" y="77251"/>
                </a:lnTo>
                <a:lnTo>
                  <a:pt x="207327" y="76901"/>
                </a:lnTo>
                <a:lnTo>
                  <a:pt x="214331" y="76511"/>
                </a:lnTo>
                <a:lnTo>
                  <a:pt x="217384" y="75562"/>
                </a:lnTo>
                <a:lnTo>
                  <a:pt x="220266" y="74081"/>
                </a:lnTo>
                <a:lnTo>
                  <a:pt x="228570" y="685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InkAnnotation144"/>
          <p:cNvSpPr/>
          <p:nvPr/>
        </p:nvSpPr>
        <p:spPr>
          <a:xfrm>
            <a:off x="2682720" y="6141960"/>
            <a:ext cx="82800" cy="236520"/>
          </a:xfrm>
          <a:custGeom>
            <a:avLst/>
            <a:gdLst>
              <a:gd name="textAreaLeft" fmla="*/ 0 w 82800"/>
              <a:gd name="textAreaRight" fmla="*/ 83160 w 828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83821" h="236222">
                <a:moveTo>
                  <a:pt x="83820" y="0"/>
                </a:moveTo>
                <a:lnTo>
                  <a:pt x="83820" y="7528"/>
                </a:lnTo>
                <a:lnTo>
                  <a:pt x="79775" y="11637"/>
                </a:lnTo>
                <a:lnTo>
                  <a:pt x="73214" y="18218"/>
                </a:lnTo>
                <a:lnTo>
                  <a:pt x="71669" y="21459"/>
                </a:lnTo>
                <a:lnTo>
                  <a:pt x="70640" y="25313"/>
                </a:lnTo>
                <a:lnTo>
                  <a:pt x="69953" y="29575"/>
                </a:lnTo>
                <a:lnTo>
                  <a:pt x="68649" y="33264"/>
                </a:lnTo>
                <a:lnTo>
                  <a:pt x="66933" y="36570"/>
                </a:lnTo>
                <a:lnTo>
                  <a:pt x="64942" y="39619"/>
                </a:lnTo>
                <a:lnTo>
                  <a:pt x="61921" y="43347"/>
                </a:lnTo>
                <a:lnTo>
                  <a:pt x="58214" y="47524"/>
                </a:lnTo>
                <a:lnTo>
                  <a:pt x="54050" y="52003"/>
                </a:lnTo>
                <a:lnTo>
                  <a:pt x="50427" y="57529"/>
                </a:lnTo>
                <a:lnTo>
                  <a:pt x="47164" y="63753"/>
                </a:lnTo>
                <a:lnTo>
                  <a:pt x="41282" y="76595"/>
                </a:lnTo>
                <a:lnTo>
                  <a:pt x="35845" y="87947"/>
                </a:lnTo>
                <a:lnTo>
                  <a:pt x="33210" y="94191"/>
                </a:lnTo>
                <a:lnTo>
                  <a:pt x="30607" y="100895"/>
                </a:lnTo>
                <a:lnTo>
                  <a:pt x="25457" y="115116"/>
                </a:lnTo>
                <a:lnTo>
                  <a:pt x="5082" y="175292"/>
                </a:lnTo>
                <a:lnTo>
                  <a:pt x="3389" y="182055"/>
                </a:lnTo>
                <a:lnTo>
                  <a:pt x="2259" y="188257"/>
                </a:lnTo>
                <a:lnTo>
                  <a:pt x="1506" y="194085"/>
                </a:lnTo>
                <a:lnTo>
                  <a:pt x="1004" y="200510"/>
                </a:lnTo>
                <a:lnTo>
                  <a:pt x="670" y="207333"/>
                </a:lnTo>
                <a:lnTo>
                  <a:pt x="199" y="224557"/>
                </a:lnTo>
                <a:lnTo>
                  <a:pt x="0" y="2362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InkAnnotation145"/>
          <p:cNvSpPr/>
          <p:nvPr/>
        </p:nvSpPr>
        <p:spPr>
          <a:xfrm>
            <a:off x="3056040" y="5875200"/>
            <a:ext cx="296640" cy="174600"/>
          </a:xfrm>
          <a:custGeom>
            <a:avLst/>
            <a:gdLst>
              <a:gd name="textAreaLeft" fmla="*/ 0 w 296640"/>
              <a:gd name="textAreaRight" fmla="*/ 297000 w 2966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97181" h="175261">
                <a:moveTo>
                  <a:pt x="297180" y="0"/>
                </a:moveTo>
                <a:lnTo>
                  <a:pt x="297180" y="6561"/>
                </a:lnTo>
                <a:lnTo>
                  <a:pt x="293136" y="11352"/>
                </a:lnTo>
                <a:lnTo>
                  <a:pt x="288892" y="15770"/>
                </a:lnTo>
                <a:lnTo>
                  <a:pt x="286574" y="18133"/>
                </a:lnTo>
                <a:lnTo>
                  <a:pt x="284183" y="21402"/>
                </a:lnTo>
                <a:lnTo>
                  <a:pt x="281742" y="25275"/>
                </a:lnTo>
                <a:lnTo>
                  <a:pt x="279268" y="29550"/>
                </a:lnTo>
                <a:lnTo>
                  <a:pt x="275925" y="34093"/>
                </a:lnTo>
                <a:lnTo>
                  <a:pt x="272004" y="38816"/>
                </a:lnTo>
                <a:lnTo>
                  <a:pt x="267696" y="43657"/>
                </a:lnTo>
                <a:lnTo>
                  <a:pt x="258394" y="53553"/>
                </a:lnTo>
                <a:lnTo>
                  <a:pt x="253543" y="58562"/>
                </a:lnTo>
                <a:lnTo>
                  <a:pt x="247769" y="63595"/>
                </a:lnTo>
                <a:lnTo>
                  <a:pt x="241379" y="68643"/>
                </a:lnTo>
                <a:lnTo>
                  <a:pt x="234579" y="73702"/>
                </a:lnTo>
                <a:lnTo>
                  <a:pt x="220251" y="83839"/>
                </a:lnTo>
                <a:lnTo>
                  <a:pt x="212874" y="88912"/>
                </a:lnTo>
                <a:lnTo>
                  <a:pt x="204569" y="93989"/>
                </a:lnTo>
                <a:lnTo>
                  <a:pt x="195646" y="99066"/>
                </a:lnTo>
                <a:lnTo>
                  <a:pt x="186311" y="104143"/>
                </a:lnTo>
                <a:lnTo>
                  <a:pt x="177548" y="109222"/>
                </a:lnTo>
                <a:lnTo>
                  <a:pt x="161037" y="119381"/>
                </a:lnTo>
                <a:lnTo>
                  <a:pt x="152231" y="124461"/>
                </a:lnTo>
                <a:lnTo>
                  <a:pt x="133416" y="134620"/>
                </a:lnTo>
                <a:lnTo>
                  <a:pt x="103783" y="149860"/>
                </a:lnTo>
                <a:lnTo>
                  <a:pt x="94589" y="154093"/>
                </a:lnTo>
                <a:lnTo>
                  <a:pt x="85920" y="157763"/>
                </a:lnTo>
                <a:lnTo>
                  <a:pt x="77600" y="161055"/>
                </a:lnTo>
                <a:lnTo>
                  <a:pt x="68667" y="163250"/>
                </a:lnTo>
                <a:lnTo>
                  <a:pt x="59325" y="164714"/>
                </a:lnTo>
                <a:lnTo>
                  <a:pt x="49710" y="165689"/>
                </a:lnTo>
                <a:lnTo>
                  <a:pt x="41607" y="167186"/>
                </a:lnTo>
                <a:lnTo>
                  <a:pt x="34511" y="169030"/>
                </a:lnTo>
                <a:lnTo>
                  <a:pt x="28087" y="171107"/>
                </a:lnTo>
                <a:lnTo>
                  <a:pt x="22958" y="172491"/>
                </a:lnTo>
                <a:lnTo>
                  <a:pt x="15002" y="174030"/>
                </a:lnTo>
                <a:lnTo>
                  <a:pt x="8643" y="174713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InkAnnotation146"/>
          <p:cNvSpPr/>
          <p:nvPr/>
        </p:nvSpPr>
        <p:spPr>
          <a:xfrm>
            <a:off x="3146400" y="5829480"/>
            <a:ext cx="228600" cy="198360"/>
          </a:xfrm>
          <a:custGeom>
            <a:avLst/>
            <a:gdLst>
              <a:gd name="textAreaLeft" fmla="*/ 0 w 228600"/>
              <a:gd name="textAreaRight" fmla="*/ 228960 w 2286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28601" h="198121">
                <a:moveTo>
                  <a:pt x="0" y="0"/>
                </a:moveTo>
                <a:lnTo>
                  <a:pt x="4045" y="4045"/>
                </a:lnTo>
                <a:lnTo>
                  <a:pt x="5237" y="6084"/>
                </a:lnTo>
                <a:lnTo>
                  <a:pt x="6561" y="10606"/>
                </a:lnTo>
                <a:lnTo>
                  <a:pt x="9408" y="15439"/>
                </a:lnTo>
                <a:lnTo>
                  <a:pt x="14341" y="21255"/>
                </a:lnTo>
                <a:lnTo>
                  <a:pt x="22178" y="29485"/>
                </a:lnTo>
                <a:lnTo>
                  <a:pt x="25792" y="34050"/>
                </a:lnTo>
                <a:lnTo>
                  <a:pt x="29048" y="38786"/>
                </a:lnTo>
                <a:lnTo>
                  <a:pt x="35770" y="49412"/>
                </a:lnTo>
                <a:lnTo>
                  <a:pt x="44402" y="62601"/>
                </a:lnTo>
                <a:lnTo>
                  <a:pt x="49922" y="69674"/>
                </a:lnTo>
                <a:lnTo>
                  <a:pt x="56141" y="76930"/>
                </a:lnTo>
                <a:lnTo>
                  <a:pt x="62828" y="84306"/>
                </a:lnTo>
                <a:lnTo>
                  <a:pt x="77030" y="99276"/>
                </a:lnTo>
                <a:lnTo>
                  <a:pt x="84373" y="106824"/>
                </a:lnTo>
                <a:lnTo>
                  <a:pt x="91809" y="113549"/>
                </a:lnTo>
                <a:lnTo>
                  <a:pt x="99306" y="119727"/>
                </a:lnTo>
                <a:lnTo>
                  <a:pt x="106844" y="125538"/>
                </a:lnTo>
                <a:lnTo>
                  <a:pt x="114410" y="131952"/>
                </a:lnTo>
                <a:lnTo>
                  <a:pt x="121993" y="138768"/>
                </a:lnTo>
                <a:lnTo>
                  <a:pt x="129588" y="145852"/>
                </a:lnTo>
                <a:lnTo>
                  <a:pt x="137193" y="152268"/>
                </a:lnTo>
                <a:lnTo>
                  <a:pt x="144801" y="158239"/>
                </a:lnTo>
                <a:lnTo>
                  <a:pt x="152415" y="163912"/>
                </a:lnTo>
                <a:lnTo>
                  <a:pt x="160030" y="168542"/>
                </a:lnTo>
                <a:lnTo>
                  <a:pt x="167646" y="172475"/>
                </a:lnTo>
                <a:lnTo>
                  <a:pt x="175264" y="175943"/>
                </a:lnTo>
                <a:lnTo>
                  <a:pt x="182883" y="179949"/>
                </a:lnTo>
                <a:lnTo>
                  <a:pt x="190502" y="184312"/>
                </a:lnTo>
                <a:lnTo>
                  <a:pt x="198121" y="188916"/>
                </a:lnTo>
                <a:lnTo>
                  <a:pt x="204894" y="191983"/>
                </a:lnTo>
                <a:lnTo>
                  <a:pt x="211103" y="194030"/>
                </a:lnTo>
                <a:lnTo>
                  <a:pt x="228600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InkAnnotation147"/>
          <p:cNvSpPr/>
          <p:nvPr/>
        </p:nvSpPr>
        <p:spPr>
          <a:xfrm>
            <a:off x="3483000" y="5921280"/>
            <a:ext cx="136440" cy="6480"/>
          </a:xfrm>
          <a:custGeom>
            <a:avLst/>
            <a:gdLst>
              <a:gd name="textAreaLeft" fmla="*/ 0 w 136440"/>
              <a:gd name="textAreaRight" fmla="*/ 136800 w 136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37161" h="7620">
                <a:moveTo>
                  <a:pt x="0" y="0"/>
                </a:moveTo>
                <a:lnTo>
                  <a:pt x="100484" y="0"/>
                </a:lnTo>
                <a:lnTo>
                  <a:pt x="106783" y="846"/>
                </a:lnTo>
                <a:lnTo>
                  <a:pt x="112675" y="2257"/>
                </a:lnTo>
                <a:lnTo>
                  <a:pt x="118297" y="4044"/>
                </a:lnTo>
                <a:lnTo>
                  <a:pt x="122891" y="5236"/>
                </a:lnTo>
                <a:lnTo>
                  <a:pt x="126801" y="6030"/>
                </a:lnTo>
                <a:lnTo>
                  <a:pt x="137160" y="76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InkAnnotation148"/>
          <p:cNvSpPr/>
          <p:nvPr/>
        </p:nvSpPr>
        <p:spPr>
          <a:xfrm>
            <a:off x="3429000" y="598968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788" h="7621">
                <a:moveTo>
                  <a:pt x="7527" y="0"/>
                </a:moveTo>
                <a:lnTo>
                  <a:pt x="0" y="0"/>
                </a:lnTo>
                <a:lnTo>
                  <a:pt x="3980" y="0"/>
                </a:lnTo>
                <a:lnTo>
                  <a:pt x="6009" y="847"/>
                </a:lnTo>
                <a:lnTo>
                  <a:pt x="8208" y="2258"/>
                </a:lnTo>
                <a:lnTo>
                  <a:pt x="10521" y="4045"/>
                </a:lnTo>
                <a:lnTo>
                  <a:pt x="13757" y="5237"/>
                </a:lnTo>
                <a:lnTo>
                  <a:pt x="17607" y="6032"/>
                </a:lnTo>
                <a:lnTo>
                  <a:pt x="21867" y="6561"/>
                </a:lnTo>
                <a:lnTo>
                  <a:pt x="26400" y="6914"/>
                </a:lnTo>
                <a:lnTo>
                  <a:pt x="31116" y="7150"/>
                </a:lnTo>
                <a:lnTo>
                  <a:pt x="35953" y="7306"/>
                </a:lnTo>
                <a:lnTo>
                  <a:pt x="61120" y="7559"/>
                </a:lnTo>
                <a:lnTo>
                  <a:pt x="140434" y="7620"/>
                </a:lnTo>
                <a:lnTo>
                  <a:pt x="146085" y="6773"/>
                </a:lnTo>
                <a:lnTo>
                  <a:pt x="151546" y="5362"/>
                </a:lnTo>
                <a:lnTo>
                  <a:pt x="156879" y="3575"/>
                </a:lnTo>
                <a:lnTo>
                  <a:pt x="161282" y="2384"/>
                </a:lnTo>
                <a:lnTo>
                  <a:pt x="165064" y="1589"/>
                </a:lnTo>
                <a:lnTo>
                  <a:pt x="168432" y="1059"/>
                </a:lnTo>
                <a:lnTo>
                  <a:pt x="171524" y="707"/>
                </a:lnTo>
                <a:lnTo>
                  <a:pt x="174431" y="471"/>
                </a:lnTo>
                <a:lnTo>
                  <a:pt x="18278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InkAnnotation149"/>
          <p:cNvSpPr/>
          <p:nvPr/>
        </p:nvSpPr>
        <p:spPr>
          <a:xfrm>
            <a:off x="3673440" y="585144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0" h="7621">
                <a:moveTo>
                  <a:pt x="0" y="7620"/>
                </a:moveTo>
                <a:lnTo>
                  <a:pt x="14650" y="7620"/>
                </a:lnTo>
                <a:lnTo>
                  <a:pt x="19926" y="6773"/>
                </a:lnTo>
                <a:lnTo>
                  <a:pt x="25984" y="5362"/>
                </a:lnTo>
                <a:lnTo>
                  <a:pt x="32562" y="3575"/>
                </a:lnTo>
                <a:lnTo>
                  <a:pt x="39488" y="2383"/>
                </a:lnTo>
                <a:lnTo>
                  <a:pt x="46645" y="1589"/>
                </a:lnTo>
                <a:lnTo>
                  <a:pt x="53956" y="1059"/>
                </a:lnTo>
                <a:lnTo>
                  <a:pt x="61371" y="706"/>
                </a:lnTo>
                <a:lnTo>
                  <a:pt x="76382" y="314"/>
                </a:lnTo>
                <a:lnTo>
                  <a:pt x="115374" y="27"/>
                </a:lnTo>
                <a:lnTo>
                  <a:pt x="18287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InkAnnotation150"/>
          <p:cNvSpPr/>
          <p:nvPr/>
        </p:nvSpPr>
        <p:spPr>
          <a:xfrm>
            <a:off x="3878280" y="5715000"/>
            <a:ext cx="214200" cy="152280"/>
          </a:xfrm>
          <a:custGeom>
            <a:avLst/>
            <a:gdLst>
              <a:gd name="textAreaLeft" fmla="*/ 0 w 214200"/>
              <a:gd name="textAreaRight" fmla="*/ 214560 w 214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3009" h="152052">
                <a:moveTo>
                  <a:pt x="75847" y="0"/>
                </a:moveTo>
                <a:lnTo>
                  <a:pt x="75847" y="15397"/>
                </a:lnTo>
                <a:lnTo>
                  <a:pt x="75000" y="18731"/>
                </a:lnTo>
                <a:lnTo>
                  <a:pt x="73589" y="21801"/>
                </a:lnTo>
                <a:lnTo>
                  <a:pt x="71802" y="24694"/>
                </a:lnTo>
                <a:lnTo>
                  <a:pt x="70610" y="27470"/>
                </a:lnTo>
                <a:lnTo>
                  <a:pt x="69816" y="30166"/>
                </a:lnTo>
                <a:lnTo>
                  <a:pt x="69286" y="32812"/>
                </a:lnTo>
                <a:lnTo>
                  <a:pt x="68087" y="36267"/>
                </a:lnTo>
                <a:lnTo>
                  <a:pt x="66440" y="40265"/>
                </a:lnTo>
                <a:lnTo>
                  <a:pt x="64496" y="44623"/>
                </a:lnTo>
                <a:lnTo>
                  <a:pt x="62352" y="48375"/>
                </a:lnTo>
                <a:lnTo>
                  <a:pt x="60077" y="51723"/>
                </a:lnTo>
                <a:lnTo>
                  <a:pt x="57714" y="54802"/>
                </a:lnTo>
                <a:lnTo>
                  <a:pt x="55292" y="58548"/>
                </a:lnTo>
                <a:lnTo>
                  <a:pt x="52830" y="62739"/>
                </a:lnTo>
                <a:lnTo>
                  <a:pt x="50342" y="67226"/>
                </a:lnTo>
                <a:lnTo>
                  <a:pt x="47837" y="71064"/>
                </a:lnTo>
                <a:lnTo>
                  <a:pt x="45320" y="74469"/>
                </a:lnTo>
                <a:lnTo>
                  <a:pt x="42796" y="77587"/>
                </a:lnTo>
                <a:lnTo>
                  <a:pt x="40267" y="80511"/>
                </a:lnTo>
                <a:lnTo>
                  <a:pt x="37734" y="83307"/>
                </a:lnTo>
                <a:lnTo>
                  <a:pt x="35197" y="86019"/>
                </a:lnTo>
                <a:lnTo>
                  <a:pt x="32661" y="89519"/>
                </a:lnTo>
                <a:lnTo>
                  <a:pt x="30123" y="93546"/>
                </a:lnTo>
                <a:lnTo>
                  <a:pt x="27584" y="97924"/>
                </a:lnTo>
                <a:lnTo>
                  <a:pt x="25045" y="101689"/>
                </a:lnTo>
                <a:lnTo>
                  <a:pt x="22505" y="105046"/>
                </a:lnTo>
                <a:lnTo>
                  <a:pt x="19966" y="108131"/>
                </a:lnTo>
                <a:lnTo>
                  <a:pt x="17426" y="110187"/>
                </a:lnTo>
                <a:lnTo>
                  <a:pt x="14887" y="111558"/>
                </a:lnTo>
                <a:lnTo>
                  <a:pt x="12347" y="112473"/>
                </a:lnTo>
                <a:lnTo>
                  <a:pt x="10653" y="113928"/>
                </a:lnTo>
                <a:lnTo>
                  <a:pt x="9524" y="115745"/>
                </a:lnTo>
                <a:lnTo>
                  <a:pt x="8772" y="117804"/>
                </a:lnTo>
                <a:lnTo>
                  <a:pt x="7423" y="119176"/>
                </a:lnTo>
                <a:lnTo>
                  <a:pt x="5678" y="120091"/>
                </a:lnTo>
                <a:lnTo>
                  <a:pt x="838" y="121559"/>
                </a:lnTo>
                <a:lnTo>
                  <a:pt x="441" y="122526"/>
                </a:lnTo>
                <a:lnTo>
                  <a:pt x="0" y="125858"/>
                </a:lnTo>
                <a:lnTo>
                  <a:pt x="729" y="127086"/>
                </a:lnTo>
                <a:lnTo>
                  <a:pt x="2062" y="127904"/>
                </a:lnTo>
                <a:lnTo>
                  <a:pt x="6239" y="129217"/>
                </a:lnTo>
                <a:lnTo>
                  <a:pt x="11325" y="129396"/>
                </a:lnTo>
                <a:lnTo>
                  <a:pt x="44594" y="129532"/>
                </a:lnTo>
                <a:lnTo>
                  <a:pt x="52472" y="130381"/>
                </a:lnTo>
                <a:lnTo>
                  <a:pt x="60263" y="131794"/>
                </a:lnTo>
                <a:lnTo>
                  <a:pt x="67998" y="133583"/>
                </a:lnTo>
                <a:lnTo>
                  <a:pt x="75694" y="135622"/>
                </a:lnTo>
                <a:lnTo>
                  <a:pt x="91019" y="140145"/>
                </a:lnTo>
                <a:lnTo>
                  <a:pt x="98662" y="141690"/>
                </a:lnTo>
                <a:lnTo>
                  <a:pt x="106297" y="142720"/>
                </a:lnTo>
                <a:lnTo>
                  <a:pt x="113927" y="143407"/>
                </a:lnTo>
                <a:lnTo>
                  <a:pt x="122400" y="144711"/>
                </a:lnTo>
                <a:lnTo>
                  <a:pt x="131436" y="146427"/>
                </a:lnTo>
                <a:lnTo>
                  <a:pt x="140846" y="148418"/>
                </a:lnTo>
                <a:lnTo>
                  <a:pt x="148813" y="149746"/>
                </a:lnTo>
                <a:lnTo>
                  <a:pt x="155818" y="150630"/>
                </a:lnTo>
                <a:lnTo>
                  <a:pt x="162181" y="151220"/>
                </a:lnTo>
                <a:lnTo>
                  <a:pt x="168963" y="151614"/>
                </a:lnTo>
                <a:lnTo>
                  <a:pt x="183272" y="152051"/>
                </a:lnTo>
                <a:lnTo>
                  <a:pt x="188950" y="151321"/>
                </a:lnTo>
                <a:lnTo>
                  <a:pt x="193583" y="149987"/>
                </a:lnTo>
                <a:lnTo>
                  <a:pt x="197517" y="148252"/>
                </a:lnTo>
                <a:lnTo>
                  <a:pt x="204148" y="146323"/>
                </a:lnTo>
                <a:lnTo>
                  <a:pt x="213008" y="1447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InkAnnotation151"/>
          <p:cNvSpPr/>
          <p:nvPr/>
        </p:nvSpPr>
        <p:spPr>
          <a:xfrm>
            <a:off x="4008600" y="5699160"/>
            <a:ext cx="106200" cy="350640"/>
          </a:xfrm>
          <a:custGeom>
            <a:avLst/>
            <a:gdLst>
              <a:gd name="textAreaLeft" fmla="*/ 0 w 106200"/>
              <a:gd name="textAreaRight" fmla="*/ 106560 w 10620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106681" h="350521">
                <a:moveTo>
                  <a:pt x="106680" y="0"/>
                </a:moveTo>
                <a:lnTo>
                  <a:pt x="106680" y="15397"/>
                </a:lnTo>
                <a:lnTo>
                  <a:pt x="105834" y="18731"/>
                </a:lnTo>
                <a:lnTo>
                  <a:pt x="102635" y="24694"/>
                </a:lnTo>
                <a:lnTo>
                  <a:pt x="100649" y="32424"/>
                </a:lnTo>
                <a:lnTo>
                  <a:pt x="98920" y="42350"/>
                </a:lnTo>
                <a:lnTo>
                  <a:pt x="97273" y="48554"/>
                </a:lnTo>
                <a:lnTo>
                  <a:pt x="93186" y="62219"/>
                </a:lnTo>
                <a:lnTo>
                  <a:pt x="88548" y="76760"/>
                </a:lnTo>
                <a:lnTo>
                  <a:pt x="85278" y="84193"/>
                </a:lnTo>
                <a:lnTo>
                  <a:pt x="81405" y="91689"/>
                </a:lnTo>
                <a:lnTo>
                  <a:pt x="77131" y="99226"/>
                </a:lnTo>
                <a:lnTo>
                  <a:pt x="72587" y="106791"/>
                </a:lnTo>
                <a:lnTo>
                  <a:pt x="63024" y="121969"/>
                </a:lnTo>
                <a:lnTo>
                  <a:pt x="58949" y="130419"/>
                </a:lnTo>
                <a:lnTo>
                  <a:pt x="55385" y="139439"/>
                </a:lnTo>
                <a:lnTo>
                  <a:pt x="52164" y="148840"/>
                </a:lnTo>
                <a:lnTo>
                  <a:pt x="48323" y="158493"/>
                </a:lnTo>
                <a:lnTo>
                  <a:pt x="44069" y="168315"/>
                </a:lnTo>
                <a:lnTo>
                  <a:pt x="39540" y="178251"/>
                </a:lnTo>
                <a:lnTo>
                  <a:pt x="35673" y="188260"/>
                </a:lnTo>
                <a:lnTo>
                  <a:pt x="32249" y="198320"/>
                </a:lnTo>
                <a:lnTo>
                  <a:pt x="29119" y="208413"/>
                </a:lnTo>
                <a:lnTo>
                  <a:pt x="23384" y="228659"/>
                </a:lnTo>
                <a:lnTo>
                  <a:pt x="10230" y="279408"/>
                </a:lnTo>
                <a:lnTo>
                  <a:pt x="5111" y="299723"/>
                </a:lnTo>
                <a:lnTo>
                  <a:pt x="3407" y="308189"/>
                </a:lnTo>
                <a:lnTo>
                  <a:pt x="2272" y="315526"/>
                </a:lnTo>
                <a:lnTo>
                  <a:pt x="1514" y="322110"/>
                </a:lnTo>
                <a:lnTo>
                  <a:pt x="1009" y="328194"/>
                </a:lnTo>
                <a:lnTo>
                  <a:pt x="673" y="333942"/>
                </a:lnTo>
                <a:lnTo>
                  <a:pt x="0" y="3505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InkAnnotation152"/>
          <p:cNvSpPr/>
          <p:nvPr/>
        </p:nvSpPr>
        <p:spPr>
          <a:xfrm>
            <a:off x="3009960" y="5380200"/>
            <a:ext cx="1272960" cy="1126800"/>
          </a:xfrm>
          <a:custGeom>
            <a:avLst/>
            <a:gdLst>
              <a:gd name="textAreaLeft" fmla="*/ 0 w 1272960"/>
              <a:gd name="textAreaRight" fmla="*/ 1273320 w 1272960"/>
              <a:gd name="textAreaTop" fmla="*/ 0 h 1126800"/>
              <a:gd name="textAreaBottom" fmla="*/ 1127160 h 1126800"/>
            </a:gdLst>
            <a:ahLst/>
            <a:rect l="textAreaLeft" t="textAreaTop" r="textAreaRight" b="textAreaBottom"/>
            <a:pathLst>
              <a:path w="1272542" h="1127425">
                <a:moveTo>
                  <a:pt x="0" y="205443"/>
                </a:moveTo>
                <a:lnTo>
                  <a:pt x="6561" y="198881"/>
                </a:lnTo>
                <a:lnTo>
                  <a:pt x="20425" y="191948"/>
                </a:lnTo>
                <a:lnTo>
                  <a:pt x="51260" y="182425"/>
                </a:lnTo>
                <a:lnTo>
                  <a:pt x="83204" y="172658"/>
                </a:lnTo>
                <a:lnTo>
                  <a:pt x="118633" y="161298"/>
                </a:lnTo>
                <a:lnTo>
                  <a:pt x="146706" y="155343"/>
                </a:lnTo>
                <a:lnTo>
                  <a:pt x="191071" y="147230"/>
                </a:lnTo>
                <a:lnTo>
                  <a:pt x="237236" y="139464"/>
                </a:lnTo>
                <a:lnTo>
                  <a:pt x="270820" y="134349"/>
                </a:lnTo>
                <a:lnTo>
                  <a:pt x="305502" y="126997"/>
                </a:lnTo>
                <a:lnTo>
                  <a:pt x="339825" y="118931"/>
                </a:lnTo>
                <a:lnTo>
                  <a:pt x="372014" y="112524"/>
                </a:lnTo>
                <a:lnTo>
                  <a:pt x="405510" y="106854"/>
                </a:lnTo>
                <a:lnTo>
                  <a:pt x="441001" y="100666"/>
                </a:lnTo>
                <a:lnTo>
                  <a:pt x="498215" y="88508"/>
                </a:lnTo>
                <a:lnTo>
                  <a:pt x="534977" y="82069"/>
                </a:lnTo>
                <a:lnTo>
                  <a:pt x="573330" y="74128"/>
                </a:lnTo>
                <a:lnTo>
                  <a:pt x="612953" y="65800"/>
                </a:lnTo>
                <a:lnTo>
                  <a:pt x="633002" y="62394"/>
                </a:lnTo>
                <a:lnTo>
                  <a:pt x="653142" y="59277"/>
                </a:lnTo>
                <a:lnTo>
                  <a:pt x="673341" y="55506"/>
                </a:lnTo>
                <a:lnTo>
                  <a:pt x="733285" y="42953"/>
                </a:lnTo>
                <a:lnTo>
                  <a:pt x="770687" y="36423"/>
                </a:lnTo>
                <a:lnTo>
                  <a:pt x="809323" y="30698"/>
                </a:lnTo>
                <a:lnTo>
                  <a:pt x="993036" y="4792"/>
                </a:lnTo>
                <a:lnTo>
                  <a:pt x="1024138" y="1964"/>
                </a:lnTo>
                <a:lnTo>
                  <a:pt x="1052073" y="707"/>
                </a:lnTo>
                <a:lnTo>
                  <a:pt x="1091599" y="0"/>
                </a:lnTo>
                <a:lnTo>
                  <a:pt x="1129275" y="637"/>
                </a:lnTo>
                <a:lnTo>
                  <a:pt x="1168261" y="5751"/>
                </a:lnTo>
                <a:lnTo>
                  <a:pt x="1175081" y="6275"/>
                </a:lnTo>
                <a:lnTo>
                  <a:pt x="1189432" y="11373"/>
                </a:lnTo>
                <a:lnTo>
                  <a:pt x="1203430" y="19282"/>
                </a:lnTo>
                <a:lnTo>
                  <a:pt x="1231496" y="43120"/>
                </a:lnTo>
                <a:lnTo>
                  <a:pt x="1239623" y="55405"/>
                </a:lnTo>
                <a:lnTo>
                  <a:pt x="1251739" y="83990"/>
                </a:lnTo>
                <a:lnTo>
                  <a:pt x="1255652" y="114611"/>
                </a:lnTo>
                <a:lnTo>
                  <a:pt x="1258825" y="138262"/>
                </a:lnTo>
                <a:lnTo>
                  <a:pt x="1267762" y="191984"/>
                </a:lnTo>
                <a:lnTo>
                  <a:pt x="1270417" y="221474"/>
                </a:lnTo>
                <a:lnTo>
                  <a:pt x="1271597" y="252361"/>
                </a:lnTo>
                <a:lnTo>
                  <a:pt x="1272354" y="322739"/>
                </a:lnTo>
                <a:lnTo>
                  <a:pt x="1272541" y="713130"/>
                </a:lnTo>
                <a:lnTo>
                  <a:pt x="1270847" y="732707"/>
                </a:lnTo>
                <a:lnTo>
                  <a:pt x="1268025" y="751686"/>
                </a:lnTo>
                <a:lnTo>
                  <a:pt x="1264450" y="770265"/>
                </a:lnTo>
                <a:lnTo>
                  <a:pt x="1258220" y="806712"/>
                </a:lnTo>
                <a:lnTo>
                  <a:pt x="1247322" y="874356"/>
                </a:lnTo>
                <a:lnTo>
                  <a:pt x="1242141" y="901235"/>
                </a:lnTo>
                <a:lnTo>
                  <a:pt x="1235323" y="924470"/>
                </a:lnTo>
                <a:lnTo>
                  <a:pt x="1218051" y="955744"/>
                </a:lnTo>
                <a:lnTo>
                  <a:pt x="1200986" y="980627"/>
                </a:lnTo>
                <a:lnTo>
                  <a:pt x="1169513" y="1010017"/>
                </a:lnTo>
                <a:lnTo>
                  <a:pt x="1136980" y="1030823"/>
                </a:lnTo>
                <a:lnTo>
                  <a:pt x="1112148" y="1045300"/>
                </a:lnTo>
                <a:lnTo>
                  <a:pt x="1073845" y="1058206"/>
                </a:lnTo>
                <a:lnTo>
                  <a:pt x="1041512" y="1066302"/>
                </a:lnTo>
                <a:lnTo>
                  <a:pt x="1002862" y="1074063"/>
                </a:lnTo>
                <a:lnTo>
                  <a:pt x="944292" y="1084271"/>
                </a:lnTo>
                <a:lnTo>
                  <a:pt x="860314" y="1096980"/>
                </a:lnTo>
                <a:lnTo>
                  <a:pt x="824322" y="1101215"/>
                </a:lnTo>
                <a:lnTo>
                  <a:pt x="765978" y="1104445"/>
                </a:lnTo>
                <a:lnTo>
                  <a:pt x="725951" y="1108201"/>
                </a:lnTo>
                <a:lnTo>
                  <a:pt x="600432" y="1122475"/>
                </a:lnTo>
                <a:lnTo>
                  <a:pt x="578934" y="1124138"/>
                </a:lnTo>
                <a:lnTo>
                  <a:pt x="557830" y="1125246"/>
                </a:lnTo>
                <a:lnTo>
                  <a:pt x="516318" y="1126477"/>
                </a:lnTo>
                <a:lnTo>
                  <a:pt x="399845" y="1127375"/>
                </a:lnTo>
                <a:lnTo>
                  <a:pt x="363693" y="1127424"/>
                </a:lnTo>
                <a:lnTo>
                  <a:pt x="330128" y="1125187"/>
                </a:lnTo>
                <a:lnTo>
                  <a:pt x="299970" y="1121371"/>
                </a:lnTo>
                <a:lnTo>
                  <a:pt x="263952" y="1114462"/>
                </a:lnTo>
                <a:lnTo>
                  <a:pt x="231831" y="1106207"/>
                </a:lnTo>
                <a:lnTo>
                  <a:pt x="202558" y="1093412"/>
                </a:lnTo>
                <a:lnTo>
                  <a:pt x="188521" y="1083825"/>
                </a:lnTo>
                <a:lnTo>
                  <a:pt x="178897" y="1071661"/>
                </a:lnTo>
                <a:lnTo>
                  <a:pt x="161773" y="1043156"/>
                </a:lnTo>
                <a:lnTo>
                  <a:pt x="147321" y="1012219"/>
                </a:lnTo>
                <a:lnTo>
                  <a:pt x="134715" y="983343"/>
                </a:lnTo>
                <a:lnTo>
                  <a:pt x="125241" y="949200"/>
                </a:lnTo>
                <a:lnTo>
                  <a:pt x="117072" y="916411"/>
                </a:lnTo>
                <a:lnTo>
                  <a:pt x="109289" y="880261"/>
                </a:lnTo>
                <a:lnTo>
                  <a:pt x="104171" y="855317"/>
                </a:lnTo>
                <a:lnTo>
                  <a:pt x="96816" y="830120"/>
                </a:lnTo>
                <a:lnTo>
                  <a:pt x="88749" y="803963"/>
                </a:lnTo>
                <a:lnTo>
                  <a:pt x="82342" y="775405"/>
                </a:lnTo>
                <a:lnTo>
                  <a:pt x="74414" y="748037"/>
                </a:lnTo>
                <a:lnTo>
                  <a:pt x="66093" y="721762"/>
                </a:lnTo>
                <a:lnTo>
                  <a:pt x="55802" y="682323"/>
                </a:lnTo>
                <a:lnTo>
                  <a:pt x="47096" y="653609"/>
                </a:lnTo>
                <a:lnTo>
                  <a:pt x="39841" y="623915"/>
                </a:lnTo>
                <a:lnTo>
                  <a:pt x="33794" y="593783"/>
                </a:lnTo>
                <a:lnTo>
                  <a:pt x="28284" y="563458"/>
                </a:lnTo>
                <a:lnTo>
                  <a:pt x="25271" y="535305"/>
                </a:lnTo>
                <a:lnTo>
                  <a:pt x="23085" y="507835"/>
                </a:lnTo>
                <a:lnTo>
                  <a:pt x="19291" y="478692"/>
                </a:lnTo>
                <a:lnTo>
                  <a:pt x="17041" y="448806"/>
                </a:lnTo>
                <a:lnTo>
                  <a:pt x="15193" y="419438"/>
                </a:lnTo>
                <a:lnTo>
                  <a:pt x="11551" y="392273"/>
                </a:lnTo>
                <a:lnTo>
                  <a:pt x="9367" y="366089"/>
                </a:lnTo>
                <a:lnTo>
                  <a:pt x="8396" y="341188"/>
                </a:lnTo>
                <a:lnTo>
                  <a:pt x="7003" y="308975"/>
                </a:lnTo>
                <a:lnTo>
                  <a:pt x="1635" y="277164"/>
                </a:lnTo>
                <a:lnTo>
                  <a:pt x="0" y="24354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InkAnnotation153"/>
          <p:cNvSpPr/>
          <p:nvPr/>
        </p:nvSpPr>
        <p:spPr>
          <a:xfrm>
            <a:off x="5235480" y="4245120"/>
            <a:ext cx="90720" cy="258480"/>
          </a:xfrm>
          <a:custGeom>
            <a:avLst/>
            <a:gdLst>
              <a:gd name="textAreaLeft" fmla="*/ 0 w 90720"/>
              <a:gd name="textAreaRight" fmla="*/ 90720 w 9072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91440" h="259081">
                <a:moveTo>
                  <a:pt x="91439" y="0"/>
                </a:moveTo>
                <a:lnTo>
                  <a:pt x="87394" y="0"/>
                </a:lnTo>
                <a:lnTo>
                  <a:pt x="86202" y="847"/>
                </a:lnTo>
                <a:lnTo>
                  <a:pt x="85408" y="2258"/>
                </a:lnTo>
                <a:lnTo>
                  <a:pt x="84133" y="6561"/>
                </a:lnTo>
                <a:lnTo>
                  <a:pt x="81701" y="9407"/>
                </a:lnTo>
                <a:lnTo>
                  <a:pt x="79867" y="11351"/>
                </a:lnTo>
                <a:lnTo>
                  <a:pt x="78644" y="13495"/>
                </a:lnTo>
                <a:lnTo>
                  <a:pt x="77286" y="18133"/>
                </a:lnTo>
                <a:lnTo>
                  <a:pt x="76682" y="25275"/>
                </a:lnTo>
                <a:lnTo>
                  <a:pt x="76521" y="29550"/>
                </a:lnTo>
                <a:lnTo>
                  <a:pt x="75567" y="34093"/>
                </a:lnTo>
                <a:lnTo>
                  <a:pt x="74085" y="38816"/>
                </a:lnTo>
                <a:lnTo>
                  <a:pt x="72249" y="43657"/>
                </a:lnTo>
                <a:lnTo>
                  <a:pt x="70180" y="47732"/>
                </a:lnTo>
                <a:lnTo>
                  <a:pt x="67952" y="51295"/>
                </a:lnTo>
                <a:lnTo>
                  <a:pt x="65622" y="54516"/>
                </a:lnTo>
                <a:lnTo>
                  <a:pt x="63221" y="59204"/>
                </a:lnTo>
                <a:lnTo>
                  <a:pt x="60774" y="64869"/>
                </a:lnTo>
                <a:lnTo>
                  <a:pt x="58296" y="71187"/>
                </a:lnTo>
                <a:lnTo>
                  <a:pt x="55797" y="77091"/>
                </a:lnTo>
                <a:lnTo>
                  <a:pt x="50762" y="88167"/>
                </a:lnTo>
                <a:lnTo>
                  <a:pt x="48235" y="94338"/>
                </a:lnTo>
                <a:lnTo>
                  <a:pt x="45703" y="100992"/>
                </a:lnTo>
                <a:lnTo>
                  <a:pt x="40632" y="115159"/>
                </a:lnTo>
                <a:lnTo>
                  <a:pt x="35556" y="129922"/>
                </a:lnTo>
                <a:lnTo>
                  <a:pt x="32170" y="137414"/>
                </a:lnTo>
                <a:lnTo>
                  <a:pt x="28220" y="144949"/>
                </a:lnTo>
                <a:lnTo>
                  <a:pt x="23893" y="152513"/>
                </a:lnTo>
                <a:lnTo>
                  <a:pt x="20161" y="160095"/>
                </a:lnTo>
                <a:lnTo>
                  <a:pt x="16828" y="167690"/>
                </a:lnTo>
                <a:lnTo>
                  <a:pt x="13758" y="175293"/>
                </a:lnTo>
                <a:lnTo>
                  <a:pt x="8090" y="190515"/>
                </a:lnTo>
                <a:lnTo>
                  <a:pt x="5393" y="198130"/>
                </a:lnTo>
                <a:lnTo>
                  <a:pt x="3595" y="204900"/>
                </a:lnTo>
                <a:lnTo>
                  <a:pt x="2397" y="211107"/>
                </a:lnTo>
                <a:lnTo>
                  <a:pt x="1598" y="216937"/>
                </a:lnTo>
                <a:lnTo>
                  <a:pt x="1065" y="222518"/>
                </a:lnTo>
                <a:lnTo>
                  <a:pt x="710" y="227932"/>
                </a:lnTo>
                <a:lnTo>
                  <a:pt x="315" y="237617"/>
                </a:lnTo>
                <a:lnTo>
                  <a:pt x="93" y="247828"/>
                </a:lnTo>
                <a:lnTo>
                  <a:pt x="0" y="2590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InkAnnotation154"/>
          <p:cNvSpPr/>
          <p:nvPr/>
        </p:nvSpPr>
        <p:spPr>
          <a:xfrm>
            <a:off x="5396040" y="4222800"/>
            <a:ext cx="171360" cy="195120"/>
          </a:xfrm>
          <a:custGeom>
            <a:avLst/>
            <a:gdLst>
              <a:gd name="textAreaLeft" fmla="*/ 0 w 171360"/>
              <a:gd name="textAreaRight" fmla="*/ 171720 w 1713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72602" h="195670">
                <a:moveTo>
                  <a:pt x="60391" y="68091"/>
                </a:moveTo>
                <a:lnTo>
                  <a:pt x="64436" y="64046"/>
                </a:lnTo>
                <a:lnTo>
                  <a:pt x="65628" y="62008"/>
                </a:lnTo>
                <a:lnTo>
                  <a:pt x="67305" y="55941"/>
                </a:lnTo>
                <a:lnTo>
                  <a:pt x="67801" y="52920"/>
                </a:lnTo>
                <a:lnTo>
                  <a:pt x="67970" y="47001"/>
                </a:lnTo>
                <a:lnTo>
                  <a:pt x="68009" y="45335"/>
                </a:lnTo>
                <a:lnTo>
                  <a:pt x="63965" y="49307"/>
                </a:lnTo>
                <a:lnTo>
                  <a:pt x="53360" y="59892"/>
                </a:lnTo>
                <a:lnTo>
                  <a:pt x="49777" y="64318"/>
                </a:lnTo>
                <a:lnTo>
                  <a:pt x="46542" y="68963"/>
                </a:lnTo>
                <a:lnTo>
                  <a:pt x="43538" y="73753"/>
                </a:lnTo>
                <a:lnTo>
                  <a:pt x="39842" y="78638"/>
                </a:lnTo>
                <a:lnTo>
                  <a:pt x="35685" y="83590"/>
                </a:lnTo>
                <a:lnTo>
                  <a:pt x="31220" y="88583"/>
                </a:lnTo>
                <a:lnTo>
                  <a:pt x="26551" y="94453"/>
                </a:lnTo>
                <a:lnTo>
                  <a:pt x="21744" y="100906"/>
                </a:lnTo>
                <a:lnTo>
                  <a:pt x="16846" y="107747"/>
                </a:lnTo>
                <a:lnTo>
                  <a:pt x="12734" y="114849"/>
                </a:lnTo>
                <a:lnTo>
                  <a:pt x="9147" y="122123"/>
                </a:lnTo>
                <a:lnTo>
                  <a:pt x="5908" y="129512"/>
                </a:lnTo>
                <a:lnTo>
                  <a:pt x="3749" y="136132"/>
                </a:lnTo>
                <a:lnTo>
                  <a:pt x="2309" y="142238"/>
                </a:lnTo>
                <a:lnTo>
                  <a:pt x="1350" y="148003"/>
                </a:lnTo>
                <a:lnTo>
                  <a:pt x="711" y="153538"/>
                </a:lnTo>
                <a:lnTo>
                  <a:pt x="284" y="158923"/>
                </a:lnTo>
                <a:lnTo>
                  <a:pt x="0" y="164206"/>
                </a:lnTo>
                <a:lnTo>
                  <a:pt x="1503" y="169421"/>
                </a:lnTo>
                <a:lnTo>
                  <a:pt x="4199" y="174591"/>
                </a:lnTo>
                <a:lnTo>
                  <a:pt x="7690" y="179731"/>
                </a:lnTo>
                <a:lnTo>
                  <a:pt x="11710" y="184005"/>
                </a:lnTo>
                <a:lnTo>
                  <a:pt x="16083" y="187700"/>
                </a:lnTo>
                <a:lnTo>
                  <a:pt x="20693" y="191010"/>
                </a:lnTo>
                <a:lnTo>
                  <a:pt x="26306" y="193217"/>
                </a:lnTo>
                <a:lnTo>
                  <a:pt x="32588" y="194689"/>
                </a:lnTo>
                <a:lnTo>
                  <a:pt x="39315" y="195669"/>
                </a:lnTo>
                <a:lnTo>
                  <a:pt x="46341" y="195477"/>
                </a:lnTo>
                <a:lnTo>
                  <a:pt x="53564" y="194502"/>
                </a:lnTo>
                <a:lnTo>
                  <a:pt x="60920" y="193005"/>
                </a:lnTo>
                <a:lnTo>
                  <a:pt x="78124" y="189084"/>
                </a:lnTo>
                <a:lnTo>
                  <a:pt x="87453" y="186853"/>
                </a:lnTo>
                <a:lnTo>
                  <a:pt x="96213" y="182826"/>
                </a:lnTo>
                <a:lnTo>
                  <a:pt x="104592" y="177601"/>
                </a:lnTo>
                <a:lnTo>
                  <a:pt x="112719" y="171578"/>
                </a:lnTo>
                <a:lnTo>
                  <a:pt x="128521" y="160370"/>
                </a:lnTo>
                <a:lnTo>
                  <a:pt x="136291" y="155010"/>
                </a:lnTo>
                <a:lnTo>
                  <a:pt x="143164" y="148050"/>
                </a:lnTo>
                <a:lnTo>
                  <a:pt x="149440" y="140024"/>
                </a:lnTo>
                <a:lnTo>
                  <a:pt x="155317" y="131286"/>
                </a:lnTo>
                <a:lnTo>
                  <a:pt x="160082" y="122922"/>
                </a:lnTo>
                <a:lnTo>
                  <a:pt x="164105" y="114805"/>
                </a:lnTo>
                <a:lnTo>
                  <a:pt x="167634" y="106854"/>
                </a:lnTo>
                <a:lnTo>
                  <a:pt x="169987" y="99013"/>
                </a:lnTo>
                <a:lnTo>
                  <a:pt x="171554" y="91246"/>
                </a:lnTo>
                <a:lnTo>
                  <a:pt x="172601" y="83527"/>
                </a:lnTo>
                <a:lnTo>
                  <a:pt x="172451" y="75842"/>
                </a:lnTo>
                <a:lnTo>
                  <a:pt x="171505" y="68178"/>
                </a:lnTo>
                <a:lnTo>
                  <a:pt x="170027" y="60529"/>
                </a:lnTo>
                <a:lnTo>
                  <a:pt x="167348" y="53737"/>
                </a:lnTo>
                <a:lnTo>
                  <a:pt x="163870" y="47515"/>
                </a:lnTo>
                <a:lnTo>
                  <a:pt x="159857" y="41674"/>
                </a:lnTo>
                <a:lnTo>
                  <a:pt x="155488" y="36086"/>
                </a:lnTo>
                <a:lnTo>
                  <a:pt x="150883" y="30668"/>
                </a:lnTo>
                <a:lnTo>
                  <a:pt x="146119" y="25362"/>
                </a:lnTo>
                <a:lnTo>
                  <a:pt x="140403" y="20979"/>
                </a:lnTo>
                <a:lnTo>
                  <a:pt x="134052" y="17209"/>
                </a:lnTo>
                <a:lnTo>
                  <a:pt x="109656" y="5077"/>
                </a:lnTo>
                <a:lnTo>
                  <a:pt x="104240" y="3222"/>
                </a:lnTo>
                <a:lnTo>
                  <a:pt x="98937" y="1985"/>
                </a:lnTo>
                <a:lnTo>
                  <a:pt x="93709" y="1160"/>
                </a:lnTo>
                <a:lnTo>
                  <a:pt x="88529" y="610"/>
                </a:lnTo>
                <a:lnTo>
                  <a:pt x="83383" y="244"/>
                </a:lnTo>
                <a:lnTo>
                  <a:pt x="78259" y="0"/>
                </a:lnTo>
                <a:lnTo>
                  <a:pt x="74843" y="684"/>
                </a:lnTo>
                <a:lnTo>
                  <a:pt x="72566" y="1986"/>
                </a:lnTo>
                <a:lnTo>
                  <a:pt x="71048" y="3701"/>
                </a:lnTo>
                <a:lnTo>
                  <a:pt x="69189" y="4844"/>
                </a:lnTo>
                <a:lnTo>
                  <a:pt x="67103" y="5607"/>
                </a:lnTo>
                <a:lnTo>
                  <a:pt x="60391" y="71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InkAnnotation155"/>
          <p:cNvSpPr/>
          <p:nvPr/>
        </p:nvSpPr>
        <p:spPr>
          <a:xfrm>
            <a:off x="5638680" y="4359240"/>
            <a:ext cx="190800" cy="14400"/>
          </a:xfrm>
          <a:custGeom>
            <a:avLst/>
            <a:gdLst>
              <a:gd name="textAreaLeft" fmla="*/ 0 w 190800"/>
              <a:gd name="textAreaRight" fmla="*/ 191160 w 1908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90501" h="15241">
                <a:moveTo>
                  <a:pt x="0" y="15240"/>
                </a:moveTo>
                <a:lnTo>
                  <a:pt x="18879" y="15240"/>
                </a:lnTo>
                <a:lnTo>
                  <a:pt x="21053" y="14393"/>
                </a:lnTo>
                <a:lnTo>
                  <a:pt x="23348" y="12983"/>
                </a:lnTo>
                <a:lnTo>
                  <a:pt x="25726" y="11195"/>
                </a:lnTo>
                <a:lnTo>
                  <a:pt x="29004" y="10003"/>
                </a:lnTo>
                <a:lnTo>
                  <a:pt x="32882" y="9209"/>
                </a:lnTo>
                <a:lnTo>
                  <a:pt x="37161" y="8679"/>
                </a:lnTo>
                <a:lnTo>
                  <a:pt x="41708" y="8326"/>
                </a:lnTo>
                <a:lnTo>
                  <a:pt x="46432" y="8091"/>
                </a:lnTo>
                <a:lnTo>
                  <a:pt x="56197" y="7830"/>
                </a:lnTo>
                <a:lnTo>
                  <a:pt x="144913" y="7621"/>
                </a:lnTo>
                <a:lnTo>
                  <a:pt x="151642" y="6774"/>
                </a:lnTo>
                <a:lnTo>
                  <a:pt x="157822" y="5363"/>
                </a:lnTo>
                <a:lnTo>
                  <a:pt x="163634" y="3575"/>
                </a:lnTo>
                <a:lnTo>
                  <a:pt x="168357" y="2384"/>
                </a:lnTo>
                <a:lnTo>
                  <a:pt x="172351" y="1589"/>
                </a:lnTo>
                <a:lnTo>
                  <a:pt x="175861" y="1059"/>
                </a:lnTo>
                <a:lnTo>
                  <a:pt x="179047" y="707"/>
                </a:lnTo>
                <a:lnTo>
                  <a:pt x="182018" y="471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InkAnnotation156"/>
          <p:cNvSpPr/>
          <p:nvPr/>
        </p:nvSpPr>
        <p:spPr>
          <a:xfrm>
            <a:off x="5883120" y="4253040"/>
            <a:ext cx="144720" cy="150840"/>
          </a:xfrm>
          <a:custGeom>
            <a:avLst/>
            <a:gdLst>
              <a:gd name="textAreaLeft" fmla="*/ 0 w 144720"/>
              <a:gd name="textAreaRight" fmla="*/ 145080 w 1447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44780" h="151617">
                <a:moveTo>
                  <a:pt x="0" y="30136"/>
                </a:moveTo>
                <a:lnTo>
                  <a:pt x="6560" y="23575"/>
                </a:lnTo>
                <a:lnTo>
                  <a:pt x="8607" y="22376"/>
                </a:lnTo>
                <a:lnTo>
                  <a:pt x="15396" y="18785"/>
                </a:lnTo>
                <a:lnTo>
                  <a:pt x="18731" y="17489"/>
                </a:lnTo>
                <a:lnTo>
                  <a:pt x="21800" y="16625"/>
                </a:lnTo>
                <a:lnTo>
                  <a:pt x="24693" y="16048"/>
                </a:lnTo>
                <a:lnTo>
                  <a:pt x="27469" y="14818"/>
                </a:lnTo>
                <a:lnTo>
                  <a:pt x="30166" y="13150"/>
                </a:lnTo>
                <a:lnTo>
                  <a:pt x="32811" y="11192"/>
                </a:lnTo>
                <a:lnTo>
                  <a:pt x="37114" y="9887"/>
                </a:lnTo>
                <a:lnTo>
                  <a:pt x="42522" y="9017"/>
                </a:lnTo>
                <a:lnTo>
                  <a:pt x="48668" y="8437"/>
                </a:lnTo>
                <a:lnTo>
                  <a:pt x="54459" y="7203"/>
                </a:lnTo>
                <a:lnTo>
                  <a:pt x="60012" y="5534"/>
                </a:lnTo>
                <a:lnTo>
                  <a:pt x="65408" y="3575"/>
                </a:lnTo>
                <a:lnTo>
                  <a:pt x="70698" y="2269"/>
                </a:lnTo>
                <a:lnTo>
                  <a:pt x="75919" y="1398"/>
                </a:lnTo>
                <a:lnTo>
                  <a:pt x="81092" y="818"/>
                </a:lnTo>
                <a:lnTo>
                  <a:pt x="86235" y="430"/>
                </a:lnTo>
                <a:lnTo>
                  <a:pt x="91356" y="172"/>
                </a:lnTo>
                <a:lnTo>
                  <a:pt x="96464" y="0"/>
                </a:lnTo>
                <a:lnTo>
                  <a:pt x="101563" y="732"/>
                </a:lnTo>
                <a:lnTo>
                  <a:pt x="106655" y="2067"/>
                </a:lnTo>
                <a:lnTo>
                  <a:pt x="111743" y="3804"/>
                </a:lnTo>
                <a:lnTo>
                  <a:pt x="115982" y="4961"/>
                </a:lnTo>
                <a:lnTo>
                  <a:pt x="119655" y="5733"/>
                </a:lnTo>
                <a:lnTo>
                  <a:pt x="122949" y="6247"/>
                </a:lnTo>
                <a:lnTo>
                  <a:pt x="125993" y="7437"/>
                </a:lnTo>
                <a:lnTo>
                  <a:pt x="128868" y="9077"/>
                </a:lnTo>
                <a:lnTo>
                  <a:pt x="135522" y="13746"/>
                </a:lnTo>
                <a:lnTo>
                  <a:pt x="138690" y="16643"/>
                </a:lnTo>
                <a:lnTo>
                  <a:pt x="140720" y="18600"/>
                </a:lnTo>
                <a:lnTo>
                  <a:pt x="141226" y="20753"/>
                </a:lnTo>
                <a:lnTo>
                  <a:pt x="140717" y="23034"/>
                </a:lnTo>
                <a:lnTo>
                  <a:pt x="133817" y="36824"/>
                </a:lnTo>
                <a:lnTo>
                  <a:pt x="131544" y="40521"/>
                </a:lnTo>
                <a:lnTo>
                  <a:pt x="129183" y="43833"/>
                </a:lnTo>
                <a:lnTo>
                  <a:pt x="126761" y="46887"/>
                </a:lnTo>
                <a:lnTo>
                  <a:pt x="122608" y="50617"/>
                </a:lnTo>
                <a:lnTo>
                  <a:pt x="117298" y="54797"/>
                </a:lnTo>
                <a:lnTo>
                  <a:pt x="111219" y="59276"/>
                </a:lnTo>
                <a:lnTo>
                  <a:pt x="97690" y="68769"/>
                </a:lnTo>
                <a:lnTo>
                  <a:pt x="90526" y="73671"/>
                </a:lnTo>
                <a:lnTo>
                  <a:pt x="84058" y="78633"/>
                </a:lnTo>
                <a:lnTo>
                  <a:pt x="78051" y="83634"/>
                </a:lnTo>
                <a:lnTo>
                  <a:pt x="72354" y="88661"/>
                </a:lnTo>
                <a:lnTo>
                  <a:pt x="66863" y="92860"/>
                </a:lnTo>
                <a:lnTo>
                  <a:pt x="61508" y="96505"/>
                </a:lnTo>
                <a:lnTo>
                  <a:pt x="56245" y="99782"/>
                </a:lnTo>
                <a:lnTo>
                  <a:pt x="51044" y="102814"/>
                </a:lnTo>
                <a:lnTo>
                  <a:pt x="40748" y="108439"/>
                </a:lnTo>
                <a:lnTo>
                  <a:pt x="36478" y="111971"/>
                </a:lnTo>
                <a:lnTo>
                  <a:pt x="32786" y="116020"/>
                </a:lnTo>
                <a:lnTo>
                  <a:pt x="24821" y="126594"/>
                </a:lnTo>
                <a:lnTo>
                  <a:pt x="24166" y="128308"/>
                </a:lnTo>
                <a:lnTo>
                  <a:pt x="23441" y="132470"/>
                </a:lnTo>
                <a:lnTo>
                  <a:pt x="24093" y="134765"/>
                </a:lnTo>
                <a:lnTo>
                  <a:pt x="25376" y="137142"/>
                </a:lnTo>
                <a:lnTo>
                  <a:pt x="27077" y="139574"/>
                </a:lnTo>
                <a:lnTo>
                  <a:pt x="29904" y="142041"/>
                </a:lnTo>
                <a:lnTo>
                  <a:pt x="33483" y="144533"/>
                </a:lnTo>
                <a:lnTo>
                  <a:pt x="37562" y="147041"/>
                </a:lnTo>
                <a:lnTo>
                  <a:pt x="42821" y="148713"/>
                </a:lnTo>
                <a:lnTo>
                  <a:pt x="48867" y="149827"/>
                </a:lnTo>
                <a:lnTo>
                  <a:pt x="55438" y="150570"/>
                </a:lnTo>
                <a:lnTo>
                  <a:pt x="63205" y="151066"/>
                </a:lnTo>
                <a:lnTo>
                  <a:pt x="71770" y="151396"/>
                </a:lnTo>
                <a:lnTo>
                  <a:pt x="80866" y="151616"/>
                </a:lnTo>
                <a:lnTo>
                  <a:pt x="90317" y="150916"/>
                </a:lnTo>
                <a:lnTo>
                  <a:pt x="100005" y="149602"/>
                </a:lnTo>
                <a:lnTo>
                  <a:pt x="109850" y="147881"/>
                </a:lnTo>
                <a:lnTo>
                  <a:pt x="118106" y="146732"/>
                </a:lnTo>
                <a:lnTo>
                  <a:pt x="125304" y="145967"/>
                </a:lnTo>
                <a:lnTo>
                  <a:pt x="144779" y="1444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InkAnnotation157"/>
          <p:cNvSpPr/>
          <p:nvPr/>
        </p:nvSpPr>
        <p:spPr>
          <a:xfrm>
            <a:off x="6073920" y="4238640"/>
            <a:ext cx="330120" cy="165240"/>
          </a:xfrm>
          <a:custGeom>
            <a:avLst/>
            <a:gdLst>
              <a:gd name="textAreaLeft" fmla="*/ 0 w 330120"/>
              <a:gd name="textAreaRight" fmla="*/ 330120 w 3301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30778" h="166204">
                <a:moveTo>
                  <a:pt x="7527" y="82516"/>
                </a:moveTo>
                <a:lnTo>
                  <a:pt x="3481" y="86560"/>
                </a:lnTo>
                <a:lnTo>
                  <a:pt x="2290" y="88599"/>
                </a:lnTo>
                <a:lnTo>
                  <a:pt x="965" y="93121"/>
                </a:lnTo>
                <a:lnTo>
                  <a:pt x="377" y="97953"/>
                </a:lnTo>
                <a:lnTo>
                  <a:pt x="116" y="102924"/>
                </a:lnTo>
                <a:lnTo>
                  <a:pt x="0" y="107954"/>
                </a:lnTo>
                <a:lnTo>
                  <a:pt x="815" y="111328"/>
                </a:lnTo>
                <a:lnTo>
                  <a:pt x="2206" y="115271"/>
                </a:lnTo>
                <a:lnTo>
                  <a:pt x="3979" y="119592"/>
                </a:lnTo>
                <a:lnTo>
                  <a:pt x="6008" y="123320"/>
                </a:lnTo>
                <a:lnTo>
                  <a:pt x="8208" y="126652"/>
                </a:lnTo>
                <a:lnTo>
                  <a:pt x="10521" y="129720"/>
                </a:lnTo>
                <a:lnTo>
                  <a:pt x="12910" y="132611"/>
                </a:lnTo>
                <a:lnTo>
                  <a:pt x="15348" y="135386"/>
                </a:lnTo>
                <a:lnTo>
                  <a:pt x="17821" y="138083"/>
                </a:lnTo>
                <a:lnTo>
                  <a:pt x="22826" y="143336"/>
                </a:lnTo>
                <a:lnTo>
                  <a:pt x="28720" y="148494"/>
                </a:lnTo>
                <a:lnTo>
                  <a:pt x="36983" y="153608"/>
                </a:lnTo>
                <a:lnTo>
                  <a:pt x="46300" y="158703"/>
                </a:lnTo>
                <a:lnTo>
                  <a:pt x="51156" y="161248"/>
                </a:lnTo>
                <a:lnTo>
                  <a:pt x="56933" y="162943"/>
                </a:lnTo>
                <a:lnTo>
                  <a:pt x="63324" y="164074"/>
                </a:lnTo>
                <a:lnTo>
                  <a:pt x="70124" y="164828"/>
                </a:lnTo>
                <a:lnTo>
                  <a:pt x="76351" y="165330"/>
                </a:lnTo>
                <a:lnTo>
                  <a:pt x="82196" y="165665"/>
                </a:lnTo>
                <a:lnTo>
                  <a:pt x="87787" y="165888"/>
                </a:lnTo>
                <a:lnTo>
                  <a:pt x="100771" y="166137"/>
                </a:lnTo>
                <a:lnTo>
                  <a:pt x="107789" y="166203"/>
                </a:lnTo>
                <a:lnTo>
                  <a:pt x="113316" y="165401"/>
                </a:lnTo>
                <a:lnTo>
                  <a:pt x="121712" y="162251"/>
                </a:lnTo>
                <a:lnTo>
                  <a:pt x="135245" y="155718"/>
                </a:lnTo>
                <a:lnTo>
                  <a:pt x="142748" y="150892"/>
                </a:lnTo>
                <a:lnTo>
                  <a:pt x="148905" y="145925"/>
                </a:lnTo>
                <a:lnTo>
                  <a:pt x="154463" y="140895"/>
                </a:lnTo>
                <a:lnTo>
                  <a:pt x="156284" y="138369"/>
                </a:lnTo>
                <a:lnTo>
                  <a:pt x="158307" y="133304"/>
                </a:lnTo>
                <a:lnTo>
                  <a:pt x="159207" y="128230"/>
                </a:lnTo>
                <a:lnTo>
                  <a:pt x="159447" y="125692"/>
                </a:lnTo>
                <a:lnTo>
                  <a:pt x="160453" y="123153"/>
                </a:lnTo>
                <a:lnTo>
                  <a:pt x="163829" y="118074"/>
                </a:lnTo>
                <a:lnTo>
                  <a:pt x="167220" y="113442"/>
                </a:lnTo>
                <a:lnTo>
                  <a:pt x="171495" y="113128"/>
                </a:lnTo>
                <a:lnTo>
                  <a:pt x="173565" y="113930"/>
                </a:lnTo>
                <a:lnTo>
                  <a:pt x="181371" y="119105"/>
                </a:lnTo>
                <a:lnTo>
                  <a:pt x="189495" y="123613"/>
                </a:lnTo>
                <a:lnTo>
                  <a:pt x="194879" y="125154"/>
                </a:lnTo>
                <a:lnTo>
                  <a:pt x="201008" y="126181"/>
                </a:lnTo>
                <a:lnTo>
                  <a:pt x="207634" y="126866"/>
                </a:lnTo>
                <a:lnTo>
                  <a:pt x="214591" y="128169"/>
                </a:lnTo>
                <a:lnTo>
                  <a:pt x="221769" y="129885"/>
                </a:lnTo>
                <a:lnTo>
                  <a:pt x="229095" y="131875"/>
                </a:lnTo>
                <a:lnTo>
                  <a:pt x="244008" y="136344"/>
                </a:lnTo>
                <a:lnTo>
                  <a:pt x="251541" y="138721"/>
                </a:lnTo>
                <a:lnTo>
                  <a:pt x="259103" y="140306"/>
                </a:lnTo>
                <a:lnTo>
                  <a:pt x="266684" y="141363"/>
                </a:lnTo>
                <a:lnTo>
                  <a:pt x="274278" y="142067"/>
                </a:lnTo>
                <a:lnTo>
                  <a:pt x="281881" y="141689"/>
                </a:lnTo>
                <a:lnTo>
                  <a:pt x="289490" y="140591"/>
                </a:lnTo>
                <a:lnTo>
                  <a:pt x="297102" y="139013"/>
                </a:lnTo>
                <a:lnTo>
                  <a:pt x="303023" y="137961"/>
                </a:lnTo>
                <a:lnTo>
                  <a:pt x="311861" y="136791"/>
                </a:lnTo>
                <a:lnTo>
                  <a:pt x="315402" y="134786"/>
                </a:lnTo>
                <a:lnTo>
                  <a:pt x="318610" y="131756"/>
                </a:lnTo>
                <a:lnTo>
                  <a:pt x="321595" y="128042"/>
                </a:lnTo>
                <a:lnTo>
                  <a:pt x="324432" y="123873"/>
                </a:lnTo>
                <a:lnTo>
                  <a:pt x="327170" y="119401"/>
                </a:lnTo>
                <a:lnTo>
                  <a:pt x="329843" y="114726"/>
                </a:lnTo>
                <a:lnTo>
                  <a:pt x="330777" y="109915"/>
                </a:lnTo>
                <a:lnTo>
                  <a:pt x="330553" y="105015"/>
                </a:lnTo>
                <a:lnTo>
                  <a:pt x="329557" y="100055"/>
                </a:lnTo>
                <a:lnTo>
                  <a:pt x="328047" y="94209"/>
                </a:lnTo>
                <a:lnTo>
                  <a:pt x="326194" y="87771"/>
                </a:lnTo>
                <a:lnTo>
                  <a:pt x="324111" y="80939"/>
                </a:lnTo>
                <a:lnTo>
                  <a:pt x="320183" y="74691"/>
                </a:lnTo>
                <a:lnTo>
                  <a:pt x="315024" y="68833"/>
                </a:lnTo>
                <a:lnTo>
                  <a:pt x="309045" y="63234"/>
                </a:lnTo>
                <a:lnTo>
                  <a:pt x="303365" y="56961"/>
                </a:lnTo>
                <a:lnTo>
                  <a:pt x="297886" y="50239"/>
                </a:lnTo>
                <a:lnTo>
                  <a:pt x="292539" y="43218"/>
                </a:lnTo>
                <a:lnTo>
                  <a:pt x="287282" y="37690"/>
                </a:lnTo>
                <a:lnTo>
                  <a:pt x="282083" y="33158"/>
                </a:lnTo>
                <a:lnTo>
                  <a:pt x="276924" y="29291"/>
                </a:lnTo>
                <a:lnTo>
                  <a:pt x="271791" y="25019"/>
                </a:lnTo>
                <a:lnTo>
                  <a:pt x="266676" y="20478"/>
                </a:lnTo>
                <a:lnTo>
                  <a:pt x="261573" y="15757"/>
                </a:lnTo>
                <a:lnTo>
                  <a:pt x="257324" y="12610"/>
                </a:lnTo>
                <a:lnTo>
                  <a:pt x="250346" y="9113"/>
                </a:lnTo>
                <a:lnTo>
                  <a:pt x="248146" y="7333"/>
                </a:lnTo>
                <a:lnTo>
                  <a:pt x="246679" y="5301"/>
                </a:lnTo>
                <a:lnTo>
                  <a:pt x="244325" y="0"/>
                </a:lnTo>
                <a:lnTo>
                  <a:pt x="244132" y="412"/>
                </a:lnTo>
                <a:lnTo>
                  <a:pt x="244003" y="1533"/>
                </a:lnTo>
                <a:lnTo>
                  <a:pt x="243746" y="63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InkAnnotation158"/>
          <p:cNvSpPr/>
          <p:nvPr/>
        </p:nvSpPr>
        <p:spPr>
          <a:xfrm>
            <a:off x="6591240" y="4321080"/>
            <a:ext cx="160560" cy="6480"/>
          </a:xfrm>
          <a:custGeom>
            <a:avLst/>
            <a:gdLst>
              <a:gd name="textAreaLeft" fmla="*/ 0 w 160560"/>
              <a:gd name="textAreaRight" fmla="*/ 160920 w 160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60021" h="7621">
                <a:moveTo>
                  <a:pt x="0" y="7620"/>
                </a:moveTo>
                <a:lnTo>
                  <a:pt x="28518" y="7620"/>
                </a:lnTo>
                <a:lnTo>
                  <a:pt x="34253" y="6774"/>
                </a:lnTo>
                <a:lnTo>
                  <a:pt x="40615" y="5363"/>
                </a:lnTo>
                <a:lnTo>
                  <a:pt x="47396" y="3575"/>
                </a:lnTo>
                <a:lnTo>
                  <a:pt x="54458" y="2383"/>
                </a:lnTo>
                <a:lnTo>
                  <a:pt x="61706" y="1589"/>
                </a:lnTo>
                <a:lnTo>
                  <a:pt x="69077" y="1059"/>
                </a:lnTo>
                <a:lnTo>
                  <a:pt x="76531" y="706"/>
                </a:lnTo>
                <a:lnTo>
                  <a:pt x="91587" y="314"/>
                </a:lnTo>
                <a:lnTo>
                  <a:pt x="1600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InkAnnotation159"/>
          <p:cNvSpPr/>
          <p:nvPr/>
        </p:nvSpPr>
        <p:spPr>
          <a:xfrm>
            <a:off x="6561000" y="4381560"/>
            <a:ext cx="236520" cy="190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6221" h="19626">
                <a:moveTo>
                  <a:pt x="0" y="7620"/>
                </a:moveTo>
                <a:lnTo>
                  <a:pt x="0" y="14181"/>
                </a:lnTo>
                <a:lnTo>
                  <a:pt x="847" y="14534"/>
                </a:lnTo>
                <a:lnTo>
                  <a:pt x="6561" y="15147"/>
                </a:lnTo>
                <a:lnTo>
                  <a:pt x="19443" y="15213"/>
                </a:lnTo>
                <a:lnTo>
                  <a:pt x="24815" y="16068"/>
                </a:lnTo>
                <a:lnTo>
                  <a:pt x="30090" y="17485"/>
                </a:lnTo>
                <a:lnTo>
                  <a:pt x="35300" y="19277"/>
                </a:lnTo>
                <a:lnTo>
                  <a:pt x="41313" y="19625"/>
                </a:lnTo>
                <a:lnTo>
                  <a:pt x="47863" y="19010"/>
                </a:lnTo>
                <a:lnTo>
                  <a:pt x="54768" y="17753"/>
                </a:lnTo>
                <a:lnTo>
                  <a:pt x="61912" y="16916"/>
                </a:lnTo>
                <a:lnTo>
                  <a:pt x="69216" y="16357"/>
                </a:lnTo>
                <a:lnTo>
                  <a:pt x="76624" y="15985"/>
                </a:lnTo>
                <a:lnTo>
                  <a:pt x="91629" y="15571"/>
                </a:lnTo>
                <a:lnTo>
                  <a:pt x="121958" y="15305"/>
                </a:lnTo>
                <a:lnTo>
                  <a:pt x="129566" y="14437"/>
                </a:lnTo>
                <a:lnTo>
                  <a:pt x="137177" y="13011"/>
                </a:lnTo>
                <a:lnTo>
                  <a:pt x="144792" y="11214"/>
                </a:lnTo>
                <a:lnTo>
                  <a:pt x="152407" y="10016"/>
                </a:lnTo>
                <a:lnTo>
                  <a:pt x="160026" y="9218"/>
                </a:lnTo>
                <a:lnTo>
                  <a:pt x="167644" y="8685"/>
                </a:lnTo>
                <a:lnTo>
                  <a:pt x="174415" y="8330"/>
                </a:lnTo>
                <a:lnTo>
                  <a:pt x="186456" y="7936"/>
                </a:lnTo>
                <a:lnTo>
                  <a:pt x="192884" y="6984"/>
                </a:lnTo>
                <a:lnTo>
                  <a:pt x="199710" y="5502"/>
                </a:lnTo>
                <a:lnTo>
                  <a:pt x="206799" y="3668"/>
                </a:lnTo>
                <a:lnTo>
                  <a:pt x="212374" y="2446"/>
                </a:lnTo>
                <a:lnTo>
                  <a:pt x="216935" y="1631"/>
                </a:lnTo>
                <a:lnTo>
                  <a:pt x="220823" y="1087"/>
                </a:lnTo>
                <a:lnTo>
                  <a:pt x="227402" y="484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InkAnnotation160"/>
          <p:cNvSpPr/>
          <p:nvPr/>
        </p:nvSpPr>
        <p:spPr>
          <a:xfrm>
            <a:off x="6921360" y="4199040"/>
            <a:ext cx="187560" cy="304560"/>
          </a:xfrm>
          <a:custGeom>
            <a:avLst/>
            <a:gdLst>
              <a:gd name="textAreaLeft" fmla="*/ 0 w 187560"/>
              <a:gd name="textAreaRight" fmla="*/ 187920 w 18756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187629" h="304801">
                <a:moveTo>
                  <a:pt x="126668" y="0"/>
                </a:moveTo>
                <a:lnTo>
                  <a:pt x="122623" y="0"/>
                </a:lnTo>
                <a:lnTo>
                  <a:pt x="121431" y="847"/>
                </a:lnTo>
                <a:lnTo>
                  <a:pt x="120637" y="2258"/>
                </a:lnTo>
                <a:lnTo>
                  <a:pt x="120106" y="4045"/>
                </a:lnTo>
                <a:lnTo>
                  <a:pt x="117261" y="8289"/>
                </a:lnTo>
                <a:lnTo>
                  <a:pt x="112328" y="13844"/>
                </a:lnTo>
                <a:lnTo>
                  <a:pt x="104490" y="21957"/>
                </a:lnTo>
                <a:lnTo>
                  <a:pt x="100029" y="27338"/>
                </a:lnTo>
                <a:lnTo>
                  <a:pt x="95362" y="33466"/>
                </a:lnTo>
                <a:lnTo>
                  <a:pt x="85661" y="47047"/>
                </a:lnTo>
                <a:lnTo>
                  <a:pt x="75704" y="61550"/>
                </a:lnTo>
                <a:lnTo>
                  <a:pt x="69833" y="68973"/>
                </a:lnTo>
                <a:lnTo>
                  <a:pt x="63378" y="76463"/>
                </a:lnTo>
                <a:lnTo>
                  <a:pt x="56535" y="83995"/>
                </a:lnTo>
                <a:lnTo>
                  <a:pt x="50280" y="92404"/>
                </a:lnTo>
                <a:lnTo>
                  <a:pt x="44416" y="101395"/>
                </a:lnTo>
                <a:lnTo>
                  <a:pt x="38813" y="110777"/>
                </a:lnTo>
                <a:lnTo>
                  <a:pt x="33385" y="120418"/>
                </a:lnTo>
                <a:lnTo>
                  <a:pt x="22838" y="140162"/>
                </a:lnTo>
                <a:lnTo>
                  <a:pt x="7381" y="170317"/>
                </a:lnTo>
                <a:lnTo>
                  <a:pt x="3963" y="179585"/>
                </a:lnTo>
                <a:lnTo>
                  <a:pt x="1685" y="188303"/>
                </a:lnTo>
                <a:lnTo>
                  <a:pt x="166" y="196656"/>
                </a:lnTo>
                <a:lnTo>
                  <a:pt x="0" y="204764"/>
                </a:lnTo>
                <a:lnTo>
                  <a:pt x="736" y="212709"/>
                </a:lnTo>
                <a:lnTo>
                  <a:pt x="2074" y="220546"/>
                </a:lnTo>
                <a:lnTo>
                  <a:pt x="3811" y="227464"/>
                </a:lnTo>
                <a:lnTo>
                  <a:pt x="5817" y="233770"/>
                </a:lnTo>
                <a:lnTo>
                  <a:pt x="8001" y="239667"/>
                </a:lnTo>
                <a:lnTo>
                  <a:pt x="11149" y="245291"/>
                </a:lnTo>
                <a:lnTo>
                  <a:pt x="14943" y="250734"/>
                </a:lnTo>
                <a:lnTo>
                  <a:pt x="19165" y="256057"/>
                </a:lnTo>
                <a:lnTo>
                  <a:pt x="24519" y="260451"/>
                </a:lnTo>
                <a:lnTo>
                  <a:pt x="30628" y="264227"/>
                </a:lnTo>
                <a:lnTo>
                  <a:pt x="37242" y="267591"/>
                </a:lnTo>
                <a:lnTo>
                  <a:pt x="44190" y="269835"/>
                </a:lnTo>
                <a:lnTo>
                  <a:pt x="51363" y="271330"/>
                </a:lnTo>
                <a:lnTo>
                  <a:pt x="58685" y="272326"/>
                </a:lnTo>
                <a:lnTo>
                  <a:pt x="66953" y="272144"/>
                </a:lnTo>
                <a:lnTo>
                  <a:pt x="75851" y="271177"/>
                </a:lnTo>
                <a:lnTo>
                  <a:pt x="85171" y="269684"/>
                </a:lnTo>
                <a:lnTo>
                  <a:pt x="93075" y="266996"/>
                </a:lnTo>
                <a:lnTo>
                  <a:pt x="100040" y="263511"/>
                </a:lnTo>
                <a:lnTo>
                  <a:pt x="106376" y="259494"/>
                </a:lnTo>
                <a:lnTo>
                  <a:pt x="112293" y="255123"/>
                </a:lnTo>
                <a:lnTo>
                  <a:pt x="117932" y="250515"/>
                </a:lnTo>
                <a:lnTo>
                  <a:pt x="123384" y="245751"/>
                </a:lnTo>
                <a:lnTo>
                  <a:pt x="127018" y="240881"/>
                </a:lnTo>
                <a:lnTo>
                  <a:pt x="129441" y="235940"/>
                </a:lnTo>
                <a:lnTo>
                  <a:pt x="132981" y="226783"/>
                </a:lnTo>
                <a:lnTo>
                  <a:pt x="137376" y="219890"/>
                </a:lnTo>
                <a:lnTo>
                  <a:pt x="138040" y="216867"/>
                </a:lnTo>
                <a:lnTo>
                  <a:pt x="137636" y="214005"/>
                </a:lnTo>
                <a:lnTo>
                  <a:pt x="135776" y="208567"/>
                </a:lnTo>
                <a:lnTo>
                  <a:pt x="134950" y="203328"/>
                </a:lnTo>
                <a:lnTo>
                  <a:pt x="133882" y="201592"/>
                </a:lnTo>
                <a:lnTo>
                  <a:pt x="132324" y="200435"/>
                </a:lnTo>
                <a:lnTo>
                  <a:pt x="130439" y="199663"/>
                </a:lnTo>
                <a:lnTo>
                  <a:pt x="128335" y="199995"/>
                </a:lnTo>
                <a:lnTo>
                  <a:pt x="123739" y="202623"/>
                </a:lnTo>
                <a:lnTo>
                  <a:pt x="122176" y="205355"/>
                </a:lnTo>
                <a:lnTo>
                  <a:pt x="120439" y="212907"/>
                </a:lnTo>
                <a:lnTo>
                  <a:pt x="117408" y="219650"/>
                </a:lnTo>
                <a:lnTo>
                  <a:pt x="115414" y="222633"/>
                </a:lnTo>
                <a:lnTo>
                  <a:pt x="114933" y="226316"/>
                </a:lnTo>
                <a:lnTo>
                  <a:pt x="116655" y="234923"/>
                </a:lnTo>
                <a:lnTo>
                  <a:pt x="117984" y="244393"/>
                </a:lnTo>
                <a:lnTo>
                  <a:pt x="118338" y="249288"/>
                </a:lnTo>
                <a:lnTo>
                  <a:pt x="120268" y="254245"/>
                </a:lnTo>
                <a:lnTo>
                  <a:pt x="123249" y="259244"/>
                </a:lnTo>
                <a:lnTo>
                  <a:pt x="126928" y="264269"/>
                </a:lnTo>
                <a:lnTo>
                  <a:pt x="131922" y="269313"/>
                </a:lnTo>
                <a:lnTo>
                  <a:pt x="137790" y="274369"/>
                </a:lnTo>
                <a:lnTo>
                  <a:pt x="144243" y="279432"/>
                </a:lnTo>
                <a:lnTo>
                  <a:pt x="151084" y="283655"/>
                </a:lnTo>
                <a:lnTo>
                  <a:pt x="158186" y="287317"/>
                </a:lnTo>
                <a:lnTo>
                  <a:pt x="165460" y="290604"/>
                </a:lnTo>
                <a:lnTo>
                  <a:pt x="171155" y="293643"/>
                </a:lnTo>
                <a:lnTo>
                  <a:pt x="175800" y="296516"/>
                </a:lnTo>
                <a:lnTo>
                  <a:pt x="187628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InkAnnotation161"/>
          <p:cNvSpPr/>
          <p:nvPr/>
        </p:nvSpPr>
        <p:spPr>
          <a:xfrm>
            <a:off x="7155000" y="4373640"/>
            <a:ext cx="357120" cy="122040"/>
          </a:xfrm>
          <a:custGeom>
            <a:avLst/>
            <a:gdLst>
              <a:gd name="textAreaLeft" fmla="*/ 0 w 357120"/>
              <a:gd name="textAreaRight" fmla="*/ 357120 w 3571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356461" h="121752">
                <a:moveTo>
                  <a:pt x="0" y="22860"/>
                </a:moveTo>
                <a:lnTo>
                  <a:pt x="4046" y="22860"/>
                </a:lnTo>
                <a:lnTo>
                  <a:pt x="5237" y="23707"/>
                </a:lnTo>
                <a:lnTo>
                  <a:pt x="6032" y="25117"/>
                </a:lnTo>
                <a:lnTo>
                  <a:pt x="6562" y="26905"/>
                </a:lnTo>
                <a:lnTo>
                  <a:pt x="7760" y="28944"/>
                </a:lnTo>
                <a:lnTo>
                  <a:pt x="9407" y="31149"/>
                </a:lnTo>
                <a:lnTo>
                  <a:pt x="11351" y="33466"/>
                </a:lnTo>
                <a:lnTo>
                  <a:pt x="12648" y="35857"/>
                </a:lnTo>
                <a:lnTo>
                  <a:pt x="13512" y="38298"/>
                </a:lnTo>
                <a:lnTo>
                  <a:pt x="14899" y="44254"/>
                </a:lnTo>
                <a:lnTo>
                  <a:pt x="19605" y="47326"/>
                </a:lnTo>
                <a:lnTo>
                  <a:pt x="23229" y="49331"/>
                </a:lnTo>
                <a:lnTo>
                  <a:pt x="26493" y="51513"/>
                </a:lnTo>
                <a:lnTo>
                  <a:pt x="29516" y="53816"/>
                </a:lnTo>
                <a:lnTo>
                  <a:pt x="32377" y="56197"/>
                </a:lnTo>
                <a:lnTo>
                  <a:pt x="35979" y="58631"/>
                </a:lnTo>
                <a:lnTo>
                  <a:pt x="40072" y="61101"/>
                </a:lnTo>
                <a:lnTo>
                  <a:pt x="44495" y="63594"/>
                </a:lnTo>
                <a:lnTo>
                  <a:pt x="53924" y="66364"/>
                </a:lnTo>
                <a:lnTo>
                  <a:pt x="63760" y="67595"/>
                </a:lnTo>
                <a:lnTo>
                  <a:pt x="73775" y="68142"/>
                </a:lnTo>
                <a:lnTo>
                  <a:pt x="86130" y="68385"/>
                </a:lnTo>
                <a:lnTo>
                  <a:pt x="92980" y="68450"/>
                </a:lnTo>
                <a:lnTo>
                  <a:pt x="99240" y="67647"/>
                </a:lnTo>
                <a:lnTo>
                  <a:pt x="105106" y="66264"/>
                </a:lnTo>
                <a:lnTo>
                  <a:pt x="116141" y="63317"/>
                </a:lnTo>
                <a:lnTo>
                  <a:pt x="126689" y="62008"/>
                </a:lnTo>
                <a:lnTo>
                  <a:pt x="134764" y="59168"/>
                </a:lnTo>
                <a:lnTo>
                  <a:pt x="138103" y="57225"/>
                </a:lnTo>
                <a:lnTo>
                  <a:pt x="146328" y="52809"/>
                </a:lnTo>
                <a:lnTo>
                  <a:pt x="159949" y="45756"/>
                </a:lnTo>
                <a:lnTo>
                  <a:pt x="159988" y="47994"/>
                </a:lnTo>
                <a:lnTo>
                  <a:pt x="159999" y="49776"/>
                </a:lnTo>
                <a:lnTo>
                  <a:pt x="160853" y="51811"/>
                </a:lnTo>
                <a:lnTo>
                  <a:pt x="162269" y="54014"/>
                </a:lnTo>
                <a:lnTo>
                  <a:pt x="164059" y="56329"/>
                </a:lnTo>
                <a:lnTo>
                  <a:pt x="166946" y="59566"/>
                </a:lnTo>
                <a:lnTo>
                  <a:pt x="174669" y="67678"/>
                </a:lnTo>
                <a:lnTo>
                  <a:pt x="179099" y="71365"/>
                </a:lnTo>
                <a:lnTo>
                  <a:pt x="183747" y="74670"/>
                </a:lnTo>
                <a:lnTo>
                  <a:pt x="200635" y="85625"/>
                </a:lnTo>
                <a:lnTo>
                  <a:pt x="207416" y="90103"/>
                </a:lnTo>
                <a:lnTo>
                  <a:pt x="215324" y="94782"/>
                </a:lnTo>
                <a:lnTo>
                  <a:pt x="223983" y="99594"/>
                </a:lnTo>
                <a:lnTo>
                  <a:pt x="233142" y="104496"/>
                </a:lnTo>
                <a:lnTo>
                  <a:pt x="242634" y="108611"/>
                </a:lnTo>
                <a:lnTo>
                  <a:pt x="252349" y="112200"/>
                </a:lnTo>
                <a:lnTo>
                  <a:pt x="262213" y="115440"/>
                </a:lnTo>
                <a:lnTo>
                  <a:pt x="271329" y="117600"/>
                </a:lnTo>
                <a:lnTo>
                  <a:pt x="279946" y="119040"/>
                </a:lnTo>
                <a:lnTo>
                  <a:pt x="288231" y="120000"/>
                </a:lnTo>
                <a:lnTo>
                  <a:pt x="296294" y="120640"/>
                </a:lnTo>
                <a:lnTo>
                  <a:pt x="304208" y="121067"/>
                </a:lnTo>
                <a:lnTo>
                  <a:pt x="318930" y="121541"/>
                </a:lnTo>
                <a:lnTo>
                  <a:pt x="331117" y="121751"/>
                </a:lnTo>
                <a:lnTo>
                  <a:pt x="335892" y="120961"/>
                </a:lnTo>
                <a:lnTo>
                  <a:pt x="343455" y="117825"/>
                </a:lnTo>
                <a:lnTo>
                  <a:pt x="346656" y="114956"/>
                </a:lnTo>
                <a:lnTo>
                  <a:pt x="349637" y="111351"/>
                </a:lnTo>
                <a:lnTo>
                  <a:pt x="352472" y="107254"/>
                </a:lnTo>
                <a:lnTo>
                  <a:pt x="354361" y="102829"/>
                </a:lnTo>
                <a:lnTo>
                  <a:pt x="355621" y="98187"/>
                </a:lnTo>
                <a:lnTo>
                  <a:pt x="356460" y="93398"/>
                </a:lnTo>
                <a:lnTo>
                  <a:pt x="356174" y="88512"/>
                </a:lnTo>
                <a:lnTo>
                  <a:pt x="355137" y="83561"/>
                </a:lnTo>
                <a:lnTo>
                  <a:pt x="351725" y="72698"/>
                </a:lnTo>
                <a:lnTo>
                  <a:pt x="347387" y="59404"/>
                </a:lnTo>
                <a:lnTo>
                  <a:pt x="345045" y="53149"/>
                </a:lnTo>
                <a:lnTo>
                  <a:pt x="342636" y="47286"/>
                </a:lnTo>
                <a:lnTo>
                  <a:pt x="340184" y="41684"/>
                </a:lnTo>
                <a:lnTo>
                  <a:pt x="338549" y="36256"/>
                </a:lnTo>
                <a:lnTo>
                  <a:pt x="337460" y="30944"/>
                </a:lnTo>
                <a:lnTo>
                  <a:pt x="336733" y="25709"/>
                </a:lnTo>
                <a:lnTo>
                  <a:pt x="335402" y="21373"/>
                </a:lnTo>
                <a:lnTo>
                  <a:pt x="333668" y="17635"/>
                </a:lnTo>
                <a:lnTo>
                  <a:pt x="328847" y="9599"/>
                </a:lnTo>
                <a:lnTo>
                  <a:pt x="328187" y="6241"/>
                </a:lnTo>
                <a:lnTo>
                  <a:pt x="3276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InkAnnotation162"/>
          <p:cNvSpPr/>
          <p:nvPr/>
        </p:nvSpPr>
        <p:spPr>
          <a:xfrm>
            <a:off x="7040520" y="3695760"/>
            <a:ext cx="419040" cy="136440"/>
          </a:xfrm>
          <a:custGeom>
            <a:avLst/>
            <a:gdLst>
              <a:gd name="textAreaLeft" fmla="*/ 0 w 419040"/>
              <a:gd name="textAreaRight" fmla="*/ 419400 w 4190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19101" h="137028">
                <a:moveTo>
                  <a:pt x="0" y="106547"/>
                </a:moveTo>
                <a:lnTo>
                  <a:pt x="0" y="102502"/>
                </a:lnTo>
                <a:lnTo>
                  <a:pt x="847" y="100464"/>
                </a:lnTo>
                <a:lnTo>
                  <a:pt x="2258" y="98258"/>
                </a:lnTo>
                <a:lnTo>
                  <a:pt x="6562" y="92680"/>
                </a:lnTo>
                <a:lnTo>
                  <a:pt x="7760" y="90529"/>
                </a:lnTo>
                <a:lnTo>
                  <a:pt x="11351" y="83624"/>
                </a:lnTo>
                <a:lnTo>
                  <a:pt x="14341" y="79411"/>
                </a:lnTo>
                <a:lnTo>
                  <a:pt x="18027" y="74910"/>
                </a:lnTo>
                <a:lnTo>
                  <a:pt x="22178" y="70216"/>
                </a:lnTo>
                <a:lnTo>
                  <a:pt x="31306" y="60484"/>
                </a:lnTo>
                <a:lnTo>
                  <a:pt x="50964" y="40439"/>
                </a:lnTo>
                <a:lnTo>
                  <a:pt x="56836" y="36229"/>
                </a:lnTo>
                <a:lnTo>
                  <a:pt x="63290" y="32574"/>
                </a:lnTo>
                <a:lnTo>
                  <a:pt x="70133" y="29292"/>
                </a:lnTo>
                <a:lnTo>
                  <a:pt x="77235" y="26257"/>
                </a:lnTo>
                <a:lnTo>
                  <a:pt x="84511" y="23386"/>
                </a:lnTo>
                <a:lnTo>
                  <a:pt x="91901" y="20627"/>
                </a:lnTo>
                <a:lnTo>
                  <a:pt x="100214" y="17940"/>
                </a:lnTo>
                <a:lnTo>
                  <a:pt x="109142" y="15303"/>
                </a:lnTo>
                <a:lnTo>
                  <a:pt x="118481" y="12697"/>
                </a:lnTo>
                <a:lnTo>
                  <a:pt x="135632" y="7545"/>
                </a:lnTo>
                <a:lnTo>
                  <a:pt x="143761" y="4985"/>
                </a:lnTo>
                <a:lnTo>
                  <a:pt x="151721" y="3279"/>
                </a:lnTo>
                <a:lnTo>
                  <a:pt x="159567" y="2142"/>
                </a:lnTo>
                <a:lnTo>
                  <a:pt x="167338" y="1384"/>
                </a:lnTo>
                <a:lnTo>
                  <a:pt x="175906" y="878"/>
                </a:lnTo>
                <a:lnTo>
                  <a:pt x="194455" y="317"/>
                </a:lnTo>
                <a:lnTo>
                  <a:pt x="223940" y="0"/>
                </a:lnTo>
                <a:lnTo>
                  <a:pt x="233113" y="803"/>
                </a:lnTo>
                <a:lnTo>
                  <a:pt x="241768" y="2184"/>
                </a:lnTo>
                <a:lnTo>
                  <a:pt x="250080" y="3951"/>
                </a:lnTo>
                <a:lnTo>
                  <a:pt x="258159" y="5977"/>
                </a:lnTo>
                <a:lnTo>
                  <a:pt x="266086" y="8173"/>
                </a:lnTo>
                <a:lnTo>
                  <a:pt x="273911" y="10485"/>
                </a:lnTo>
                <a:lnTo>
                  <a:pt x="281668" y="13719"/>
                </a:lnTo>
                <a:lnTo>
                  <a:pt x="289378" y="17568"/>
                </a:lnTo>
                <a:lnTo>
                  <a:pt x="297059" y="21828"/>
                </a:lnTo>
                <a:lnTo>
                  <a:pt x="305565" y="25514"/>
                </a:lnTo>
                <a:lnTo>
                  <a:pt x="314624" y="28819"/>
                </a:lnTo>
                <a:lnTo>
                  <a:pt x="324050" y="31868"/>
                </a:lnTo>
                <a:lnTo>
                  <a:pt x="332027" y="35595"/>
                </a:lnTo>
                <a:lnTo>
                  <a:pt x="339037" y="39772"/>
                </a:lnTo>
                <a:lnTo>
                  <a:pt x="345405" y="44250"/>
                </a:lnTo>
                <a:lnTo>
                  <a:pt x="351343" y="48929"/>
                </a:lnTo>
                <a:lnTo>
                  <a:pt x="356996" y="53742"/>
                </a:lnTo>
                <a:lnTo>
                  <a:pt x="362457" y="58644"/>
                </a:lnTo>
                <a:lnTo>
                  <a:pt x="373042" y="68605"/>
                </a:lnTo>
                <a:lnTo>
                  <a:pt x="378234" y="73633"/>
                </a:lnTo>
                <a:lnTo>
                  <a:pt x="382542" y="78677"/>
                </a:lnTo>
                <a:lnTo>
                  <a:pt x="386262" y="83734"/>
                </a:lnTo>
                <a:lnTo>
                  <a:pt x="389588" y="88798"/>
                </a:lnTo>
                <a:lnTo>
                  <a:pt x="393499" y="93868"/>
                </a:lnTo>
                <a:lnTo>
                  <a:pt x="397799" y="98941"/>
                </a:lnTo>
                <a:lnTo>
                  <a:pt x="402359" y="104016"/>
                </a:lnTo>
                <a:lnTo>
                  <a:pt x="405400" y="109093"/>
                </a:lnTo>
                <a:lnTo>
                  <a:pt x="407427" y="114171"/>
                </a:lnTo>
                <a:lnTo>
                  <a:pt x="408778" y="119250"/>
                </a:lnTo>
                <a:lnTo>
                  <a:pt x="410525" y="123482"/>
                </a:lnTo>
                <a:lnTo>
                  <a:pt x="412537" y="127151"/>
                </a:lnTo>
                <a:lnTo>
                  <a:pt x="419100" y="1370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InkAnnotation163"/>
          <p:cNvSpPr/>
          <p:nvPr/>
        </p:nvSpPr>
        <p:spPr>
          <a:xfrm>
            <a:off x="7102440" y="3673440"/>
            <a:ext cx="966960" cy="273240"/>
          </a:xfrm>
          <a:custGeom>
            <a:avLst/>
            <a:gdLst>
              <a:gd name="textAreaLeft" fmla="*/ 0 w 966960"/>
              <a:gd name="textAreaRight" fmla="*/ 967320 w 96696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967741" h="274273">
                <a:moveTo>
                  <a:pt x="0" y="182832"/>
                </a:moveTo>
                <a:lnTo>
                  <a:pt x="0" y="178787"/>
                </a:lnTo>
                <a:lnTo>
                  <a:pt x="847" y="176749"/>
                </a:lnTo>
                <a:lnTo>
                  <a:pt x="4046" y="172226"/>
                </a:lnTo>
                <a:lnTo>
                  <a:pt x="10548" y="167394"/>
                </a:lnTo>
                <a:lnTo>
                  <a:pt x="23727" y="159913"/>
                </a:lnTo>
                <a:lnTo>
                  <a:pt x="33406" y="154019"/>
                </a:lnTo>
                <a:lnTo>
                  <a:pt x="43352" y="145755"/>
                </a:lnTo>
                <a:lnTo>
                  <a:pt x="57932" y="138696"/>
                </a:lnTo>
                <a:lnTo>
                  <a:pt x="74855" y="131889"/>
                </a:lnTo>
                <a:lnTo>
                  <a:pt x="82924" y="127704"/>
                </a:lnTo>
                <a:lnTo>
                  <a:pt x="99509" y="119384"/>
                </a:lnTo>
                <a:lnTo>
                  <a:pt x="118168" y="112864"/>
                </a:lnTo>
                <a:lnTo>
                  <a:pt x="137751" y="104886"/>
                </a:lnTo>
                <a:lnTo>
                  <a:pt x="147714" y="100388"/>
                </a:lnTo>
                <a:lnTo>
                  <a:pt x="156896" y="95696"/>
                </a:lnTo>
                <a:lnTo>
                  <a:pt x="165557" y="90875"/>
                </a:lnTo>
                <a:lnTo>
                  <a:pt x="173872" y="85967"/>
                </a:lnTo>
                <a:lnTo>
                  <a:pt x="192141" y="78257"/>
                </a:lnTo>
                <a:lnTo>
                  <a:pt x="211549" y="71161"/>
                </a:lnTo>
                <a:lnTo>
                  <a:pt x="221466" y="66898"/>
                </a:lnTo>
                <a:lnTo>
                  <a:pt x="241516" y="58492"/>
                </a:lnTo>
                <a:lnTo>
                  <a:pt x="272690" y="48153"/>
                </a:lnTo>
                <a:lnTo>
                  <a:pt x="296174" y="39437"/>
                </a:lnTo>
                <a:lnTo>
                  <a:pt x="318464" y="32177"/>
                </a:lnTo>
                <a:lnTo>
                  <a:pt x="339659" y="25281"/>
                </a:lnTo>
                <a:lnTo>
                  <a:pt x="350053" y="21071"/>
                </a:lnTo>
                <a:lnTo>
                  <a:pt x="371479" y="12725"/>
                </a:lnTo>
                <a:lnTo>
                  <a:pt x="395113" y="6194"/>
                </a:lnTo>
                <a:lnTo>
                  <a:pt x="419728" y="2726"/>
                </a:lnTo>
                <a:lnTo>
                  <a:pt x="444780" y="1185"/>
                </a:lnTo>
                <a:lnTo>
                  <a:pt x="470025" y="500"/>
                </a:lnTo>
                <a:lnTo>
                  <a:pt x="546111" y="0"/>
                </a:lnTo>
                <a:lnTo>
                  <a:pt x="571505" y="2231"/>
                </a:lnTo>
                <a:lnTo>
                  <a:pt x="596902" y="6045"/>
                </a:lnTo>
                <a:lnTo>
                  <a:pt x="622302" y="10562"/>
                </a:lnTo>
                <a:lnTo>
                  <a:pt x="647701" y="17650"/>
                </a:lnTo>
                <a:lnTo>
                  <a:pt x="660401" y="21911"/>
                </a:lnTo>
                <a:lnTo>
                  <a:pt x="685800" y="31160"/>
                </a:lnTo>
                <a:lnTo>
                  <a:pt x="698500" y="35997"/>
                </a:lnTo>
                <a:lnTo>
                  <a:pt x="710353" y="40916"/>
                </a:lnTo>
                <a:lnTo>
                  <a:pt x="721641" y="45888"/>
                </a:lnTo>
                <a:lnTo>
                  <a:pt x="732555" y="50896"/>
                </a:lnTo>
                <a:lnTo>
                  <a:pt x="743216" y="56775"/>
                </a:lnTo>
                <a:lnTo>
                  <a:pt x="753712" y="63234"/>
                </a:lnTo>
                <a:lnTo>
                  <a:pt x="764094" y="70080"/>
                </a:lnTo>
                <a:lnTo>
                  <a:pt x="774403" y="76337"/>
                </a:lnTo>
                <a:lnTo>
                  <a:pt x="784662" y="82203"/>
                </a:lnTo>
                <a:lnTo>
                  <a:pt x="794887" y="87805"/>
                </a:lnTo>
                <a:lnTo>
                  <a:pt x="817539" y="100805"/>
                </a:lnTo>
                <a:lnTo>
                  <a:pt x="829507" y="107827"/>
                </a:lnTo>
                <a:lnTo>
                  <a:pt x="840024" y="115895"/>
                </a:lnTo>
                <a:lnTo>
                  <a:pt x="849576" y="124661"/>
                </a:lnTo>
                <a:lnTo>
                  <a:pt x="891031" y="166956"/>
                </a:lnTo>
                <a:lnTo>
                  <a:pt x="906554" y="182549"/>
                </a:lnTo>
                <a:lnTo>
                  <a:pt x="913403" y="190264"/>
                </a:lnTo>
                <a:lnTo>
                  <a:pt x="919662" y="197947"/>
                </a:lnTo>
                <a:lnTo>
                  <a:pt x="925528" y="205608"/>
                </a:lnTo>
                <a:lnTo>
                  <a:pt x="931132" y="213256"/>
                </a:lnTo>
                <a:lnTo>
                  <a:pt x="941874" y="228527"/>
                </a:lnTo>
                <a:lnTo>
                  <a:pt x="947110" y="235309"/>
                </a:lnTo>
                <a:lnTo>
                  <a:pt x="952294" y="241523"/>
                </a:lnTo>
                <a:lnTo>
                  <a:pt x="957442" y="247360"/>
                </a:lnTo>
                <a:lnTo>
                  <a:pt x="960875" y="252944"/>
                </a:lnTo>
                <a:lnTo>
                  <a:pt x="963164" y="258360"/>
                </a:lnTo>
                <a:lnTo>
                  <a:pt x="967740" y="2742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InkAnnotation164"/>
          <p:cNvSpPr/>
          <p:nvPr/>
        </p:nvSpPr>
        <p:spPr>
          <a:xfrm>
            <a:off x="7635960" y="4313160"/>
            <a:ext cx="27000" cy="236520"/>
          </a:xfrm>
          <a:custGeom>
            <a:avLst/>
            <a:gdLst>
              <a:gd name="textAreaLeft" fmla="*/ 0 w 27000"/>
              <a:gd name="textAreaRight" fmla="*/ 27360 w 270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7244" h="236193">
                <a:moveTo>
                  <a:pt x="0" y="7592"/>
                </a:moveTo>
                <a:lnTo>
                  <a:pt x="6562" y="1031"/>
                </a:lnTo>
                <a:lnTo>
                  <a:pt x="7761" y="678"/>
                </a:lnTo>
                <a:lnTo>
                  <a:pt x="9407" y="443"/>
                </a:lnTo>
                <a:lnTo>
                  <a:pt x="11351" y="286"/>
                </a:lnTo>
                <a:lnTo>
                  <a:pt x="13494" y="181"/>
                </a:lnTo>
                <a:lnTo>
                  <a:pt x="21459" y="0"/>
                </a:lnTo>
                <a:lnTo>
                  <a:pt x="21926" y="837"/>
                </a:lnTo>
                <a:lnTo>
                  <a:pt x="22445" y="4025"/>
                </a:lnTo>
                <a:lnTo>
                  <a:pt x="22676" y="10522"/>
                </a:lnTo>
                <a:lnTo>
                  <a:pt x="22824" y="24446"/>
                </a:lnTo>
                <a:lnTo>
                  <a:pt x="23682" y="28141"/>
                </a:lnTo>
                <a:lnTo>
                  <a:pt x="25101" y="32298"/>
                </a:lnTo>
                <a:lnTo>
                  <a:pt x="26894" y="36763"/>
                </a:lnTo>
                <a:lnTo>
                  <a:pt x="27243" y="42279"/>
                </a:lnTo>
                <a:lnTo>
                  <a:pt x="26629" y="48497"/>
                </a:lnTo>
                <a:lnTo>
                  <a:pt x="25372" y="55182"/>
                </a:lnTo>
                <a:lnTo>
                  <a:pt x="24535" y="61332"/>
                </a:lnTo>
                <a:lnTo>
                  <a:pt x="23977" y="67125"/>
                </a:lnTo>
                <a:lnTo>
                  <a:pt x="23605" y="72681"/>
                </a:lnTo>
                <a:lnTo>
                  <a:pt x="23357" y="78925"/>
                </a:lnTo>
                <a:lnTo>
                  <a:pt x="23080" y="92636"/>
                </a:lnTo>
                <a:lnTo>
                  <a:pt x="22161" y="99848"/>
                </a:lnTo>
                <a:lnTo>
                  <a:pt x="20700" y="107196"/>
                </a:lnTo>
                <a:lnTo>
                  <a:pt x="18880" y="114634"/>
                </a:lnTo>
                <a:lnTo>
                  <a:pt x="16820" y="122134"/>
                </a:lnTo>
                <a:lnTo>
                  <a:pt x="12274" y="137240"/>
                </a:lnTo>
                <a:lnTo>
                  <a:pt x="10722" y="144824"/>
                </a:lnTo>
                <a:lnTo>
                  <a:pt x="9688" y="152420"/>
                </a:lnTo>
                <a:lnTo>
                  <a:pt x="8999" y="160024"/>
                </a:lnTo>
                <a:lnTo>
                  <a:pt x="8539" y="166787"/>
                </a:lnTo>
                <a:lnTo>
                  <a:pt x="8233" y="172989"/>
                </a:lnTo>
                <a:lnTo>
                  <a:pt x="8028" y="178817"/>
                </a:lnTo>
                <a:lnTo>
                  <a:pt x="7046" y="184395"/>
                </a:lnTo>
                <a:lnTo>
                  <a:pt x="5544" y="189807"/>
                </a:lnTo>
                <a:lnTo>
                  <a:pt x="3696" y="195109"/>
                </a:lnTo>
                <a:lnTo>
                  <a:pt x="3311" y="200337"/>
                </a:lnTo>
                <a:lnTo>
                  <a:pt x="3901" y="205515"/>
                </a:lnTo>
                <a:lnTo>
                  <a:pt x="5140" y="210661"/>
                </a:lnTo>
                <a:lnTo>
                  <a:pt x="5967" y="214938"/>
                </a:lnTo>
                <a:lnTo>
                  <a:pt x="6518" y="218636"/>
                </a:lnTo>
                <a:lnTo>
                  <a:pt x="7130" y="225003"/>
                </a:lnTo>
                <a:lnTo>
                  <a:pt x="7294" y="227886"/>
                </a:lnTo>
                <a:lnTo>
                  <a:pt x="7620" y="236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InkAnnotation165"/>
          <p:cNvSpPr/>
          <p:nvPr/>
        </p:nvSpPr>
        <p:spPr>
          <a:xfrm>
            <a:off x="7597800" y="4403880"/>
            <a:ext cx="120600" cy="7920"/>
          </a:xfrm>
          <a:custGeom>
            <a:avLst/>
            <a:gdLst>
              <a:gd name="textAreaLeft" fmla="*/ 0 w 120600"/>
              <a:gd name="textAreaRight" fmla="*/ 120960 w 120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1920" h="7621">
                <a:moveTo>
                  <a:pt x="0" y="7620"/>
                </a:moveTo>
                <a:lnTo>
                  <a:pt x="95632" y="7620"/>
                </a:lnTo>
                <a:lnTo>
                  <a:pt x="102701" y="6774"/>
                </a:lnTo>
                <a:lnTo>
                  <a:pt x="108261" y="5363"/>
                </a:lnTo>
                <a:lnTo>
                  <a:pt x="12191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InkAnnotation166"/>
          <p:cNvSpPr/>
          <p:nvPr/>
        </p:nvSpPr>
        <p:spPr>
          <a:xfrm>
            <a:off x="7794720" y="4282920"/>
            <a:ext cx="23760" cy="243000"/>
          </a:xfrm>
          <a:custGeom>
            <a:avLst/>
            <a:gdLst>
              <a:gd name="textAreaLeft" fmla="*/ 0 w 23760"/>
              <a:gd name="textAreaRight" fmla="*/ 24120 w 2376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2768" h="243841">
                <a:moveTo>
                  <a:pt x="7527" y="0"/>
                </a:moveTo>
                <a:lnTo>
                  <a:pt x="221" y="0"/>
                </a:lnTo>
                <a:lnTo>
                  <a:pt x="0" y="4045"/>
                </a:lnTo>
                <a:lnTo>
                  <a:pt x="816" y="6084"/>
                </a:lnTo>
                <a:lnTo>
                  <a:pt x="2207" y="8289"/>
                </a:lnTo>
                <a:lnTo>
                  <a:pt x="3980" y="10606"/>
                </a:lnTo>
                <a:lnTo>
                  <a:pt x="5162" y="13844"/>
                </a:lnTo>
                <a:lnTo>
                  <a:pt x="5951" y="17696"/>
                </a:lnTo>
                <a:lnTo>
                  <a:pt x="6476" y="21957"/>
                </a:lnTo>
                <a:lnTo>
                  <a:pt x="6826" y="27338"/>
                </a:lnTo>
                <a:lnTo>
                  <a:pt x="7060" y="33466"/>
                </a:lnTo>
                <a:lnTo>
                  <a:pt x="7389" y="54225"/>
                </a:lnTo>
                <a:lnTo>
                  <a:pt x="7519" y="110777"/>
                </a:lnTo>
                <a:lnTo>
                  <a:pt x="6675" y="120418"/>
                </a:lnTo>
                <a:lnTo>
                  <a:pt x="5265" y="130232"/>
                </a:lnTo>
                <a:lnTo>
                  <a:pt x="3479" y="140161"/>
                </a:lnTo>
                <a:lnTo>
                  <a:pt x="2288" y="149321"/>
                </a:lnTo>
                <a:lnTo>
                  <a:pt x="1495" y="157968"/>
                </a:lnTo>
                <a:lnTo>
                  <a:pt x="966" y="166272"/>
                </a:lnTo>
                <a:lnTo>
                  <a:pt x="1459" y="174348"/>
                </a:lnTo>
                <a:lnTo>
                  <a:pt x="2635" y="182272"/>
                </a:lnTo>
                <a:lnTo>
                  <a:pt x="4265" y="190094"/>
                </a:lnTo>
                <a:lnTo>
                  <a:pt x="6199" y="197003"/>
                </a:lnTo>
                <a:lnTo>
                  <a:pt x="8335" y="203302"/>
                </a:lnTo>
                <a:lnTo>
                  <a:pt x="10606" y="209195"/>
                </a:lnTo>
                <a:lnTo>
                  <a:pt x="12967" y="213970"/>
                </a:lnTo>
                <a:lnTo>
                  <a:pt x="15387" y="218000"/>
                </a:lnTo>
                <a:lnTo>
                  <a:pt x="17847" y="221533"/>
                </a:lnTo>
                <a:lnTo>
                  <a:pt x="19487" y="224736"/>
                </a:lnTo>
                <a:lnTo>
                  <a:pt x="20580" y="227717"/>
                </a:lnTo>
                <a:lnTo>
                  <a:pt x="21309" y="230552"/>
                </a:lnTo>
                <a:lnTo>
                  <a:pt x="21795" y="233287"/>
                </a:lnTo>
                <a:lnTo>
                  <a:pt x="22118" y="235958"/>
                </a:lnTo>
                <a:lnTo>
                  <a:pt x="22767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InkAnnotation167"/>
          <p:cNvSpPr/>
          <p:nvPr/>
        </p:nvSpPr>
        <p:spPr>
          <a:xfrm>
            <a:off x="7864560" y="4290840"/>
            <a:ext cx="196920" cy="173160"/>
          </a:xfrm>
          <a:custGeom>
            <a:avLst/>
            <a:gdLst>
              <a:gd name="textAreaLeft" fmla="*/ 0 w 196920"/>
              <a:gd name="textAreaRight" fmla="*/ 197280 w 1969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98120" h="173622">
                <a:moveTo>
                  <a:pt x="0" y="37748"/>
                </a:moveTo>
                <a:lnTo>
                  <a:pt x="0" y="33703"/>
                </a:lnTo>
                <a:lnTo>
                  <a:pt x="847" y="32511"/>
                </a:lnTo>
                <a:lnTo>
                  <a:pt x="2259" y="31716"/>
                </a:lnTo>
                <a:lnTo>
                  <a:pt x="4046" y="31186"/>
                </a:lnTo>
                <a:lnTo>
                  <a:pt x="8289" y="28340"/>
                </a:lnTo>
                <a:lnTo>
                  <a:pt x="12998" y="24253"/>
                </a:lnTo>
                <a:lnTo>
                  <a:pt x="17913" y="19615"/>
                </a:lnTo>
                <a:lnTo>
                  <a:pt x="25440" y="12243"/>
                </a:lnTo>
                <a:lnTo>
                  <a:pt x="29660" y="10585"/>
                </a:lnTo>
                <a:lnTo>
                  <a:pt x="35013" y="9479"/>
                </a:lnTo>
                <a:lnTo>
                  <a:pt x="41122" y="8742"/>
                </a:lnTo>
                <a:lnTo>
                  <a:pt x="46889" y="7404"/>
                </a:lnTo>
                <a:lnTo>
                  <a:pt x="52426" y="5665"/>
                </a:lnTo>
                <a:lnTo>
                  <a:pt x="57811" y="3659"/>
                </a:lnTo>
                <a:lnTo>
                  <a:pt x="63940" y="2322"/>
                </a:lnTo>
                <a:lnTo>
                  <a:pt x="70567" y="1430"/>
                </a:lnTo>
                <a:lnTo>
                  <a:pt x="77525" y="836"/>
                </a:lnTo>
                <a:lnTo>
                  <a:pt x="83856" y="440"/>
                </a:lnTo>
                <a:lnTo>
                  <a:pt x="95408" y="0"/>
                </a:lnTo>
                <a:lnTo>
                  <a:pt x="100858" y="729"/>
                </a:lnTo>
                <a:lnTo>
                  <a:pt x="106184" y="2062"/>
                </a:lnTo>
                <a:lnTo>
                  <a:pt x="111431" y="3797"/>
                </a:lnTo>
                <a:lnTo>
                  <a:pt x="115774" y="4953"/>
                </a:lnTo>
                <a:lnTo>
                  <a:pt x="119515" y="5725"/>
                </a:lnTo>
                <a:lnTo>
                  <a:pt x="122856" y="6239"/>
                </a:lnTo>
                <a:lnTo>
                  <a:pt x="128827" y="9068"/>
                </a:lnTo>
                <a:lnTo>
                  <a:pt x="131605" y="11008"/>
                </a:lnTo>
                <a:lnTo>
                  <a:pt x="133457" y="13148"/>
                </a:lnTo>
                <a:lnTo>
                  <a:pt x="134691" y="15421"/>
                </a:lnTo>
                <a:lnTo>
                  <a:pt x="135514" y="17783"/>
                </a:lnTo>
                <a:lnTo>
                  <a:pt x="135215" y="20205"/>
                </a:lnTo>
                <a:lnTo>
                  <a:pt x="134171" y="22666"/>
                </a:lnTo>
                <a:lnTo>
                  <a:pt x="130752" y="27658"/>
                </a:lnTo>
                <a:lnTo>
                  <a:pt x="126409" y="32698"/>
                </a:lnTo>
                <a:lnTo>
                  <a:pt x="119400" y="40019"/>
                </a:lnTo>
                <a:lnTo>
                  <a:pt x="101103" y="58516"/>
                </a:lnTo>
                <a:lnTo>
                  <a:pt x="95341" y="63446"/>
                </a:lnTo>
                <a:lnTo>
                  <a:pt x="88961" y="68427"/>
                </a:lnTo>
                <a:lnTo>
                  <a:pt x="82167" y="73440"/>
                </a:lnTo>
                <a:lnTo>
                  <a:pt x="75945" y="78476"/>
                </a:lnTo>
                <a:lnTo>
                  <a:pt x="70103" y="83527"/>
                </a:lnTo>
                <a:lnTo>
                  <a:pt x="64516" y="88587"/>
                </a:lnTo>
                <a:lnTo>
                  <a:pt x="58251" y="93654"/>
                </a:lnTo>
                <a:lnTo>
                  <a:pt x="51533" y="98725"/>
                </a:lnTo>
                <a:lnTo>
                  <a:pt x="44515" y="103799"/>
                </a:lnTo>
                <a:lnTo>
                  <a:pt x="38990" y="108029"/>
                </a:lnTo>
                <a:lnTo>
                  <a:pt x="34460" y="111695"/>
                </a:lnTo>
                <a:lnTo>
                  <a:pt x="30594" y="114986"/>
                </a:lnTo>
                <a:lnTo>
                  <a:pt x="27169" y="118873"/>
                </a:lnTo>
                <a:lnTo>
                  <a:pt x="24040" y="123158"/>
                </a:lnTo>
                <a:lnTo>
                  <a:pt x="21106" y="127708"/>
                </a:lnTo>
                <a:lnTo>
                  <a:pt x="19997" y="131588"/>
                </a:lnTo>
                <a:lnTo>
                  <a:pt x="20105" y="135022"/>
                </a:lnTo>
                <a:lnTo>
                  <a:pt x="21023" y="138157"/>
                </a:lnTo>
                <a:lnTo>
                  <a:pt x="22483" y="141094"/>
                </a:lnTo>
                <a:lnTo>
                  <a:pt x="24301" y="143899"/>
                </a:lnTo>
                <a:lnTo>
                  <a:pt x="26361" y="146615"/>
                </a:lnTo>
                <a:lnTo>
                  <a:pt x="29427" y="150119"/>
                </a:lnTo>
                <a:lnTo>
                  <a:pt x="33165" y="154149"/>
                </a:lnTo>
                <a:lnTo>
                  <a:pt x="37350" y="158528"/>
                </a:lnTo>
                <a:lnTo>
                  <a:pt x="41833" y="161448"/>
                </a:lnTo>
                <a:lnTo>
                  <a:pt x="46515" y="163395"/>
                </a:lnTo>
                <a:lnTo>
                  <a:pt x="51330" y="164693"/>
                </a:lnTo>
                <a:lnTo>
                  <a:pt x="63454" y="168392"/>
                </a:lnTo>
                <a:lnTo>
                  <a:pt x="70242" y="170564"/>
                </a:lnTo>
                <a:lnTo>
                  <a:pt x="76461" y="172012"/>
                </a:lnTo>
                <a:lnTo>
                  <a:pt x="82301" y="172977"/>
                </a:lnTo>
                <a:lnTo>
                  <a:pt x="87888" y="173621"/>
                </a:lnTo>
                <a:lnTo>
                  <a:pt x="94152" y="173203"/>
                </a:lnTo>
                <a:lnTo>
                  <a:pt x="100868" y="172078"/>
                </a:lnTo>
                <a:lnTo>
                  <a:pt x="107884" y="170481"/>
                </a:lnTo>
                <a:lnTo>
                  <a:pt x="115104" y="169417"/>
                </a:lnTo>
                <a:lnTo>
                  <a:pt x="122455" y="168707"/>
                </a:lnTo>
                <a:lnTo>
                  <a:pt x="129897" y="168234"/>
                </a:lnTo>
                <a:lnTo>
                  <a:pt x="137398" y="167072"/>
                </a:lnTo>
                <a:lnTo>
                  <a:pt x="144939" y="165451"/>
                </a:lnTo>
                <a:lnTo>
                  <a:pt x="152506" y="163523"/>
                </a:lnTo>
                <a:lnTo>
                  <a:pt x="160090" y="160544"/>
                </a:lnTo>
                <a:lnTo>
                  <a:pt x="167687" y="156866"/>
                </a:lnTo>
                <a:lnTo>
                  <a:pt x="175291" y="152720"/>
                </a:lnTo>
                <a:lnTo>
                  <a:pt x="181207" y="149956"/>
                </a:lnTo>
                <a:lnTo>
                  <a:pt x="185998" y="148113"/>
                </a:lnTo>
                <a:lnTo>
                  <a:pt x="198119" y="1444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InkAnnotation168"/>
          <p:cNvSpPr/>
          <p:nvPr/>
        </p:nvSpPr>
        <p:spPr>
          <a:xfrm>
            <a:off x="8237520" y="4267080"/>
            <a:ext cx="22320" cy="198720"/>
          </a:xfrm>
          <a:custGeom>
            <a:avLst/>
            <a:gdLst>
              <a:gd name="textAreaLeft" fmla="*/ 0 w 22320"/>
              <a:gd name="textAreaRight" fmla="*/ 22680 w 2232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22859" h="198121">
                <a:moveTo>
                  <a:pt x="7618" y="0"/>
                </a:moveTo>
                <a:lnTo>
                  <a:pt x="3572" y="4045"/>
                </a:lnTo>
                <a:lnTo>
                  <a:pt x="2381" y="6083"/>
                </a:lnTo>
                <a:lnTo>
                  <a:pt x="1586" y="8289"/>
                </a:lnTo>
                <a:lnTo>
                  <a:pt x="1056" y="10606"/>
                </a:lnTo>
                <a:lnTo>
                  <a:pt x="469" y="15439"/>
                </a:lnTo>
                <a:lnTo>
                  <a:pt x="207" y="21255"/>
                </a:lnTo>
                <a:lnTo>
                  <a:pt x="39" y="38786"/>
                </a:lnTo>
                <a:lnTo>
                  <a:pt x="0" y="81790"/>
                </a:lnTo>
                <a:lnTo>
                  <a:pt x="846" y="89240"/>
                </a:lnTo>
                <a:lnTo>
                  <a:pt x="2255" y="95900"/>
                </a:lnTo>
                <a:lnTo>
                  <a:pt x="4044" y="102033"/>
                </a:lnTo>
                <a:lnTo>
                  <a:pt x="5234" y="108662"/>
                </a:lnTo>
                <a:lnTo>
                  <a:pt x="6029" y="115622"/>
                </a:lnTo>
                <a:lnTo>
                  <a:pt x="6559" y="122802"/>
                </a:lnTo>
                <a:lnTo>
                  <a:pt x="7758" y="130128"/>
                </a:lnTo>
                <a:lnTo>
                  <a:pt x="9405" y="137552"/>
                </a:lnTo>
                <a:lnTo>
                  <a:pt x="11349" y="145041"/>
                </a:lnTo>
                <a:lnTo>
                  <a:pt x="12646" y="151728"/>
                </a:lnTo>
                <a:lnTo>
                  <a:pt x="13510" y="157879"/>
                </a:lnTo>
                <a:lnTo>
                  <a:pt x="14085" y="163672"/>
                </a:lnTo>
                <a:lnTo>
                  <a:pt x="14469" y="169229"/>
                </a:lnTo>
                <a:lnTo>
                  <a:pt x="14726" y="174626"/>
                </a:lnTo>
                <a:lnTo>
                  <a:pt x="14897" y="179917"/>
                </a:lnTo>
                <a:lnTo>
                  <a:pt x="15857" y="184291"/>
                </a:lnTo>
                <a:lnTo>
                  <a:pt x="17344" y="188054"/>
                </a:lnTo>
                <a:lnTo>
                  <a:pt x="22858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InkAnnotation169"/>
          <p:cNvSpPr/>
          <p:nvPr/>
        </p:nvSpPr>
        <p:spPr>
          <a:xfrm>
            <a:off x="8145360" y="4365720"/>
            <a:ext cx="152640" cy="360"/>
          </a:xfrm>
          <a:custGeom>
            <a:avLst/>
            <a:gdLst>
              <a:gd name="textAreaLeft" fmla="*/ 0 w 152640"/>
              <a:gd name="textAreaRight" fmla="*/ 153000 w 1526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52401" h="1">
                <a:moveTo>
                  <a:pt x="0" y="0"/>
                </a:moveTo>
                <a:lnTo>
                  <a:pt x="1524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InkAnnotation170"/>
          <p:cNvSpPr/>
          <p:nvPr/>
        </p:nvSpPr>
        <p:spPr>
          <a:xfrm>
            <a:off x="8331120" y="4251240"/>
            <a:ext cx="211320" cy="222480"/>
          </a:xfrm>
          <a:custGeom>
            <a:avLst/>
            <a:gdLst>
              <a:gd name="textAreaLeft" fmla="*/ 0 w 211320"/>
              <a:gd name="textAreaRight" fmla="*/ 211680 w 21132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10131" h="220880">
                <a:moveTo>
                  <a:pt x="4390" y="22759"/>
                </a:moveTo>
                <a:lnTo>
                  <a:pt x="345" y="22759"/>
                </a:lnTo>
                <a:lnTo>
                  <a:pt x="0" y="21913"/>
                </a:lnTo>
                <a:lnTo>
                  <a:pt x="616" y="20501"/>
                </a:lnTo>
                <a:lnTo>
                  <a:pt x="3645" y="16198"/>
                </a:lnTo>
                <a:lnTo>
                  <a:pt x="4740" y="15845"/>
                </a:lnTo>
                <a:lnTo>
                  <a:pt x="8214" y="15453"/>
                </a:lnTo>
                <a:lnTo>
                  <a:pt x="10326" y="14502"/>
                </a:lnTo>
                <a:lnTo>
                  <a:pt x="14931" y="11187"/>
                </a:lnTo>
                <a:lnTo>
                  <a:pt x="17344" y="9964"/>
                </a:lnTo>
                <a:lnTo>
                  <a:pt x="22283" y="8606"/>
                </a:lnTo>
                <a:lnTo>
                  <a:pt x="25631" y="7397"/>
                </a:lnTo>
                <a:lnTo>
                  <a:pt x="29558" y="5744"/>
                </a:lnTo>
                <a:lnTo>
                  <a:pt x="33868" y="3796"/>
                </a:lnTo>
                <a:lnTo>
                  <a:pt x="39283" y="2497"/>
                </a:lnTo>
                <a:lnTo>
                  <a:pt x="45432" y="1631"/>
                </a:lnTo>
                <a:lnTo>
                  <a:pt x="52071" y="1054"/>
                </a:lnTo>
                <a:lnTo>
                  <a:pt x="58191" y="669"/>
                </a:lnTo>
                <a:lnTo>
                  <a:pt x="69506" y="241"/>
                </a:lnTo>
                <a:lnTo>
                  <a:pt x="89441" y="0"/>
                </a:lnTo>
                <a:lnTo>
                  <a:pt x="95804" y="814"/>
                </a:lnTo>
                <a:lnTo>
                  <a:pt x="101739" y="2202"/>
                </a:lnTo>
                <a:lnTo>
                  <a:pt x="107389" y="3975"/>
                </a:lnTo>
                <a:lnTo>
                  <a:pt x="112849" y="5156"/>
                </a:lnTo>
                <a:lnTo>
                  <a:pt x="118183" y="5943"/>
                </a:lnTo>
                <a:lnTo>
                  <a:pt x="123432" y="6469"/>
                </a:lnTo>
                <a:lnTo>
                  <a:pt x="127778" y="7665"/>
                </a:lnTo>
                <a:lnTo>
                  <a:pt x="131523" y="9310"/>
                </a:lnTo>
                <a:lnTo>
                  <a:pt x="137940" y="13395"/>
                </a:lnTo>
                <a:lnTo>
                  <a:pt x="143614" y="18033"/>
                </a:lnTo>
                <a:lnTo>
                  <a:pt x="145466" y="20455"/>
                </a:lnTo>
                <a:lnTo>
                  <a:pt x="147525" y="25404"/>
                </a:lnTo>
                <a:lnTo>
                  <a:pt x="148438" y="30426"/>
                </a:lnTo>
                <a:lnTo>
                  <a:pt x="148683" y="32950"/>
                </a:lnTo>
                <a:lnTo>
                  <a:pt x="147998" y="35480"/>
                </a:lnTo>
                <a:lnTo>
                  <a:pt x="144981" y="40548"/>
                </a:lnTo>
                <a:lnTo>
                  <a:pt x="142144" y="43932"/>
                </a:lnTo>
                <a:lnTo>
                  <a:pt x="138559" y="47881"/>
                </a:lnTo>
                <a:lnTo>
                  <a:pt x="130061" y="56785"/>
                </a:lnTo>
                <a:lnTo>
                  <a:pt x="120639" y="66386"/>
                </a:lnTo>
                <a:lnTo>
                  <a:pt x="114910" y="71317"/>
                </a:lnTo>
                <a:lnTo>
                  <a:pt x="108550" y="76298"/>
                </a:lnTo>
                <a:lnTo>
                  <a:pt x="101770" y="81312"/>
                </a:lnTo>
                <a:lnTo>
                  <a:pt x="95557" y="86347"/>
                </a:lnTo>
                <a:lnTo>
                  <a:pt x="89721" y="91398"/>
                </a:lnTo>
                <a:lnTo>
                  <a:pt x="84138" y="96458"/>
                </a:lnTo>
                <a:lnTo>
                  <a:pt x="77875" y="101525"/>
                </a:lnTo>
                <a:lnTo>
                  <a:pt x="71160" y="106596"/>
                </a:lnTo>
                <a:lnTo>
                  <a:pt x="64144" y="111671"/>
                </a:lnTo>
                <a:lnTo>
                  <a:pt x="58619" y="116747"/>
                </a:lnTo>
                <a:lnTo>
                  <a:pt x="54089" y="121824"/>
                </a:lnTo>
                <a:lnTo>
                  <a:pt x="50222" y="126902"/>
                </a:lnTo>
                <a:lnTo>
                  <a:pt x="46798" y="131981"/>
                </a:lnTo>
                <a:lnTo>
                  <a:pt x="43669" y="137061"/>
                </a:lnTo>
                <a:lnTo>
                  <a:pt x="40736" y="142140"/>
                </a:lnTo>
                <a:lnTo>
                  <a:pt x="38780" y="146373"/>
                </a:lnTo>
                <a:lnTo>
                  <a:pt x="37477" y="150042"/>
                </a:lnTo>
                <a:lnTo>
                  <a:pt x="36607" y="153334"/>
                </a:lnTo>
                <a:lnTo>
                  <a:pt x="36876" y="157223"/>
                </a:lnTo>
                <a:lnTo>
                  <a:pt x="37900" y="161508"/>
                </a:lnTo>
                <a:lnTo>
                  <a:pt x="39431" y="166059"/>
                </a:lnTo>
                <a:lnTo>
                  <a:pt x="41296" y="169939"/>
                </a:lnTo>
                <a:lnTo>
                  <a:pt x="45629" y="176508"/>
                </a:lnTo>
                <a:lnTo>
                  <a:pt x="48816" y="180292"/>
                </a:lnTo>
                <a:lnTo>
                  <a:pt x="52634" y="184507"/>
                </a:lnTo>
                <a:lnTo>
                  <a:pt x="56872" y="189011"/>
                </a:lnTo>
                <a:lnTo>
                  <a:pt x="62238" y="192861"/>
                </a:lnTo>
                <a:lnTo>
                  <a:pt x="68355" y="196273"/>
                </a:lnTo>
                <a:lnTo>
                  <a:pt x="74973" y="199395"/>
                </a:lnTo>
                <a:lnTo>
                  <a:pt x="81926" y="202323"/>
                </a:lnTo>
                <a:lnTo>
                  <a:pt x="89100" y="205122"/>
                </a:lnTo>
                <a:lnTo>
                  <a:pt x="103845" y="210489"/>
                </a:lnTo>
                <a:lnTo>
                  <a:pt x="118866" y="215697"/>
                </a:lnTo>
                <a:lnTo>
                  <a:pt x="126427" y="217424"/>
                </a:lnTo>
                <a:lnTo>
                  <a:pt x="134008" y="218576"/>
                </a:lnTo>
                <a:lnTo>
                  <a:pt x="141602" y="219344"/>
                </a:lnTo>
                <a:lnTo>
                  <a:pt x="149205" y="219856"/>
                </a:lnTo>
                <a:lnTo>
                  <a:pt x="156813" y="220196"/>
                </a:lnTo>
                <a:lnTo>
                  <a:pt x="172040" y="220576"/>
                </a:lnTo>
                <a:lnTo>
                  <a:pt x="210130" y="2208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InkAnnotation171"/>
          <p:cNvSpPr/>
          <p:nvPr/>
        </p:nvSpPr>
        <p:spPr>
          <a:xfrm>
            <a:off x="5745240" y="4511520"/>
            <a:ext cx="23760" cy="228600"/>
          </a:xfrm>
          <a:custGeom>
            <a:avLst/>
            <a:gdLst>
              <a:gd name="textAreaLeft" fmla="*/ 0 w 23760"/>
              <a:gd name="textAreaRight" fmla="*/ 24120 w 23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862" h="228601">
                <a:moveTo>
                  <a:pt x="0" y="0"/>
                </a:moveTo>
                <a:lnTo>
                  <a:pt x="6561" y="6561"/>
                </a:lnTo>
                <a:lnTo>
                  <a:pt x="7150" y="9407"/>
                </a:lnTo>
                <a:lnTo>
                  <a:pt x="7306" y="11351"/>
                </a:lnTo>
                <a:lnTo>
                  <a:pt x="8258" y="14341"/>
                </a:lnTo>
                <a:lnTo>
                  <a:pt x="9739" y="18027"/>
                </a:lnTo>
                <a:lnTo>
                  <a:pt x="11573" y="22178"/>
                </a:lnTo>
                <a:lnTo>
                  <a:pt x="12795" y="25792"/>
                </a:lnTo>
                <a:lnTo>
                  <a:pt x="13610" y="29048"/>
                </a:lnTo>
                <a:lnTo>
                  <a:pt x="14153" y="32066"/>
                </a:lnTo>
                <a:lnTo>
                  <a:pt x="14515" y="36617"/>
                </a:lnTo>
                <a:lnTo>
                  <a:pt x="14757" y="42191"/>
                </a:lnTo>
                <a:lnTo>
                  <a:pt x="15097" y="59915"/>
                </a:lnTo>
                <a:lnTo>
                  <a:pt x="15212" y="85119"/>
                </a:lnTo>
                <a:lnTo>
                  <a:pt x="14375" y="93153"/>
                </a:lnTo>
                <a:lnTo>
                  <a:pt x="12970" y="101895"/>
                </a:lnTo>
                <a:lnTo>
                  <a:pt x="11187" y="111110"/>
                </a:lnTo>
                <a:lnTo>
                  <a:pt x="10845" y="118947"/>
                </a:lnTo>
                <a:lnTo>
                  <a:pt x="11463" y="125865"/>
                </a:lnTo>
                <a:lnTo>
                  <a:pt x="12722" y="132170"/>
                </a:lnTo>
                <a:lnTo>
                  <a:pt x="13561" y="139760"/>
                </a:lnTo>
                <a:lnTo>
                  <a:pt x="14122" y="148206"/>
                </a:lnTo>
                <a:lnTo>
                  <a:pt x="14743" y="164930"/>
                </a:lnTo>
                <a:lnTo>
                  <a:pt x="15019" y="178006"/>
                </a:lnTo>
                <a:lnTo>
                  <a:pt x="15940" y="183864"/>
                </a:lnTo>
                <a:lnTo>
                  <a:pt x="17400" y="189463"/>
                </a:lnTo>
                <a:lnTo>
                  <a:pt x="19220" y="194889"/>
                </a:lnTo>
                <a:lnTo>
                  <a:pt x="20434" y="199353"/>
                </a:lnTo>
                <a:lnTo>
                  <a:pt x="21243" y="203175"/>
                </a:lnTo>
                <a:lnTo>
                  <a:pt x="21782" y="206570"/>
                </a:lnTo>
                <a:lnTo>
                  <a:pt x="22142" y="210527"/>
                </a:lnTo>
                <a:lnTo>
                  <a:pt x="22382" y="214858"/>
                </a:lnTo>
                <a:lnTo>
                  <a:pt x="22861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InkAnnotation172"/>
          <p:cNvSpPr/>
          <p:nvPr/>
        </p:nvSpPr>
        <p:spPr>
          <a:xfrm>
            <a:off x="5699160" y="4626000"/>
            <a:ext cx="122040" cy="360"/>
          </a:xfrm>
          <a:custGeom>
            <a:avLst/>
            <a:gdLst>
              <a:gd name="textAreaLeft" fmla="*/ 0 w 122040"/>
              <a:gd name="textAreaRight" fmla="*/ 122400 w 1220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1921" h="1">
                <a:moveTo>
                  <a:pt x="0" y="0"/>
                </a:moveTo>
                <a:lnTo>
                  <a:pt x="1219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InkAnnotation173"/>
          <p:cNvSpPr/>
          <p:nvPr/>
        </p:nvSpPr>
        <p:spPr>
          <a:xfrm>
            <a:off x="5851440" y="4514760"/>
            <a:ext cx="266760" cy="171720"/>
          </a:xfrm>
          <a:custGeom>
            <a:avLst/>
            <a:gdLst>
              <a:gd name="textAreaLeft" fmla="*/ 0 w 266760"/>
              <a:gd name="textAreaRight" fmla="*/ 267120 w 26676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266701" h="171724">
                <a:moveTo>
                  <a:pt x="0" y="42200"/>
                </a:moveTo>
                <a:lnTo>
                  <a:pt x="0" y="27367"/>
                </a:lnTo>
                <a:lnTo>
                  <a:pt x="4045" y="23035"/>
                </a:lnTo>
                <a:lnTo>
                  <a:pt x="10546" y="18725"/>
                </a:lnTo>
                <a:lnTo>
                  <a:pt x="14651" y="16390"/>
                </a:lnTo>
                <a:lnTo>
                  <a:pt x="19927" y="13987"/>
                </a:lnTo>
                <a:lnTo>
                  <a:pt x="25985" y="11538"/>
                </a:lnTo>
                <a:lnTo>
                  <a:pt x="32563" y="9058"/>
                </a:lnTo>
                <a:lnTo>
                  <a:pt x="39489" y="7406"/>
                </a:lnTo>
                <a:lnTo>
                  <a:pt x="46645" y="6304"/>
                </a:lnTo>
                <a:lnTo>
                  <a:pt x="53957" y="5570"/>
                </a:lnTo>
                <a:lnTo>
                  <a:pt x="61372" y="4233"/>
                </a:lnTo>
                <a:lnTo>
                  <a:pt x="68854" y="2495"/>
                </a:lnTo>
                <a:lnTo>
                  <a:pt x="76383" y="490"/>
                </a:lnTo>
                <a:lnTo>
                  <a:pt x="84789" y="0"/>
                </a:lnTo>
                <a:lnTo>
                  <a:pt x="93779" y="520"/>
                </a:lnTo>
                <a:lnTo>
                  <a:pt x="103159" y="1713"/>
                </a:lnTo>
                <a:lnTo>
                  <a:pt x="111953" y="3356"/>
                </a:lnTo>
                <a:lnTo>
                  <a:pt x="120355" y="5297"/>
                </a:lnTo>
                <a:lnTo>
                  <a:pt x="128497" y="7438"/>
                </a:lnTo>
                <a:lnTo>
                  <a:pt x="136465" y="9712"/>
                </a:lnTo>
                <a:lnTo>
                  <a:pt x="152091" y="14497"/>
                </a:lnTo>
                <a:lnTo>
                  <a:pt x="158120" y="16958"/>
                </a:lnTo>
                <a:lnTo>
                  <a:pt x="162987" y="19445"/>
                </a:lnTo>
                <a:lnTo>
                  <a:pt x="170652" y="24467"/>
                </a:lnTo>
                <a:lnTo>
                  <a:pt x="176882" y="29521"/>
                </a:lnTo>
                <a:lnTo>
                  <a:pt x="178034" y="32054"/>
                </a:lnTo>
                <a:lnTo>
                  <a:pt x="177956" y="34589"/>
                </a:lnTo>
                <a:lnTo>
                  <a:pt x="177058" y="37126"/>
                </a:lnTo>
                <a:lnTo>
                  <a:pt x="175612" y="40511"/>
                </a:lnTo>
                <a:lnTo>
                  <a:pt x="171748" y="48787"/>
                </a:lnTo>
                <a:lnTo>
                  <a:pt x="168685" y="53365"/>
                </a:lnTo>
                <a:lnTo>
                  <a:pt x="164950" y="58110"/>
                </a:lnTo>
                <a:lnTo>
                  <a:pt x="160766" y="62967"/>
                </a:lnTo>
                <a:lnTo>
                  <a:pt x="156284" y="67898"/>
                </a:lnTo>
                <a:lnTo>
                  <a:pt x="146788" y="77892"/>
                </a:lnTo>
                <a:lnTo>
                  <a:pt x="141039" y="82928"/>
                </a:lnTo>
                <a:lnTo>
                  <a:pt x="134666" y="87979"/>
                </a:lnTo>
                <a:lnTo>
                  <a:pt x="127877" y="93039"/>
                </a:lnTo>
                <a:lnTo>
                  <a:pt x="121658" y="97260"/>
                </a:lnTo>
                <a:lnTo>
                  <a:pt x="115819" y="100920"/>
                </a:lnTo>
                <a:lnTo>
                  <a:pt x="110232" y="104207"/>
                </a:lnTo>
                <a:lnTo>
                  <a:pt x="104815" y="108091"/>
                </a:lnTo>
                <a:lnTo>
                  <a:pt x="99510" y="112374"/>
                </a:lnTo>
                <a:lnTo>
                  <a:pt x="94280" y="116923"/>
                </a:lnTo>
                <a:lnTo>
                  <a:pt x="89947" y="121649"/>
                </a:lnTo>
                <a:lnTo>
                  <a:pt x="86211" y="126493"/>
                </a:lnTo>
                <a:lnTo>
                  <a:pt x="82874" y="131415"/>
                </a:lnTo>
                <a:lnTo>
                  <a:pt x="81496" y="135543"/>
                </a:lnTo>
                <a:lnTo>
                  <a:pt x="81424" y="139142"/>
                </a:lnTo>
                <a:lnTo>
                  <a:pt x="82222" y="142388"/>
                </a:lnTo>
                <a:lnTo>
                  <a:pt x="83601" y="145399"/>
                </a:lnTo>
                <a:lnTo>
                  <a:pt x="85368" y="148253"/>
                </a:lnTo>
                <a:lnTo>
                  <a:pt x="87392" y="151002"/>
                </a:lnTo>
                <a:lnTo>
                  <a:pt x="89588" y="152835"/>
                </a:lnTo>
                <a:lnTo>
                  <a:pt x="91898" y="154057"/>
                </a:lnTo>
                <a:lnTo>
                  <a:pt x="94286" y="154871"/>
                </a:lnTo>
                <a:lnTo>
                  <a:pt x="98417" y="157108"/>
                </a:lnTo>
                <a:lnTo>
                  <a:pt x="103711" y="160291"/>
                </a:lnTo>
                <a:lnTo>
                  <a:pt x="109781" y="164108"/>
                </a:lnTo>
                <a:lnTo>
                  <a:pt x="117214" y="166652"/>
                </a:lnTo>
                <a:lnTo>
                  <a:pt x="125556" y="168348"/>
                </a:lnTo>
                <a:lnTo>
                  <a:pt x="134504" y="169479"/>
                </a:lnTo>
                <a:lnTo>
                  <a:pt x="143009" y="170233"/>
                </a:lnTo>
                <a:lnTo>
                  <a:pt x="151219" y="170735"/>
                </a:lnTo>
                <a:lnTo>
                  <a:pt x="159233" y="171070"/>
                </a:lnTo>
                <a:lnTo>
                  <a:pt x="179426" y="171442"/>
                </a:lnTo>
                <a:lnTo>
                  <a:pt x="245707" y="171723"/>
                </a:lnTo>
                <a:lnTo>
                  <a:pt x="251012" y="170882"/>
                </a:lnTo>
                <a:lnTo>
                  <a:pt x="255394" y="169475"/>
                </a:lnTo>
                <a:lnTo>
                  <a:pt x="266700" y="164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InkAnnotation174"/>
          <p:cNvSpPr/>
          <p:nvPr/>
        </p:nvSpPr>
        <p:spPr>
          <a:xfrm>
            <a:off x="6156360" y="4572000"/>
            <a:ext cx="277920" cy="152280"/>
          </a:xfrm>
          <a:custGeom>
            <a:avLst/>
            <a:gdLst>
              <a:gd name="textAreaLeft" fmla="*/ 0 w 277920"/>
              <a:gd name="textAreaRight" fmla="*/ 278280 w 2779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549" h="152261">
                <a:moveTo>
                  <a:pt x="7617" y="76200"/>
                </a:moveTo>
                <a:lnTo>
                  <a:pt x="1056" y="76200"/>
                </a:lnTo>
                <a:lnTo>
                  <a:pt x="703" y="77046"/>
                </a:lnTo>
                <a:lnTo>
                  <a:pt x="206" y="81437"/>
                </a:lnTo>
                <a:lnTo>
                  <a:pt x="39" y="85608"/>
                </a:lnTo>
                <a:lnTo>
                  <a:pt x="0" y="101705"/>
                </a:lnTo>
                <a:lnTo>
                  <a:pt x="845" y="104210"/>
                </a:lnTo>
                <a:lnTo>
                  <a:pt x="2256" y="106726"/>
                </a:lnTo>
                <a:lnTo>
                  <a:pt x="4043" y="109251"/>
                </a:lnTo>
                <a:lnTo>
                  <a:pt x="6081" y="110934"/>
                </a:lnTo>
                <a:lnTo>
                  <a:pt x="8286" y="112056"/>
                </a:lnTo>
                <a:lnTo>
                  <a:pt x="10603" y="112804"/>
                </a:lnTo>
                <a:lnTo>
                  <a:pt x="15436" y="115893"/>
                </a:lnTo>
                <a:lnTo>
                  <a:pt x="21252" y="120088"/>
                </a:lnTo>
                <a:lnTo>
                  <a:pt x="29482" y="124775"/>
                </a:lnTo>
                <a:lnTo>
                  <a:pt x="34047" y="126363"/>
                </a:lnTo>
                <a:lnTo>
                  <a:pt x="38784" y="127422"/>
                </a:lnTo>
                <a:lnTo>
                  <a:pt x="43635" y="128128"/>
                </a:lnTo>
                <a:lnTo>
                  <a:pt x="51282" y="128913"/>
                </a:lnTo>
                <a:lnTo>
                  <a:pt x="58351" y="129261"/>
                </a:lnTo>
                <a:lnTo>
                  <a:pt x="67137" y="129416"/>
                </a:lnTo>
                <a:lnTo>
                  <a:pt x="71850" y="128611"/>
                </a:lnTo>
                <a:lnTo>
                  <a:pt x="76686" y="127227"/>
                </a:lnTo>
                <a:lnTo>
                  <a:pt x="81603" y="125458"/>
                </a:lnTo>
                <a:lnTo>
                  <a:pt x="89324" y="121234"/>
                </a:lnTo>
                <a:lnTo>
                  <a:pt x="97135" y="115670"/>
                </a:lnTo>
                <a:lnTo>
                  <a:pt x="100460" y="112651"/>
                </a:lnTo>
                <a:lnTo>
                  <a:pt x="107093" y="106191"/>
                </a:lnTo>
                <a:lnTo>
                  <a:pt x="112874" y="100469"/>
                </a:lnTo>
                <a:lnTo>
                  <a:pt x="114195" y="99999"/>
                </a:lnTo>
                <a:lnTo>
                  <a:pt x="121974" y="99142"/>
                </a:lnTo>
                <a:lnTo>
                  <a:pt x="125611" y="99097"/>
                </a:lnTo>
                <a:lnTo>
                  <a:pt x="126920" y="99931"/>
                </a:lnTo>
                <a:lnTo>
                  <a:pt x="127793" y="101335"/>
                </a:lnTo>
                <a:lnTo>
                  <a:pt x="128374" y="103116"/>
                </a:lnTo>
                <a:lnTo>
                  <a:pt x="131277" y="107354"/>
                </a:lnTo>
                <a:lnTo>
                  <a:pt x="135391" y="112060"/>
                </a:lnTo>
                <a:lnTo>
                  <a:pt x="140041" y="116973"/>
                </a:lnTo>
                <a:lnTo>
                  <a:pt x="151465" y="128545"/>
                </a:lnTo>
                <a:lnTo>
                  <a:pt x="156856" y="132263"/>
                </a:lnTo>
                <a:lnTo>
                  <a:pt x="162990" y="135589"/>
                </a:lnTo>
                <a:lnTo>
                  <a:pt x="175732" y="141542"/>
                </a:lnTo>
                <a:lnTo>
                  <a:pt x="187039" y="147010"/>
                </a:lnTo>
                <a:lnTo>
                  <a:pt x="193272" y="148806"/>
                </a:lnTo>
                <a:lnTo>
                  <a:pt x="199967" y="150004"/>
                </a:lnTo>
                <a:lnTo>
                  <a:pt x="206970" y="150803"/>
                </a:lnTo>
                <a:lnTo>
                  <a:pt x="213333" y="151335"/>
                </a:lnTo>
                <a:lnTo>
                  <a:pt x="219267" y="151690"/>
                </a:lnTo>
                <a:lnTo>
                  <a:pt x="224918" y="151927"/>
                </a:lnTo>
                <a:lnTo>
                  <a:pt x="237968" y="152190"/>
                </a:lnTo>
                <a:lnTo>
                  <a:pt x="245005" y="152260"/>
                </a:lnTo>
                <a:lnTo>
                  <a:pt x="250542" y="150613"/>
                </a:lnTo>
                <a:lnTo>
                  <a:pt x="255080" y="147822"/>
                </a:lnTo>
                <a:lnTo>
                  <a:pt x="262381" y="141052"/>
                </a:lnTo>
                <a:lnTo>
                  <a:pt x="268448" y="135221"/>
                </a:lnTo>
                <a:lnTo>
                  <a:pt x="271251" y="131634"/>
                </a:lnTo>
                <a:lnTo>
                  <a:pt x="273966" y="127550"/>
                </a:lnTo>
                <a:lnTo>
                  <a:pt x="276623" y="123133"/>
                </a:lnTo>
                <a:lnTo>
                  <a:pt x="277548" y="117649"/>
                </a:lnTo>
                <a:lnTo>
                  <a:pt x="277318" y="111452"/>
                </a:lnTo>
                <a:lnTo>
                  <a:pt x="276318" y="104782"/>
                </a:lnTo>
                <a:lnTo>
                  <a:pt x="274804" y="97794"/>
                </a:lnTo>
                <a:lnTo>
                  <a:pt x="272949" y="90596"/>
                </a:lnTo>
                <a:lnTo>
                  <a:pt x="270865" y="83258"/>
                </a:lnTo>
                <a:lnTo>
                  <a:pt x="268629" y="76672"/>
                </a:lnTo>
                <a:lnTo>
                  <a:pt x="266292" y="70588"/>
                </a:lnTo>
                <a:lnTo>
                  <a:pt x="263887" y="64839"/>
                </a:lnTo>
                <a:lnTo>
                  <a:pt x="261437" y="59313"/>
                </a:lnTo>
                <a:lnTo>
                  <a:pt x="256457" y="48657"/>
                </a:lnTo>
                <a:lnTo>
                  <a:pt x="241290" y="17815"/>
                </a:lnTo>
                <a:lnTo>
                  <a:pt x="239600" y="13570"/>
                </a:lnTo>
                <a:lnTo>
                  <a:pt x="238472" y="9894"/>
                </a:lnTo>
                <a:lnTo>
                  <a:pt x="23621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InkAnnotation175"/>
          <p:cNvSpPr/>
          <p:nvPr/>
        </p:nvSpPr>
        <p:spPr>
          <a:xfrm>
            <a:off x="6912000" y="4618080"/>
            <a:ext cx="44280" cy="152280"/>
          </a:xfrm>
          <a:custGeom>
            <a:avLst/>
            <a:gdLst>
              <a:gd name="textAreaLeft" fmla="*/ 0 w 44280"/>
              <a:gd name="textAreaRight" fmla="*/ 44640 w 44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45720" h="152401">
                <a:moveTo>
                  <a:pt x="0" y="0"/>
                </a:moveTo>
                <a:lnTo>
                  <a:pt x="0" y="6561"/>
                </a:lnTo>
                <a:lnTo>
                  <a:pt x="847" y="8607"/>
                </a:lnTo>
                <a:lnTo>
                  <a:pt x="4046" y="15397"/>
                </a:lnTo>
                <a:lnTo>
                  <a:pt x="10606" y="28739"/>
                </a:lnTo>
                <a:lnTo>
                  <a:pt x="12151" y="33553"/>
                </a:lnTo>
                <a:lnTo>
                  <a:pt x="13181" y="38455"/>
                </a:lnTo>
                <a:lnTo>
                  <a:pt x="13868" y="43417"/>
                </a:lnTo>
                <a:lnTo>
                  <a:pt x="15171" y="48418"/>
                </a:lnTo>
                <a:lnTo>
                  <a:pt x="16888" y="53446"/>
                </a:lnTo>
                <a:lnTo>
                  <a:pt x="18879" y="58490"/>
                </a:lnTo>
                <a:lnTo>
                  <a:pt x="23348" y="70869"/>
                </a:lnTo>
                <a:lnTo>
                  <a:pt x="25726" y="77726"/>
                </a:lnTo>
                <a:lnTo>
                  <a:pt x="28157" y="83991"/>
                </a:lnTo>
                <a:lnTo>
                  <a:pt x="30625" y="89860"/>
                </a:lnTo>
                <a:lnTo>
                  <a:pt x="33115" y="95467"/>
                </a:lnTo>
                <a:lnTo>
                  <a:pt x="34777" y="100898"/>
                </a:lnTo>
                <a:lnTo>
                  <a:pt x="35885" y="106212"/>
                </a:lnTo>
                <a:lnTo>
                  <a:pt x="36622" y="111448"/>
                </a:lnTo>
                <a:lnTo>
                  <a:pt x="37961" y="117479"/>
                </a:lnTo>
                <a:lnTo>
                  <a:pt x="39701" y="124039"/>
                </a:lnTo>
                <a:lnTo>
                  <a:pt x="41708" y="130953"/>
                </a:lnTo>
                <a:lnTo>
                  <a:pt x="43044" y="136408"/>
                </a:lnTo>
                <a:lnTo>
                  <a:pt x="43936" y="140892"/>
                </a:lnTo>
                <a:lnTo>
                  <a:pt x="45719" y="1524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InkAnnotation176"/>
          <p:cNvSpPr/>
          <p:nvPr/>
        </p:nvSpPr>
        <p:spPr>
          <a:xfrm>
            <a:off x="6827760" y="4678200"/>
            <a:ext cx="128520" cy="8280"/>
          </a:xfrm>
          <a:custGeom>
            <a:avLst/>
            <a:gdLst>
              <a:gd name="textAreaLeft" fmla="*/ 0 w 128520"/>
              <a:gd name="textAreaRight" fmla="*/ 128880 w 12852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129541" h="7621">
                <a:moveTo>
                  <a:pt x="0" y="0"/>
                </a:moveTo>
                <a:lnTo>
                  <a:pt x="21958" y="0"/>
                </a:lnTo>
                <a:lnTo>
                  <a:pt x="27338" y="846"/>
                </a:lnTo>
                <a:lnTo>
                  <a:pt x="33466" y="2258"/>
                </a:lnTo>
                <a:lnTo>
                  <a:pt x="40091" y="4045"/>
                </a:lnTo>
                <a:lnTo>
                  <a:pt x="47047" y="5237"/>
                </a:lnTo>
                <a:lnTo>
                  <a:pt x="54225" y="6032"/>
                </a:lnTo>
                <a:lnTo>
                  <a:pt x="61550" y="6561"/>
                </a:lnTo>
                <a:lnTo>
                  <a:pt x="70667" y="6914"/>
                </a:lnTo>
                <a:lnTo>
                  <a:pt x="108942" y="7480"/>
                </a:lnTo>
                <a:lnTo>
                  <a:pt x="12954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InkAnnotation177"/>
          <p:cNvSpPr/>
          <p:nvPr/>
        </p:nvSpPr>
        <p:spPr>
          <a:xfrm>
            <a:off x="7002360" y="4594320"/>
            <a:ext cx="182520" cy="144360"/>
          </a:xfrm>
          <a:custGeom>
            <a:avLst/>
            <a:gdLst>
              <a:gd name="textAreaLeft" fmla="*/ 0 w 182520"/>
              <a:gd name="textAreaRight" fmla="*/ 182880 w 1825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2881" h="144608">
                <a:moveTo>
                  <a:pt x="0" y="38090"/>
                </a:moveTo>
                <a:lnTo>
                  <a:pt x="0" y="26739"/>
                </a:lnTo>
                <a:lnTo>
                  <a:pt x="847" y="25443"/>
                </a:lnTo>
                <a:lnTo>
                  <a:pt x="2258" y="24578"/>
                </a:lnTo>
                <a:lnTo>
                  <a:pt x="6930" y="22771"/>
                </a:lnTo>
                <a:lnTo>
                  <a:pt x="14651" y="19146"/>
                </a:lnTo>
                <a:lnTo>
                  <a:pt x="28519" y="12345"/>
                </a:lnTo>
                <a:lnTo>
                  <a:pt x="34252" y="10767"/>
                </a:lnTo>
                <a:lnTo>
                  <a:pt x="40614" y="9714"/>
                </a:lnTo>
                <a:lnTo>
                  <a:pt x="47397" y="9013"/>
                </a:lnTo>
                <a:lnTo>
                  <a:pt x="54457" y="7699"/>
                </a:lnTo>
                <a:lnTo>
                  <a:pt x="61705" y="5976"/>
                </a:lnTo>
                <a:lnTo>
                  <a:pt x="69077" y="3981"/>
                </a:lnTo>
                <a:lnTo>
                  <a:pt x="75685" y="2651"/>
                </a:lnTo>
                <a:lnTo>
                  <a:pt x="81783" y="1763"/>
                </a:lnTo>
                <a:lnTo>
                  <a:pt x="87541" y="1173"/>
                </a:lnTo>
                <a:lnTo>
                  <a:pt x="93074" y="779"/>
                </a:lnTo>
                <a:lnTo>
                  <a:pt x="98456" y="516"/>
                </a:lnTo>
                <a:lnTo>
                  <a:pt x="108952" y="224"/>
                </a:lnTo>
                <a:lnTo>
                  <a:pt x="128637" y="0"/>
                </a:lnTo>
                <a:lnTo>
                  <a:pt x="128938" y="843"/>
                </a:lnTo>
                <a:lnTo>
                  <a:pt x="129273" y="4038"/>
                </a:lnTo>
                <a:lnTo>
                  <a:pt x="128515" y="5229"/>
                </a:lnTo>
                <a:lnTo>
                  <a:pt x="127163" y="6023"/>
                </a:lnTo>
                <a:lnTo>
                  <a:pt x="125416" y="6551"/>
                </a:lnTo>
                <a:lnTo>
                  <a:pt x="121216" y="9398"/>
                </a:lnTo>
                <a:lnTo>
                  <a:pt x="118910" y="11342"/>
                </a:lnTo>
                <a:lnTo>
                  <a:pt x="115680" y="14331"/>
                </a:lnTo>
                <a:lnTo>
                  <a:pt x="107576" y="22169"/>
                </a:lnTo>
                <a:lnTo>
                  <a:pt x="102197" y="25782"/>
                </a:lnTo>
                <a:lnTo>
                  <a:pt x="96071" y="29038"/>
                </a:lnTo>
                <a:lnTo>
                  <a:pt x="89448" y="32056"/>
                </a:lnTo>
                <a:lnTo>
                  <a:pt x="82492" y="35761"/>
                </a:lnTo>
                <a:lnTo>
                  <a:pt x="75314" y="39923"/>
                </a:lnTo>
                <a:lnTo>
                  <a:pt x="67989" y="44393"/>
                </a:lnTo>
                <a:lnTo>
                  <a:pt x="61413" y="48218"/>
                </a:lnTo>
                <a:lnTo>
                  <a:pt x="49590" y="54727"/>
                </a:lnTo>
                <a:lnTo>
                  <a:pt x="44914" y="58495"/>
                </a:lnTo>
                <a:lnTo>
                  <a:pt x="40949" y="62700"/>
                </a:lnTo>
                <a:lnTo>
                  <a:pt x="37459" y="67197"/>
                </a:lnTo>
                <a:lnTo>
                  <a:pt x="33440" y="71888"/>
                </a:lnTo>
                <a:lnTo>
                  <a:pt x="29066" y="76708"/>
                </a:lnTo>
                <a:lnTo>
                  <a:pt x="24457" y="81615"/>
                </a:lnTo>
                <a:lnTo>
                  <a:pt x="21385" y="85733"/>
                </a:lnTo>
                <a:lnTo>
                  <a:pt x="19336" y="89326"/>
                </a:lnTo>
                <a:lnTo>
                  <a:pt x="17971" y="92567"/>
                </a:lnTo>
                <a:lnTo>
                  <a:pt x="17061" y="96421"/>
                </a:lnTo>
                <a:lnTo>
                  <a:pt x="16454" y="100684"/>
                </a:lnTo>
                <a:lnTo>
                  <a:pt x="16050" y="105219"/>
                </a:lnTo>
                <a:lnTo>
                  <a:pt x="17473" y="109089"/>
                </a:lnTo>
                <a:lnTo>
                  <a:pt x="20115" y="112516"/>
                </a:lnTo>
                <a:lnTo>
                  <a:pt x="23570" y="115647"/>
                </a:lnTo>
                <a:lnTo>
                  <a:pt x="31925" y="123642"/>
                </a:lnTo>
                <a:lnTo>
                  <a:pt x="36524" y="128144"/>
                </a:lnTo>
                <a:lnTo>
                  <a:pt x="42129" y="131993"/>
                </a:lnTo>
                <a:lnTo>
                  <a:pt x="48406" y="135405"/>
                </a:lnTo>
                <a:lnTo>
                  <a:pt x="55131" y="138527"/>
                </a:lnTo>
                <a:lnTo>
                  <a:pt x="62154" y="140608"/>
                </a:lnTo>
                <a:lnTo>
                  <a:pt x="69375" y="141995"/>
                </a:lnTo>
                <a:lnTo>
                  <a:pt x="76731" y="142920"/>
                </a:lnTo>
                <a:lnTo>
                  <a:pt x="85020" y="143536"/>
                </a:lnTo>
                <a:lnTo>
                  <a:pt x="93934" y="143947"/>
                </a:lnTo>
                <a:lnTo>
                  <a:pt x="112022" y="144404"/>
                </a:lnTo>
                <a:lnTo>
                  <a:pt x="128527" y="144607"/>
                </a:lnTo>
                <a:lnTo>
                  <a:pt x="136485" y="143815"/>
                </a:lnTo>
                <a:lnTo>
                  <a:pt x="144329" y="142440"/>
                </a:lnTo>
                <a:lnTo>
                  <a:pt x="152100" y="140676"/>
                </a:lnTo>
                <a:lnTo>
                  <a:pt x="158974" y="139501"/>
                </a:lnTo>
                <a:lnTo>
                  <a:pt x="165248" y="138717"/>
                </a:lnTo>
                <a:lnTo>
                  <a:pt x="182880" y="1371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InkAnnotation178"/>
          <p:cNvSpPr/>
          <p:nvPr/>
        </p:nvSpPr>
        <p:spPr>
          <a:xfrm>
            <a:off x="7209000" y="4610160"/>
            <a:ext cx="242640" cy="114120"/>
          </a:xfrm>
          <a:custGeom>
            <a:avLst/>
            <a:gdLst>
              <a:gd name="textAreaLeft" fmla="*/ 0 w 242640"/>
              <a:gd name="textAreaRight" fmla="*/ 243000 w 24264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42609" h="114261">
                <a:moveTo>
                  <a:pt x="7618" y="45720"/>
                </a:moveTo>
                <a:lnTo>
                  <a:pt x="1057" y="45720"/>
                </a:lnTo>
                <a:lnTo>
                  <a:pt x="705" y="46567"/>
                </a:lnTo>
                <a:lnTo>
                  <a:pt x="312" y="49765"/>
                </a:lnTo>
                <a:lnTo>
                  <a:pt x="26" y="53026"/>
                </a:lnTo>
                <a:lnTo>
                  <a:pt x="0" y="63919"/>
                </a:lnTo>
                <a:lnTo>
                  <a:pt x="846" y="66319"/>
                </a:lnTo>
                <a:lnTo>
                  <a:pt x="2256" y="68766"/>
                </a:lnTo>
                <a:lnTo>
                  <a:pt x="4045" y="71244"/>
                </a:lnTo>
                <a:lnTo>
                  <a:pt x="6083" y="72896"/>
                </a:lnTo>
                <a:lnTo>
                  <a:pt x="8288" y="73998"/>
                </a:lnTo>
                <a:lnTo>
                  <a:pt x="10604" y="74732"/>
                </a:lnTo>
                <a:lnTo>
                  <a:pt x="12995" y="76914"/>
                </a:lnTo>
                <a:lnTo>
                  <a:pt x="15436" y="80063"/>
                </a:lnTo>
                <a:lnTo>
                  <a:pt x="17911" y="83855"/>
                </a:lnTo>
                <a:lnTo>
                  <a:pt x="21253" y="87230"/>
                </a:lnTo>
                <a:lnTo>
                  <a:pt x="25175" y="90327"/>
                </a:lnTo>
                <a:lnTo>
                  <a:pt x="29483" y="93238"/>
                </a:lnTo>
                <a:lnTo>
                  <a:pt x="33201" y="96026"/>
                </a:lnTo>
                <a:lnTo>
                  <a:pt x="36528" y="98730"/>
                </a:lnTo>
                <a:lnTo>
                  <a:pt x="39591" y="101380"/>
                </a:lnTo>
                <a:lnTo>
                  <a:pt x="44174" y="103994"/>
                </a:lnTo>
                <a:lnTo>
                  <a:pt x="49769" y="106582"/>
                </a:lnTo>
                <a:lnTo>
                  <a:pt x="56038" y="109155"/>
                </a:lnTo>
                <a:lnTo>
                  <a:pt x="61913" y="110870"/>
                </a:lnTo>
                <a:lnTo>
                  <a:pt x="67521" y="112014"/>
                </a:lnTo>
                <a:lnTo>
                  <a:pt x="72954" y="112776"/>
                </a:lnTo>
                <a:lnTo>
                  <a:pt x="79116" y="113284"/>
                </a:lnTo>
                <a:lnTo>
                  <a:pt x="85764" y="113623"/>
                </a:lnTo>
                <a:lnTo>
                  <a:pt x="99076" y="113999"/>
                </a:lnTo>
                <a:lnTo>
                  <a:pt x="126667" y="114260"/>
                </a:lnTo>
                <a:lnTo>
                  <a:pt x="131857" y="113427"/>
                </a:lnTo>
                <a:lnTo>
                  <a:pt x="137010" y="112025"/>
                </a:lnTo>
                <a:lnTo>
                  <a:pt x="142140" y="110243"/>
                </a:lnTo>
                <a:lnTo>
                  <a:pt x="146407" y="108209"/>
                </a:lnTo>
                <a:lnTo>
                  <a:pt x="150096" y="106006"/>
                </a:lnTo>
                <a:lnTo>
                  <a:pt x="153405" y="103691"/>
                </a:lnTo>
                <a:lnTo>
                  <a:pt x="155609" y="101301"/>
                </a:lnTo>
                <a:lnTo>
                  <a:pt x="157079" y="98861"/>
                </a:lnTo>
                <a:lnTo>
                  <a:pt x="158059" y="96387"/>
                </a:lnTo>
                <a:lnTo>
                  <a:pt x="159558" y="93892"/>
                </a:lnTo>
                <a:lnTo>
                  <a:pt x="161406" y="91381"/>
                </a:lnTo>
                <a:lnTo>
                  <a:pt x="163483" y="88861"/>
                </a:lnTo>
                <a:lnTo>
                  <a:pt x="164021" y="86334"/>
                </a:lnTo>
                <a:lnTo>
                  <a:pt x="163534" y="83803"/>
                </a:lnTo>
                <a:lnTo>
                  <a:pt x="162362" y="81269"/>
                </a:lnTo>
                <a:lnTo>
                  <a:pt x="161581" y="77886"/>
                </a:lnTo>
                <a:lnTo>
                  <a:pt x="161060" y="73937"/>
                </a:lnTo>
                <a:lnTo>
                  <a:pt x="160713" y="69611"/>
                </a:lnTo>
                <a:lnTo>
                  <a:pt x="158788" y="65881"/>
                </a:lnTo>
                <a:lnTo>
                  <a:pt x="155811" y="62547"/>
                </a:lnTo>
                <a:lnTo>
                  <a:pt x="152135" y="59478"/>
                </a:lnTo>
                <a:lnTo>
                  <a:pt x="145790" y="56069"/>
                </a:lnTo>
                <a:lnTo>
                  <a:pt x="138864" y="53879"/>
                </a:lnTo>
                <a:lnTo>
                  <a:pt x="137449" y="54546"/>
                </a:lnTo>
                <a:lnTo>
                  <a:pt x="133618" y="57545"/>
                </a:lnTo>
                <a:lnTo>
                  <a:pt x="132259" y="59530"/>
                </a:lnTo>
                <a:lnTo>
                  <a:pt x="131352" y="61700"/>
                </a:lnTo>
                <a:lnTo>
                  <a:pt x="130748" y="63994"/>
                </a:lnTo>
                <a:lnTo>
                  <a:pt x="131192" y="66369"/>
                </a:lnTo>
                <a:lnTo>
                  <a:pt x="132333" y="68799"/>
                </a:lnTo>
                <a:lnTo>
                  <a:pt x="133942" y="71266"/>
                </a:lnTo>
                <a:lnTo>
                  <a:pt x="135861" y="73758"/>
                </a:lnTo>
                <a:lnTo>
                  <a:pt x="137987" y="76265"/>
                </a:lnTo>
                <a:lnTo>
                  <a:pt x="140250" y="78784"/>
                </a:lnTo>
                <a:lnTo>
                  <a:pt x="147282" y="86097"/>
                </a:lnTo>
                <a:lnTo>
                  <a:pt x="151527" y="90418"/>
                </a:lnTo>
                <a:lnTo>
                  <a:pt x="156897" y="94145"/>
                </a:lnTo>
                <a:lnTo>
                  <a:pt x="163018" y="97477"/>
                </a:lnTo>
                <a:lnTo>
                  <a:pt x="169638" y="100545"/>
                </a:lnTo>
                <a:lnTo>
                  <a:pt x="175745" y="102590"/>
                </a:lnTo>
                <a:lnTo>
                  <a:pt x="181510" y="103953"/>
                </a:lnTo>
                <a:lnTo>
                  <a:pt x="187046" y="104862"/>
                </a:lnTo>
                <a:lnTo>
                  <a:pt x="192430" y="106315"/>
                </a:lnTo>
                <a:lnTo>
                  <a:pt x="197714" y="108130"/>
                </a:lnTo>
                <a:lnTo>
                  <a:pt x="202927" y="110187"/>
                </a:lnTo>
                <a:lnTo>
                  <a:pt x="208099" y="111558"/>
                </a:lnTo>
                <a:lnTo>
                  <a:pt x="213238" y="112472"/>
                </a:lnTo>
                <a:lnTo>
                  <a:pt x="218359" y="113081"/>
                </a:lnTo>
                <a:lnTo>
                  <a:pt x="222619" y="112641"/>
                </a:lnTo>
                <a:lnTo>
                  <a:pt x="226305" y="111500"/>
                </a:lnTo>
                <a:lnTo>
                  <a:pt x="229609" y="109894"/>
                </a:lnTo>
                <a:lnTo>
                  <a:pt x="231813" y="107976"/>
                </a:lnTo>
                <a:lnTo>
                  <a:pt x="233281" y="105851"/>
                </a:lnTo>
                <a:lnTo>
                  <a:pt x="234260" y="103587"/>
                </a:lnTo>
                <a:lnTo>
                  <a:pt x="237606" y="96557"/>
                </a:lnTo>
                <a:lnTo>
                  <a:pt x="239683" y="92311"/>
                </a:lnTo>
                <a:lnTo>
                  <a:pt x="241069" y="87788"/>
                </a:lnTo>
                <a:lnTo>
                  <a:pt x="241992" y="83079"/>
                </a:lnTo>
                <a:lnTo>
                  <a:pt x="242608" y="78246"/>
                </a:lnTo>
                <a:lnTo>
                  <a:pt x="242171" y="73330"/>
                </a:lnTo>
                <a:lnTo>
                  <a:pt x="241034" y="68360"/>
                </a:lnTo>
                <a:lnTo>
                  <a:pt x="239429" y="63353"/>
                </a:lnTo>
                <a:lnTo>
                  <a:pt x="238359" y="58322"/>
                </a:lnTo>
                <a:lnTo>
                  <a:pt x="237646" y="53275"/>
                </a:lnTo>
                <a:lnTo>
                  <a:pt x="237171" y="48217"/>
                </a:lnTo>
                <a:lnTo>
                  <a:pt x="235159" y="42304"/>
                </a:lnTo>
                <a:lnTo>
                  <a:pt x="232125" y="35823"/>
                </a:lnTo>
                <a:lnTo>
                  <a:pt x="228409" y="28962"/>
                </a:lnTo>
                <a:lnTo>
                  <a:pt x="225086" y="23542"/>
                </a:lnTo>
                <a:lnTo>
                  <a:pt x="222024" y="19081"/>
                </a:lnTo>
                <a:lnTo>
                  <a:pt x="219135" y="15261"/>
                </a:lnTo>
                <a:lnTo>
                  <a:pt x="216364" y="11867"/>
                </a:lnTo>
                <a:lnTo>
                  <a:pt x="213668" y="8758"/>
                </a:lnTo>
                <a:lnTo>
                  <a:pt x="20573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InkAnnotation179"/>
          <p:cNvSpPr/>
          <p:nvPr/>
        </p:nvSpPr>
        <p:spPr>
          <a:xfrm>
            <a:off x="5257800" y="4876920"/>
            <a:ext cx="120600" cy="342720"/>
          </a:xfrm>
          <a:custGeom>
            <a:avLst/>
            <a:gdLst>
              <a:gd name="textAreaLeft" fmla="*/ 0 w 120600"/>
              <a:gd name="textAreaRight" fmla="*/ 120960 w 12060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20854" h="342901">
                <a:moveTo>
                  <a:pt x="106680" y="0"/>
                </a:moveTo>
                <a:lnTo>
                  <a:pt x="110725" y="0"/>
                </a:lnTo>
                <a:lnTo>
                  <a:pt x="111917" y="846"/>
                </a:lnTo>
                <a:lnTo>
                  <a:pt x="112712" y="2258"/>
                </a:lnTo>
                <a:lnTo>
                  <a:pt x="113986" y="6561"/>
                </a:lnTo>
                <a:lnTo>
                  <a:pt x="114207" y="11352"/>
                </a:lnTo>
                <a:lnTo>
                  <a:pt x="115085" y="12648"/>
                </a:lnTo>
                <a:lnTo>
                  <a:pt x="116516" y="13512"/>
                </a:lnTo>
                <a:lnTo>
                  <a:pt x="118317" y="14088"/>
                </a:lnTo>
                <a:lnTo>
                  <a:pt x="119518" y="15319"/>
                </a:lnTo>
                <a:lnTo>
                  <a:pt x="120318" y="16986"/>
                </a:lnTo>
                <a:lnTo>
                  <a:pt x="120853" y="18944"/>
                </a:lnTo>
                <a:lnTo>
                  <a:pt x="119188" y="25636"/>
                </a:lnTo>
                <a:lnTo>
                  <a:pt x="116472" y="33407"/>
                </a:lnTo>
                <a:lnTo>
                  <a:pt x="115265" y="39684"/>
                </a:lnTo>
                <a:lnTo>
                  <a:pt x="114729" y="49811"/>
                </a:lnTo>
                <a:lnTo>
                  <a:pt x="114586" y="56067"/>
                </a:lnTo>
                <a:lnTo>
                  <a:pt x="112797" y="61931"/>
                </a:lnTo>
                <a:lnTo>
                  <a:pt x="109912" y="67534"/>
                </a:lnTo>
                <a:lnTo>
                  <a:pt x="106295" y="72963"/>
                </a:lnTo>
                <a:lnTo>
                  <a:pt x="103036" y="78275"/>
                </a:lnTo>
                <a:lnTo>
                  <a:pt x="100017" y="83510"/>
                </a:lnTo>
                <a:lnTo>
                  <a:pt x="97158" y="88693"/>
                </a:lnTo>
                <a:lnTo>
                  <a:pt x="94406" y="94689"/>
                </a:lnTo>
                <a:lnTo>
                  <a:pt x="91723" y="101226"/>
                </a:lnTo>
                <a:lnTo>
                  <a:pt x="89089" y="108124"/>
                </a:lnTo>
                <a:lnTo>
                  <a:pt x="85639" y="115263"/>
                </a:lnTo>
                <a:lnTo>
                  <a:pt x="81646" y="122562"/>
                </a:lnTo>
                <a:lnTo>
                  <a:pt x="77291" y="129968"/>
                </a:lnTo>
                <a:lnTo>
                  <a:pt x="73540" y="137445"/>
                </a:lnTo>
                <a:lnTo>
                  <a:pt x="70193" y="144970"/>
                </a:lnTo>
                <a:lnTo>
                  <a:pt x="67116" y="152527"/>
                </a:lnTo>
                <a:lnTo>
                  <a:pt x="64217" y="160951"/>
                </a:lnTo>
                <a:lnTo>
                  <a:pt x="61438" y="169955"/>
                </a:lnTo>
                <a:lnTo>
                  <a:pt x="58739" y="179343"/>
                </a:lnTo>
                <a:lnTo>
                  <a:pt x="55246" y="188142"/>
                </a:lnTo>
                <a:lnTo>
                  <a:pt x="51224" y="196548"/>
                </a:lnTo>
                <a:lnTo>
                  <a:pt x="46849" y="204692"/>
                </a:lnTo>
                <a:lnTo>
                  <a:pt x="43087" y="213508"/>
                </a:lnTo>
                <a:lnTo>
                  <a:pt x="39731" y="222772"/>
                </a:lnTo>
                <a:lnTo>
                  <a:pt x="20415" y="281599"/>
                </a:lnTo>
                <a:lnTo>
                  <a:pt x="17843" y="288486"/>
                </a:lnTo>
                <a:lnTo>
                  <a:pt x="15283" y="294771"/>
                </a:lnTo>
                <a:lnTo>
                  <a:pt x="12729" y="300654"/>
                </a:lnTo>
                <a:lnTo>
                  <a:pt x="10179" y="307116"/>
                </a:lnTo>
                <a:lnTo>
                  <a:pt x="5089" y="321069"/>
                </a:lnTo>
                <a:lnTo>
                  <a:pt x="2262" y="331222"/>
                </a:lnTo>
                <a:lnTo>
                  <a:pt x="0" y="3429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InkAnnotation180"/>
          <p:cNvSpPr/>
          <p:nvPr/>
        </p:nvSpPr>
        <p:spPr>
          <a:xfrm>
            <a:off x="5365800" y="4930920"/>
            <a:ext cx="173160" cy="272880"/>
          </a:xfrm>
          <a:custGeom>
            <a:avLst/>
            <a:gdLst>
              <a:gd name="textAreaLeft" fmla="*/ 0 w 173160"/>
              <a:gd name="textAreaRight" fmla="*/ 173160 w 173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73489" h="273490">
                <a:moveTo>
                  <a:pt x="66980" y="30480"/>
                </a:moveTo>
                <a:lnTo>
                  <a:pt x="66980" y="34525"/>
                </a:lnTo>
                <a:lnTo>
                  <a:pt x="66133" y="35717"/>
                </a:lnTo>
                <a:lnTo>
                  <a:pt x="64722" y="36511"/>
                </a:lnTo>
                <a:lnTo>
                  <a:pt x="60419" y="37786"/>
                </a:lnTo>
                <a:lnTo>
                  <a:pt x="55315" y="40219"/>
                </a:lnTo>
                <a:lnTo>
                  <a:pt x="51583" y="42052"/>
                </a:lnTo>
                <a:lnTo>
                  <a:pt x="48249" y="44968"/>
                </a:lnTo>
                <a:lnTo>
                  <a:pt x="45179" y="48605"/>
                </a:lnTo>
                <a:lnTo>
                  <a:pt x="42286" y="52724"/>
                </a:lnTo>
                <a:lnTo>
                  <a:pt x="39511" y="57163"/>
                </a:lnTo>
                <a:lnTo>
                  <a:pt x="36813" y="61815"/>
                </a:lnTo>
                <a:lnTo>
                  <a:pt x="34169" y="66610"/>
                </a:lnTo>
                <a:lnTo>
                  <a:pt x="30713" y="71500"/>
                </a:lnTo>
                <a:lnTo>
                  <a:pt x="26715" y="76454"/>
                </a:lnTo>
                <a:lnTo>
                  <a:pt x="22357" y="81449"/>
                </a:lnTo>
                <a:lnTo>
                  <a:pt x="18605" y="87319"/>
                </a:lnTo>
                <a:lnTo>
                  <a:pt x="15257" y="93773"/>
                </a:lnTo>
                <a:lnTo>
                  <a:pt x="12178" y="100615"/>
                </a:lnTo>
                <a:lnTo>
                  <a:pt x="9278" y="107717"/>
                </a:lnTo>
                <a:lnTo>
                  <a:pt x="6499" y="114991"/>
                </a:lnTo>
                <a:lnTo>
                  <a:pt x="3799" y="122381"/>
                </a:lnTo>
                <a:lnTo>
                  <a:pt x="2000" y="129848"/>
                </a:lnTo>
                <a:lnTo>
                  <a:pt x="800" y="137365"/>
                </a:lnTo>
                <a:lnTo>
                  <a:pt x="0" y="144917"/>
                </a:lnTo>
                <a:lnTo>
                  <a:pt x="313" y="153338"/>
                </a:lnTo>
                <a:lnTo>
                  <a:pt x="1369" y="162338"/>
                </a:lnTo>
                <a:lnTo>
                  <a:pt x="2919" y="171726"/>
                </a:lnTo>
                <a:lnTo>
                  <a:pt x="4800" y="180524"/>
                </a:lnTo>
                <a:lnTo>
                  <a:pt x="6900" y="188929"/>
                </a:lnTo>
                <a:lnTo>
                  <a:pt x="9146" y="197073"/>
                </a:lnTo>
                <a:lnTo>
                  <a:pt x="11491" y="204195"/>
                </a:lnTo>
                <a:lnTo>
                  <a:pt x="13901" y="210637"/>
                </a:lnTo>
                <a:lnTo>
                  <a:pt x="16354" y="216625"/>
                </a:lnTo>
                <a:lnTo>
                  <a:pt x="20530" y="223157"/>
                </a:lnTo>
                <a:lnTo>
                  <a:pt x="25854" y="230051"/>
                </a:lnTo>
                <a:lnTo>
                  <a:pt x="31942" y="237187"/>
                </a:lnTo>
                <a:lnTo>
                  <a:pt x="37695" y="242792"/>
                </a:lnTo>
                <a:lnTo>
                  <a:pt x="43223" y="247374"/>
                </a:lnTo>
                <a:lnTo>
                  <a:pt x="48602" y="251276"/>
                </a:lnTo>
                <a:lnTo>
                  <a:pt x="61352" y="260127"/>
                </a:lnTo>
                <a:lnTo>
                  <a:pt x="68308" y="264858"/>
                </a:lnTo>
                <a:lnTo>
                  <a:pt x="75486" y="268012"/>
                </a:lnTo>
                <a:lnTo>
                  <a:pt x="82810" y="270115"/>
                </a:lnTo>
                <a:lnTo>
                  <a:pt x="90233" y="271517"/>
                </a:lnTo>
                <a:lnTo>
                  <a:pt x="96876" y="272451"/>
                </a:lnTo>
                <a:lnTo>
                  <a:pt x="102998" y="273074"/>
                </a:lnTo>
                <a:lnTo>
                  <a:pt x="108771" y="273489"/>
                </a:lnTo>
                <a:lnTo>
                  <a:pt x="114315" y="272073"/>
                </a:lnTo>
                <a:lnTo>
                  <a:pt x="119703" y="269435"/>
                </a:lnTo>
                <a:lnTo>
                  <a:pt x="124988" y="265983"/>
                </a:lnTo>
                <a:lnTo>
                  <a:pt x="130206" y="261989"/>
                </a:lnTo>
                <a:lnTo>
                  <a:pt x="135377" y="257632"/>
                </a:lnTo>
                <a:lnTo>
                  <a:pt x="140518" y="253035"/>
                </a:lnTo>
                <a:lnTo>
                  <a:pt x="145639" y="247430"/>
                </a:lnTo>
                <a:lnTo>
                  <a:pt x="150746" y="241153"/>
                </a:lnTo>
                <a:lnTo>
                  <a:pt x="155843" y="234429"/>
                </a:lnTo>
                <a:lnTo>
                  <a:pt x="160089" y="227406"/>
                </a:lnTo>
                <a:lnTo>
                  <a:pt x="163766" y="220184"/>
                </a:lnTo>
                <a:lnTo>
                  <a:pt x="167064" y="212829"/>
                </a:lnTo>
                <a:lnTo>
                  <a:pt x="169263" y="204540"/>
                </a:lnTo>
                <a:lnTo>
                  <a:pt x="170729" y="195626"/>
                </a:lnTo>
                <a:lnTo>
                  <a:pt x="171706" y="186297"/>
                </a:lnTo>
                <a:lnTo>
                  <a:pt x="172358" y="176692"/>
                </a:lnTo>
                <a:lnTo>
                  <a:pt x="172791" y="166902"/>
                </a:lnTo>
                <a:lnTo>
                  <a:pt x="173274" y="146992"/>
                </a:lnTo>
                <a:lnTo>
                  <a:pt x="173488" y="126854"/>
                </a:lnTo>
                <a:lnTo>
                  <a:pt x="172698" y="117589"/>
                </a:lnTo>
                <a:lnTo>
                  <a:pt x="171326" y="108873"/>
                </a:lnTo>
                <a:lnTo>
                  <a:pt x="169564" y="100522"/>
                </a:lnTo>
                <a:lnTo>
                  <a:pt x="167543" y="92415"/>
                </a:lnTo>
                <a:lnTo>
                  <a:pt x="165349" y="84470"/>
                </a:lnTo>
                <a:lnTo>
                  <a:pt x="160652" y="68869"/>
                </a:lnTo>
                <a:lnTo>
                  <a:pt x="155743" y="53469"/>
                </a:lnTo>
                <a:lnTo>
                  <a:pt x="153248" y="46653"/>
                </a:lnTo>
                <a:lnTo>
                  <a:pt x="150739" y="40415"/>
                </a:lnTo>
                <a:lnTo>
                  <a:pt x="148219" y="34563"/>
                </a:lnTo>
                <a:lnTo>
                  <a:pt x="144846" y="28969"/>
                </a:lnTo>
                <a:lnTo>
                  <a:pt x="140904" y="23546"/>
                </a:lnTo>
                <a:lnTo>
                  <a:pt x="136583" y="18237"/>
                </a:lnTo>
                <a:lnTo>
                  <a:pt x="132855" y="13852"/>
                </a:lnTo>
                <a:lnTo>
                  <a:pt x="129523" y="10081"/>
                </a:lnTo>
                <a:lnTo>
                  <a:pt x="122138" y="1991"/>
                </a:lnTo>
                <a:lnTo>
                  <a:pt x="120685" y="1328"/>
                </a:lnTo>
                <a:lnTo>
                  <a:pt x="118870" y="885"/>
                </a:lnTo>
                <a:lnTo>
                  <a:pt x="1127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InkAnnotation181"/>
          <p:cNvSpPr/>
          <p:nvPr/>
        </p:nvSpPr>
        <p:spPr>
          <a:xfrm>
            <a:off x="5668920" y="5051520"/>
            <a:ext cx="228600" cy="7920"/>
          </a:xfrm>
          <a:custGeom>
            <a:avLst/>
            <a:gdLst>
              <a:gd name="textAreaLeft" fmla="*/ 0 w 228600"/>
              <a:gd name="textAreaRight" fmla="*/ 228960 w 2286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01" h="7621">
                <a:moveTo>
                  <a:pt x="0" y="7620"/>
                </a:moveTo>
                <a:lnTo>
                  <a:pt x="76689" y="7620"/>
                </a:lnTo>
                <a:lnTo>
                  <a:pt x="84146" y="6773"/>
                </a:lnTo>
                <a:lnTo>
                  <a:pt x="91658" y="5363"/>
                </a:lnTo>
                <a:lnTo>
                  <a:pt x="99205" y="3575"/>
                </a:lnTo>
                <a:lnTo>
                  <a:pt x="106776" y="2383"/>
                </a:lnTo>
                <a:lnTo>
                  <a:pt x="114365" y="1589"/>
                </a:lnTo>
                <a:lnTo>
                  <a:pt x="121963" y="1059"/>
                </a:lnTo>
                <a:lnTo>
                  <a:pt x="129569" y="706"/>
                </a:lnTo>
                <a:lnTo>
                  <a:pt x="144793" y="314"/>
                </a:ln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InkAnnotation182"/>
          <p:cNvSpPr/>
          <p:nvPr/>
        </p:nvSpPr>
        <p:spPr>
          <a:xfrm>
            <a:off x="5722920" y="5121360"/>
            <a:ext cx="204840" cy="22320"/>
          </a:xfrm>
          <a:custGeom>
            <a:avLst/>
            <a:gdLst>
              <a:gd name="textAreaLeft" fmla="*/ 0 w 204840"/>
              <a:gd name="textAreaRight" fmla="*/ 205200 w 204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05741" h="22859">
                <a:moveTo>
                  <a:pt x="0" y="15240"/>
                </a:moveTo>
                <a:lnTo>
                  <a:pt x="0" y="19285"/>
                </a:lnTo>
                <a:lnTo>
                  <a:pt x="847" y="20477"/>
                </a:lnTo>
                <a:lnTo>
                  <a:pt x="2258" y="21272"/>
                </a:lnTo>
                <a:lnTo>
                  <a:pt x="6561" y="22546"/>
                </a:lnTo>
                <a:lnTo>
                  <a:pt x="9454" y="22651"/>
                </a:lnTo>
                <a:lnTo>
                  <a:pt x="40466" y="22841"/>
                </a:lnTo>
                <a:lnTo>
                  <a:pt x="74108" y="22858"/>
                </a:lnTo>
                <a:lnTo>
                  <a:pt x="82425" y="22012"/>
                </a:lnTo>
                <a:lnTo>
                  <a:pt x="90510" y="20601"/>
                </a:lnTo>
                <a:lnTo>
                  <a:pt x="98440" y="18814"/>
                </a:lnTo>
                <a:lnTo>
                  <a:pt x="107113" y="17623"/>
                </a:lnTo>
                <a:lnTo>
                  <a:pt x="116282" y="16828"/>
                </a:lnTo>
                <a:lnTo>
                  <a:pt x="125782" y="16299"/>
                </a:lnTo>
                <a:lnTo>
                  <a:pt x="134655" y="15099"/>
                </a:lnTo>
                <a:lnTo>
                  <a:pt x="143109" y="13453"/>
                </a:lnTo>
                <a:lnTo>
                  <a:pt x="151286" y="11509"/>
                </a:lnTo>
                <a:lnTo>
                  <a:pt x="158431" y="10212"/>
                </a:lnTo>
                <a:lnTo>
                  <a:pt x="164887" y="9348"/>
                </a:lnTo>
                <a:lnTo>
                  <a:pt x="170885" y="8772"/>
                </a:lnTo>
                <a:lnTo>
                  <a:pt x="175730" y="7542"/>
                </a:lnTo>
                <a:lnTo>
                  <a:pt x="179807" y="5874"/>
                </a:lnTo>
                <a:lnTo>
                  <a:pt x="183371" y="3916"/>
                </a:lnTo>
                <a:lnTo>
                  <a:pt x="187441" y="2610"/>
                </a:lnTo>
                <a:lnTo>
                  <a:pt x="191847" y="1740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InkAnnotation183"/>
          <p:cNvSpPr/>
          <p:nvPr/>
        </p:nvSpPr>
        <p:spPr>
          <a:xfrm>
            <a:off x="6081840" y="4906800"/>
            <a:ext cx="136440" cy="111240"/>
          </a:xfrm>
          <a:custGeom>
            <a:avLst/>
            <a:gdLst>
              <a:gd name="textAreaLeft" fmla="*/ 0 w 136440"/>
              <a:gd name="textAreaRight" fmla="*/ 136800 w 1364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36231" h="110691">
                <a:moveTo>
                  <a:pt x="136230" y="0"/>
                </a:moveTo>
                <a:lnTo>
                  <a:pt x="121579" y="0"/>
                </a:lnTo>
                <a:lnTo>
                  <a:pt x="117150" y="846"/>
                </a:lnTo>
                <a:lnTo>
                  <a:pt x="112503" y="2258"/>
                </a:lnTo>
                <a:lnTo>
                  <a:pt x="107712" y="4045"/>
                </a:lnTo>
                <a:lnTo>
                  <a:pt x="101978" y="5237"/>
                </a:lnTo>
                <a:lnTo>
                  <a:pt x="95616" y="6031"/>
                </a:lnTo>
                <a:lnTo>
                  <a:pt x="88835" y="6561"/>
                </a:lnTo>
                <a:lnTo>
                  <a:pt x="81773" y="8608"/>
                </a:lnTo>
                <a:lnTo>
                  <a:pt x="74525" y="11665"/>
                </a:lnTo>
                <a:lnTo>
                  <a:pt x="67154" y="15397"/>
                </a:lnTo>
                <a:lnTo>
                  <a:pt x="59699" y="18731"/>
                </a:lnTo>
                <a:lnTo>
                  <a:pt x="52189" y="21801"/>
                </a:lnTo>
                <a:lnTo>
                  <a:pt x="44643" y="24694"/>
                </a:lnTo>
                <a:lnTo>
                  <a:pt x="37919" y="28316"/>
                </a:lnTo>
                <a:lnTo>
                  <a:pt x="31743" y="32424"/>
                </a:lnTo>
                <a:lnTo>
                  <a:pt x="25932" y="36856"/>
                </a:lnTo>
                <a:lnTo>
                  <a:pt x="20365" y="41504"/>
                </a:lnTo>
                <a:lnTo>
                  <a:pt x="14960" y="46296"/>
                </a:lnTo>
                <a:lnTo>
                  <a:pt x="9664" y="51184"/>
                </a:lnTo>
                <a:lnTo>
                  <a:pt x="6133" y="55289"/>
                </a:lnTo>
                <a:lnTo>
                  <a:pt x="3778" y="58873"/>
                </a:lnTo>
                <a:lnTo>
                  <a:pt x="2209" y="62109"/>
                </a:lnTo>
                <a:lnTo>
                  <a:pt x="1163" y="65959"/>
                </a:lnTo>
                <a:lnTo>
                  <a:pt x="465" y="70219"/>
                </a:lnTo>
                <a:lnTo>
                  <a:pt x="0" y="74753"/>
                </a:lnTo>
                <a:lnTo>
                  <a:pt x="537" y="79469"/>
                </a:lnTo>
                <a:lnTo>
                  <a:pt x="1742" y="84306"/>
                </a:lnTo>
                <a:lnTo>
                  <a:pt x="3391" y="89224"/>
                </a:lnTo>
                <a:lnTo>
                  <a:pt x="6185" y="93350"/>
                </a:lnTo>
                <a:lnTo>
                  <a:pt x="9740" y="96946"/>
                </a:lnTo>
                <a:lnTo>
                  <a:pt x="13803" y="100191"/>
                </a:lnTo>
                <a:lnTo>
                  <a:pt x="19053" y="102354"/>
                </a:lnTo>
                <a:lnTo>
                  <a:pt x="25091" y="103796"/>
                </a:lnTo>
                <a:lnTo>
                  <a:pt x="31658" y="104757"/>
                </a:lnTo>
                <a:lnTo>
                  <a:pt x="38575" y="106245"/>
                </a:lnTo>
                <a:lnTo>
                  <a:pt x="45727" y="108084"/>
                </a:lnTo>
                <a:lnTo>
                  <a:pt x="53035" y="110156"/>
                </a:lnTo>
                <a:lnTo>
                  <a:pt x="60447" y="110690"/>
                </a:lnTo>
                <a:lnTo>
                  <a:pt x="67928" y="110200"/>
                </a:lnTo>
                <a:lnTo>
                  <a:pt x="75455" y="109027"/>
                </a:lnTo>
                <a:lnTo>
                  <a:pt x="83014" y="107398"/>
                </a:lnTo>
                <a:lnTo>
                  <a:pt x="90593" y="105465"/>
                </a:lnTo>
                <a:lnTo>
                  <a:pt x="98186" y="103330"/>
                </a:lnTo>
                <a:lnTo>
                  <a:pt x="104094" y="101061"/>
                </a:lnTo>
                <a:lnTo>
                  <a:pt x="108879" y="98700"/>
                </a:lnTo>
                <a:lnTo>
                  <a:pt x="112916" y="96280"/>
                </a:lnTo>
                <a:lnTo>
                  <a:pt x="117301" y="93820"/>
                </a:lnTo>
                <a:lnTo>
                  <a:pt x="126688" y="88829"/>
                </a:lnTo>
                <a:lnTo>
                  <a:pt x="129869" y="84620"/>
                </a:lnTo>
                <a:lnTo>
                  <a:pt x="131990" y="79273"/>
                </a:lnTo>
                <a:lnTo>
                  <a:pt x="133403" y="73169"/>
                </a:lnTo>
                <a:lnTo>
                  <a:pt x="134345" y="67406"/>
                </a:lnTo>
                <a:lnTo>
                  <a:pt x="134974" y="61870"/>
                </a:lnTo>
                <a:lnTo>
                  <a:pt x="135393" y="56487"/>
                </a:lnTo>
                <a:lnTo>
                  <a:pt x="135858" y="48248"/>
                </a:lnTo>
                <a:lnTo>
                  <a:pt x="135982" y="44865"/>
                </a:lnTo>
                <a:lnTo>
                  <a:pt x="135219" y="40917"/>
                </a:lnTo>
                <a:lnTo>
                  <a:pt x="133862" y="36591"/>
                </a:lnTo>
                <a:lnTo>
                  <a:pt x="132112" y="32014"/>
                </a:lnTo>
                <a:lnTo>
                  <a:pt x="129251" y="28116"/>
                </a:lnTo>
                <a:lnTo>
                  <a:pt x="125651" y="24671"/>
                </a:lnTo>
                <a:lnTo>
                  <a:pt x="121558" y="21527"/>
                </a:lnTo>
                <a:lnTo>
                  <a:pt x="117135" y="19431"/>
                </a:lnTo>
                <a:lnTo>
                  <a:pt x="112494" y="18034"/>
                </a:lnTo>
                <a:lnTo>
                  <a:pt x="107706" y="17103"/>
                </a:lnTo>
                <a:lnTo>
                  <a:pt x="103668" y="15635"/>
                </a:lnTo>
                <a:lnTo>
                  <a:pt x="100129" y="13810"/>
                </a:lnTo>
                <a:lnTo>
                  <a:pt x="96922" y="11747"/>
                </a:lnTo>
                <a:lnTo>
                  <a:pt x="93938" y="11218"/>
                </a:lnTo>
                <a:lnTo>
                  <a:pt x="91102" y="11712"/>
                </a:lnTo>
                <a:lnTo>
                  <a:pt x="82891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InkAnnotation184"/>
          <p:cNvSpPr/>
          <p:nvPr/>
        </p:nvSpPr>
        <p:spPr>
          <a:xfrm>
            <a:off x="6068880" y="5013360"/>
            <a:ext cx="155880" cy="158760"/>
          </a:xfrm>
          <a:custGeom>
            <a:avLst/>
            <a:gdLst>
              <a:gd name="textAreaLeft" fmla="*/ 0 w 155880"/>
              <a:gd name="textAreaRight" fmla="*/ 156240 w 1558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56233" h="158163">
                <a:moveTo>
                  <a:pt x="96204" y="60960"/>
                </a:moveTo>
                <a:lnTo>
                  <a:pt x="96204" y="39260"/>
                </a:lnTo>
                <a:lnTo>
                  <a:pt x="95357" y="38873"/>
                </a:lnTo>
                <a:lnTo>
                  <a:pt x="92158" y="38444"/>
                </a:lnTo>
                <a:lnTo>
                  <a:pt x="90121" y="39176"/>
                </a:lnTo>
                <a:lnTo>
                  <a:pt x="85598" y="42247"/>
                </a:lnTo>
                <a:lnTo>
                  <a:pt x="81513" y="44251"/>
                </a:lnTo>
                <a:lnTo>
                  <a:pt x="76250" y="46434"/>
                </a:lnTo>
                <a:lnTo>
                  <a:pt x="70202" y="48736"/>
                </a:lnTo>
                <a:lnTo>
                  <a:pt x="64476" y="51964"/>
                </a:lnTo>
                <a:lnTo>
                  <a:pt x="58965" y="55809"/>
                </a:lnTo>
                <a:lnTo>
                  <a:pt x="53598" y="60066"/>
                </a:lnTo>
                <a:lnTo>
                  <a:pt x="48327" y="64597"/>
                </a:lnTo>
                <a:lnTo>
                  <a:pt x="43119" y="69312"/>
                </a:lnTo>
                <a:lnTo>
                  <a:pt x="32817" y="79066"/>
                </a:lnTo>
                <a:lnTo>
                  <a:pt x="7319" y="104183"/>
                </a:lnTo>
                <a:lnTo>
                  <a:pt x="3927" y="109249"/>
                </a:lnTo>
                <a:lnTo>
                  <a:pt x="1666" y="114319"/>
                </a:lnTo>
                <a:lnTo>
                  <a:pt x="159" y="119393"/>
                </a:lnTo>
                <a:lnTo>
                  <a:pt x="0" y="123622"/>
                </a:lnTo>
                <a:lnTo>
                  <a:pt x="742" y="127288"/>
                </a:lnTo>
                <a:lnTo>
                  <a:pt x="2082" y="130579"/>
                </a:lnTo>
                <a:lnTo>
                  <a:pt x="4670" y="134466"/>
                </a:lnTo>
                <a:lnTo>
                  <a:pt x="8088" y="138751"/>
                </a:lnTo>
                <a:lnTo>
                  <a:pt x="12060" y="143300"/>
                </a:lnTo>
                <a:lnTo>
                  <a:pt x="16402" y="147181"/>
                </a:lnTo>
                <a:lnTo>
                  <a:pt x="20989" y="150614"/>
                </a:lnTo>
                <a:lnTo>
                  <a:pt x="25741" y="153750"/>
                </a:lnTo>
                <a:lnTo>
                  <a:pt x="30601" y="155840"/>
                </a:lnTo>
                <a:lnTo>
                  <a:pt x="35536" y="157233"/>
                </a:lnTo>
                <a:lnTo>
                  <a:pt x="40519" y="158162"/>
                </a:lnTo>
                <a:lnTo>
                  <a:pt x="47227" y="157935"/>
                </a:lnTo>
                <a:lnTo>
                  <a:pt x="55086" y="156937"/>
                </a:lnTo>
                <a:lnTo>
                  <a:pt x="63712" y="155425"/>
                </a:lnTo>
                <a:lnTo>
                  <a:pt x="72003" y="153570"/>
                </a:lnTo>
                <a:lnTo>
                  <a:pt x="80070" y="151487"/>
                </a:lnTo>
                <a:lnTo>
                  <a:pt x="87989" y="149251"/>
                </a:lnTo>
                <a:lnTo>
                  <a:pt x="95807" y="146068"/>
                </a:lnTo>
                <a:lnTo>
                  <a:pt x="103560" y="142252"/>
                </a:lnTo>
                <a:lnTo>
                  <a:pt x="111268" y="138015"/>
                </a:lnTo>
                <a:lnTo>
                  <a:pt x="118100" y="132650"/>
                </a:lnTo>
                <a:lnTo>
                  <a:pt x="124349" y="126533"/>
                </a:lnTo>
                <a:lnTo>
                  <a:pt x="130207" y="119916"/>
                </a:lnTo>
                <a:lnTo>
                  <a:pt x="135806" y="112964"/>
                </a:lnTo>
                <a:lnTo>
                  <a:pt x="141232" y="105789"/>
                </a:lnTo>
                <a:lnTo>
                  <a:pt x="146543" y="98466"/>
                </a:lnTo>
                <a:lnTo>
                  <a:pt x="150083" y="91891"/>
                </a:lnTo>
                <a:lnTo>
                  <a:pt x="152444" y="85814"/>
                </a:lnTo>
                <a:lnTo>
                  <a:pt x="154017" y="80069"/>
                </a:lnTo>
                <a:lnTo>
                  <a:pt x="155066" y="73700"/>
                </a:lnTo>
                <a:lnTo>
                  <a:pt x="155765" y="66913"/>
                </a:lnTo>
                <a:lnTo>
                  <a:pt x="156232" y="59849"/>
                </a:lnTo>
                <a:lnTo>
                  <a:pt x="155696" y="53446"/>
                </a:lnTo>
                <a:lnTo>
                  <a:pt x="154491" y="47484"/>
                </a:lnTo>
                <a:lnTo>
                  <a:pt x="152842" y="41816"/>
                </a:lnTo>
                <a:lnTo>
                  <a:pt x="150050" y="36344"/>
                </a:lnTo>
                <a:lnTo>
                  <a:pt x="146495" y="31003"/>
                </a:lnTo>
                <a:lnTo>
                  <a:pt x="142431" y="25748"/>
                </a:lnTo>
                <a:lnTo>
                  <a:pt x="138875" y="21399"/>
                </a:lnTo>
                <a:lnTo>
                  <a:pt x="135658" y="17653"/>
                </a:lnTo>
                <a:lnTo>
                  <a:pt x="132667" y="14308"/>
                </a:lnTo>
                <a:lnTo>
                  <a:pt x="128979" y="11232"/>
                </a:lnTo>
                <a:lnTo>
                  <a:pt x="124828" y="8335"/>
                </a:lnTo>
                <a:lnTo>
                  <a:pt x="120367" y="5556"/>
                </a:lnTo>
                <a:lnTo>
                  <a:pt x="116546" y="3704"/>
                </a:lnTo>
                <a:lnTo>
                  <a:pt x="113151" y="2469"/>
                </a:lnTo>
                <a:lnTo>
                  <a:pt x="110043" y="1646"/>
                </a:lnTo>
                <a:lnTo>
                  <a:pt x="107123" y="1097"/>
                </a:lnTo>
                <a:lnTo>
                  <a:pt x="104330" y="732"/>
                </a:lnTo>
                <a:lnTo>
                  <a:pt x="962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InkAnnotation185"/>
          <p:cNvSpPr/>
          <p:nvPr/>
        </p:nvSpPr>
        <p:spPr>
          <a:xfrm>
            <a:off x="6294600" y="4991040"/>
            <a:ext cx="334800" cy="173160"/>
          </a:xfrm>
          <a:custGeom>
            <a:avLst/>
            <a:gdLst>
              <a:gd name="textAreaLeft" fmla="*/ 0 w 334800"/>
              <a:gd name="textAreaRight" fmla="*/ 335160 w 33480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334708" h="173753">
                <a:moveTo>
                  <a:pt x="7528" y="91440"/>
                </a:moveTo>
                <a:lnTo>
                  <a:pt x="3482" y="95485"/>
                </a:lnTo>
                <a:lnTo>
                  <a:pt x="2291" y="98371"/>
                </a:lnTo>
                <a:lnTo>
                  <a:pt x="1496" y="101987"/>
                </a:lnTo>
                <a:lnTo>
                  <a:pt x="966" y="106091"/>
                </a:lnTo>
                <a:lnTo>
                  <a:pt x="614" y="109675"/>
                </a:lnTo>
                <a:lnTo>
                  <a:pt x="378" y="112909"/>
                </a:lnTo>
                <a:lnTo>
                  <a:pt x="221" y="115913"/>
                </a:lnTo>
                <a:lnTo>
                  <a:pt x="47" y="123766"/>
                </a:lnTo>
                <a:lnTo>
                  <a:pt x="0" y="128231"/>
                </a:lnTo>
                <a:lnTo>
                  <a:pt x="816" y="132054"/>
                </a:lnTo>
                <a:lnTo>
                  <a:pt x="2207" y="135450"/>
                </a:lnTo>
                <a:lnTo>
                  <a:pt x="3980" y="138559"/>
                </a:lnTo>
                <a:lnTo>
                  <a:pt x="6856" y="141480"/>
                </a:lnTo>
                <a:lnTo>
                  <a:pt x="10467" y="144273"/>
                </a:lnTo>
                <a:lnTo>
                  <a:pt x="18147" y="149635"/>
                </a:lnTo>
                <a:lnTo>
                  <a:pt x="24383" y="154840"/>
                </a:lnTo>
                <a:lnTo>
                  <a:pt x="34492" y="159976"/>
                </a:lnTo>
                <a:lnTo>
                  <a:pt x="40743" y="162530"/>
                </a:lnTo>
                <a:lnTo>
                  <a:pt x="46605" y="165081"/>
                </a:lnTo>
                <a:lnTo>
                  <a:pt x="57633" y="170171"/>
                </a:lnTo>
                <a:lnTo>
                  <a:pt x="63791" y="171868"/>
                </a:lnTo>
                <a:lnTo>
                  <a:pt x="70436" y="172999"/>
                </a:lnTo>
                <a:lnTo>
                  <a:pt x="77406" y="173752"/>
                </a:lnTo>
                <a:lnTo>
                  <a:pt x="83747" y="173408"/>
                </a:lnTo>
                <a:lnTo>
                  <a:pt x="89667" y="172333"/>
                </a:lnTo>
                <a:lnTo>
                  <a:pt x="95307" y="170769"/>
                </a:lnTo>
                <a:lnTo>
                  <a:pt x="100761" y="168879"/>
                </a:lnTo>
                <a:lnTo>
                  <a:pt x="106090" y="166773"/>
                </a:lnTo>
                <a:lnTo>
                  <a:pt x="116526" y="162174"/>
                </a:lnTo>
                <a:lnTo>
                  <a:pt x="126809" y="157309"/>
                </a:lnTo>
                <a:lnTo>
                  <a:pt x="131922" y="153979"/>
                </a:lnTo>
                <a:lnTo>
                  <a:pt x="137024" y="150066"/>
                </a:lnTo>
                <a:lnTo>
                  <a:pt x="142118" y="145764"/>
                </a:lnTo>
                <a:lnTo>
                  <a:pt x="146362" y="141203"/>
                </a:lnTo>
                <a:lnTo>
                  <a:pt x="150037" y="136468"/>
                </a:lnTo>
                <a:lnTo>
                  <a:pt x="153334" y="131619"/>
                </a:lnTo>
                <a:lnTo>
                  <a:pt x="155532" y="126693"/>
                </a:lnTo>
                <a:lnTo>
                  <a:pt x="156997" y="121715"/>
                </a:lnTo>
                <a:lnTo>
                  <a:pt x="157974" y="116703"/>
                </a:lnTo>
                <a:lnTo>
                  <a:pt x="158625" y="112516"/>
                </a:lnTo>
                <a:lnTo>
                  <a:pt x="159059" y="108877"/>
                </a:lnTo>
                <a:lnTo>
                  <a:pt x="159349" y="105605"/>
                </a:lnTo>
                <a:lnTo>
                  <a:pt x="160389" y="102577"/>
                </a:lnTo>
                <a:lnTo>
                  <a:pt x="161928" y="99711"/>
                </a:lnTo>
                <a:lnTo>
                  <a:pt x="163801" y="96955"/>
                </a:lnTo>
                <a:lnTo>
                  <a:pt x="165883" y="91633"/>
                </a:lnTo>
                <a:lnTo>
                  <a:pt x="167450" y="84277"/>
                </a:lnTo>
                <a:lnTo>
                  <a:pt x="167519" y="88001"/>
                </a:lnTo>
                <a:lnTo>
                  <a:pt x="168375" y="90841"/>
                </a:lnTo>
                <a:lnTo>
                  <a:pt x="169793" y="94427"/>
                </a:lnTo>
                <a:lnTo>
                  <a:pt x="171584" y="98511"/>
                </a:lnTo>
                <a:lnTo>
                  <a:pt x="174472" y="102928"/>
                </a:lnTo>
                <a:lnTo>
                  <a:pt x="178090" y="107566"/>
                </a:lnTo>
                <a:lnTo>
                  <a:pt x="182196" y="112350"/>
                </a:lnTo>
                <a:lnTo>
                  <a:pt x="187473" y="117234"/>
                </a:lnTo>
                <a:lnTo>
                  <a:pt x="193531" y="122182"/>
                </a:lnTo>
                <a:lnTo>
                  <a:pt x="200110" y="127175"/>
                </a:lnTo>
                <a:lnTo>
                  <a:pt x="206189" y="131350"/>
                </a:lnTo>
                <a:lnTo>
                  <a:pt x="211936" y="134980"/>
                </a:lnTo>
                <a:lnTo>
                  <a:pt x="217459" y="138247"/>
                </a:lnTo>
                <a:lnTo>
                  <a:pt x="224529" y="142118"/>
                </a:lnTo>
                <a:lnTo>
                  <a:pt x="241415" y="150935"/>
                </a:lnTo>
                <a:lnTo>
                  <a:pt x="248966" y="153963"/>
                </a:lnTo>
                <a:lnTo>
                  <a:pt x="255693" y="155982"/>
                </a:lnTo>
                <a:lnTo>
                  <a:pt x="261871" y="157328"/>
                </a:lnTo>
                <a:lnTo>
                  <a:pt x="268530" y="159072"/>
                </a:lnTo>
                <a:lnTo>
                  <a:pt x="275509" y="161081"/>
                </a:lnTo>
                <a:lnTo>
                  <a:pt x="282702" y="163268"/>
                </a:lnTo>
                <a:lnTo>
                  <a:pt x="292952" y="165697"/>
                </a:lnTo>
                <a:lnTo>
                  <a:pt x="296870" y="166344"/>
                </a:lnTo>
                <a:lnTo>
                  <a:pt x="305740" y="164807"/>
                </a:lnTo>
                <a:lnTo>
                  <a:pt x="310476" y="163211"/>
                </a:lnTo>
                <a:lnTo>
                  <a:pt x="314481" y="160454"/>
                </a:lnTo>
                <a:lnTo>
                  <a:pt x="317996" y="156923"/>
                </a:lnTo>
                <a:lnTo>
                  <a:pt x="321186" y="152876"/>
                </a:lnTo>
                <a:lnTo>
                  <a:pt x="324160" y="149330"/>
                </a:lnTo>
                <a:lnTo>
                  <a:pt x="326989" y="146120"/>
                </a:lnTo>
                <a:lnTo>
                  <a:pt x="329721" y="143133"/>
                </a:lnTo>
                <a:lnTo>
                  <a:pt x="331544" y="138602"/>
                </a:lnTo>
                <a:lnTo>
                  <a:pt x="332758" y="133042"/>
                </a:lnTo>
                <a:lnTo>
                  <a:pt x="333568" y="126795"/>
                </a:lnTo>
                <a:lnTo>
                  <a:pt x="334108" y="120090"/>
                </a:lnTo>
                <a:lnTo>
                  <a:pt x="334468" y="113080"/>
                </a:lnTo>
                <a:lnTo>
                  <a:pt x="334707" y="105867"/>
                </a:lnTo>
                <a:lnTo>
                  <a:pt x="334020" y="98518"/>
                </a:lnTo>
                <a:lnTo>
                  <a:pt x="332717" y="91078"/>
                </a:lnTo>
                <a:lnTo>
                  <a:pt x="331000" y="83579"/>
                </a:lnTo>
                <a:lnTo>
                  <a:pt x="329010" y="76886"/>
                </a:lnTo>
                <a:lnTo>
                  <a:pt x="326835" y="70731"/>
                </a:lnTo>
                <a:lnTo>
                  <a:pt x="324540" y="64934"/>
                </a:lnTo>
                <a:lnTo>
                  <a:pt x="319730" y="51720"/>
                </a:lnTo>
                <a:lnTo>
                  <a:pt x="317263" y="44640"/>
                </a:lnTo>
                <a:lnTo>
                  <a:pt x="315618" y="39073"/>
                </a:lnTo>
                <a:lnTo>
                  <a:pt x="314521" y="34515"/>
                </a:lnTo>
                <a:lnTo>
                  <a:pt x="313790" y="30631"/>
                </a:lnTo>
                <a:lnTo>
                  <a:pt x="312456" y="26347"/>
                </a:lnTo>
                <a:lnTo>
                  <a:pt x="310719" y="21798"/>
                </a:lnTo>
                <a:lnTo>
                  <a:pt x="305895" y="10420"/>
                </a:lnTo>
                <a:lnTo>
                  <a:pt x="305235" y="6607"/>
                </a:lnTo>
                <a:lnTo>
                  <a:pt x="30470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InkAnnotation186"/>
          <p:cNvSpPr/>
          <p:nvPr/>
        </p:nvSpPr>
        <p:spPr>
          <a:xfrm>
            <a:off x="6865920" y="4892760"/>
            <a:ext cx="30240" cy="258840"/>
          </a:xfrm>
          <a:custGeom>
            <a:avLst/>
            <a:gdLst>
              <a:gd name="textAreaLeft" fmla="*/ 0 w 30240"/>
              <a:gd name="textAreaRight" fmla="*/ 30600 w 302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0480" h="259081">
                <a:moveTo>
                  <a:pt x="0" y="0"/>
                </a:moveTo>
                <a:lnTo>
                  <a:pt x="0" y="28518"/>
                </a:lnTo>
                <a:lnTo>
                  <a:pt x="847" y="33405"/>
                </a:lnTo>
                <a:lnTo>
                  <a:pt x="2258" y="38357"/>
                </a:lnTo>
                <a:lnTo>
                  <a:pt x="6084" y="49221"/>
                </a:lnTo>
                <a:lnTo>
                  <a:pt x="10606" y="62516"/>
                </a:lnTo>
                <a:lnTo>
                  <a:pt x="12150" y="69617"/>
                </a:lnTo>
                <a:lnTo>
                  <a:pt x="13180" y="76892"/>
                </a:lnTo>
                <a:lnTo>
                  <a:pt x="13867" y="84281"/>
                </a:lnTo>
                <a:lnTo>
                  <a:pt x="14324" y="91747"/>
                </a:lnTo>
                <a:lnTo>
                  <a:pt x="14834" y="106817"/>
                </a:lnTo>
                <a:lnTo>
                  <a:pt x="15815" y="115238"/>
                </a:lnTo>
                <a:lnTo>
                  <a:pt x="17317" y="124238"/>
                </a:lnTo>
                <a:lnTo>
                  <a:pt x="19164" y="133626"/>
                </a:lnTo>
                <a:lnTo>
                  <a:pt x="20396" y="142424"/>
                </a:lnTo>
                <a:lnTo>
                  <a:pt x="21218" y="150829"/>
                </a:lnTo>
                <a:lnTo>
                  <a:pt x="21765" y="158973"/>
                </a:lnTo>
                <a:lnTo>
                  <a:pt x="22977" y="166942"/>
                </a:lnTo>
                <a:lnTo>
                  <a:pt x="24631" y="174795"/>
                </a:lnTo>
                <a:lnTo>
                  <a:pt x="26580" y="182570"/>
                </a:lnTo>
                <a:lnTo>
                  <a:pt x="27879" y="190293"/>
                </a:lnTo>
                <a:lnTo>
                  <a:pt x="28747" y="197982"/>
                </a:lnTo>
                <a:lnTo>
                  <a:pt x="29324" y="205648"/>
                </a:lnTo>
                <a:lnTo>
                  <a:pt x="29710" y="212452"/>
                </a:lnTo>
                <a:lnTo>
                  <a:pt x="30137" y="224528"/>
                </a:lnTo>
                <a:lnTo>
                  <a:pt x="30412" y="245231"/>
                </a:lnTo>
                <a:lnTo>
                  <a:pt x="30479" y="2590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InkAnnotation187"/>
          <p:cNvSpPr/>
          <p:nvPr/>
        </p:nvSpPr>
        <p:spPr>
          <a:xfrm>
            <a:off x="6773760" y="5013360"/>
            <a:ext cx="160560" cy="7920"/>
          </a:xfrm>
          <a:custGeom>
            <a:avLst/>
            <a:gdLst>
              <a:gd name="textAreaLeft" fmla="*/ 0 w 160560"/>
              <a:gd name="textAreaRight" fmla="*/ 160920 w 1605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60021" h="7621">
                <a:moveTo>
                  <a:pt x="0" y="0"/>
                </a:moveTo>
                <a:lnTo>
                  <a:pt x="17912" y="0"/>
                </a:lnTo>
                <a:lnTo>
                  <a:pt x="22102" y="846"/>
                </a:lnTo>
                <a:lnTo>
                  <a:pt x="27434" y="2257"/>
                </a:lnTo>
                <a:lnTo>
                  <a:pt x="33529" y="4045"/>
                </a:lnTo>
                <a:lnTo>
                  <a:pt x="40134" y="5237"/>
                </a:lnTo>
                <a:lnTo>
                  <a:pt x="47076" y="6031"/>
                </a:lnTo>
                <a:lnTo>
                  <a:pt x="54244" y="6561"/>
                </a:lnTo>
                <a:lnTo>
                  <a:pt x="61562" y="6914"/>
                </a:lnTo>
                <a:lnTo>
                  <a:pt x="76468" y="7306"/>
                </a:lnTo>
                <a:lnTo>
                  <a:pt x="16002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InkAnnotation188"/>
          <p:cNvSpPr/>
          <p:nvPr/>
        </p:nvSpPr>
        <p:spPr>
          <a:xfrm>
            <a:off x="7005600" y="4884840"/>
            <a:ext cx="34920" cy="250560"/>
          </a:xfrm>
          <a:custGeom>
            <a:avLst/>
            <a:gdLst>
              <a:gd name="textAreaLeft" fmla="*/ 0 w 34920"/>
              <a:gd name="textAreaRight" fmla="*/ 35280 w 3492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34581" h="251461">
                <a:moveTo>
                  <a:pt x="34580" y="0"/>
                </a:moveTo>
                <a:lnTo>
                  <a:pt x="34580" y="6561"/>
                </a:lnTo>
                <a:lnTo>
                  <a:pt x="33734" y="7760"/>
                </a:lnTo>
                <a:lnTo>
                  <a:pt x="32321" y="9407"/>
                </a:lnTo>
                <a:lnTo>
                  <a:pt x="30535" y="11351"/>
                </a:lnTo>
                <a:lnTo>
                  <a:pt x="29343" y="14341"/>
                </a:lnTo>
                <a:lnTo>
                  <a:pt x="28549" y="18027"/>
                </a:lnTo>
                <a:lnTo>
                  <a:pt x="28018" y="22178"/>
                </a:lnTo>
                <a:lnTo>
                  <a:pt x="27666" y="26639"/>
                </a:lnTo>
                <a:lnTo>
                  <a:pt x="27431" y="31306"/>
                </a:lnTo>
                <a:lnTo>
                  <a:pt x="27274" y="36111"/>
                </a:lnTo>
                <a:lnTo>
                  <a:pt x="26322" y="42701"/>
                </a:lnTo>
                <a:lnTo>
                  <a:pt x="24842" y="50481"/>
                </a:lnTo>
                <a:lnTo>
                  <a:pt x="23008" y="59053"/>
                </a:lnTo>
                <a:lnTo>
                  <a:pt x="20939" y="67309"/>
                </a:lnTo>
                <a:lnTo>
                  <a:pt x="18712" y="75353"/>
                </a:lnTo>
                <a:lnTo>
                  <a:pt x="13981" y="91064"/>
                </a:lnTo>
                <a:lnTo>
                  <a:pt x="9056" y="106513"/>
                </a:lnTo>
                <a:lnTo>
                  <a:pt x="7404" y="115035"/>
                </a:lnTo>
                <a:lnTo>
                  <a:pt x="6303" y="124103"/>
                </a:lnTo>
                <a:lnTo>
                  <a:pt x="5569" y="133536"/>
                </a:lnTo>
                <a:lnTo>
                  <a:pt x="4232" y="143210"/>
                </a:lnTo>
                <a:lnTo>
                  <a:pt x="2495" y="153047"/>
                </a:lnTo>
                <a:lnTo>
                  <a:pt x="490" y="162991"/>
                </a:lnTo>
                <a:lnTo>
                  <a:pt x="0" y="171314"/>
                </a:lnTo>
                <a:lnTo>
                  <a:pt x="520" y="178556"/>
                </a:lnTo>
                <a:lnTo>
                  <a:pt x="1713" y="185078"/>
                </a:lnTo>
                <a:lnTo>
                  <a:pt x="3356" y="191965"/>
                </a:lnTo>
                <a:lnTo>
                  <a:pt x="5297" y="199097"/>
                </a:lnTo>
                <a:lnTo>
                  <a:pt x="7438" y="206391"/>
                </a:lnTo>
                <a:lnTo>
                  <a:pt x="9712" y="212948"/>
                </a:lnTo>
                <a:lnTo>
                  <a:pt x="12074" y="219012"/>
                </a:lnTo>
                <a:lnTo>
                  <a:pt x="14497" y="224748"/>
                </a:lnTo>
                <a:lnTo>
                  <a:pt x="16958" y="229419"/>
                </a:lnTo>
                <a:lnTo>
                  <a:pt x="19445" y="233379"/>
                </a:lnTo>
                <a:lnTo>
                  <a:pt x="21950" y="236866"/>
                </a:lnTo>
                <a:lnTo>
                  <a:pt x="24467" y="240037"/>
                </a:lnTo>
                <a:lnTo>
                  <a:pt x="26991" y="242998"/>
                </a:lnTo>
                <a:lnTo>
                  <a:pt x="34580" y="2514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InkAnnotation189"/>
          <p:cNvSpPr/>
          <p:nvPr/>
        </p:nvSpPr>
        <p:spPr>
          <a:xfrm>
            <a:off x="7124760" y="4862520"/>
            <a:ext cx="174600" cy="204840"/>
          </a:xfrm>
          <a:custGeom>
            <a:avLst/>
            <a:gdLst>
              <a:gd name="textAreaLeft" fmla="*/ 0 w 174600"/>
              <a:gd name="textAreaRight" fmla="*/ 174960 w 1746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75261" h="204936">
                <a:moveTo>
                  <a:pt x="0" y="52897"/>
                </a:moveTo>
                <a:lnTo>
                  <a:pt x="0" y="34698"/>
                </a:lnTo>
                <a:lnTo>
                  <a:pt x="847" y="33145"/>
                </a:lnTo>
                <a:lnTo>
                  <a:pt x="2259" y="32109"/>
                </a:lnTo>
                <a:lnTo>
                  <a:pt x="4046" y="31418"/>
                </a:lnTo>
                <a:lnTo>
                  <a:pt x="8289" y="28393"/>
                </a:lnTo>
                <a:lnTo>
                  <a:pt x="10607" y="26401"/>
                </a:lnTo>
                <a:lnTo>
                  <a:pt x="13844" y="24227"/>
                </a:lnTo>
                <a:lnTo>
                  <a:pt x="17697" y="21930"/>
                </a:lnTo>
                <a:lnTo>
                  <a:pt x="21957" y="19553"/>
                </a:lnTo>
                <a:lnTo>
                  <a:pt x="31208" y="14653"/>
                </a:lnTo>
                <a:lnTo>
                  <a:pt x="36045" y="12161"/>
                </a:lnTo>
                <a:lnTo>
                  <a:pt x="40117" y="9653"/>
                </a:lnTo>
                <a:lnTo>
                  <a:pt x="43677" y="7135"/>
                </a:lnTo>
                <a:lnTo>
                  <a:pt x="46899" y="4609"/>
                </a:lnTo>
                <a:lnTo>
                  <a:pt x="50740" y="2925"/>
                </a:lnTo>
                <a:lnTo>
                  <a:pt x="54993" y="1802"/>
                </a:lnTo>
                <a:lnTo>
                  <a:pt x="59522" y="1054"/>
                </a:lnTo>
                <a:lnTo>
                  <a:pt x="64234" y="555"/>
                </a:lnTo>
                <a:lnTo>
                  <a:pt x="69070" y="222"/>
                </a:lnTo>
                <a:lnTo>
                  <a:pt x="73986" y="0"/>
                </a:lnTo>
                <a:lnTo>
                  <a:pt x="78958" y="699"/>
                </a:lnTo>
                <a:lnTo>
                  <a:pt x="83966" y="2012"/>
                </a:lnTo>
                <a:lnTo>
                  <a:pt x="88997" y="3734"/>
                </a:lnTo>
                <a:lnTo>
                  <a:pt x="93198" y="5728"/>
                </a:lnTo>
                <a:lnTo>
                  <a:pt x="96845" y="7904"/>
                </a:lnTo>
                <a:lnTo>
                  <a:pt x="100124" y="10202"/>
                </a:lnTo>
                <a:lnTo>
                  <a:pt x="103156" y="12580"/>
                </a:lnTo>
                <a:lnTo>
                  <a:pt x="106024" y="15012"/>
                </a:lnTo>
                <a:lnTo>
                  <a:pt x="111469" y="19973"/>
                </a:lnTo>
                <a:lnTo>
                  <a:pt x="116710" y="25000"/>
                </a:lnTo>
                <a:lnTo>
                  <a:pt x="118447" y="27526"/>
                </a:lnTo>
                <a:lnTo>
                  <a:pt x="120377" y="32590"/>
                </a:lnTo>
                <a:lnTo>
                  <a:pt x="120891" y="35972"/>
                </a:lnTo>
                <a:lnTo>
                  <a:pt x="121234" y="39921"/>
                </a:lnTo>
                <a:lnTo>
                  <a:pt x="121463" y="44246"/>
                </a:lnTo>
                <a:lnTo>
                  <a:pt x="120769" y="47976"/>
                </a:lnTo>
                <a:lnTo>
                  <a:pt x="117740" y="54379"/>
                </a:lnTo>
                <a:lnTo>
                  <a:pt x="115747" y="58965"/>
                </a:lnTo>
                <a:lnTo>
                  <a:pt x="113571" y="64562"/>
                </a:lnTo>
                <a:lnTo>
                  <a:pt x="111275" y="70834"/>
                </a:lnTo>
                <a:lnTo>
                  <a:pt x="108049" y="75861"/>
                </a:lnTo>
                <a:lnTo>
                  <a:pt x="104206" y="80060"/>
                </a:lnTo>
                <a:lnTo>
                  <a:pt x="99951" y="83706"/>
                </a:lnTo>
                <a:lnTo>
                  <a:pt x="96268" y="87830"/>
                </a:lnTo>
                <a:lnTo>
                  <a:pt x="92965" y="92272"/>
                </a:lnTo>
                <a:lnTo>
                  <a:pt x="77536" y="115614"/>
                </a:lnTo>
                <a:lnTo>
                  <a:pt x="72859" y="121802"/>
                </a:lnTo>
                <a:lnTo>
                  <a:pt x="68046" y="127620"/>
                </a:lnTo>
                <a:lnTo>
                  <a:pt x="59029" y="137754"/>
                </a:lnTo>
                <a:lnTo>
                  <a:pt x="52200" y="145080"/>
                </a:lnTo>
                <a:lnTo>
                  <a:pt x="49193" y="149066"/>
                </a:lnTo>
                <a:lnTo>
                  <a:pt x="46342" y="153416"/>
                </a:lnTo>
                <a:lnTo>
                  <a:pt x="43595" y="158009"/>
                </a:lnTo>
                <a:lnTo>
                  <a:pt x="40917" y="161918"/>
                </a:lnTo>
                <a:lnTo>
                  <a:pt x="38285" y="165372"/>
                </a:lnTo>
                <a:lnTo>
                  <a:pt x="35683" y="168519"/>
                </a:lnTo>
                <a:lnTo>
                  <a:pt x="34796" y="172312"/>
                </a:lnTo>
                <a:lnTo>
                  <a:pt x="35050" y="176534"/>
                </a:lnTo>
                <a:lnTo>
                  <a:pt x="36068" y="181042"/>
                </a:lnTo>
                <a:lnTo>
                  <a:pt x="37592" y="184893"/>
                </a:lnTo>
                <a:lnTo>
                  <a:pt x="39454" y="188307"/>
                </a:lnTo>
                <a:lnTo>
                  <a:pt x="41543" y="191430"/>
                </a:lnTo>
                <a:lnTo>
                  <a:pt x="43782" y="193512"/>
                </a:lnTo>
                <a:lnTo>
                  <a:pt x="46121" y="194900"/>
                </a:lnTo>
                <a:lnTo>
                  <a:pt x="48527" y="195826"/>
                </a:lnTo>
                <a:lnTo>
                  <a:pt x="53460" y="199112"/>
                </a:lnTo>
                <a:lnTo>
                  <a:pt x="55960" y="201174"/>
                </a:lnTo>
                <a:lnTo>
                  <a:pt x="60167" y="202548"/>
                </a:lnTo>
                <a:lnTo>
                  <a:pt x="65511" y="203464"/>
                </a:lnTo>
                <a:lnTo>
                  <a:pt x="71614" y="204075"/>
                </a:lnTo>
                <a:lnTo>
                  <a:pt x="78223" y="204482"/>
                </a:lnTo>
                <a:lnTo>
                  <a:pt x="92340" y="204935"/>
                </a:lnTo>
                <a:lnTo>
                  <a:pt x="99659" y="204209"/>
                </a:lnTo>
                <a:lnTo>
                  <a:pt x="107080" y="202878"/>
                </a:lnTo>
                <a:lnTo>
                  <a:pt x="114566" y="201144"/>
                </a:lnTo>
                <a:lnTo>
                  <a:pt x="122098" y="199142"/>
                </a:lnTo>
                <a:lnTo>
                  <a:pt x="137239" y="194659"/>
                </a:lnTo>
                <a:lnTo>
                  <a:pt x="143986" y="193125"/>
                </a:lnTo>
                <a:lnTo>
                  <a:pt x="150178" y="192102"/>
                </a:lnTo>
                <a:lnTo>
                  <a:pt x="155998" y="191420"/>
                </a:lnTo>
                <a:lnTo>
                  <a:pt x="160726" y="190119"/>
                </a:lnTo>
                <a:lnTo>
                  <a:pt x="164724" y="188405"/>
                </a:lnTo>
                <a:lnTo>
                  <a:pt x="175260" y="1824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InkAnnotation190"/>
          <p:cNvSpPr/>
          <p:nvPr/>
        </p:nvSpPr>
        <p:spPr>
          <a:xfrm>
            <a:off x="7459560" y="4861080"/>
            <a:ext cx="15840" cy="236520"/>
          </a:xfrm>
          <a:custGeom>
            <a:avLst/>
            <a:gdLst>
              <a:gd name="textAreaLeft" fmla="*/ 0 w 15840"/>
              <a:gd name="textAreaRight" fmla="*/ 16200 w 15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5239" h="236221">
                <a:moveTo>
                  <a:pt x="0" y="0"/>
                </a:moveTo>
                <a:lnTo>
                  <a:pt x="0" y="6561"/>
                </a:lnTo>
                <a:lnTo>
                  <a:pt x="847" y="7761"/>
                </a:lnTo>
                <a:lnTo>
                  <a:pt x="2258" y="9408"/>
                </a:lnTo>
                <a:lnTo>
                  <a:pt x="4046" y="11352"/>
                </a:lnTo>
                <a:lnTo>
                  <a:pt x="5237" y="14341"/>
                </a:lnTo>
                <a:lnTo>
                  <a:pt x="6032" y="18027"/>
                </a:lnTo>
                <a:lnTo>
                  <a:pt x="6562" y="22178"/>
                </a:lnTo>
                <a:lnTo>
                  <a:pt x="6914" y="26639"/>
                </a:lnTo>
                <a:lnTo>
                  <a:pt x="7149" y="31306"/>
                </a:lnTo>
                <a:lnTo>
                  <a:pt x="7307" y="36111"/>
                </a:lnTo>
                <a:lnTo>
                  <a:pt x="8257" y="41854"/>
                </a:lnTo>
                <a:lnTo>
                  <a:pt x="9738" y="48222"/>
                </a:lnTo>
                <a:lnTo>
                  <a:pt x="11572" y="55009"/>
                </a:lnTo>
                <a:lnTo>
                  <a:pt x="12795" y="62072"/>
                </a:lnTo>
                <a:lnTo>
                  <a:pt x="13610" y="69322"/>
                </a:lnTo>
                <a:lnTo>
                  <a:pt x="14153" y="76694"/>
                </a:lnTo>
                <a:lnTo>
                  <a:pt x="14516" y="84150"/>
                </a:lnTo>
                <a:lnTo>
                  <a:pt x="14918" y="99207"/>
                </a:lnTo>
                <a:lnTo>
                  <a:pt x="15238" y="200544"/>
                </a:lnTo>
                <a:lnTo>
                  <a:pt x="14392" y="206509"/>
                </a:lnTo>
                <a:lnTo>
                  <a:pt x="12982" y="212179"/>
                </a:lnTo>
                <a:lnTo>
                  <a:pt x="11194" y="217653"/>
                </a:lnTo>
                <a:lnTo>
                  <a:pt x="10004" y="222149"/>
                </a:lnTo>
                <a:lnTo>
                  <a:pt x="9209" y="225992"/>
                </a:lnTo>
                <a:lnTo>
                  <a:pt x="7620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InkAnnotation191"/>
          <p:cNvSpPr/>
          <p:nvPr/>
        </p:nvSpPr>
        <p:spPr>
          <a:xfrm>
            <a:off x="7345440" y="4952880"/>
            <a:ext cx="176040" cy="15840"/>
          </a:xfrm>
          <a:custGeom>
            <a:avLst/>
            <a:gdLst>
              <a:gd name="textAreaLeft" fmla="*/ 0 w 176040"/>
              <a:gd name="textAreaRight" fmla="*/ 176400 w 176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75261" h="15241">
                <a:moveTo>
                  <a:pt x="0" y="0"/>
                </a:moveTo>
                <a:lnTo>
                  <a:pt x="31780" y="0"/>
                </a:lnTo>
                <a:lnTo>
                  <a:pt x="37273" y="846"/>
                </a:lnTo>
                <a:lnTo>
                  <a:pt x="44322" y="2258"/>
                </a:lnTo>
                <a:lnTo>
                  <a:pt x="52408" y="4045"/>
                </a:lnTo>
                <a:lnTo>
                  <a:pt x="59492" y="5237"/>
                </a:lnTo>
                <a:lnTo>
                  <a:pt x="65908" y="6031"/>
                </a:lnTo>
                <a:lnTo>
                  <a:pt x="71878" y="6561"/>
                </a:lnTo>
                <a:lnTo>
                  <a:pt x="79245" y="6914"/>
                </a:lnTo>
                <a:lnTo>
                  <a:pt x="96463" y="7307"/>
                </a:lnTo>
                <a:lnTo>
                  <a:pt x="104948" y="8257"/>
                </a:lnTo>
                <a:lnTo>
                  <a:pt x="113145" y="9739"/>
                </a:lnTo>
                <a:lnTo>
                  <a:pt x="121151" y="11573"/>
                </a:lnTo>
                <a:lnTo>
                  <a:pt x="129027" y="12795"/>
                </a:lnTo>
                <a:lnTo>
                  <a:pt x="136818" y="13610"/>
                </a:lnTo>
                <a:lnTo>
                  <a:pt x="144552" y="14153"/>
                </a:lnTo>
                <a:lnTo>
                  <a:pt x="151401" y="14515"/>
                </a:lnTo>
                <a:lnTo>
                  <a:pt x="17526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InkAnnotation192"/>
          <p:cNvSpPr/>
          <p:nvPr/>
        </p:nvSpPr>
        <p:spPr>
          <a:xfrm>
            <a:off x="7589880" y="4884840"/>
            <a:ext cx="198360" cy="210960"/>
          </a:xfrm>
          <a:custGeom>
            <a:avLst/>
            <a:gdLst>
              <a:gd name="textAreaLeft" fmla="*/ 0 w 198360"/>
              <a:gd name="textAreaRight" fmla="*/ 198720 w 19836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98121" h="211836">
                <a:moveTo>
                  <a:pt x="0" y="7611"/>
                </a:moveTo>
                <a:lnTo>
                  <a:pt x="0" y="3566"/>
                </a:lnTo>
                <a:lnTo>
                  <a:pt x="846" y="2374"/>
                </a:lnTo>
                <a:lnTo>
                  <a:pt x="2258" y="1580"/>
                </a:lnTo>
                <a:lnTo>
                  <a:pt x="6083" y="697"/>
                </a:lnTo>
                <a:lnTo>
                  <a:pt x="10606" y="305"/>
                </a:lnTo>
                <a:lnTo>
                  <a:pt x="13843" y="201"/>
                </a:lnTo>
                <a:lnTo>
                  <a:pt x="31207" y="33"/>
                </a:lnTo>
                <a:lnTo>
                  <a:pt x="59033" y="0"/>
                </a:lnTo>
                <a:lnTo>
                  <a:pt x="66449" y="843"/>
                </a:lnTo>
                <a:lnTo>
                  <a:pt x="73086" y="2253"/>
                </a:lnTo>
                <a:lnTo>
                  <a:pt x="79204" y="4039"/>
                </a:lnTo>
                <a:lnTo>
                  <a:pt x="99950" y="10598"/>
                </a:lnTo>
                <a:lnTo>
                  <a:pt x="107274" y="12143"/>
                </a:lnTo>
                <a:lnTo>
                  <a:pt x="114697" y="13172"/>
                </a:lnTo>
                <a:lnTo>
                  <a:pt x="122184" y="13858"/>
                </a:lnTo>
                <a:lnTo>
                  <a:pt x="128023" y="15163"/>
                </a:lnTo>
                <a:lnTo>
                  <a:pt x="132762" y="16879"/>
                </a:lnTo>
                <a:lnTo>
                  <a:pt x="136769" y="18869"/>
                </a:lnTo>
                <a:lnTo>
                  <a:pt x="140286" y="21044"/>
                </a:lnTo>
                <a:lnTo>
                  <a:pt x="146452" y="25717"/>
                </a:lnTo>
                <a:lnTo>
                  <a:pt x="152014" y="28358"/>
                </a:lnTo>
                <a:lnTo>
                  <a:pt x="154683" y="29063"/>
                </a:lnTo>
                <a:lnTo>
                  <a:pt x="156462" y="30379"/>
                </a:lnTo>
                <a:lnTo>
                  <a:pt x="157648" y="32103"/>
                </a:lnTo>
                <a:lnTo>
                  <a:pt x="158439" y="34099"/>
                </a:lnTo>
                <a:lnTo>
                  <a:pt x="158119" y="36276"/>
                </a:lnTo>
                <a:lnTo>
                  <a:pt x="155506" y="40954"/>
                </a:lnTo>
                <a:lnTo>
                  <a:pt x="151523" y="45855"/>
                </a:lnTo>
                <a:lnTo>
                  <a:pt x="149276" y="48347"/>
                </a:lnTo>
                <a:lnTo>
                  <a:pt x="146083" y="50855"/>
                </a:lnTo>
                <a:lnTo>
                  <a:pt x="142262" y="53374"/>
                </a:lnTo>
                <a:lnTo>
                  <a:pt x="138021" y="55900"/>
                </a:lnTo>
                <a:lnTo>
                  <a:pt x="126537" y="63222"/>
                </a:lnTo>
                <a:lnTo>
                  <a:pt x="119917" y="67545"/>
                </a:lnTo>
                <a:lnTo>
                  <a:pt x="113812" y="71274"/>
                </a:lnTo>
                <a:lnTo>
                  <a:pt x="108047" y="74606"/>
                </a:lnTo>
                <a:lnTo>
                  <a:pt x="102512" y="77675"/>
                </a:lnTo>
                <a:lnTo>
                  <a:pt x="96281" y="81414"/>
                </a:lnTo>
                <a:lnTo>
                  <a:pt x="82585" y="90084"/>
                </a:lnTo>
                <a:lnTo>
                  <a:pt x="76223" y="94766"/>
                </a:lnTo>
                <a:lnTo>
                  <a:pt x="70288" y="99581"/>
                </a:lnTo>
                <a:lnTo>
                  <a:pt x="64640" y="104485"/>
                </a:lnTo>
                <a:lnTo>
                  <a:pt x="59180" y="109447"/>
                </a:lnTo>
                <a:lnTo>
                  <a:pt x="48597" y="119476"/>
                </a:lnTo>
                <a:lnTo>
                  <a:pt x="37165" y="130597"/>
                </a:lnTo>
                <a:lnTo>
                  <a:pt x="34936" y="134476"/>
                </a:lnTo>
                <a:lnTo>
                  <a:pt x="33451" y="138754"/>
                </a:lnTo>
                <a:lnTo>
                  <a:pt x="32460" y="143300"/>
                </a:lnTo>
                <a:lnTo>
                  <a:pt x="32647" y="148024"/>
                </a:lnTo>
                <a:lnTo>
                  <a:pt x="33618" y="152866"/>
                </a:lnTo>
                <a:lnTo>
                  <a:pt x="35112" y="157788"/>
                </a:lnTo>
                <a:lnTo>
                  <a:pt x="37801" y="162763"/>
                </a:lnTo>
                <a:lnTo>
                  <a:pt x="41288" y="167772"/>
                </a:lnTo>
                <a:lnTo>
                  <a:pt x="45305" y="172805"/>
                </a:lnTo>
                <a:lnTo>
                  <a:pt x="49677" y="177007"/>
                </a:lnTo>
                <a:lnTo>
                  <a:pt x="54284" y="180656"/>
                </a:lnTo>
                <a:lnTo>
                  <a:pt x="59050" y="183934"/>
                </a:lnTo>
                <a:lnTo>
                  <a:pt x="63920" y="186967"/>
                </a:lnTo>
                <a:lnTo>
                  <a:pt x="68859" y="189835"/>
                </a:lnTo>
                <a:lnTo>
                  <a:pt x="78864" y="195280"/>
                </a:lnTo>
                <a:lnTo>
                  <a:pt x="88956" y="200522"/>
                </a:lnTo>
                <a:lnTo>
                  <a:pt x="94863" y="203105"/>
                </a:lnTo>
                <a:lnTo>
                  <a:pt x="101342" y="205674"/>
                </a:lnTo>
                <a:lnTo>
                  <a:pt x="108202" y="208233"/>
                </a:lnTo>
                <a:lnTo>
                  <a:pt x="114468" y="209940"/>
                </a:lnTo>
                <a:lnTo>
                  <a:pt x="120339" y="211077"/>
                </a:lnTo>
                <a:lnTo>
                  <a:pt x="125946" y="211835"/>
                </a:lnTo>
                <a:lnTo>
                  <a:pt x="132223" y="211494"/>
                </a:lnTo>
                <a:lnTo>
                  <a:pt x="138950" y="210420"/>
                </a:lnTo>
                <a:lnTo>
                  <a:pt x="145973" y="208857"/>
                </a:lnTo>
                <a:lnTo>
                  <a:pt x="152349" y="207816"/>
                </a:lnTo>
                <a:lnTo>
                  <a:pt x="158293" y="207121"/>
                </a:lnTo>
                <a:lnTo>
                  <a:pt x="163949" y="206658"/>
                </a:lnTo>
                <a:lnTo>
                  <a:pt x="169413" y="205503"/>
                </a:lnTo>
                <a:lnTo>
                  <a:pt x="174749" y="203886"/>
                </a:lnTo>
                <a:lnTo>
                  <a:pt x="180000" y="201961"/>
                </a:lnTo>
                <a:lnTo>
                  <a:pt x="184347" y="200678"/>
                </a:lnTo>
                <a:lnTo>
                  <a:pt x="188091" y="199822"/>
                </a:lnTo>
                <a:lnTo>
                  <a:pt x="196139" y="198450"/>
                </a:lnTo>
                <a:lnTo>
                  <a:pt x="196799" y="197491"/>
                </a:lnTo>
                <a:lnTo>
                  <a:pt x="197240" y="196004"/>
                </a:lnTo>
                <a:lnTo>
                  <a:pt x="198120" y="1904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InkAnnotation193"/>
          <p:cNvSpPr/>
          <p:nvPr/>
        </p:nvSpPr>
        <p:spPr>
          <a:xfrm>
            <a:off x="5265720" y="5425920"/>
            <a:ext cx="90360" cy="319320"/>
          </a:xfrm>
          <a:custGeom>
            <a:avLst/>
            <a:gdLst>
              <a:gd name="textAreaLeft" fmla="*/ 0 w 90360"/>
              <a:gd name="textAreaRight" fmla="*/ 90360 w 90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91317" h="320040">
                <a:moveTo>
                  <a:pt x="91316" y="0"/>
                </a:moveTo>
                <a:lnTo>
                  <a:pt x="80710" y="10605"/>
                </a:lnTo>
                <a:lnTo>
                  <a:pt x="79166" y="13843"/>
                </a:lnTo>
                <a:lnTo>
                  <a:pt x="77449" y="21957"/>
                </a:lnTo>
                <a:lnTo>
                  <a:pt x="75297" y="26491"/>
                </a:lnTo>
                <a:lnTo>
                  <a:pt x="72171" y="31207"/>
                </a:lnTo>
                <a:lnTo>
                  <a:pt x="68392" y="36044"/>
                </a:lnTo>
                <a:lnTo>
                  <a:pt x="65027" y="41809"/>
                </a:lnTo>
                <a:lnTo>
                  <a:pt x="61936" y="48192"/>
                </a:lnTo>
                <a:lnTo>
                  <a:pt x="59029" y="54988"/>
                </a:lnTo>
                <a:lnTo>
                  <a:pt x="56245" y="62905"/>
                </a:lnTo>
                <a:lnTo>
                  <a:pt x="53542" y="71570"/>
                </a:lnTo>
                <a:lnTo>
                  <a:pt x="48280" y="90229"/>
                </a:lnTo>
                <a:lnTo>
                  <a:pt x="43120" y="109810"/>
                </a:lnTo>
                <a:lnTo>
                  <a:pt x="39712" y="119773"/>
                </a:lnTo>
                <a:lnTo>
                  <a:pt x="35746" y="129801"/>
                </a:lnTo>
                <a:lnTo>
                  <a:pt x="31410" y="139875"/>
                </a:lnTo>
                <a:lnTo>
                  <a:pt x="27672" y="149129"/>
                </a:lnTo>
                <a:lnTo>
                  <a:pt x="21260" y="166186"/>
                </a:lnTo>
                <a:lnTo>
                  <a:pt x="19212" y="175984"/>
                </a:lnTo>
                <a:lnTo>
                  <a:pt x="17847" y="186749"/>
                </a:lnTo>
                <a:lnTo>
                  <a:pt x="16937" y="198159"/>
                </a:lnTo>
                <a:lnTo>
                  <a:pt x="15482" y="208306"/>
                </a:lnTo>
                <a:lnTo>
                  <a:pt x="13667" y="217610"/>
                </a:lnTo>
                <a:lnTo>
                  <a:pt x="11610" y="226353"/>
                </a:lnTo>
                <a:lnTo>
                  <a:pt x="9392" y="234722"/>
                </a:lnTo>
                <a:lnTo>
                  <a:pt x="4670" y="250794"/>
                </a:lnTo>
                <a:lnTo>
                  <a:pt x="3072" y="258635"/>
                </a:lnTo>
                <a:lnTo>
                  <a:pt x="2007" y="266403"/>
                </a:lnTo>
                <a:lnTo>
                  <a:pt x="1296" y="274122"/>
                </a:lnTo>
                <a:lnTo>
                  <a:pt x="823" y="281808"/>
                </a:lnTo>
                <a:lnTo>
                  <a:pt x="297" y="297120"/>
                </a:lnTo>
                <a:lnTo>
                  <a:pt x="0" y="311932"/>
                </a:lnTo>
                <a:lnTo>
                  <a:pt x="806" y="314634"/>
                </a:lnTo>
                <a:lnTo>
                  <a:pt x="2189" y="316435"/>
                </a:lnTo>
                <a:lnTo>
                  <a:pt x="7496" y="3200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InkAnnotation194"/>
          <p:cNvSpPr/>
          <p:nvPr/>
        </p:nvSpPr>
        <p:spPr>
          <a:xfrm>
            <a:off x="5438880" y="5415120"/>
            <a:ext cx="158760" cy="244440"/>
          </a:xfrm>
          <a:custGeom>
            <a:avLst/>
            <a:gdLst>
              <a:gd name="textAreaLeft" fmla="*/ 0 w 158760"/>
              <a:gd name="textAreaRight" fmla="*/ 159120 w 158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59839" h="244428">
                <a:moveTo>
                  <a:pt x="71063" y="56333"/>
                </a:moveTo>
                <a:lnTo>
                  <a:pt x="71063" y="27261"/>
                </a:lnTo>
                <a:lnTo>
                  <a:pt x="71063" y="30315"/>
                </a:lnTo>
                <a:lnTo>
                  <a:pt x="70216" y="32214"/>
                </a:lnTo>
                <a:lnTo>
                  <a:pt x="67018" y="36582"/>
                </a:lnTo>
                <a:lnTo>
                  <a:pt x="62774" y="43603"/>
                </a:lnTo>
                <a:lnTo>
                  <a:pt x="60457" y="47846"/>
                </a:lnTo>
                <a:lnTo>
                  <a:pt x="57219" y="52369"/>
                </a:lnTo>
                <a:lnTo>
                  <a:pt x="53367" y="57077"/>
                </a:lnTo>
                <a:lnTo>
                  <a:pt x="49105" y="61908"/>
                </a:lnTo>
                <a:lnTo>
                  <a:pt x="45418" y="67670"/>
                </a:lnTo>
                <a:lnTo>
                  <a:pt x="42113" y="74051"/>
                </a:lnTo>
                <a:lnTo>
                  <a:pt x="39063" y="80845"/>
                </a:lnTo>
                <a:lnTo>
                  <a:pt x="35336" y="87913"/>
                </a:lnTo>
                <a:lnTo>
                  <a:pt x="31158" y="95167"/>
                </a:lnTo>
                <a:lnTo>
                  <a:pt x="26680" y="102542"/>
                </a:lnTo>
                <a:lnTo>
                  <a:pt x="17189" y="117510"/>
                </a:lnTo>
                <a:lnTo>
                  <a:pt x="12287" y="125057"/>
                </a:lnTo>
                <a:lnTo>
                  <a:pt x="8172" y="133475"/>
                </a:lnTo>
                <a:lnTo>
                  <a:pt x="4582" y="142474"/>
                </a:lnTo>
                <a:lnTo>
                  <a:pt x="1342" y="151860"/>
                </a:lnTo>
                <a:lnTo>
                  <a:pt x="29" y="160658"/>
                </a:lnTo>
                <a:lnTo>
                  <a:pt x="0" y="169063"/>
                </a:lnTo>
                <a:lnTo>
                  <a:pt x="827" y="177205"/>
                </a:lnTo>
                <a:lnTo>
                  <a:pt x="2226" y="185174"/>
                </a:lnTo>
                <a:lnTo>
                  <a:pt x="4005" y="193027"/>
                </a:lnTo>
                <a:lnTo>
                  <a:pt x="6038" y="200802"/>
                </a:lnTo>
                <a:lnTo>
                  <a:pt x="8240" y="208526"/>
                </a:lnTo>
                <a:lnTo>
                  <a:pt x="12944" y="223881"/>
                </a:lnTo>
                <a:lnTo>
                  <a:pt x="17077" y="229838"/>
                </a:lnTo>
                <a:lnTo>
                  <a:pt x="22372" y="234656"/>
                </a:lnTo>
                <a:lnTo>
                  <a:pt x="28442" y="238715"/>
                </a:lnTo>
                <a:lnTo>
                  <a:pt x="35029" y="241420"/>
                </a:lnTo>
                <a:lnTo>
                  <a:pt x="41960" y="243224"/>
                </a:lnTo>
                <a:lnTo>
                  <a:pt x="49122" y="244427"/>
                </a:lnTo>
                <a:lnTo>
                  <a:pt x="56435" y="244382"/>
                </a:lnTo>
                <a:lnTo>
                  <a:pt x="63851" y="243505"/>
                </a:lnTo>
                <a:lnTo>
                  <a:pt x="71335" y="242074"/>
                </a:lnTo>
                <a:lnTo>
                  <a:pt x="78017" y="239427"/>
                </a:lnTo>
                <a:lnTo>
                  <a:pt x="84166" y="235969"/>
                </a:lnTo>
                <a:lnTo>
                  <a:pt x="89959" y="231970"/>
                </a:lnTo>
                <a:lnTo>
                  <a:pt x="96361" y="226764"/>
                </a:lnTo>
                <a:lnTo>
                  <a:pt x="103167" y="220753"/>
                </a:lnTo>
                <a:lnTo>
                  <a:pt x="110246" y="214206"/>
                </a:lnTo>
                <a:lnTo>
                  <a:pt x="116658" y="206455"/>
                </a:lnTo>
                <a:lnTo>
                  <a:pt x="122626" y="197901"/>
                </a:lnTo>
                <a:lnTo>
                  <a:pt x="128298" y="188811"/>
                </a:lnTo>
                <a:lnTo>
                  <a:pt x="132927" y="179365"/>
                </a:lnTo>
                <a:lnTo>
                  <a:pt x="136859" y="169680"/>
                </a:lnTo>
                <a:lnTo>
                  <a:pt x="140327" y="159838"/>
                </a:lnTo>
                <a:lnTo>
                  <a:pt x="148696" y="137613"/>
                </a:lnTo>
                <a:lnTo>
                  <a:pt x="153299" y="125759"/>
                </a:lnTo>
                <a:lnTo>
                  <a:pt x="156367" y="114470"/>
                </a:lnTo>
                <a:lnTo>
                  <a:pt x="158413" y="103558"/>
                </a:lnTo>
                <a:lnTo>
                  <a:pt x="159776" y="92896"/>
                </a:lnTo>
                <a:lnTo>
                  <a:pt x="159838" y="83248"/>
                </a:lnTo>
                <a:lnTo>
                  <a:pt x="159033" y="74276"/>
                </a:lnTo>
                <a:lnTo>
                  <a:pt x="157650" y="65755"/>
                </a:lnTo>
                <a:lnTo>
                  <a:pt x="155881" y="57534"/>
                </a:lnTo>
                <a:lnTo>
                  <a:pt x="153855" y="49514"/>
                </a:lnTo>
                <a:lnTo>
                  <a:pt x="151658" y="41627"/>
                </a:lnTo>
                <a:lnTo>
                  <a:pt x="150193" y="34675"/>
                </a:lnTo>
                <a:lnTo>
                  <a:pt x="149216" y="28348"/>
                </a:lnTo>
                <a:lnTo>
                  <a:pt x="148565" y="22435"/>
                </a:lnTo>
                <a:lnTo>
                  <a:pt x="147285" y="17648"/>
                </a:lnTo>
                <a:lnTo>
                  <a:pt x="142283" y="6864"/>
                </a:lnTo>
                <a:lnTo>
                  <a:pt x="140817" y="1044"/>
                </a:lnTo>
                <a:lnTo>
                  <a:pt x="139579" y="0"/>
                </a:lnTo>
                <a:lnTo>
                  <a:pt x="137907" y="151"/>
                </a:lnTo>
                <a:lnTo>
                  <a:pt x="135946" y="1098"/>
                </a:lnTo>
                <a:lnTo>
                  <a:pt x="134638" y="3423"/>
                </a:lnTo>
                <a:lnTo>
                  <a:pt x="133185" y="10521"/>
                </a:lnTo>
                <a:lnTo>
                  <a:pt x="130282" y="17063"/>
                </a:lnTo>
                <a:lnTo>
                  <a:pt x="126169" y="23640"/>
                </a:lnTo>
                <a:lnTo>
                  <a:pt x="123888" y="27763"/>
                </a:lnTo>
                <a:lnTo>
                  <a:pt x="116783" y="410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InkAnnotation195"/>
          <p:cNvSpPr/>
          <p:nvPr/>
        </p:nvSpPr>
        <p:spPr>
          <a:xfrm>
            <a:off x="5807160" y="5486400"/>
            <a:ext cx="120600" cy="15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21920" h="15242">
                <a:moveTo>
                  <a:pt x="0" y="0"/>
                </a:moveTo>
                <a:lnTo>
                  <a:pt x="17911" y="0"/>
                </a:lnTo>
                <a:lnTo>
                  <a:pt x="21254" y="846"/>
                </a:lnTo>
                <a:lnTo>
                  <a:pt x="25176" y="2258"/>
                </a:lnTo>
                <a:lnTo>
                  <a:pt x="29483" y="4045"/>
                </a:lnTo>
                <a:lnTo>
                  <a:pt x="35742" y="5237"/>
                </a:lnTo>
                <a:lnTo>
                  <a:pt x="43301" y="6032"/>
                </a:lnTo>
                <a:lnTo>
                  <a:pt x="51727" y="6561"/>
                </a:lnTo>
                <a:lnTo>
                  <a:pt x="67863" y="7150"/>
                </a:lnTo>
                <a:lnTo>
                  <a:pt x="75722" y="7306"/>
                </a:lnTo>
                <a:lnTo>
                  <a:pt x="82654" y="8258"/>
                </a:lnTo>
                <a:lnTo>
                  <a:pt x="88969" y="9739"/>
                </a:lnTo>
                <a:lnTo>
                  <a:pt x="94872" y="11573"/>
                </a:lnTo>
                <a:lnTo>
                  <a:pt x="100501" y="12795"/>
                </a:lnTo>
                <a:lnTo>
                  <a:pt x="105947" y="13610"/>
                </a:lnTo>
                <a:lnTo>
                  <a:pt x="121919" y="152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InkAnnotation196"/>
          <p:cNvSpPr/>
          <p:nvPr/>
        </p:nvSpPr>
        <p:spPr>
          <a:xfrm>
            <a:off x="5761080" y="5600880"/>
            <a:ext cx="122040" cy="7920"/>
          </a:xfrm>
          <a:custGeom>
            <a:avLst/>
            <a:gdLst>
              <a:gd name="textAreaLeft" fmla="*/ 0 w 122040"/>
              <a:gd name="textAreaRight" fmla="*/ 122400 w 122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21922" h="7619">
                <a:moveTo>
                  <a:pt x="0" y="0"/>
                </a:moveTo>
                <a:lnTo>
                  <a:pt x="0" y="6561"/>
                </a:lnTo>
                <a:lnTo>
                  <a:pt x="847" y="6914"/>
                </a:lnTo>
                <a:lnTo>
                  <a:pt x="2258" y="7150"/>
                </a:lnTo>
                <a:lnTo>
                  <a:pt x="4045" y="7306"/>
                </a:lnTo>
                <a:lnTo>
                  <a:pt x="6931" y="7411"/>
                </a:lnTo>
                <a:lnTo>
                  <a:pt x="19928" y="7558"/>
                </a:lnTo>
                <a:lnTo>
                  <a:pt x="85460" y="7618"/>
                </a:lnTo>
                <a:lnTo>
                  <a:pt x="92534" y="6772"/>
                </a:lnTo>
                <a:lnTo>
                  <a:pt x="99789" y="5361"/>
                </a:lnTo>
                <a:lnTo>
                  <a:pt x="12192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InkAnnotation197"/>
          <p:cNvSpPr/>
          <p:nvPr/>
        </p:nvSpPr>
        <p:spPr>
          <a:xfrm>
            <a:off x="6032520" y="5330880"/>
            <a:ext cx="183960" cy="166680"/>
          </a:xfrm>
          <a:custGeom>
            <a:avLst/>
            <a:gdLst>
              <a:gd name="textAreaLeft" fmla="*/ 0 w 183960"/>
              <a:gd name="textAreaRight" fmla="*/ 184320 w 183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83256" h="166169">
                <a:moveTo>
                  <a:pt x="147146" y="25714"/>
                </a:moveTo>
                <a:lnTo>
                  <a:pt x="147146" y="19153"/>
                </a:lnTo>
                <a:lnTo>
                  <a:pt x="146300" y="18800"/>
                </a:lnTo>
                <a:lnTo>
                  <a:pt x="140585" y="18187"/>
                </a:lnTo>
                <a:lnTo>
                  <a:pt x="135795" y="18122"/>
                </a:lnTo>
                <a:lnTo>
                  <a:pt x="129013" y="18102"/>
                </a:lnTo>
                <a:lnTo>
                  <a:pt x="125744" y="18946"/>
                </a:lnTo>
                <a:lnTo>
                  <a:pt x="121872" y="20355"/>
                </a:lnTo>
                <a:lnTo>
                  <a:pt x="117597" y="22142"/>
                </a:lnTo>
                <a:lnTo>
                  <a:pt x="112206" y="24179"/>
                </a:lnTo>
                <a:lnTo>
                  <a:pt x="99444" y="28701"/>
                </a:lnTo>
                <a:lnTo>
                  <a:pt x="91638" y="31939"/>
                </a:lnTo>
                <a:lnTo>
                  <a:pt x="83048" y="35791"/>
                </a:lnTo>
                <a:lnTo>
                  <a:pt x="73934" y="40052"/>
                </a:lnTo>
                <a:lnTo>
                  <a:pt x="65317" y="44586"/>
                </a:lnTo>
                <a:lnTo>
                  <a:pt x="57034" y="49302"/>
                </a:lnTo>
                <a:lnTo>
                  <a:pt x="48971" y="54139"/>
                </a:lnTo>
                <a:lnTo>
                  <a:pt x="41903" y="59058"/>
                </a:lnTo>
                <a:lnTo>
                  <a:pt x="35497" y="64030"/>
                </a:lnTo>
                <a:lnTo>
                  <a:pt x="29533" y="69038"/>
                </a:lnTo>
                <a:lnTo>
                  <a:pt x="23865" y="74071"/>
                </a:lnTo>
                <a:lnTo>
                  <a:pt x="13050" y="84177"/>
                </a:lnTo>
                <a:lnTo>
                  <a:pt x="8642" y="90089"/>
                </a:lnTo>
                <a:lnTo>
                  <a:pt x="4857" y="96571"/>
                </a:lnTo>
                <a:lnTo>
                  <a:pt x="1486" y="103432"/>
                </a:lnTo>
                <a:lnTo>
                  <a:pt x="86" y="109699"/>
                </a:lnTo>
                <a:lnTo>
                  <a:pt x="0" y="115572"/>
                </a:lnTo>
                <a:lnTo>
                  <a:pt x="788" y="121179"/>
                </a:lnTo>
                <a:lnTo>
                  <a:pt x="2161" y="126611"/>
                </a:lnTo>
                <a:lnTo>
                  <a:pt x="3923" y="131925"/>
                </a:lnTo>
                <a:lnTo>
                  <a:pt x="5944" y="137162"/>
                </a:lnTo>
                <a:lnTo>
                  <a:pt x="8985" y="141499"/>
                </a:lnTo>
                <a:lnTo>
                  <a:pt x="12705" y="145238"/>
                </a:lnTo>
                <a:lnTo>
                  <a:pt x="16879" y="148576"/>
                </a:lnTo>
                <a:lnTo>
                  <a:pt x="22201" y="151649"/>
                </a:lnTo>
                <a:lnTo>
                  <a:pt x="28290" y="154545"/>
                </a:lnTo>
                <a:lnTo>
                  <a:pt x="34888" y="157321"/>
                </a:lnTo>
                <a:lnTo>
                  <a:pt x="42674" y="160019"/>
                </a:lnTo>
                <a:lnTo>
                  <a:pt x="51251" y="162664"/>
                </a:lnTo>
                <a:lnTo>
                  <a:pt x="60356" y="165274"/>
                </a:lnTo>
                <a:lnTo>
                  <a:pt x="68966" y="166168"/>
                </a:lnTo>
                <a:lnTo>
                  <a:pt x="77247" y="165917"/>
                </a:lnTo>
                <a:lnTo>
                  <a:pt x="85306" y="164903"/>
                </a:lnTo>
                <a:lnTo>
                  <a:pt x="93220" y="163380"/>
                </a:lnTo>
                <a:lnTo>
                  <a:pt x="101035" y="161518"/>
                </a:lnTo>
                <a:lnTo>
                  <a:pt x="108785" y="159430"/>
                </a:lnTo>
                <a:lnTo>
                  <a:pt x="116493" y="156345"/>
                </a:lnTo>
                <a:lnTo>
                  <a:pt x="124170" y="152595"/>
                </a:lnTo>
                <a:lnTo>
                  <a:pt x="131829" y="148401"/>
                </a:lnTo>
                <a:lnTo>
                  <a:pt x="138628" y="143066"/>
                </a:lnTo>
                <a:lnTo>
                  <a:pt x="144854" y="136969"/>
                </a:lnTo>
                <a:lnTo>
                  <a:pt x="150698" y="130364"/>
                </a:lnTo>
                <a:lnTo>
                  <a:pt x="156287" y="123421"/>
                </a:lnTo>
                <a:lnTo>
                  <a:pt x="161707" y="116252"/>
                </a:lnTo>
                <a:lnTo>
                  <a:pt x="167013" y="108933"/>
                </a:lnTo>
                <a:lnTo>
                  <a:pt x="171398" y="101513"/>
                </a:lnTo>
                <a:lnTo>
                  <a:pt x="175167" y="94027"/>
                </a:lnTo>
                <a:lnTo>
                  <a:pt x="178527" y="86496"/>
                </a:lnTo>
                <a:lnTo>
                  <a:pt x="180766" y="78935"/>
                </a:lnTo>
                <a:lnTo>
                  <a:pt x="182260" y="71355"/>
                </a:lnTo>
                <a:lnTo>
                  <a:pt x="183255" y="63762"/>
                </a:lnTo>
                <a:lnTo>
                  <a:pt x="183073" y="57006"/>
                </a:lnTo>
                <a:lnTo>
                  <a:pt x="182104" y="50809"/>
                </a:lnTo>
                <a:lnTo>
                  <a:pt x="180611" y="44984"/>
                </a:lnTo>
                <a:lnTo>
                  <a:pt x="178769" y="38560"/>
                </a:lnTo>
                <a:lnTo>
                  <a:pt x="174466" y="24650"/>
                </a:lnTo>
                <a:lnTo>
                  <a:pt x="172133" y="19079"/>
                </a:lnTo>
                <a:lnTo>
                  <a:pt x="169730" y="14516"/>
                </a:lnTo>
                <a:lnTo>
                  <a:pt x="167282" y="10629"/>
                </a:lnTo>
                <a:lnTo>
                  <a:pt x="163110" y="7191"/>
                </a:lnTo>
                <a:lnTo>
                  <a:pt x="157790" y="4052"/>
                </a:lnTo>
                <a:lnTo>
                  <a:pt x="151702" y="1112"/>
                </a:lnTo>
                <a:lnTo>
                  <a:pt x="145950" y="0"/>
                </a:lnTo>
                <a:lnTo>
                  <a:pt x="140421" y="105"/>
                </a:lnTo>
                <a:lnTo>
                  <a:pt x="135043" y="1021"/>
                </a:lnTo>
                <a:lnTo>
                  <a:pt x="130611" y="1632"/>
                </a:lnTo>
                <a:lnTo>
                  <a:pt x="126810" y="2039"/>
                </a:lnTo>
                <a:lnTo>
                  <a:pt x="123429" y="2311"/>
                </a:lnTo>
                <a:lnTo>
                  <a:pt x="120328" y="2492"/>
                </a:lnTo>
                <a:lnTo>
                  <a:pt x="109046" y="28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InkAnnotation198"/>
          <p:cNvSpPr/>
          <p:nvPr/>
        </p:nvSpPr>
        <p:spPr>
          <a:xfrm>
            <a:off x="6045120" y="5494320"/>
            <a:ext cx="219240" cy="133200"/>
          </a:xfrm>
          <a:custGeom>
            <a:avLst/>
            <a:gdLst>
              <a:gd name="textAreaLeft" fmla="*/ 0 w 219240"/>
              <a:gd name="textAreaRight" fmla="*/ 219600 w 2192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18037" h="133337">
                <a:moveTo>
                  <a:pt x="157075" y="38100"/>
                </a:moveTo>
                <a:lnTo>
                  <a:pt x="153030" y="34055"/>
                </a:lnTo>
                <a:lnTo>
                  <a:pt x="151838" y="32017"/>
                </a:lnTo>
                <a:lnTo>
                  <a:pt x="151044" y="29812"/>
                </a:lnTo>
                <a:lnTo>
                  <a:pt x="149768" y="24233"/>
                </a:lnTo>
                <a:lnTo>
                  <a:pt x="149595" y="21213"/>
                </a:lnTo>
                <a:lnTo>
                  <a:pt x="149549" y="19222"/>
                </a:lnTo>
                <a:lnTo>
                  <a:pt x="148671" y="17048"/>
                </a:lnTo>
                <a:lnTo>
                  <a:pt x="147238" y="14752"/>
                </a:lnTo>
                <a:lnTo>
                  <a:pt x="145437" y="12375"/>
                </a:lnTo>
                <a:lnTo>
                  <a:pt x="143390" y="9943"/>
                </a:lnTo>
                <a:lnTo>
                  <a:pt x="141178" y="7476"/>
                </a:lnTo>
                <a:lnTo>
                  <a:pt x="138857" y="4983"/>
                </a:lnTo>
                <a:lnTo>
                  <a:pt x="135617" y="3323"/>
                </a:lnTo>
                <a:lnTo>
                  <a:pt x="131763" y="2215"/>
                </a:lnTo>
                <a:lnTo>
                  <a:pt x="127500" y="1477"/>
                </a:lnTo>
                <a:lnTo>
                  <a:pt x="122965" y="1831"/>
                </a:lnTo>
                <a:lnTo>
                  <a:pt x="118248" y="2914"/>
                </a:lnTo>
                <a:lnTo>
                  <a:pt x="113411" y="4483"/>
                </a:lnTo>
                <a:lnTo>
                  <a:pt x="106799" y="5529"/>
                </a:lnTo>
                <a:lnTo>
                  <a:pt x="99004" y="6226"/>
                </a:lnTo>
                <a:lnTo>
                  <a:pt x="90421" y="6690"/>
                </a:lnTo>
                <a:lnTo>
                  <a:pt x="82159" y="8693"/>
                </a:lnTo>
                <a:lnTo>
                  <a:pt x="74111" y="11723"/>
                </a:lnTo>
                <a:lnTo>
                  <a:pt x="66206" y="15435"/>
                </a:lnTo>
                <a:lnTo>
                  <a:pt x="58395" y="19604"/>
                </a:lnTo>
                <a:lnTo>
                  <a:pt x="50649" y="24075"/>
                </a:lnTo>
                <a:lnTo>
                  <a:pt x="42945" y="28751"/>
                </a:lnTo>
                <a:lnTo>
                  <a:pt x="36114" y="33560"/>
                </a:lnTo>
                <a:lnTo>
                  <a:pt x="29868" y="38461"/>
                </a:lnTo>
                <a:lnTo>
                  <a:pt x="24011" y="43420"/>
                </a:lnTo>
                <a:lnTo>
                  <a:pt x="18412" y="48420"/>
                </a:lnTo>
                <a:lnTo>
                  <a:pt x="7676" y="58492"/>
                </a:lnTo>
                <a:lnTo>
                  <a:pt x="4135" y="63547"/>
                </a:lnTo>
                <a:lnTo>
                  <a:pt x="1775" y="68612"/>
                </a:lnTo>
                <a:lnTo>
                  <a:pt x="202" y="73682"/>
                </a:lnTo>
                <a:lnTo>
                  <a:pt x="0" y="78754"/>
                </a:lnTo>
                <a:lnTo>
                  <a:pt x="711" y="83830"/>
                </a:lnTo>
                <a:lnTo>
                  <a:pt x="2033" y="88907"/>
                </a:lnTo>
                <a:lnTo>
                  <a:pt x="3760" y="93984"/>
                </a:lnTo>
                <a:lnTo>
                  <a:pt x="5758" y="99063"/>
                </a:lnTo>
                <a:lnTo>
                  <a:pt x="7938" y="104142"/>
                </a:lnTo>
                <a:lnTo>
                  <a:pt x="11083" y="109222"/>
                </a:lnTo>
                <a:lnTo>
                  <a:pt x="14874" y="114301"/>
                </a:lnTo>
                <a:lnTo>
                  <a:pt x="19094" y="119381"/>
                </a:lnTo>
                <a:lnTo>
                  <a:pt x="23602" y="122767"/>
                </a:lnTo>
                <a:lnTo>
                  <a:pt x="28299" y="125025"/>
                </a:lnTo>
                <a:lnTo>
                  <a:pt x="45258" y="130460"/>
                </a:lnTo>
                <a:lnTo>
                  <a:pt x="52051" y="132693"/>
                </a:lnTo>
                <a:lnTo>
                  <a:pt x="59120" y="133336"/>
                </a:lnTo>
                <a:lnTo>
                  <a:pt x="66371" y="132917"/>
                </a:lnTo>
                <a:lnTo>
                  <a:pt x="73746" y="131792"/>
                </a:lnTo>
                <a:lnTo>
                  <a:pt x="81202" y="130194"/>
                </a:lnTo>
                <a:lnTo>
                  <a:pt x="88713" y="128283"/>
                </a:lnTo>
                <a:lnTo>
                  <a:pt x="96261" y="126162"/>
                </a:lnTo>
                <a:lnTo>
                  <a:pt x="103832" y="123055"/>
                </a:lnTo>
                <a:lnTo>
                  <a:pt x="111420" y="119290"/>
                </a:lnTo>
                <a:lnTo>
                  <a:pt x="119018" y="115086"/>
                </a:lnTo>
                <a:lnTo>
                  <a:pt x="126624" y="110591"/>
                </a:lnTo>
                <a:lnTo>
                  <a:pt x="141848" y="101080"/>
                </a:lnTo>
                <a:lnTo>
                  <a:pt x="148617" y="95327"/>
                </a:lnTo>
                <a:lnTo>
                  <a:pt x="154823" y="88952"/>
                </a:lnTo>
                <a:lnTo>
                  <a:pt x="160654" y="82161"/>
                </a:lnTo>
                <a:lnTo>
                  <a:pt x="166235" y="75094"/>
                </a:lnTo>
                <a:lnTo>
                  <a:pt x="171648" y="67843"/>
                </a:lnTo>
                <a:lnTo>
                  <a:pt x="176950" y="60468"/>
                </a:lnTo>
                <a:lnTo>
                  <a:pt x="181332" y="53860"/>
                </a:lnTo>
                <a:lnTo>
                  <a:pt x="185100" y="47760"/>
                </a:lnTo>
                <a:lnTo>
                  <a:pt x="188458" y="42000"/>
                </a:lnTo>
                <a:lnTo>
                  <a:pt x="194448" y="31085"/>
                </a:lnTo>
                <a:lnTo>
                  <a:pt x="197230" y="25804"/>
                </a:lnTo>
                <a:lnTo>
                  <a:pt x="199932" y="21436"/>
                </a:lnTo>
                <a:lnTo>
                  <a:pt x="202580" y="17678"/>
                </a:lnTo>
                <a:lnTo>
                  <a:pt x="205192" y="14325"/>
                </a:lnTo>
                <a:lnTo>
                  <a:pt x="207780" y="11244"/>
                </a:lnTo>
                <a:lnTo>
                  <a:pt x="210352" y="8343"/>
                </a:lnTo>
                <a:lnTo>
                  <a:pt x="2180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InkAnnotation199"/>
          <p:cNvSpPr/>
          <p:nvPr/>
        </p:nvSpPr>
        <p:spPr>
          <a:xfrm>
            <a:off x="6270480" y="5394240"/>
            <a:ext cx="328680" cy="220680"/>
          </a:xfrm>
          <a:custGeom>
            <a:avLst/>
            <a:gdLst>
              <a:gd name="textAreaLeft" fmla="*/ 0 w 328680"/>
              <a:gd name="textAreaRight" fmla="*/ 329040 w 3286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327661" h="219468">
                <a:moveTo>
                  <a:pt x="0" y="129540"/>
                </a:moveTo>
                <a:lnTo>
                  <a:pt x="4046" y="129540"/>
                </a:lnTo>
                <a:lnTo>
                  <a:pt x="10547" y="131798"/>
                </a:lnTo>
                <a:lnTo>
                  <a:pt x="18234" y="134777"/>
                </a:lnTo>
                <a:lnTo>
                  <a:pt x="28168" y="137300"/>
                </a:lnTo>
                <a:lnTo>
                  <a:pt x="36790" y="140892"/>
                </a:lnTo>
                <a:lnTo>
                  <a:pt x="44009" y="143052"/>
                </a:lnTo>
                <a:lnTo>
                  <a:pt x="50886" y="144012"/>
                </a:lnTo>
                <a:lnTo>
                  <a:pt x="59588" y="144439"/>
                </a:lnTo>
                <a:lnTo>
                  <a:pt x="74006" y="144679"/>
                </a:lnTo>
                <a:lnTo>
                  <a:pt x="78124" y="145559"/>
                </a:lnTo>
                <a:lnTo>
                  <a:pt x="87965" y="149997"/>
                </a:lnTo>
                <a:lnTo>
                  <a:pt x="96243" y="151688"/>
                </a:lnTo>
                <a:lnTo>
                  <a:pt x="106477" y="152388"/>
                </a:lnTo>
                <a:lnTo>
                  <a:pt x="106544" y="152392"/>
                </a:lnTo>
                <a:lnTo>
                  <a:pt x="99370" y="152400"/>
                </a:lnTo>
                <a:lnTo>
                  <a:pt x="99121" y="158483"/>
                </a:lnTo>
                <a:lnTo>
                  <a:pt x="99068" y="170312"/>
                </a:lnTo>
                <a:lnTo>
                  <a:pt x="100759" y="173654"/>
                </a:lnTo>
                <a:lnTo>
                  <a:pt x="103579" y="177577"/>
                </a:lnTo>
                <a:lnTo>
                  <a:pt x="107153" y="181884"/>
                </a:lnTo>
                <a:lnTo>
                  <a:pt x="111228" y="185603"/>
                </a:lnTo>
                <a:lnTo>
                  <a:pt x="120273" y="191993"/>
                </a:lnTo>
                <a:lnTo>
                  <a:pt x="129937" y="197655"/>
                </a:lnTo>
                <a:lnTo>
                  <a:pt x="134885" y="200350"/>
                </a:lnTo>
                <a:lnTo>
                  <a:pt x="141569" y="202994"/>
                </a:lnTo>
                <a:lnTo>
                  <a:pt x="149414" y="205602"/>
                </a:lnTo>
                <a:lnTo>
                  <a:pt x="158029" y="208188"/>
                </a:lnTo>
                <a:lnTo>
                  <a:pt x="165466" y="210759"/>
                </a:lnTo>
                <a:lnTo>
                  <a:pt x="172118" y="213319"/>
                </a:lnTo>
                <a:lnTo>
                  <a:pt x="178245" y="215873"/>
                </a:lnTo>
                <a:lnTo>
                  <a:pt x="184870" y="217575"/>
                </a:lnTo>
                <a:lnTo>
                  <a:pt x="191827" y="218710"/>
                </a:lnTo>
                <a:lnTo>
                  <a:pt x="199004" y="219467"/>
                </a:lnTo>
                <a:lnTo>
                  <a:pt x="206329" y="219125"/>
                </a:lnTo>
                <a:lnTo>
                  <a:pt x="213753" y="218050"/>
                </a:lnTo>
                <a:lnTo>
                  <a:pt x="221242" y="216486"/>
                </a:lnTo>
                <a:lnTo>
                  <a:pt x="228775" y="214598"/>
                </a:lnTo>
                <a:lnTo>
                  <a:pt x="236337" y="212492"/>
                </a:lnTo>
                <a:lnTo>
                  <a:pt x="251512" y="207895"/>
                </a:lnTo>
                <a:lnTo>
                  <a:pt x="266724" y="203029"/>
                </a:lnTo>
                <a:lnTo>
                  <a:pt x="272642" y="199699"/>
                </a:lnTo>
                <a:lnTo>
                  <a:pt x="277435" y="195786"/>
                </a:lnTo>
                <a:lnTo>
                  <a:pt x="281476" y="191485"/>
                </a:lnTo>
                <a:lnTo>
                  <a:pt x="285865" y="186076"/>
                </a:lnTo>
                <a:lnTo>
                  <a:pt x="290483" y="179931"/>
                </a:lnTo>
                <a:lnTo>
                  <a:pt x="295255" y="173294"/>
                </a:lnTo>
                <a:lnTo>
                  <a:pt x="299284" y="166329"/>
                </a:lnTo>
                <a:lnTo>
                  <a:pt x="302816" y="159146"/>
                </a:lnTo>
                <a:lnTo>
                  <a:pt x="306017" y="151817"/>
                </a:lnTo>
                <a:lnTo>
                  <a:pt x="308998" y="144392"/>
                </a:lnTo>
                <a:lnTo>
                  <a:pt x="314569" y="129368"/>
                </a:lnTo>
                <a:lnTo>
                  <a:pt x="322464" y="106629"/>
                </a:lnTo>
                <a:lnTo>
                  <a:pt x="324196" y="99026"/>
                </a:lnTo>
                <a:lnTo>
                  <a:pt x="325351" y="91418"/>
                </a:lnTo>
                <a:lnTo>
                  <a:pt x="326121" y="83805"/>
                </a:lnTo>
                <a:lnTo>
                  <a:pt x="326634" y="76190"/>
                </a:lnTo>
                <a:lnTo>
                  <a:pt x="326976" y="68574"/>
                </a:lnTo>
                <a:lnTo>
                  <a:pt x="327457" y="47976"/>
                </a:lnTo>
                <a:lnTo>
                  <a:pt x="3276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InkAnnotation200"/>
          <p:cNvSpPr/>
          <p:nvPr/>
        </p:nvSpPr>
        <p:spPr>
          <a:xfrm>
            <a:off x="6751800" y="5303880"/>
            <a:ext cx="45720" cy="304920"/>
          </a:xfrm>
          <a:custGeom>
            <a:avLst/>
            <a:gdLst>
              <a:gd name="textAreaLeft" fmla="*/ 0 w 45720"/>
              <a:gd name="textAreaRight" fmla="*/ 46080 w 45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5627" h="304801">
                <a:moveTo>
                  <a:pt x="15147" y="0"/>
                </a:moveTo>
                <a:lnTo>
                  <a:pt x="8586" y="6562"/>
                </a:lnTo>
                <a:lnTo>
                  <a:pt x="7840" y="15397"/>
                </a:lnTo>
                <a:lnTo>
                  <a:pt x="7666" y="24059"/>
                </a:lnTo>
                <a:lnTo>
                  <a:pt x="7619" y="28740"/>
                </a:lnTo>
                <a:lnTo>
                  <a:pt x="6742" y="34400"/>
                </a:lnTo>
                <a:lnTo>
                  <a:pt x="5310" y="40713"/>
                </a:lnTo>
                <a:lnTo>
                  <a:pt x="3509" y="47462"/>
                </a:lnTo>
                <a:lnTo>
                  <a:pt x="2308" y="54502"/>
                </a:lnTo>
                <a:lnTo>
                  <a:pt x="1508" y="61735"/>
                </a:lnTo>
                <a:lnTo>
                  <a:pt x="974" y="69097"/>
                </a:lnTo>
                <a:lnTo>
                  <a:pt x="618" y="76545"/>
                </a:lnTo>
                <a:lnTo>
                  <a:pt x="223" y="91593"/>
                </a:lnTo>
                <a:lnTo>
                  <a:pt x="0" y="118391"/>
                </a:lnTo>
                <a:lnTo>
                  <a:pt x="816" y="128035"/>
                </a:lnTo>
                <a:lnTo>
                  <a:pt x="2206" y="137850"/>
                </a:lnTo>
                <a:lnTo>
                  <a:pt x="3979" y="147780"/>
                </a:lnTo>
                <a:lnTo>
                  <a:pt x="5162" y="157787"/>
                </a:lnTo>
                <a:lnTo>
                  <a:pt x="5950" y="167844"/>
                </a:lnTo>
                <a:lnTo>
                  <a:pt x="6475" y="177936"/>
                </a:lnTo>
                <a:lnTo>
                  <a:pt x="7673" y="188051"/>
                </a:lnTo>
                <a:lnTo>
                  <a:pt x="9318" y="198181"/>
                </a:lnTo>
                <a:lnTo>
                  <a:pt x="11261" y="208320"/>
                </a:lnTo>
                <a:lnTo>
                  <a:pt x="14250" y="217621"/>
                </a:lnTo>
                <a:lnTo>
                  <a:pt x="17935" y="226361"/>
                </a:lnTo>
                <a:lnTo>
                  <a:pt x="22085" y="234727"/>
                </a:lnTo>
                <a:lnTo>
                  <a:pt x="25699" y="242845"/>
                </a:lnTo>
                <a:lnTo>
                  <a:pt x="28954" y="250797"/>
                </a:lnTo>
                <a:lnTo>
                  <a:pt x="31972" y="258638"/>
                </a:lnTo>
                <a:lnTo>
                  <a:pt x="33983" y="265559"/>
                </a:lnTo>
                <a:lnTo>
                  <a:pt x="35324" y="271866"/>
                </a:lnTo>
                <a:lnTo>
                  <a:pt x="36218" y="277764"/>
                </a:lnTo>
                <a:lnTo>
                  <a:pt x="37661" y="282543"/>
                </a:lnTo>
                <a:lnTo>
                  <a:pt x="39469" y="286576"/>
                </a:lnTo>
                <a:lnTo>
                  <a:pt x="41522" y="290111"/>
                </a:lnTo>
                <a:lnTo>
                  <a:pt x="42890" y="293313"/>
                </a:lnTo>
                <a:lnTo>
                  <a:pt x="43801" y="296296"/>
                </a:lnTo>
                <a:lnTo>
                  <a:pt x="45626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InkAnnotation201"/>
          <p:cNvSpPr/>
          <p:nvPr/>
        </p:nvSpPr>
        <p:spPr>
          <a:xfrm>
            <a:off x="6667560" y="5456160"/>
            <a:ext cx="198360" cy="25560"/>
          </a:xfrm>
          <a:custGeom>
            <a:avLst/>
            <a:gdLst>
              <a:gd name="textAreaLeft" fmla="*/ 0 w 198360"/>
              <a:gd name="textAreaRight" fmla="*/ 198720 w 1983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98121" h="26274">
                <a:moveTo>
                  <a:pt x="0" y="0"/>
                </a:moveTo>
                <a:lnTo>
                  <a:pt x="21212" y="0"/>
                </a:lnTo>
                <a:lnTo>
                  <a:pt x="25995" y="847"/>
                </a:lnTo>
                <a:lnTo>
                  <a:pt x="30876" y="2258"/>
                </a:lnTo>
                <a:lnTo>
                  <a:pt x="35824" y="4045"/>
                </a:lnTo>
                <a:lnTo>
                  <a:pt x="42510" y="6084"/>
                </a:lnTo>
                <a:lnTo>
                  <a:pt x="58968" y="10606"/>
                </a:lnTo>
                <a:lnTo>
                  <a:pt x="117111" y="25439"/>
                </a:lnTo>
                <a:lnTo>
                  <a:pt x="127181" y="26273"/>
                </a:lnTo>
                <a:lnTo>
                  <a:pt x="137282" y="25982"/>
                </a:lnTo>
                <a:lnTo>
                  <a:pt x="147400" y="24942"/>
                </a:lnTo>
                <a:lnTo>
                  <a:pt x="155841" y="24248"/>
                </a:lnTo>
                <a:lnTo>
                  <a:pt x="163161" y="23785"/>
                </a:lnTo>
                <a:lnTo>
                  <a:pt x="175809" y="23271"/>
                </a:lnTo>
                <a:lnTo>
                  <a:pt x="198120" y="228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InkAnnotation202"/>
          <p:cNvSpPr/>
          <p:nvPr/>
        </p:nvSpPr>
        <p:spPr>
          <a:xfrm>
            <a:off x="6956280" y="5273640"/>
            <a:ext cx="24120" cy="212760"/>
          </a:xfrm>
          <a:custGeom>
            <a:avLst/>
            <a:gdLst>
              <a:gd name="textAreaLeft" fmla="*/ 0 w 24120"/>
              <a:gd name="textAreaRight" fmla="*/ 24480 w 241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2862" h="213361">
                <a:moveTo>
                  <a:pt x="22861" y="0"/>
                </a:moveTo>
                <a:lnTo>
                  <a:pt x="22861" y="24694"/>
                </a:lnTo>
                <a:lnTo>
                  <a:pt x="22015" y="28316"/>
                </a:lnTo>
                <a:lnTo>
                  <a:pt x="20602" y="32424"/>
                </a:lnTo>
                <a:lnTo>
                  <a:pt x="18816" y="36856"/>
                </a:lnTo>
                <a:lnTo>
                  <a:pt x="17624" y="42351"/>
                </a:lnTo>
                <a:lnTo>
                  <a:pt x="16830" y="48554"/>
                </a:lnTo>
                <a:lnTo>
                  <a:pt x="16300" y="55229"/>
                </a:lnTo>
                <a:lnTo>
                  <a:pt x="15100" y="62220"/>
                </a:lnTo>
                <a:lnTo>
                  <a:pt x="13453" y="69420"/>
                </a:lnTo>
                <a:lnTo>
                  <a:pt x="11509" y="76760"/>
                </a:lnTo>
                <a:lnTo>
                  <a:pt x="9366" y="83347"/>
                </a:lnTo>
                <a:lnTo>
                  <a:pt x="7091" y="89431"/>
                </a:lnTo>
                <a:lnTo>
                  <a:pt x="4727" y="95181"/>
                </a:lnTo>
                <a:lnTo>
                  <a:pt x="3152" y="102400"/>
                </a:lnTo>
                <a:lnTo>
                  <a:pt x="2101" y="110600"/>
                </a:lnTo>
                <a:lnTo>
                  <a:pt x="1401" y="119454"/>
                </a:lnTo>
                <a:lnTo>
                  <a:pt x="934" y="127896"/>
                </a:lnTo>
                <a:lnTo>
                  <a:pt x="415" y="144049"/>
                </a:lnTo>
                <a:lnTo>
                  <a:pt x="82" y="169879"/>
                </a:lnTo>
                <a:lnTo>
                  <a:pt x="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InkAnnotation203"/>
          <p:cNvSpPr/>
          <p:nvPr/>
        </p:nvSpPr>
        <p:spPr>
          <a:xfrm>
            <a:off x="7010280" y="5273640"/>
            <a:ext cx="220680" cy="114480"/>
          </a:xfrm>
          <a:custGeom>
            <a:avLst/>
            <a:gdLst>
              <a:gd name="textAreaLeft" fmla="*/ 0 w 220680"/>
              <a:gd name="textAreaRight" fmla="*/ 221040 w 2206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20746" h="114270">
                <a:moveTo>
                  <a:pt x="75965" y="0"/>
                </a:moveTo>
                <a:lnTo>
                  <a:pt x="75965" y="10606"/>
                </a:lnTo>
                <a:lnTo>
                  <a:pt x="74272" y="13844"/>
                </a:lnTo>
                <a:lnTo>
                  <a:pt x="71450" y="17696"/>
                </a:lnTo>
                <a:lnTo>
                  <a:pt x="67875" y="21958"/>
                </a:lnTo>
                <a:lnTo>
                  <a:pt x="64645" y="26492"/>
                </a:lnTo>
                <a:lnTo>
                  <a:pt x="61645" y="31208"/>
                </a:lnTo>
                <a:lnTo>
                  <a:pt x="58798" y="36045"/>
                </a:lnTo>
                <a:lnTo>
                  <a:pt x="55206" y="40964"/>
                </a:lnTo>
                <a:lnTo>
                  <a:pt x="51119" y="45935"/>
                </a:lnTo>
                <a:lnTo>
                  <a:pt x="46701" y="50944"/>
                </a:lnTo>
                <a:lnTo>
                  <a:pt x="37277" y="61024"/>
                </a:lnTo>
                <a:lnTo>
                  <a:pt x="21474" y="77247"/>
                </a:lnTo>
                <a:lnTo>
                  <a:pt x="17623" y="80285"/>
                </a:lnTo>
                <a:lnTo>
                  <a:pt x="13363" y="83156"/>
                </a:lnTo>
                <a:lnTo>
                  <a:pt x="8831" y="85918"/>
                </a:lnTo>
                <a:lnTo>
                  <a:pt x="5809" y="88606"/>
                </a:lnTo>
                <a:lnTo>
                  <a:pt x="3794" y="91244"/>
                </a:lnTo>
                <a:lnTo>
                  <a:pt x="2451" y="93849"/>
                </a:lnTo>
                <a:lnTo>
                  <a:pt x="1555" y="96433"/>
                </a:lnTo>
                <a:lnTo>
                  <a:pt x="959" y="99002"/>
                </a:lnTo>
                <a:lnTo>
                  <a:pt x="0" y="105164"/>
                </a:lnTo>
                <a:lnTo>
                  <a:pt x="2127" y="108264"/>
                </a:lnTo>
                <a:lnTo>
                  <a:pt x="3879" y="110276"/>
                </a:lnTo>
                <a:lnTo>
                  <a:pt x="5894" y="111617"/>
                </a:lnTo>
                <a:lnTo>
                  <a:pt x="10391" y="113108"/>
                </a:lnTo>
                <a:lnTo>
                  <a:pt x="14469" y="113506"/>
                </a:lnTo>
                <a:lnTo>
                  <a:pt x="19727" y="113770"/>
                </a:lnTo>
                <a:lnTo>
                  <a:pt x="32343" y="114065"/>
                </a:lnTo>
                <a:lnTo>
                  <a:pt x="68621" y="114269"/>
                </a:lnTo>
                <a:lnTo>
                  <a:pt x="76996" y="113433"/>
                </a:lnTo>
                <a:lnTo>
                  <a:pt x="85965" y="112029"/>
                </a:lnTo>
                <a:lnTo>
                  <a:pt x="95332" y="110245"/>
                </a:lnTo>
                <a:lnTo>
                  <a:pt x="104963" y="109057"/>
                </a:lnTo>
                <a:lnTo>
                  <a:pt x="114770" y="108265"/>
                </a:lnTo>
                <a:lnTo>
                  <a:pt x="124695" y="107737"/>
                </a:lnTo>
                <a:lnTo>
                  <a:pt x="133851" y="106538"/>
                </a:lnTo>
                <a:lnTo>
                  <a:pt x="142496" y="104892"/>
                </a:lnTo>
                <a:lnTo>
                  <a:pt x="150799" y="102948"/>
                </a:lnTo>
                <a:lnTo>
                  <a:pt x="158874" y="100805"/>
                </a:lnTo>
                <a:lnTo>
                  <a:pt x="174620" y="96167"/>
                </a:lnTo>
                <a:lnTo>
                  <a:pt x="181529" y="93745"/>
                </a:lnTo>
                <a:lnTo>
                  <a:pt x="187828" y="91283"/>
                </a:lnTo>
                <a:lnTo>
                  <a:pt x="193719" y="88796"/>
                </a:lnTo>
                <a:lnTo>
                  <a:pt x="198495" y="87137"/>
                </a:lnTo>
                <a:lnTo>
                  <a:pt x="202524" y="86032"/>
                </a:lnTo>
                <a:lnTo>
                  <a:pt x="209261" y="84803"/>
                </a:lnTo>
                <a:lnTo>
                  <a:pt x="212243" y="84476"/>
                </a:lnTo>
                <a:lnTo>
                  <a:pt x="220745" y="838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InkAnnotation204"/>
          <p:cNvSpPr/>
          <p:nvPr/>
        </p:nvSpPr>
        <p:spPr>
          <a:xfrm>
            <a:off x="7219800" y="5257800"/>
            <a:ext cx="27000" cy="343080"/>
          </a:xfrm>
          <a:custGeom>
            <a:avLst/>
            <a:gdLst>
              <a:gd name="textAreaLeft" fmla="*/ 0 w 27000"/>
              <a:gd name="textAreaRight" fmla="*/ 27360 w 2700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7231" h="342901">
                <a:moveTo>
                  <a:pt x="27230" y="0"/>
                </a:moveTo>
                <a:lnTo>
                  <a:pt x="23185" y="0"/>
                </a:lnTo>
                <a:lnTo>
                  <a:pt x="21993" y="846"/>
                </a:lnTo>
                <a:lnTo>
                  <a:pt x="21199" y="2258"/>
                </a:lnTo>
                <a:lnTo>
                  <a:pt x="20669" y="4045"/>
                </a:lnTo>
                <a:lnTo>
                  <a:pt x="19470" y="6083"/>
                </a:lnTo>
                <a:lnTo>
                  <a:pt x="17823" y="8289"/>
                </a:lnTo>
                <a:lnTo>
                  <a:pt x="15879" y="10606"/>
                </a:lnTo>
                <a:lnTo>
                  <a:pt x="14582" y="13844"/>
                </a:lnTo>
                <a:lnTo>
                  <a:pt x="13718" y="17697"/>
                </a:lnTo>
                <a:lnTo>
                  <a:pt x="13142" y="21957"/>
                </a:lnTo>
                <a:lnTo>
                  <a:pt x="11911" y="26491"/>
                </a:lnTo>
                <a:lnTo>
                  <a:pt x="10245" y="31207"/>
                </a:lnTo>
                <a:lnTo>
                  <a:pt x="8286" y="36045"/>
                </a:lnTo>
                <a:lnTo>
                  <a:pt x="6981" y="41810"/>
                </a:lnTo>
                <a:lnTo>
                  <a:pt x="6111" y="48194"/>
                </a:lnTo>
                <a:lnTo>
                  <a:pt x="5530" y="54989"/>
                </a:lnTo>
                <a:lnTo>
                  <a:pt x="5144" y="62059"/>
                </a:lnTo>
                <a:lnTo>
                  <a:pt x="4714" y="76689"/>
                </a:lnTo>
                <a:lnTo>
                  <a:pt x="4472" y="103250"/>
                </a:lnTo>
                <a:lnTo>
                  <a:pt x="3592" y="112861"/>
                </a:lnTo>
                <a:lnTo>
                  <a:pt x="2158" y="122654"/>
                </a:lnTo>
                <a:lnTo>
                  <a:pt x="355" y="132569"/>
                </a:lnTo>
                <a:lnTo>
                  <a:pt x="0" y="142566"/>
                </a:lnTo>
                <a:lnTo>
                  <a:pt x="610" y="152618"/>
                </a:lnTo>
                <a:lnTo>
                  <a:pt x="1863" y="162705"/>
                </a:lnTo>
                <a:lnTo>
                  <a:pt x="2699" y="173663"/>
                </a:lnTo>
                <a:lnTo>
                  <a:pt x="3256" y="185202"/>
                </a:lnTo>
                <a:lnTo>
                  <a:pt x="3875" y="208466"/>
                </a:lnTo>
                <a:lnTo>
                  <a:pt x="4150" y="230094"/>
                </a:lnTo>
                <a:lnTo>
                  <a:pt x="5071" y="241449"/>
                </a:lnTo>
                <a:lnTo>
                  <a:pt x="6530" y="253252"/>
                </a:lnTo>
                <a:lnTo>
                  <a:pt x="8350" y="265356"/>
                </a:lnTo>
                <a:lnTo>
                  <a:pt x="9563" y="276811"/>
                </a:lnTo>
                <a:lnTo>
                  <a:pt x="10372" y="287833"/>
                </a:lnTo>
                <a:lnTo>
                  <a:pt x="11271" y="308266"/>
                </a:lnTo>
                <a:lnTo>
                  <a:pt x="11990" y="3429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InkAnnotation205"/>
          <p:cNvSpPr/>
          <p:nvPr/>
        </p:nvSpPr>
        <p:spPr>
          <a:xfrm>
            <a:off x="6553080" y="5889600"/>
            <a:ext cx="212760" cy="15840"/>
          </a:xfrm>
          <a:custGeom>
            <a:avLst/>
            <a:gdLst>
              <a:gd name="textAreaLeft" fmla="*/ 0 w 212760"/>
              <a:gd name="textAreaRight" fmla="*/ 213120 w 212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13361" h="15214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2"/>
                </a:lnTo>
                <a:lnTo>
                  <a:pt x="6562" y="7306"/>
                </a:lnTo>
                <a:lnTo>
                  <a:pt x="11665" y="7480"/>
                </a:lnTo>
                <a:lnTo>
                  <a:pt x="54023" y="7612"/>
                </a:lnTo>
                <a:lnTo>
                  <a:pt x="61416" y="8461"/>
                </a:lnTo>
                <a:lnTo>
                  <a:pt x="68883" y="9874"/>
                </a:lnTo>
                <a:lnTo>
                  <a:pt x="76402" y="11663"/>
                </a:lnTo>
                <a:lnTo>
                  <a:pt x="84802" y="12856"/>
                </a:lnTo>
                <a:lnTo>
                  <a:pt x="93787" y="13650"/>
                </a:lnTo>
                <a:lnTo>
                  <a:pt x="103165" y="14180"/>
                </a:lnTo>
                <a:lnTo>
                  <a:pt x="122615" y="14769"/>
                </a:lnTo>
                <a:lnTo>
                  <a:pt x="182475" y="15213"/>
                </a:lnTo>
                <a:lnTo>
                  <a:pt x="189383" y="14375"/>
                </a:lnTo>
                <a:lnTo>
                  <a:pt x="195683" y="12970"/>
                </a:lnTo>
                <a:lnTo>
                  <a:pt x="21336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InkAnnotation206"/>
          <p:cNvSpPr/>
          <p:nvPr/>
        </p:nvSpPr>
        <p:spPr>
          <a:xfrm>
            <a:off x="6896160" y="5737320"/>
            <a:ext cx="7920" cy="244440"/>
          </a:xfrm>
          <a:custGeom>
            <a:avLst/>
            <a:gdLst>
              <a:gd name="textAreaLeft" fmla="*/ 0 w 7920"/>
              <a:gd name="textAreaRight" fmla="*/ 8280 w 79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7622" h="243841">
                <a:moveTo>
                  <a:pt x="7621" y="0"/>
                </a:moveTo>
                <a:lnTo>
                  <a:pt x="7621" y="54923"/>
                </a:lnTo>
                <a:lnTo>
                  <a:pt x="6774" y="62016"/>
                </a:lnTo>
                <a:lnTo>
                  <a:pt x="5363" y="69284"/>
                </a:lnTo>
                <a:lnTo>
                  <a:pt x="3575" y="76669"/>
                </a:lnTo>
                <a:lnTo>
                  <a:pt x="2384" y="84980"/>
                </a:lnTo>
                <a:lnTo>
                  <a:pt x="1589" y="93907"/>
                </a:lnTo>
                <a:lnTo>
                  <a:pt x="1059" y="103244"/>
                </a:lnTo>
                <a:lnTo>
                  <a:pt x="471" y="120392"/>
                </a:lnTo>
                <a:lnTo>
                  <a:pt x="140" y="146586"/>
                </a:lnTo>
                <a:lnTo>
                  <a:pt x="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InkAnnotation207"/>
          <p:cNvSpPr/>
          <p:nvPr/>
        </p:nvSpPr>
        <p:spPr>
          <a:xfrm>
            <a:off x="6980400" y="5699160"/>
            <a:ext cx="228600" cy="122040"/>
          </a:xfrm>
          <a:custGeom>
            <a:avLst/>
            <a:gdLst>
              <a:gd name="textAreaLeft" fmla="*/ 0 w 228600"/>
              <a:gd name="textAreaRight" fmla="*/ 228960 w 22860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228112" h="121891">
                <a:moveTo>
                  <a:pt x="106190" y="0"/>
                </a:moveTo>
                <a:lnTo>
                  <a:pt x="106190" y="4045"/>
                </a:lnTo>
                <a:lnTo>
                  <a:pt x="105344" y="6083"/>
                </a:lnTo>
                <a:lnTo>
                  <a:pt x="103932" y="8288"/>
                </a:lnTo>
                <a:lnTo>
                  <a:pt x="102145" y="10606"/>
                </a:lnTo>
                <a:lnTo>
                  <a:pt x="100107" y="12997"/>
                </a:lnTo>
                <a:lnTo>
                  <a:pt x="97901" y="15438"/>
                </a:lnTo>
                <a:lnTo>
                  <a:pt x="95584" y="17912"/>
                </a:lnTo>
                <a:lnTo>
                  <a:pt x="92347" y="20408"/>
                </a:lnTo>
                <a:lnTo>
                  <a:pt x="88494" y="22919"/>
                </a:lnTo>
                <a:lnTo>
                  <a:pt x="84233" y="25439"/>
                </a:lnTo>
                <a:lnTo>
                  <a:pt x="79699" y="28813"/>
                </a:lnTo>
                <a:lnTo>
                  <a:pt x="74983" y="32756"/>
                </a:lnTo>
                <a:lnTo>
                  <a:pt x="70145" y="37077"/>
                </a:lnTo>
                <a:lnTo>
                  <a:pt x="66074" y="41651"/>
                </a:lnTo>
                <a:lnTo>
                  <a:pt x="62513" y="46394"/>
                </a:lnTo>
                <a:lnTo>
                  <a:pt x="59291" y="51249"/>
                </a:lnTo>
                <a:lnTo>
                  <a:pt x="54605" y="55333"/>
                </a:lnTo>
                <a:lnTo>
                  <a:pt x="48940" y="58902"/>
                </a:lnTo>
                <a:lnTo>
                  <a:pt x="25642" y="70714"/>
                </a:lnTo>
                <a:lnTo>
                  <a:pt x="21166" y="74236"/>
                </a:lnTo>
                <a:lnTo>
                  <a:pt x="17333" y="78278"/>
                </a:lnTo>
                <a:lnTo>
                  <a:pt x="13932" y="82665"/>
                </a:lnTo>
                <a:lnTo>
                  <a:pt x="10818" y="86437"/>
                </a:lnTo>
                <a:lnTo>
                  <a:pt x="7895" y="89798"/>
                </a:lnTo>
                <a:lnTo>
                  <a:pt x="5100" y="92885"/>
                </a:lnTo>
                <a:lnTo>
                  <a:pt x="3237" y="95790"/>
                </a:lnTo>
                <a:lnTo>
                  <a:pt x="1995" y="98574"/>
                </a:lnTo>
                <a:lnTo>
                  <a:pt x="0" y="105079"/>
                </a:lnTo>
                <a:lnTo>
                  <a:pt x="684" y="105613"/>
                </a:lnTo>
                <a:lnTo>
                  <a:pt x="3700" y="106206"/>
                </a:lnTo>
                <a:lnTo>
                  <a:pt x="7863" y="108728"/>
                </a:lnTo>
                <a:lnTo>
                  <a:pt x="10158" y="110585"/>
                </a:lnTo>
                <a:lnTo>
                  <a:pt x="13382" y="111823"/>
                </a:lnTo>
                <a:lnTo>
                  <a:pt x="17224" y="112650"/>
                </a:lnTo>
                <a:lnTo>
                  <a:pt x="21480" y="113200"/>
                </a:lnTo>
                <a:lnTo>
                  <a:pt x="26856" y="114413"/>
                </a:lnTo>
                <a:lnTo>
                  <a:pt x="32981" y="116069"/>
                </a:lnTo>
                <a:lnTo>
                  <a:pt x="39603" y="118019"/>
                </a:lnTo>
                <a:lnTo>
                  <a:pt x="47406" y="119320"/>
                </a:lnTo>
                <a:lnTo>
                  <a:pt x="55994" y="120187"/>
                </a:lnTo>
                <a:lnTo>
                  <a:pt x="65106" y="120765"/>
                </a:lnTo>
                <a:lnTo>
                  <a:pt x="82004" y="121406"/>
                </a:lnTo>
                <a:lnTo>
                  <a:pt x="110313" y="121769"/>
                </a:lnTo>
                <a:lnTo>
                  <a:pt x="149714" y="121890"/>
                </a:lnTo>
                <a:lnTo>
                  <a:pt x="158067" y="121054"/>
                </a:lnTo>
                <a:lnTo>
                  <a:pt x="166175" y="119649"/>
                </a:lnTo>
                <a:lnTo>
                  <a:pt x="174120" y="117867"/>
                </a:lnTo>
                <a:lnTo>
                  <a:pt x="181110" y="115831"/>
                </a:lnTo>
                <a:lnTo>
                  <a:pt x="187463" y="113627"/>
                </a:lnTo>
                <a:lnTo>
                  <a:pt x="193393" y="111311"/>
                </a:lnTo>
                <a:lnTo>
                  <a:pt x="198193" y="108921"/>
                </a:lnTo>
                <a:lnTo>
                  <a:pt x="202239" y="106481"/>
                </a:lnTo>
                <a:lnTo>
                  <a:pt x="205783" y="104007"/>
                </a:lnTo>
                <a:lnTo>
                  <a:pt x="211979" y="101260"/>
                </a:lnTo>
                <a:lnTo>
                  <a:pt x="214816" y="100526"/>
                </a:lnTo>
                <a:lnTo>
                  <a:pt x="220227" y="97454"/>
                </a:lnTo>
                <a:lnTo>
                  <a:pt x="228111" y="914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InkAnnotation208"/>
          <p:cNvSpPr/>
          <p:nvPr/>
        </p:nvSpPr>
        <p:spPr>
          <a:xfrm>
            <a:off x="7132680" y="5692680"/>
            <a:ext cx="84240" cy="266760"/>
          </a:xfrm>
          <a:custGeom>
            <a:avLst/>
            <a:gdLst>
              <a:gd name="textAreaLeft" fmla="*/ 0 w 84240"/>
              <a:gd name="textAreaRight" fmla="*/ 84600 w 842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3821" h="266701">
                <a:moveTo>
                  <a:pt x="83820" y="0"/>
                </a:moveTo>
                <a:lnTo>
                  <a:pt x="77259" y="6560"/>
                </a:lnTo>
                <a:lnTo>
                  <a:pt x="76671" y="9407"/>
                </a:lnTo>
                <a:lnTo>
                  <a:pt x="76410" y="14340"/>
                </a:lnTo>
                <a:lnTo>
                  <a:pt x="76262" y="26638"/>
                </a:lnTo>
                <a:lnTo>
                  <a:pt x="76202" y="83255"/>
                </a:lnTo>
                <a:lnTo>
                  <a:pt x="75355" y="91063"/>
                </a:lnTo>
                <a:lnTo>
                  <a:pt x="73944" y="98808"/>
                </a:lnTo>
                <a:lnTo>
                  <a:pt x="65594" y="133535"/>
                </a:lnTo>
                <a:lnTo>
                  <a:pt x="62356" y="143210"/>
                </a:lnTo>
                <a:lnTo>
                  <a:pt x="58504" y="153047"/>
                </a:lnTo>
                <a:lnTo>
                  <a:pt x="54243" y="162991"/>
                </a:lnTo>
                <a:lnTo>
                  <a:pt x="50555" y="173007"/>
                </a:lnTo>
                <a:lnTo>
                  <a:pt x="47250" y="183071"/>
                </a:lnTo>
                <a:lnTo>
                  <a:pt x="44200" y="193167"/>
                </a:lnTo>
                <a:lnTo>
                  <a:pt x="39627" y="204131"/>
                </a:lnTo>
                <a:lnTo>
                  <a:pt x="34038" y="215674"/>
                </a:lnTo>
                <a:lnTo>
                  <a:pt x="27772" y="227603"/>
                </a:lnTo>
                <a:lnTo>
                  <a:pt x="21901" y="237248"/>
                </a:lnTo>
                <a:lnTo>
                  <a:pt x="16294" y="245372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InkAnnotation209"/>
          <p:cNvSpPr/>
          <p:nvPr/>
        </p:nvSpPr>
        <p:spPr>
          <a:xfrm>
            <a:off x="5045040" y="5997600"/>
            <a:ext cx="152280" cy="360"/>
          </a:xfrm>
          <a:custGeom>
            <a:avLst/>
            <a:gdLst>
              <a:gd name="textAreaLeft" fmla="*/ 0 w 152280"/>
              <a:gd name="textAreaRight" fmla="*/ 152640 w 1522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52401" h="1">
                <a:moveTo>
                  <a:pt x="0" y="0"/>
                </a:moveTo>
                <a:lnTo>
                  <a:pt x="1524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InkAnnotation210"/>
          <p:cNvSpPr/>
          <p:nvPr/>
        </p:nvSpPr>
        <p:spPr>
          <a:xfrm>
            <a:off x="5318280" y="5851440"/>
            <a:ext cx="23760" cy="244440"/>
          </a:xfrm>
          <a:custGeom>
            <a:avLst/>
            <a:gdLst>
              <a:gd name="textAreaLeft" fmla="*/ 0 w 23760"/>
              <a:gd name="textAreaRight" fmla="*/ 24120 w 23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2861" h="243841">
                <a:moveTo>
                  <a:pt x="22860" y="0"/>
                </a:moveTo>
                <a:lnTo>
                  <a:pt x="22860" y="13867"/>
                </a:lnTo>
                <a:lnTo>
                  <a:pt x="22014" y="16018"/>
                </a:lnTo>
                <a:lnTo>
                  <a:pt x="20602" y="19146"/>
                </a:lnTo>
                <a:lnTo>
                  <a:pt x="18815" y="22924"/>
                </a:lnTo>
                <a:lnTo>
                  <a:pt x="17624" y="27136"/>
                </a:lnTo>
                <a:lnTo>
                  <a:pt x="16829" y="31637"/>
                </a:lnTo>
                <a:lnTo>
                  <a:pt x="16299" y="36331"/>
                </a:lnTo>
                <a:lnTo>
                  <a:pt x="15100" y="42002"/>
                </a:lnTo>
                <a:lnTo>
                  <a:pt x="13453" y="48321"/>
                </a:lnTo>
                <a:lnTo>
                  <a:pt x="11509" y="55074"/>
                </a:lnTo>
                <a:lnTo>
                  <a:pt x="10212" y="62116"/>
                </a:lnTo>
                <a:lnTo>
                  <a:pt x="9348" y="69351"/>
                </a:lnTo>
                <a:lnTo>
                  <a:pt x="8772" y="76714"/>
                </a:lnTo>
                <a:lnTo>
                  <a:pt x="8388" y="85009"/>
                </a:lnTo>
                <a:lnTo>
                  <a:pt x="7961" y="103257"/>
                </a:lnTo>
                <a:lnTo>
                  <a:pt x="7001" y="112865"/>
                </a:lnTo>
                <a:lnTo>
                  <a:pt x="5514" y="122657"/>
                </a:lnTo>
                <a:lnTo>
                  <a:pt x="3676" y="132571"/>
                </a:lnTo>
                <a:lnTo>
                  <a:pt x="2450" y="141721"/>
                </a:lnTo>
                <a:lnTo>
                  <a:pt x="1634" y="150361"/>
                </a:lnTo>
                <a:lnTo>
                  <a:pt x="1089" y="158661"/>
                </a:lnTo>
                <a:lnTo>
                  <a:pt x="726" y="166734"/>
                </a:lnTo>
                <a:lnTo>
                  <a:pt x="323" y="182477"/>
                </a:lnTo>
                <a:lnTo>
                  <a:pt x="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InkAnnotation211"/>
          <p:cNvSpPr/>
          <p:nvPr/>
        </p:nvSpPr>
        <p:spPr>
          <a:xfrm>
            <a:off x="5440320" y="5807160"/>
            <a:ext cx="244440" cy="196920"/>
          </a:xfrm>
          <a:custGeom>
            <a:avLst/>
            <a:gdLst>
              <a:gd name="textAreaLeft" fmla="*/ 0 w 244440"/>
              <a:gd name="textAreaRight" fmla="*/ 244800 w 2444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43822" h="198069">
                <a:moveTo>
                  <a:pt x="38081" y="0"/>
                </a:moveTo>
                <a:lnTo>
                  <a:pt x="38081" y="69167"/>
                </a:lnTo>
                <a:lnTo>
                  <a:pt x="37234" y="76591"/>
                </a:lnTo>
                <a:lnTo>
                  <a:pt x="35824" y="84080"/>
                </a:lnTo>
                <a:lnTo>
                  <a:pt x="34036" y="91613"/>
                </a:lnTo>
                <a:lnTo>
                  <a:pt x="31998" y="98328"/>
                </a:lnTo>
                <a:lnTo>
                  <a:pt x="29793" y="104499"/>
                </a:lnTo>
                <a:lnTo>
                  <a:pt x="27476" y="110306"/>
                </a:lnTo>
                <a:lnTo>
                  <a:pt x="25931" y="116716"/>
                </a:lnTo>
                <a:lnTo>
                  <a:pt x="24900" y="123531"/>
                </a:lnTo>
                <a:lnTo>
                  <a:pt x="24214" y="130614"/>
                </a:lnTo>
                <a:lnTo>
                  <a:pt x="22910" y="137029"/>
                </a:lnTo>
                <a:lnTo>
                  <a:pt x="21194" y="142999"/>
                </a:lnTo>
                <a:lnTo>
                  <a:pt x="19203" y="148672"/>
                </a:lnTo>
                <a:lnTo>
                  <a:pt x="16183" y="154147"/>
                </a:lnTo>
                <a:lnTo>
                  <a:pt x="12475" y="159491"/>
                </a:lnTo>
                <a:lnTo>
                  <a:pt x="8311" y="164748"/>
                </a:lnTo>
                <a:lnTo>
                  <a:pt x="5534" y="169945"/>
                </a:lnTo>
                <a:lnTo>
                  <a:pt x="3683" y="175102"/>
                </a:lnTo>
                <a:lnTo>
                  <a:pt x="2449" y="180235"/>
                </a:lnTo>
                <a:lnTo>
                  <a:pt x="1627" y="184503"/>
                </a:lnTo>
                <a:lnTo>
                  <a:pt x="1078" y="188195"/>
                </a:lnTo>
                <a:lnTo>
                  <a:pt x="0" y="197947"/>
                </a:lnTo>
                <a:lnTo>
                  <a:pt x="4505" y="198042"/>
                </a:lnTo>
                <a:lnTo>
                  <a:pt x="8077" y="198068"/>
                </a:lnTo>
                <a:lnTo>
                  <a:pt x="12152" y="197238"/>
                </a:lnTo>
                <a:lnTo>
                  <a:pt x="16561" y="195839"/>
                </a:lnTo>
                <a:lnTo>
                  <a:pt x="21195" y="194059"/>
                </a:lnTo>
                <a:lnTo>
                  <a:pt x="25977" y="192872"/>
                </a:lnTo>
                <a:lnTo>
                  <a:pt x="30858" y="192082"/>
                </a:lnTo>
                <a:lnTo>
                  <a:pt x="35806" y="191554"/>
                </a:lnTo>
                <a:lnTo>
                  <a:pt x="43338" y="190355"/>
                </a:lnTo>
                <a:lnTo>
                  <a:pt x="62996" y="186767"/>
                </a:lnTo>
                <a:lnTo>
                  <a:pt x="72471" y="185470"/>
                </a:lnTo>
                <a:lnTo>
                  <a:pt x="81328" y="184607"/>
                </a:lnTo>
                <a:lnTo>
                  <a:pt x="89772" y="184031"/>
                </a:lnTo>
                <a:lnTo>
                  <a:pt x="98788" y="182800"/>
                </a:lnTo>
                <a:lnTo>
                  <a:pt x="108186" y="181133"/>
                </a:lnTo>
                <a:lnTo>
                  <a:pt x="117838" y="179175"/>
                </a:lnTo>
                <a:lnTo>
                  <a:pt x="126812" y="177870"/>
                </a:lnTo>
                <a:lnTo>
                  <a:pt x="135335" y="176999"/>
                </a:lnTo>
                <a:lnTo>
                  <a:pt x="143557" y="176419"/>
                </a:lnTo>
                <a:lnTo>
                  <a:pt x="151578" y="176033"/>
                </a:lnTo>
                <a:lnTo>
                  <a:pt x="167265" y="175603"/>
                </a:lnTo>
                <a:lnTo>
                  <a:pt x="202703" y="175289"/>
                </a:lnTo>
                <a:lnTo>
                  <a:pt x="243821" y="1752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InkAnnotation212"/>
          <p:cNvSpPr/>
          <p:nvPr/>
        </p:nvSpPr>
        <p:spPr>
          <a:xfrm>
            <a:off x="5638680" y="5913360"/>
            <a:ext cx="30240" cy="212760"/>
          </a:xfrm>
          <a:custGeom>
            <a:avLst/>
            <a:gdLst>
              <a:gd name="textAreaLeft" fmla="*/ 0 w 30240"/>
              <a:gd name="textAreaRight" fmla="*/ 30600 w 302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30476" h="213361">
                <a:moveTo>
                  <a:pt x="30475" y="0"/>
                </a:moveTo>
                <a:lnTo>
                  <a:pt x="26430" y="0"/>
                </a:lnTo>
                <a:lnTo>
                  <a:pt x="25238" y="847"/>
                </a:lnTo>
                <a:lnTo>
                  <a:pt x="24444" y="2258"/>
                </a:lnTo>
                <a:lnTo>
                  <a:pt x="23914" y="4045"/>
                </a:lnTo>
                <a:lnTo>
                  <a:pt x="22715" y="6084"/>
                </a:lnTo>
                <a:lnTo>
                  <a:pt x="21068" y="8289"/>
                </a:lnTo>
                <a:lnTo>
                  <a:pt x="19124" y="10606"/>
                </a:lnTo>
                <a:lnTo>
                  <a:pt x="17828" y="13844"/>
                </a:lnTo>
                <a:lnTo>
                  <a:pt x="16964" y="17696"/>
                </a:lnTo>
                <a:lnTo>
                  <a:pt x="16387" y="21958"/>
                </a:lnTo>
                <a:lnTo>
                  <a:pt x="14310" y="26492"/>
                </a:lnTo>
                <a:lnTo>
                  <a:pt x="11232" y="31208"/>
                </a:lnTo>
                <a:lnTo>
                  <a:pt x="7486" y="36045"/>
                </a:lnTo>
                <a:lnTo>
                  <a:pt x="4990" y="40964"/>
                </a:lnTo>
                <a:lnTo>
                  <a:pt x="3325" y="45936"/>
                </a:lnTo>
                <a:lnTo>
                  <a:pt x="2215" y="50943"/>
                </a:lnTo>
                <a:lnTo>
                  <a:pt x="1475" y="56823"/>
                </a:lnTo>
                <a:lnTo>
                  <a:pt x="982" y="63282"/>
                </a:lnTo>
                <a:lnTo>
                  <a:pt x="653" y="70128"/>
                </a:lnTo>
                <a:lnTo>
                  <a:pt x="288" y="84508"/>
                </a:lnTo>
                <a:lnTo>
                  <a:pt x="0" y="160032"/>
                </a:lnTo>
                <a:lnTo>
                  <a:pt x="846" y="167648"/>
                </a:lnTo>
                <a:lnTo>
                  <a:pt x="2255" y="175265"/>
                </a:lnTo>
                <a:lnTo>
                  <a:pt x="4042" y="182883"/>
                </a:lnTo>
                <a:lnTo>
                  <a:pt x="6080" y="188809"/>
                </a:lnTo>
                <a:lnTo>
                  <a:pt x="8285" y="193606"/>
                </a:lnTo>
                <a:lnTo>
                  <a:pt x="10602" y="197651"/>
                </a:lnTo>
                <a:lnTo>
                  <a:pt x="12146" y="201194"/>
                </a:lnTo>
                <a:lnTo>
                  <a:pt x="13176" y="204402"/>
                </a:lnTo>
                <a:lnTo>
                  <a:pt x="15236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InkAnnotation213"/>
          <p:cNvSpPr/>
          <p:nvPr/>
        </p:nvSpPr>
        <p:spPr>
          <a:xfrm>
            <a:off x="5821200" y="5997600"/>
            <a:ext cx="114480" cy="14400"/>
          </a:xfrm>
          <a:custGeom>
            <a:avLst/>
            <a:gdLst>
              <a:gd name="textAreaLeft" fmla="*/ 0 w 114480"/>
              <a:gd name="textAreaRight" fmla="*/ 114840 w 1144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14301" h="15240">
                <a:moveTo>
                  <a:pt x="0" y="0"/>
                </a:moveTo>
                <a:lnTo>
                  <a:pt x="4045" y="4044"/>
                </a:lnTo>
                <a:lnTo>
                  <a:pt x="7777" y="5236"/>
                </a:lnTo>
                <a:lnTo>
                  <a:pt x="12805" y="6030"/>
                </a:lnTo>
                <a:lnTo>
                  <a:pt x="26989" y="7305"/>
                </a:lnTo>
                <a:lnTo>
                  <a:pt x="29845" y="7410"/>
                </a:lnTo>
                <a:lnTo>
                  <a:pt x="37536" y="7527"/>
                </a:lnTo>
                <a:lnTo>
                  <a:pt x="42804" y="8404"/>
                </a:lnTo>
                <a:lnTo>
                  <a:pt x="48855" y="9835"/>
                </a:lnTo>
                <a:lnTo>
                  <a:pt x="55431" y="11637"/>
                </a:lnTo>
                <a:lnTo>
                  <a:pt x="62354" y="12837"/>
                </a:lnTo>
                <a:lnTo>
                  <a:pt x="69509" y="13638"/>
                </a:lnTo>
                <a:lnTo>
                  <a:pt x="82540" y="14527"/>
                </a:lnTo>
                <a:lnTo>
                  <a:pt x="91153" y="14923"/>
                </a:lnTo>
                <a:lnTo>
                  <a:pt x="100061" y="15099"/>
                </a:lnTo>
                <a:lnTo>
                  <a:pt x="114300" y="152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InkAnnotation214"/>
          <p:cNvSpPr/>
          <p:nvPr/>
        </p:nvSpPr>
        <p:spPr>
          <a:xfrm>
            <a:off x="5764320" y="6118200"/>
            <a:ext cx="110880" cy="360"/>
          </a:xfrm>
          <a:custGeom>
            <a:avLst/>
            <a:gdLst>
              <a:gd name="textAreaLeft" fmla="*/ 0 w 110880"/>
              <a:gd name="textAreaRight" fmla="*/ 111240 w 110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1071" h="1">
                <a:moveTo>
                  <a:pt x="4390" y="0"/>
                </a:moveTo>
                <a:lnTo>
                  <a:pt x="0" y="0"/>
                </a:lnTo>
                <a:lnTo>
                  <a:pt x="11107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InkAnnotation215"/>
          <p:cNvSpPr/>
          <p:nvPr/>
        </p:nvSpPr>
        <p:spPr>
          <a:xfrm>
            <a:off x="5135400" y="6438960"/>
            <a:ext cx="182880" cy="7920"/>
          </a:xfrm>
          <a:custGeom>
            <a:avLst/>
            <a:gdLst>
              <a:gd name="textAreaLeft" fmla="*/ 0 w 182880"/>
              <a:gd name="textAreaRight" fmla="*/ 183240 w 18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21">
                <a:moveTo>
                  <a:pt x="0" y="0"/>
                </a:moveTo>
                <a:lnTo>
                  <a:pt x="104216" y="0"/>
                </a:lnTo>
                <a:lnTo>
                  <a:pt x="111811" y="847"/>
                </a:lnTo>
                <a:lnTo>
                  <a:pt x="118567" y="2258"/>
                </a:lnTo>
                <a:lnTo>
                  <a:pt x="124765" y="4044"/>
                </a:lnTo>
                <a:lnTo>
                  <a:pt x="131436" y="5237"/>
                </a:lnTo>
                <a:lnTo>
                  <a:pt x="138424" y="6031"/>
                </a:lnTo>
                <a:lnTo>
                  <a:pt x="145622" y="6560"/>
                </a:lnTo>
                <a:lnTo>
                  <a:pt x="152115" y="6914"/>
                </a:lnTo>
                <a:lnTo>
                  <a:pt x="163845" y="7306"/>
                </a:lnTo>
                <a:lnTo>
                  <a:pt x="18288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InkAnnotation216"/>
          <p:cNvSpPr/>
          <p:nvPr/>
        </p:nvSpPr>
        <p:spPr>
          <a:xfrm>
            <a:off x="5349960" y="6318360"/>
            <a:ext cx="212760" cy="96840"/>
          </a:xfrm>
          <a:custGeom>
            <a:avLst/>
            <a:gdLst>
              <a:gd name="textAreaLeft" fmla="*/ 0 w 212760"/>
              <a:gd name="textAreaRight" fmla="*/ 213120 w 2127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12904" h="97132">
                <a:moveTo>
                  <a:pt x="90983" y="6781"/>
                </a:moveTo>
                <a:lnTo>
                  <a:pt x="90983" y="2391"/>
                </a:lnTo>
                <a:lnTo>
                  <a:pt x="90983" y="4265"/>
                </a:lnTo>
                <a:lnTo>
                  <a:pt x="90983" y="0"/>
                </a:lnTo>
                <a:lnTo>
                  <a:pt x="90983" y="5795"/>
                </a:lnTo>
                <a:lnTo>
                  <a:pt x="86468" y="8601"/>
                </a:lnTo>
                <a:lnTo>
                  <a:pt x="82892" y="10535"/>
                </a:lnTo>
                <a:lnTo>
                  <a:pt x="76663" y="12683"/>
                </a:lnTo>
                <a:lnTo>
                  <a:pt x="70226" y="14484"/>
                </a:lnTo>
                <a:lnTo>
                  <a:pt x="66138" y="16149"/>
                </a:lnTo>
                <a:lnTo>
                  <a:pt x="61720" y="18107"/>
                </a:lnTo>
                <a:lnTo>
                  <a:pt x="52295" y="22539"/>
                </a:lnTo>
                <a:lnTo>
                  <a:pt x="32447" y="32283"/>
                </a:lnTo>
                <a:lnTo>
                  <a:pt x="28252" y="34789"/>
                </a:lnTo>
                <a:lnTo>
                  <a:pt x="24609" y="37306"/>
                </a:lnTo>
                <a:lnTo>
                  <a:pt x="21334" y="39832"/>
                </a:lnTo>
                <a:lnTo>
                  <a:pt x="15437" y="42636"/>
                </a:lnTo>
                <a:lnTo>
                  <a:pt x="12680" y="43385"/>
                </a:lnTo>
                <a:lnTo>
                  <a:pt x="9994" y="44730"/>
                </a:lnTo>
                <a:lnTo>
                  <a:pt x="7357" y="46474"/>
                </a:lnTo>
                <a:lnTo>
                  <a:pt x="4753" y="48483"/>
                </a:lnTo>
                <a:lnTo>
                  <a:pt x="3016" y="50669"/>
                </a:lnTo>
                <a:lnTo>
                  <a:pt x="1858" y="52973"/>
                </a:lnTo>
                <a:lnTo>
                  <a:pt x="1087" y="55356"/>
                </a:lnTo>
                <a:lnTo>
                  <a:pt x="572" y="57791"/>
                </a:lnTo>
                <a:lnTo>
                  <a:pt x="229" y="60260"/>
                </a:lnTo>
                <a:lnTo>
                  <a:pt x="0" y="62754"/>
                </a:lnTo>
                <a:lnTo>
                  <a:pt x="695" y="64416"/>
                </a:lnTo>
                <a:lnTo>
                  <a:pt x="2004" y="65524"/>
                </a:lnTo>
                <a:lnTo>
                  <a:pt x="3724" y="66263"/>
                </a:lnTo>
                <a:lnTo>
                  <a:pt x="5717" y="67603"/>
                </a:lnTo>
                <a:lnTo>
                  <a:pt x="7892" y="69342"/>
                </a:lnTo>
                <a:lnTo>
                  <a:pt x="10190" y="71348"/>
                </a:lnTo>
                <a:lnTo>
                  <a:pt x="13414" y="73533"/>
                </a:lnTo>
                <a:lnTo>
                  <a:pt x="17257" y="75835"/>
                </a:lnTo>
                <a:lnTo>
                  <a:pt x="21513" y="78217"/>
                </a:lnTo>
                <a:lnTo>
                  <a:pt x="26889" y="79805"/>
                </a:lnTo>
                <a:lnTo>
                  <a:pt x="33014" y="80864"/>
                </a:lnTo>
                <a:lnTo>
                  <a:pt x="39637" y="81569"/>
                </a:lnTo>
                <a:lnTo>
                  <a:pt x="46592" y="82886"/>
                </a:lnTo>
                <a:lnTo>
                  <a:pt x="53769" y="84611"/>
                </a:lnTo>
                <a:lnTo>
                  <a:pt x="61094" y="86608"/>
                </a:lnTo>
                <a:lnTo>
                  <a:pt x="68517" y="87938"/>
                </a:lnTo>
                <a:lnTo>
                  <a:pt x="76006" y="88826"/>
                </a:lnTo>
                <a:lnTo>
                  <a:pt x="83538" y="89417"/>
                </a:lnTo>
                <a:lnTo>
                  <a:pt x="91100" y="89812"/>
                </a:lnTo>
                <a:lnTo>
                  <a:pt x="106275" y="90250"/>
                </a:lnTo>
                <a:lnTo>
                  <a:pt x="113878" y="91214"/>
                </a:lnTo>
                <a:lnTo>
                  <a:pt x="121487" y="92702"/>
                </a:lnTo>
                <a:lnTo>
                  <a:pt x="129098" y="94542"/>
                </a:lnTo>
                <a:lnTo>
                  <a:pt x="136714" y="95769"/>
                </a:lnTo>
                <a:lnTo>
                  <a:pt x="144330" y="96586"/>
                </a:lnTo>
                <a:lnTo>
                  <a:pt x="151948" y="97131"/>
                </a:lnTo>
                <a:lnTo>
                  <a:pt x="158720" y="96648"/>
                </a:lnTo>
                <a:lnTo>
                  <a:pt x="164927" y="95479"/>
                </a:lnTo>
                <a:lnTo>
                  <a:pt x="170759" y="93852"/>
                </a:lnTo>
                <a:lnTo>
                  <a:pt x="175494" y="92769"/>
                </a:lnTo>
                <a:lnTo>
                  <a:pt x="179497" y="92046"/>
                </a:lnTo>
                <a:lnTo>
                  <a:pt x="183013" y="91564"/>
                </a:lnTo>
                <a:lnTo>
                  <a:pt x="187050" y="91243"/>
                </a:lnTo>
                <a:lnTo>
                  <a:pt x="191434" y="91029"/>
                </a:lnTo>
                <a:lnTo>
                  <a:pt x="196051" y="90886"/>
                </a:lnTo>
                <a:lnTo>
                  <a:pt x="199974" y="89944"/>
                </a:lnTo>
                <a:lnTo>
                  <a:pt x="203437" y="88470"/>
                </a:lnTo>
                <a:lnTo>
                  <a:pt x="212903" y="829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InkAnnotation217"/>
          <p:cNvSpPr/>
          <p:nvPr/>
        </p:nvSpPr>
        <p:spPr>
          <a:xfrm>
            <a:off x="5570640" y="6324480"/>
            <a:ext cx="30240" cy="198720"/>
          </a:xfrm>
          <a:custGeom>
            <a:avLst/>
            <a:gdLst>
              <a:gd name="textAreaLeft" fmla="*/ 0 w 30240"/>
              <a:gd name="textAreaRight" fmla="*/ 30600 w 3024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30158" h="198121">
                <a:moveTo>
                  <a:pt x="30157" y="0"/>
                </a:moveTo>
                <a:lnTo>
                  <a:pt x="30157" y="6561"/>
                </a:lnTo>
                <a:lnTo>
                  <a:pt x="28464" y="7760"/>
                </a:lnTo>
                <a:lnTo>
                  <a:pt x="25642" y="9408"/>
                </a:lnTo>
                <a:lnTo>
                  <a:pt x="22067" y="11352"/>
                </a:lnTo>
                <a:lnTo>
                  <a:pt x="19683" y="13495"/>
                </a:lnTo>
                <a:lnTo>
                  <a:pt x="18095" y="15770"/>
                </a:lnTo>
                <a:lnTo>
                  <a:pt x="17036" y="18133"/>
                </a:lnTo>
                <a:lnTo>
                  <a:pt x="16330" y="20556"/>
                </a:lnTo>
                <a:lnTo>
                  <a:pt x="15545" y="25505"/>
                </a:lnTo>
                <a:lnTo>
                  <a:pt x="15336" y="28856"/>
                </a:lnTo>
                <a:lnTo>
                  <a:pt x="15104" y="37096"/>
                </a:lnTo>
                <a:lnTo>
                  <a:pt x="14195" y="41664"/>
                </a:lnTo>
                <a:lnTo>
                  <a:pt x="12742" y="46403"/>
                </a:lnTo>
                <a:lnTo>
                  <a:pt x="10927" y="51255"/>
                </a:lnTo>
                <a:lnTo>
                  <a:pt x="9717" y="55337"/>
                </a:lnTo>
                <a:lnTo>
                  <a:pt x="8911" y="58904"/>
                </a:lnTo>
                <a:lnTo>
                  <a:pt x="8373" y="62130"/>
                </a:lnTo>
                <a:lnTo>
                  <a:pt x="8014" y="65973"/>
                </a:lnTo>
                <a:lnTo>
                  <a:pt x="7775" y="70229"/>
                </a:lnTo>
                <a:lnTo>
                  <a:pt x="7616" y="74759"/>
                </a:lnTo>
                <a:lnTo>
                  <a:pt x="6663" y="79473"/>
                </a:lnTo>
                <a:lnTo>
                  <a:pt x="5181" y="84309"/>
                </a:lnTo>
                <a:lnTo>
                  <a:pt x="3346" y="89226"/>
                </a:lnTo>
                <a:lnTo>
                  <a:pt x="2123" y="95044"/>
                </a:lnTo>
                <a:lnTo>
                  <a:pt x="1308" y="101462"/>
                </a:lnTo>
                <a:lnTo>
                  <a:pt x="765" y="108282"/>
                </a:lnTo>
                <a:lnTo>
                  <a:pt x="402" y="114521"/>
                </a:lnTo>
                <a:lnTo>
                  <a:pt x="0" y="125969"/>
                </a:lnTo>
                <a:lnTo>
                  <a:pt x="738" y="131393"/>
                </a:lnTo>
                <a:lnTo>
                  <a:pt x="2078" y="136701"/>
                </a:lnTo>
                <a:lnTo>
                  <a:pt x="3818" y="141934"/>
                </a:lnTo>
                <a:lnTo>
                  <a:pt x="4978" y="147116"/>
                </a:lnTo>
                <a:lnTo>
                  <a:pt x="5752" y="152264"/>
                </a:lnTo>
                <a:lnTo>
                  <a:pt x="6267" y="157389"/>
                </a:lnTo>
                <a:lnTo>
                  <a:pt x="7457" y="162500"/>
                </a:lnTo>
                <a:lnTo>
                  <a:pt x="9097" y="167600"/>
                </a:lnTo>
                <a:lnTo>
                  <a:pt x="11037" y="172693"/>
                </a:lnTo>
                <a:lnTo>
                  <a:pt x="13177" y="176936"/>
                </a:lnTo>
                <a:lnTo>
                  <a:pt x="15451" y="180610"/>
                </a:lnTo>
                <a:lnTo>
                  <a:pt x="17813" y="183907"/>
                </a:lnTo>
                <a:lnTo>
                  <a:pt x="19388" y="186951"/>
                </a:lnTo>
                <a:lnTo>
                  <a:pt x="20437" y="189827"/>
                </a:lnTo>
                <a:lnTo>
                  <a:pt x="21137" y="192591"/>
                </a:lnTo>
                <a:lnTo>
                  <a:pt x="22450" y="194434"/>
                </a:lnTo>
                <a:lnTo>
                  <a:pt x="24173" y="195662"/>
                </a:lnTo>
                <a:lnTo>
                  <a:pt x="30157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InkAnnotation218"/>
          <p:cNvSpPr/>
          <p:nvPr/>
        </p:nvSpPr>
        <p:spPr>
          <a:xfrm>
            <a:off x="5791320" y="6370560"/>
            <a:ext cx="236520" cy="22320"/>
          </a:xfrm>
          <a:custGeom>
            <a:avLst/>
            <a:gdLst>
              <a:gd name="textAreaLeft" fmla="*/ 0 w 236520"/>
              <a:gd name="textAreaRight" fmla="*/ 236880 w 236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36221" h="22861">
                <a:moveTo>
                  <a:pt x="0" y="22860"/>
                </a:moveTo>
                <a:lnTo>
                  <a:pt x="94601" y="22860"/>
                </a:lnTo>
                <a:lnTo>
                  <a:pt x="103708" y="22013"/>
                </a:lnTo>
                <a:lnTo>
                  <a:pt x="112318" y="20602"/>
                </a:lnTo>
                <a:lnTo>
                  <a:pt x="120599" y="18815"/>
                </a:lnTo>
                <a:lnTo>
                  <a:pt x="128660" y="17623"/>
                </a:lnTo>
                <a:lnTo>
                  <a:pt x="136573" y="16829"/>
                </a:lnTo>
                <a:lnTo>
                  <a:pt x="144389" y="16299"/>
                </a:lnTo>
                <a:lnTo>
                  <a:pt x="157588" y="15710"/>
                </a:lnTo>
                <a:lnTo>
                  <a:pt x="163479" y="15554"/>
                </a:lnTo>
                <a:lnTo>
                  <a:pt x="169099" y="14603"/>
                </a:lnTo>
                <a:lnTo>
                  <a:pt x="174540" y="13121"/>
                </a:lnTo>
                <a:lnTo>
                  <a:pt x="179860" y="11287"/>
                </a:lnTo>
                <a:lnTo>
                  <a:pt x="185100" y="10065"/>
                </a:lnTo>
                <a:lnTo>
                  <a:pt x="190287" y="9250"/>
                </a:lnTo>
                <a:lnTo>
                  <a:pt x="195438" y="8707"/>
                </a:lnTo>
                <a:lnTo>
                  <a:pt x="200565" y="7498"/>
                </a:lnTo>
                <a:lnTo>
                  <a:pt x="205677" y="5845"/>
                </a:lnTo>
                <a:lnTo>
                  <a:pt x="210778" y="3896"/>
                </a:lnTo>
                <a:lnTo>
                  <a:pt x="215026" y="2598"/>
                </a:lnTo>
                <a:lnTo>
                  <a:pt x="218704" y="1732"/>
                </a:lnTo>
                <a:lnTo>
                  <a:pt x="222003" y="1154"/>
                </a:lnTo>
                <a:lnTo>
                  <a:pt x="227925" y="512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InkAnnotation219"/>
          <p:cNvSpPr/>
          <p:nvPr/>
        </p:nvSpPr>
        <p:spPr>
          <a:xfrm>
            <a:off x="5783400" y="6446880"/>
            <a:ext cx="214200" cy="30240"/>
          </a:xfrm>
          <a:custGeom>
            <a:avLst/>
            <a:gdLst>
              <a:gd name="textAreaLeft" fmla="*/ 0 w 214200"/>
              <a:gd name="textAreaRight" fmla="*/ 214560 w 2142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3362" h="30481">
                <a:moveTo>
                  <a:pt x="0" y="30480"/>
                </a:moveTo>
                <a:lnTo>
                  <a:pt x="55014" y="30480"/>
                </a:lnTo>
                <a:lnTo>
                  <a:pt x="62077" y="29633"/>
                </a:lnTo>
                <a:lnTo>
                  <a:pt x="69324" y="28222"/>
                </a:lnTo>
                <a:lnTo>
                  <a:pt x="76696" y="26435"/>
                </a:lnTo>
                <a:lnTo>
                  <a:pt x="84997" y="25243"/>
                </a:lnTo>
                <a:lnTo>
                  <a:pt x="93919" y="24449"/>
                </a:lnTo>
                <a:lnTo>
                  <a:pt x="103252" y="23918"/>
                </a:lnTo>
                <a:lnTo>
                  <a:pt x="112015" y="22719"/>
                </a:lnTo>
                <a:lnTo>
                  <a:pt x="120397" y="21072"/>
                </a:lnTo>
                <a:lnTo>
                  <a:pt x="128525" y="19128"/>
                </a:lnTo>
                <a:lnTo>
                  <a:pt x="136483" y="17832"/>
                </a:lnTo>
                <a:lnTo>
                  <a:pt x="144329" y="16968"/>
                </a:lnTo>
                <a:lnTo>
                  <a:pt x="152100" y="16392"/>
                </a:lnTo>
                <a:lnTo>
                  <a:pt x="158973" y="15161"/>
                </a:lnTo>
                <a:lnTo>
                  <a:pt x="165249" y="13494"/>
                </a:lnTo>
                <a:lnTo>
                  <a:pt x="171127" y="11536"/>
                </a:lnTo>
                <a:lnTo>
                  <a:pt x="177584" y="10230"/>
                </a:lnTo>
                <a:lnTo>
                  <a:pt x="184429" y="9360"/>
                </a:lnTo>
                <a:lnTo>
                  <a:pt x="191533" y="8780"/>
                </a:lnTo>
                <a:lnTo>
                  <a:pt x="197116" y="7547"/>
                </a:lnTo>
                <a:lnTo>
                  <a:pt x="201684" y="5878"/>
                </a:lnTo>
                <a:lnTo>
                  <a:pt x="21336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InkAnnotation220"/>
          <p:cNvSpPr/>
          <p:nvPr/>
        </p:nvSpPr>
        <p:spPr>
          <a:xfrm>
            <a:off x="6113520" y="6164280"/>
            <a:ext cx="195120" cy="138240"/>
          </a:xfrm>
          <a:custGeom>
            <a:avLst/>
            <a:gdLst>
              <a:gd name="textAreaLeft" fmla="*/ 0 w 195120"/>
              <a:gd name="textAreaRight" fmla="*/ 195480 w 19512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196199" h="137014">
                <a:moveTo>
                  <a:pt x="165964" y="7617"/>
                </a:moveTo>
                <a:lnTo>
                  <a:pt x="165964" y="311"/>
                </a:lnTo>
                <a:lnTo>
                  <a:pt x="159881" y="60"/>
                </a:lnTo>
                <a:lnTo>
                  <a:pt x="129919" y="0"/>
                </a:lnTo>
                <a:lnTo>
                  <a:pt x="124154" y="846"/>
                </a:lnTo>
                <a:lnTo>
                  <a:pt x="117771" y="2256"/>
                </a:lnTo>
                <a:lnTo>
                  <a:pt x="110975" y="4043"/>
                </a:lnTo>
                <a:lnTo>
                  <a:pt x="103905" y="6081"/>
                </a:lnTo>
                <a:lnTo>
                  <a:pt x="89276" y="10604"/>
                </a:lnTo>
                <a:lnTo>
                  <a:pt x="66759" y="17910"/>
                </a:lnTo>
                <a:lnTo>
                  <a:pt x="59187" y="21252"/>
                </a:lnTo>
                <a:lnTo>
                  <a:pt x="51600" y="25174"/>
                </a:lnTo>
                <a:lnTo>
                  <a:pt x="44002" y="29482"/>
                </a:lnTo>
                <a:lnTo>
                  <a:pt x="37242" y="34047"/>
                </a:lnTo>
                <a:lnTo>
                  <a:pt x="31043" y="38784"/>
                </a:lnTo>
                <a:lnTo>
                  <a:pt x="25217" y="43635"/>
                </a:lnTo>
                <a:lnTo>
                  <a:pt x="20486" y="48562"/>
                </a:lnTo>
                <a:lnTo>
                  <a:pt x="16485" y="53541"/>
                </a:lnTo>
                <a:lnTo>
                  <a:pt x="12971" y="58553"/>
                </a:lnTo>
                <a:lnTo>
                  <a:pt x="9782" y="62741"/>
                </a:lnTo>
                <a:lnTo>
                  <a:pt x="6810" y="66380"/>
                </a:lnTo>
                <a:lnTo>
                  <a:pt x="3981" y="69652"/>
                </a:lnTo>
                <a:lnTo>
                  <a:pt x="2096" y="73527"/>
                </a:lnTo>
                <a:lnTo>
                  <a:pt x="838" y="77804"/>
                </a:lnTo>
                <a:lnTo>
                  <a:pt x="0" y="82348"/>
                </a:lnTo>
                <a:lnTo>
                  <a:pt x="288" y="87071"/>
                </a:lnTo>
                <a:lnTo>
                  <a:pt x="1327" y="91913"/>
                </a:lnTo>
                <a:lnTo>
                  <a:pt x="2866" y="96834"/>
                </a:lnTo>
                <a:lnTo>
                  <a:pt x="4739" y="101809"/>
                </a:lnTo>
                <a:lnTo>
                  <a:pt x="6834" y="106818"/>
                </a:lnTo>
                <a:lnTo>
                  <a:pt x="9077" y="111851"/>
                </a:lnTo>
                <a:lnTo>
                  <a:pt x="12266" y="116053"/>
                </a:lnTo>
                <a:lnTo>
                  <a:pt x="16085" y="119701"/>
                </a:lnTo>
                <a:lnTo>
                  <a:pt x="20324" y="122980"/>
                </a:lnTo>
                <a:lnTo>
                  <a:pt x="25691" y="126012"/>
                </a:lnTo>
                <a:lnTo>
                  <a:pt x="31808" y="128880"/>
                </a:lnTo>
                <a:lnTo>
                  <a:pt x="38427" y="131640"/>
                </a:lnTo>
                <a:lnTo>
                  <a:pt x="44533" y="133479"/>
                </a:lnTo>
                <a:lnTo>
                  <a:pt x="50297" y="134705"/>
                </a:lnTo>
                <a:lnTo>
                  <a:pt x="55832" y="135522"/>
                </a:lnTo>
                <a:lnTo>
                  <a:pt x="62063" y="136067"/>
                </a:lnTo>
                <a:lnTo>
                  <a:pt x="68757" y="136430"/>
                </a:lnTo>
                <a:lnTo>
                  <a:pt x="82968" y="136834"/>
                </a:lnTo>
                <a:lnTo>
                  <a:pt x="97750" y="137013"/>
                </a:lnTo>
                <a:lnTo>
                  <a:pt x="105248" y="136215"/>
                </a:lnTo>
                <a:lnTo>
                  <a:pt x="112787" y="134835"/>
                </a:lnTo>
                <a:lnTo>
                  <a:pt x="120352" y="133069"/>
                </a:lnTo>
                <a:lnTo>
                  <a:pt x="127090" y="130198"/>
                </a:lnTo>
                <a:lnTo>
                  <a:pt x="133275" y="126592"/>
                </a:lnTo>
                <a:lnTo>
                  <a:pt x="145509" y="118068"/>
                </a:lnTo>
                <a:lnTo>
                  <a:pt x="159413" y="108635"/>
                </a:lnTo>
                <a:lnTo>
                  <a:pt x="164983" y="103750"/>
                </a:lnTo>
                <a:lnTo>
                  <a:pt x="169543" y="98798"/>
                </a:lnTo>
                <a:lnTo>
                  <a:pt x="173430" y="93805"/>
                </a:lnTo>
                <a:lnTo>
                  <a:pt x="177715" y="89629"/>
                </a:lnTo>
                <a:lnTo>
                  <a:pt x="182265" y="85999"/>
                </a:lnTo>
                <a:lnTo>
                  <a:pt x="186991" y="82731"/>
                </a:lnTo>
                <a:lnTo>
                  <a:pt x="190142" y="78860"/>
                </a:lnTo>
                <a:lnTo>
                  <a:pt x="192243" y="74586"/>
                </a:lnTo>
                <a:lnTo>
                  <a:pt x="193644" y="70043"/>
                </a:lnTo>
                <a:lnTo>
                  <a:pt x="194577" y="65321"/>
                </a:lnTo>
                <a:lnTo>
                  <a:pt x="195199" y="60480"/>
                </a:lnTo>
                <a:lnTo>
                  <a:pt x="195615" y="55559"/>
                </a:lnTo>
                <a:lnTo>
                  <a:pt x="195891" y="50585"/>
                </a:lnTo>
                <a:lnTo>
                  <a:pt x="196198" y="40543"/>
                </a:lnTo>
                <a:lnTo>
                  <a:pt x="195433" y="36341"/>
                </a:lnTo>
                <a:lnTo>
                  <a:pt x="194077" y="32693"/>
                </a:lnTo>
                <a:lnTo>
                  <a:pt x="192326" y="29415"/>
                </a:lnTo>
                <a:lnTo>
                  <a:pt x="190312" y="27229"/>
                </a:lnTo>
                <a:lnTo>
                  <a:pt x="188123" y="25772"/>
                </a:lnTo>
                <a:lnTo>
                  <a:pt x="185817" y="24800"/>
                </a:lnTo>
                <a:lnTo>
                  <a:pt x="180996" y="21463"/>
                </a:lnTo>
                <a:lnTo>
                  <a:pt x="178526" y="19388"/>
                </a:lnTo>
                <a:lnTo>
                  <a:pt x="176032" y="18004"/>
                </a:lnTo>
                <a:lnTo>
                  <a:pt x="173522" y="17082"/>
                </a:lnTo>
                <a:lnTo>
                  <a:pt x="165964" y="15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InkAnnotation221"/>
          <p:cNvSpPr/>
          <p:nvPr/>
        </p:nvSpPr>
        <p:spPr>
          <a:xfrm>
            <a:off x="6103800" y="6340320"/>
            <a:ext cx="144720" cy="120960"/>
          </a:xfrm>
          <a:custGeom>
            <a:avLst/>
            <a:gdLst>
              <a:gd name="textAreaLeft" fmla="*/ 0 w 144720"/>
              <a:gd name="textAreaRight" fmla="*/ 145080 w 14472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144294" h="120598">
                <a:moveTo>
                  <a:pt x="106193" y="0"/>
                </a:moveTo>
                <a:lnTo>
                  <a:pt x="102148" y="0"/>
                </a:lnTo>
                <a:lnTo>
                  <a:pt x="99263" y="846"/>
                </a:lnTo>
                <a:lnTo>
                  <a:pt x="95646" y="2257"/>
                </a:lnTo>
                <a:lnTo>
                  <a:pt x="91542" y="4044"/>
                </a:lnTo>
                <a:lnTo>
                  <a:pt x="87113" y="5236"/>
                </a:lnTo>
                <a:lnTo>
                  <a:pt x="82466" y="6031"/>
                </a:lnTo>
                <a:lnTo>
                  <a:pt x="77675" y="6560"/>
                </a:lnTo>
                <a:lnTo>
                  <a:pt x="71941" y="8607"/>
                </a:lnTo>
                <a:lnTo>
                  <a:pt x="65579" y="11665"/>
                </a:lnTo>
                <a:lnTo>
                  <a:pt x="52583" y="18731"/>
                </a:lnTo>
                <a:lnTo>
                  <a:pt x="41162" y="24693"/>
                </a:lnTo>
                <a:lnTo>
                  <a:pt x="35746" y="28315"/>
                </a:lnTo>
                <a:lnTo>
                  <a:pt x="30441" y="32424"/>
                </a:lnTo>
                <a:lnTo>
                  <a:pt x="25212" y="36856"/>
                </a:lnTo>
                <a:lnTo>
                  <a:pt x="20879" y="40657"/>
                </a:lnTo>
                <a:lnTo>
                  <a:pt x="13807" y="47138"/>
                </a:lnTo>
                <a:lnTo>
                  <a:pt x="10735" y="50899"/>
                </a:lnTo>
                <a:lnTo>
                  <a:pt x="7842" y="55099"/>
                </a:lnTo>
                <a:lnTo>
                  <a:pt x="5065" y="59592"/>
                </a:lnTo>
                <a:lnTo>
                  <a:pt x="3215" y="64281"/>
                </a:lnTo>
                <a:lnTo>
                  <a:pt x="1981" y="69101"/>
                </a:lnTo>
                <a:lnTo>
                  <a:pt x="1158" y="74007"/>
                </a:lnTo>
                <a:lnTo>
                  <a:pt x="610" y="78971"/>
                </a:lnTo>
                <a:lnTo>
                  <a:pt x="244" y="83974"/>
                </a:lnTo>
                <a:lnTo>
                  <a:pt x="0" y="89003"/>
                </a:lnTo>
                <a:lnTo>
                  <a:pt x="1531" y="94048"/>
                </a:lnTo>
                <a:lnTo>
                  <a:pt x="4245" y="99106"/>
                </a:lnTo>
                <a:lnTo>
                  <a:pt x="7747" y="104170"/>
                </a:lnTo>
                <a:lnTo>
                  <a:pt x="10929" y="107546"/>
                </a:lnTo>
                <a:lnTo>
                  <a:pt x="13897" y="109797"/>
                </a:lnTo>
                <a:lnTo>
                  <a:pt x="20299" y="113145"/>
                </a:lnTo>
                <a:lnTo>
                  <a:pt x="28789" y="117456"/>
                </a:lnTo>
                <a:lnTo>
                  <a:pt x="33424" y="118944"/>
                </a:lnTo>
                <a:lnTo>
                  <a:pt x="38207" y="119936"/>
                </a:lnTo>
                <a:lnTo>
                  <a:pt x="43089" y="120597"/>
                </a:lnTo>
                <a:lnTo>
                  <a:pt x="48037" y="120191"/>
                </a:lnTo>
                <a:lnTo>
                  <a:pt x="53029" y="119074"/>
                </a:lnTo>
                <a:lnTo>
                  <a:pt x="77253" y="111197"/>
                </a:lnTo>
                <a:lnTo>
                  <a:pt x="83513" y="107998"/>
                </a:lnTo>
                <a:lnTo>
                  <a:pt x="89380" y="104173"/>
                </a:lnTo>
                <a:lnTo>
                  <a:pt x="94984" y="99928"/>
                </a:lnTo>
                <a:lnTo>
                  <a:pt x="99567" y="96251"/>
                </a:lnTo>
                <a:lnTo>
                  <a:pt x="103468" y="92955"/>
                </a:lnTo>
                <a:lnTo>
                  <a:pt x="106917" y="89910"/>
                </a:lnTo>
                <a:lnTo>
                  <a:pt x="110909" y="85339"/>
                </a:lnTo>
                <a:lnTo>
                  <a:pt x="115263" y="79753"/>
                </a:lnTo>
                <a:lnTo>
                  <a:pt x="119860" y="73489"/>
                </a:lnTo>
                <a:lnTo>
                  <a:pt x="123771" y="68466"/>
                </a:lnTo>
                <a:lnTo>
                  <a:pt x="127225" y="64270"/>
                </a:lnTo>
                <a:lnTo>
                  <a:pt x="130374" y="60626"/>
                </a:lnTo>
                <a:lnTo>
                  <a:pt x="133321" y="55657"/>
                </a:lnTo>
                <a:lnTo>
                  <a:pt x="136131" y="49805"/>
                </a:lnTo>
                <a:lnTo>
                  <a:pt x="138852" y="43363"/>
                </a:lnTo>
                <a:lnTo>
                  <a:pt x="140666" y="38222"/>
                </a:lnTo>
                <a:lnTo>
                  <a:pt x="141875" y="33947"/>
                </a:lnTo>
                <a:lnTo>
                  <a:pt x="142681" y="30252"/>
                </a:lnTo>
                <a:lnTo>
                  <a:pt x="143218" y="26941"/>
                </a:lnTo>
                <a:lnTo>
                  <a:pt x="143576" y="23887"/>
                </a:lnTo>
                <a:lnTo>
                  <a:pt x="143815" y="21005"/>
                </a:lnTo>
                <a:lnTo>
                  <a:pt x="143974" y="17390"/>
                </a:lnTo>
                <a:lnTo>
                  <a:pt x="14429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InkAnnotation222"/>
          <p:cNvSpPr/>
          <p:nvPr/>
        </p:nvSpPr>
        <p:spPr>
          <a:xfrm>
            <a:off x="6316560" y="6302520"/>
            <a:ext cx="312840" cy="210960"/>
          </a:xfrm>
          <a:custGeom>
            <a:avLst/>
            <a:gdLst>
              <a:gd name="textAreaLeft" fmla="*/ 0 w 312840"/>
              <a:gd name="textAreaRight" fmla="*/ 313200 w 312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312382" h="211724">
                <a:moveTo>
                  <a:pt x="0" y="91440"/>
                </a:moveTo>
                <a:lnTo>
                  <a:pt x="7611" y="91440"/>
                </a:lnTo>
                <a:lnTo>
                  <a:pt x="7620" y="102045"/>
                </a:lnTo>
                <a:lnTo>
                  <a:pt x="6773" y="104437"/>
                </a:lnTo>
                <a:lnTo>
                  <a:pt x="3575" y="109352"/>
                </a:lnTo>
                <a:lnTo>
                  <a:pt x="1589" y="114358"/>
                </a:lnTo>
                <a:lnTo>
                  <a:pt x="1059" y="116879"/>
                </a:lnTo>
                <a:lnTo>
                  <a:pt x="1553" y="120252"/>
                </a:lnTo>
                <a:lnTo>
                  <a:pt x="2729" y="124195"/>
                </a:lnTo>
                <a:lnTo>
                  <a:pt x="4359" y="128517"/>
                </a:lnTo>
                <a:lnTo>
                  <a:pt x="5446" y="133090"/>
                </a:lnTo>
                <a:lnTo>
                  <a:pt x="6171" y="137834"/>
                </a:lnTo>
                <a:lnTo>
                  <a:pt x="6653" y="142689"/>
                </a:lnTo>
                <a:lnTo>
                  <a:pt x="8669" y="146773"/>
                </a:lnTo>
                <a:lnTo>
                  <a:pt x="11706" y="150342"/>
                </a:lnTo>
                <a:lnTo>
                  <a:pt x="15425" y="153568"/>
                </a:lnTo>
                <a:lnTo>
                  <a:pt x="19596" y="157411"/>
                </a:lnTo>
                <a:lnTo>
                  <a:pt x="28747" y="166198"/>
                </a:lnTo>
                <a:lnTo>
                  <a:pt x="33558" y="170066"/>
                </a:lnTo>
                <a:lnTo>
                  <a:pt x="38459" y="173491"/>
                </a:lnTo>
                <a:lnTo>
                  <a:pt x="43419" y="176620"/>
                </a:lnTo>
                <a:lnTo>
                  <a:pt x="48420" y="179553"/>
                </a:lnTo>
                <a:lnTo>
                  <a:pt x="53447" y="182355"/>
                </a:lnTo>
                <a:lnTo>
                  <a:pt x="63548" y="187727"/>
                </a:lnTo>
                <a:lnTo>
                  <a:pt x="73681" y="192936"/>
                </a:lnTo>
                <a:lnTo>
                  <a:pt x="78754" y="194664"/>
                </a:lnTo>
                <a:lnTo>
                  <a:pt x="83830" y="195815"/>
                </a:lnTo>
                <a:lnTo>
                  <a:pt x="88906" y="196584"/>
                </a:lnTo>
                <a:lnTo>
                  <a:pt x="93984" y="197096"/>
                </a:lnTo>
                <a:lnTo>
                  <a:pt x="99062" y="197437"/>
                </a:lnTo>
                <a:lnTo>
                  <a:pt x="104142" y="197665"/>
                </a:lnTo>
                <a:lnTo>
                  <a:pt x="109221" y="196123"/>
                </a:lnTo>
                <a:lnTo>
                  <a:pt x="114301" y="193402"/>
                </a:lnTo>
                <a:lnTo>
                  <a:pt x="119381" y="189894"/>
                </a:lnTo>
                <a:lnTo>
                  <a:pt x="127283" y="183740"/>
                </a:lnTo>
                <a:lnTo>
                  <a:pt x="134464" y="178182"/>
                </a:lnTo>
                <a:lnTo>
                  <a:pt x="143300" y="172889"/>
                </a:lnTo>
                <a:lnTo>
                  <a:pt x="150614" y="167716"/>
                </a:lnTo>
                <a:lnTo>
                  <a:pt x="153749" y="165150"/>
                </a:lnTo>
                <a:lnTo>
                  <a:pt x="156686" y="161746"/>
                </a:lnTo>
                <a:lnTo>
                  <a:pt x="159491" y="157784"/>
                </a:lnTo>
                <a:lnTo>
                  <a:pt x="162207" y="153449"/>
                </a:lnTo>
                <a:lnTo>
                  <a:pt x="164019" y="149712"/>
                </a:lnTo>
                <a:lnTo>
                  <a:pt x="166030" y="143303"/>
                </a:lnTo>
                <a:lnTo>
                  <a:pt x="166925" y="137632"/>
                </a:lnTo>
                <a:lnTo>
                  <a:pt x="167163" y="134935"/>
                </a:lnTo>
                <a:lnTo>
                  <a:pt x="166476" y="133136"/>
                </a:lnTo>
                <a:lnTo>
                  <a:pt x="165171" y="131938"/>
                </a:lnTo>
                <a:lnTo>
                  <a:pt x="161037" y="130013"/>
                </a:lnTo>
                <a:lnTo>
                  <a:pt x="164367" y="133725"/>
                </a:lnTo>
                <a:lnTo>
                  <a:pt x="165458" y="136563"/>
                </a:lnTo>
                <a:lnTo>
                  <a:pt x="166186" y="140149"/>
                </a:lnTo>
                <a:lnTo>
                  <a:pt x="166670" y="144233"/>
                </a:lnTo>
                <a:lnTo>
                  <a:pt x="168687" y="148648"/>
                </a:lnTo>
                <a:lnTo>
                  <a:pt x="171724" y="153286"/>
                </a:lnTo>
                <a:lnTo>
                  <a:pt x="175443" y="158070"/>
                </a:lnTo>
                <a:lnTo>
                  <a:pt x="178768" y="162954"/>
                </a:lnTo>
                <a:lnTo>
                  <a:pt x="181833" y="167902"/>
                </a:lnTo>
                <a:lnTo>
                  <a:pt x="184722" y="172894"/>
                </a:lnTo>
                <a:lnTo>
                  <a:pt x="188342" y="177916"/>
                </a:lnTo>
                <a:lnTo>
                  <a:pt x="192447" y="182957"/>
                </a:lnTo>
                <a:lnTo>
                  <a:pt x="196878" y="188011"/>
                </a:lnTo>
                <a:lnTo>
                  <a:pt x="201525" y="192228"/>
                </a:lnTo>
                <a:lnTo>
                  <a:pt x="206317" y="195885"/>
                </a:lnTo>
                <a:lnTo>
                  <a:pt x="211205" y="199170"/>
                </a:lnTo>
                <a:lnTo>
                  <a:pt x="216156" y="202206"/>
                </a:lnTo>
                <a:lnTo>
                  <a:pt x="221151" y="205077"/>
                </a:lnTo>
                <a:lnTo>
                  <a:pt x="230369" y="209679"/>
                </a:lnTo>
                <a:lnTo>
                  <a:pt x="237289" y="211723"/>
                </a:lnTo>
                <a:lnTo>
                  <a:pt x="241166" y="211422"/>
                </a:lnTo>
                <a:lnTo>
                  <a:pt x="249990" y="208830"/>
                </a:lnTo>
                <a:lnTo>
                  <a:pt x="259556" y="202598"/>
                </a:lnTo>
                <a:lnTo>
                  <a:pt x="264477" y="198565"/>
                </a:lnTo>
                <a:lnTo>
                  <a:pt x="268605" y="194183"/>
                </a:lnTo>
                <a:lnTo>
                  <a:pt x="272203" y="189569"/>
                </a:lnTo>
                <a:lnTo>
                  <a:pt x="275449" y="184799"/>
                </a:lnTo>
                <a:lnTo>
                  <a:pt x="278459" y="179080"/>
                </a:lnTo>
                <a:lnTo>
                  <a:pt x="281313" y="172726"/>
                </a:lnTo>
                <a:lnTo>
                  <a:pt x="284062" y="165950"/>
                </a:lnTo>
                <a:lnTo>
                  <a:pt x="286742" y="158047"/>
                </a:lnTo>
                <a:lnTo>
                  <a:pt x="289374" y="149392"/>
                </a:lnTo>
                <a:lnTo>
                  <a:pt x="294558" y="131590"/>
                </a:lnTo>
                <a:lnTo>
                  <a:pt x="299684" y="115210"/>
                </a:lnTo>
                <a:lnTo>
                  <a:pt x="304783" y="97207"/>
                </a:lnTo>
                <a:lnTo>
                  <a:pt x="307330" y="87665"/>
                </a:lnTo>
                <a:lnTo>
                  <a:pt x="309026" y="78763"/>
                </a:lnTo>
                <a:lnTo>
                  <a:pt x="310157" y="70288"/>
                </a:lnTo>
                <a:lnTo>
                  <a:pt x="310912" y="62099"/>
                </a:lnTo>
                <a:lnTo>
                  <a:pt x="311415" y="54946"/>
                </a:lnTo>
                <a:lnTo>
                  <a:pt x="311749" y="48483"/>
                </a:lnTo>
                <a:lnTo>
                  <a:pt x="312122" y="36788"/>
                </a:lnTo>
                <a:lnTo>
                  <a:pt x="312381" y="14367"/>
                </a:lnTo>
                <a:lnTo>
                  <a:pt x="311547" y="11271"/>
                </a:lnTo>
                <a:lnTo>
                  <a:pt x="308364" y="5574"/>
                </a:lnTo>
                <a:lnTo>
                  <a:pt x="3048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InkAnnotation223"/>
          <p:cNvSpPr/>
          <p:nvPr/>
        </p:nvSpPr>
        <p:spPr>
          <a:xfrm>
            <a:off x="7924680" y="5273640"/>
            <a:ext cx="168480" cy="14400"/>
          </a:xfrm>
          <a:custGeom>
            <a:avLst/>
            <a:gdLst>
              <a:gd name="textAreaLeft" fmla="*/ 0 w 168480"/>
              <a:gd name="textAreaRight" fmla="*/ 168840 w 1684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7641" h="15241">
                <a:moveTo>
                  <a:pt x="0" y="15240"/>
                </a:moveTo>
                <a:lnTo>
                  <a:pt x="50944" y="15240"/>
                </a:lnTo>
                <a:lnTo>
                  <a:pt x="56823" y="14393"/>
                </a:lnTo>
                <a:lnTo>
                  <a:pt x="63282" y="12983"/>
                </a:lnTo>
                <a:lnTo>
                  <a:pt x="70128" y="11195"/>
                </a:lnTo>
                <a:lnTo>
                  <a:pt x="77231" y="10003"/>
                </a:lnTo>
                <a:lnTo>
                  <a:pt x="84509" y="9209"/>
                </a:lnTo>
                <a:lnTo>
                  <a:pt x="91899" y="8679"/>
                </a:lnTo>
                <a:lnTo>
                  <a:pt x="99366" y="8326"/>
                </a:lnTo>
                <a:lnTo>
                  <a:pt x="114436" y="7934"/>
                </a:lnTo>
                <a:lnTo>
                  <a:pt x="122011" y="6983"/>
                </a:lnTo>
                <a:lnTo>
                  <a:pt x="129600" y="5502"/>
                </a:lnTo>
                <a:lnTo>
                  <a:pt x="137200" y="3668"/>
                </a:lnTo>
                <a:lnTo>
                  <a:pt x="143961" y="2445"/>
                </a:lnTo>
                <a:lnTo>
                  <a:pt x="150160" y="1630"/>
                </a:lnTo>
                <a:lnTo>
                  <a:pt x="1676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InkAnnotation224"/>
          <p:cNvSpPr/>
          <p:nvPr/>
        </p:nvSpPr>
        <p:spPr>
          <a:xfrm>
            <a:off x="8066160" y="5013360"/>
            <a:ext cx="223920" cy="114120"/>
          </a:xfrm>
          <a:custGeom>
            <a:avLst/>
            <a:gdLst>
              <a:gd name="textAreaLeft" fmla="*/ 0 w 223920"/>
              <a:gd name="textAreaRight" fmla="*/ 224280 w 223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4348" h="114197">
                <a:moveTo>
                  <a:pt x="94808" y="0"/>
                </a:moveTo>
                <a:lnTo>
                  <a:pt x="87501" y="0"/>
                </a:lnTo>
                <a:lnTo>
                  <a:pt x="85070" y="2257"/>
                </a:lnTo>
                <a:lnTo>
                  <a:pt x="69284" y="17912"/>
                </a:lnTo>
                <a:lnTo>
                  <a:pt x="65938" y="20408"/>
                </a:lnTo>
                <a:lnTo>
                  <a:pt x="62015" y="22919"/>
                </a:lnTo>
                <a:lnTo>
                  <a:pt x="57705" y="25439"/>
                </a:lnTo>
                <a:lnTo>
                  <a:pt x="53987" y="28813"/>
                </a:lnTo>
                <a:lnTo>
                  <a:pt x="50660" y="32755"/>
                </a:lnTo>
                <a:lnTo>
                  <a:pt x="47595" y="37077"/>
                </a:lnTo>
                <a:lnTo>
                  <a:pt x="43860" y="40804"/>
                </a:lnTo>
                <a:lnTo>
                  <a:pt x="39676" y="44136"/>
                </a:lnTo>
                <a:lnTo>
                  <a:pt x="35193" y="47204"/>
                </a:lnTo>
                <a:lnTo>
                  <a:pt x="31357" y="50943"/>
                </a:lnTo>
                <a:lnTo>
                  <a:pt x="27954" y="55128"/>
                </a:lnTo>
                <a:lnTo>
                  <a:pt x="24838" y="59612"/>
                </a:lnTo>
                <a:lnTo>
                  <a:pt x="21915" y="63448"/>
                </a:lnTo>
                <a:lnTo>
                  <a:pt x="19119" y="66852"/>
                </a:lnTo>
                <a:lnTo>
                  <a:pt x="16409" y="69968"/>
                </a:lnTo>
                <a:lnTo>
                  <a:pt x="13754" y="72892"/>
                </a:lnTo>
                <a:lnTo>
                  <a:pt x="8549" y="78399"/>
                </a:lnTo>
                <a:lnTo>
                  <a:pt x="857" y="86259"/>
                </a:lnTo>
                <a:lnTo>
                  <a:pt x="0" y="88833"/>
                </a:lnTo>
                <a:lnTo>
                  <a:pt x="275" y="91395"/>
                </a:lnTo>
                <a:lnTo>
                  <a:pt x="1306" y="93950"/>
                </a:lnTo>
                <a:lnTo>
                  <a:pt x="1993" y="96500"/>
                </a:lnTo>
                <a:lnTo>
                  <a:pt x="2451" y="99047"/>
                </a:lnTo>
                <a:lnTo>
                  <a:pt x="2756" y="101591"/>
                </a:lnTo>
                <a:lnTo>
                  <a:pt x="3806" y="103288"/>
                </a:lnTo>
                <a:lnTo>
                  <a:pt x="5353" y="104418"/>
                </a:lnTo>
                <a:lnTo>
                  <a:pt x="10176" y="106522"/>
                </a:lnTo>
                <a:lnTo>
                  <a:pt x="17964" y="110278"/>
                </a:lnTo>
                <a:lnTo>
                  <a:pt x="23259" y="111619"/>
                </a:lnTo>
                <a:lnTo>
                  <a:pt x="29329" y="112512"/>
                </a:lnTo>
                <a:lnTo>
                  <a:pt x="35915" y="113108"/>
                </a:lnTo>
                <a:lnTo>
                  <a:pt x="42846" y="113506"/>
                </a:lnTo>
                <a:lnTo>
                  <a:pt x="57319" y="113947"/>
                </a:lnTo>
                <a:lnTo>
                  <a:pt x="83794" y="114196"/>
                </a:lnTo>
                <a:lnTo>
                  <a:pt x="92546" y="113384"/>
                </a:lnTo>
                <a:lnTo>
                  <a:pt x="100920" y="111996"/>
                </a:lnTo>
                <a:lnTo>
                  <a:pt x="109042" y="110224"/>
                </a:lnTo>
                <a:lnTo>
                  <a:pt x="116996" y="108196"/>
                </a:lnTo>
                <a:lnTo>
                  <a:pt x="124842" y="105997"/>
                </a:lnTo>
                <a:lnTo>
                  <a:pt x="132609" y="103685"/>
                </a:lnTo>
                <a:lnTo>
                  <a:pt x="140329" y="102143"/>
                </a:lnTo>
                <a:lnTo>
                  <a:pt x="148015" y="101116"/>
                </a:lnTo>
                <a:lnTo>
                  <a:pt x="155679" y="100430"/>
                </a:lnTo>
                <a:lnTo>
                  <a:pt x="163328" y="99127"/>
                </a:lnTo>
                <a:lnTo>
                  <a:pt x="170969" y="97412"/>
                </a:lnTo>
                <a:lnTo>
                  <a:pt x="178601" y="95421"/>
                </a:lnTo>
                <a:lnTo>
                  <a:pt x="184536" y="93247"/>
                </a:lnTo>
                <a:lnTo>
                  <a:pt x="189340" y="90952"/>
                </a:lnTo>
                <a:lnTo>
                  <a:pt x="193389" y="88574"/>
                </a:lnTo>
                <a:lnTo>
                  <a:pt x="197782" y="85296"/>
                </a:lnTo>
                <a:lnTo>
                  <a:pt x="202404" y="81417"/>
                </a:lnTo>
                <a:lnTo>
                  <a:pt x="207178" y="77138"/>
                </a:lnTo>
                <a:lnTo>
                  <a:pt x="211208" y="74285"/>
                </a:lnTo>
                <a:lnTo>
                  <a:pt x="214741" y="72384"/>
                </a:lnTo>
                <a:lnTo>
                  <a:pt x="224347" y="685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InkAnnotation225"/>
          <p:cNvSpPr/>
          <p:nvPr/>
        </p:nvSpPr>
        <p:spPr>
          <a:xfrm>
            <a:off x="8175600" y="4991040"/>
            <a:ext cx="92160" cy="304920"/>
          </a:xfrm>
          <a:custGeom>
            <a:avLst/>
            <a:gdLst>
              <a:gd name="textAreaLeft" fmla="*/ 0 w 92160"/>
              <a:gd name="textAreaRight" fmla="*/ 92520 w 92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91441" h="304801">
                <a:moveTo>
                  <a:pt x="91440" y="0"/>
                </a:moveTo>
                <a:lnTo>
                  <a:pt x="84878" y="6561"/>
                </a:lnTo>
                <a:lnTo>
                  <a:pt x="84133" y="15397"/>
                </a:lnTo>
                <a:lnTo>
                  <a:pt x="81702" y="24059"/>
                </a:lnTo>
                <a:lnTo>
                  <a:pt x="79868" y="28739"/>
                </a:lnTo>
                <a:lnTo>
                  <a:pt x="78645" y="33553"/>
                </a:lnTo>
                <a:lnTo>
                  <a:pt x="77831" y="38456"/>
                </a:lnTo>
                <a:lnTo>
                  <a:pt x="77287" y="43417"/>
                </a:lnTo>
                <a:lnTo>
                  <a:pt x="76078" y="49264"/>
                </a:lnTo>
                <a:lnTo>
                  <a:pt x="74425" y="55704"/>
                </a:lnTo>
                <a:lnTo>
                  <a:pt x="72478" y="62536"/>
                </a:lnTo>
                <a:lnTo>
                  <a:pt x="70331" y="68784"/>
                </a:lnTo>
                <a:lnTo>
                  <a:pt x="68055" y="74642"/>
                </a:lnTo>
                <a:lnTo>
                  <a:pt x="65689" y="80242"/>
                </a:lnTo>
                <a:lnTo>
                  <a:pt x="63266" y="87361"/>
                </a:lnTo>
                <a:lnTo>
                  <a:pt x="60805" y="95494"/>
                </a:lnTo>
                <a:lnTo>
                  <a:pt x="58316" y="104303"/>
                </a:lnTo>
                <a:lnTo>
                  <a:pt x="53293" y="120864"/>
                </a:lnTo>
                <a:lnTo>
                  <a:pt x="35557" y="175199"/>
                </a:lnTo>
                <a:lnTo>
                  <a:pt x="33019" y="183686"/>
                </a:lnTo>
                <a:lnTo>
                  <a:pt x="25399" y="210965"/>
                </a:lnTo>
                <a:lnTo>
                  <a:pt x="20320" y="227535"/>
                </a:lnTo>
                <a:lnTo>
                  <a:pt x="17780" y="234664"/>
                </a:lnTo>
                <a:lnTo>
                  <a:pt x="15240" y="241109"/>
                </a:lnTo>
                <a:lnTo>
                  <a:pt x="12700" y="247099"/>
                </a:lnTo>
                <a:lnTo>
                  <a:pt x="11007" y="253633"/>
                </a:lnTo>
                <a:lnTo>
                  <a:pt x="9878" y="260529"/>
                </a:lnTo>
                <a:lnTo>
                  <a:pt x="9125" y="267665"/>
                </a:lnTo>
                <a:lnTo>
                  <a:pt x="7777" y="273271"/>
                </a:lnTo>
                <a:lnTo>
                  <a:pt x="6031" y="277854"/>
                </a:lnTo>
                <a:lnTo>
                  <a:pt x="4021" y="281756"/>
                </a:lnTo>
                <a:lnTo>
                  <a:pt x="1787" y="288349"/>
                </a:lnTo>
                <a:lnTo>
                  <a:pt x="529" y="296821"/>
                </a:lnTo>
                <a:lnTo>
                  <a:pt x="0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InkAnnotation226"/>
          <p:cNvSpPr/>
          <p:nvPr/>
        </p:nvSpPr>
        <p:spPr>
          <a:xfrm>
            <a:off x="8082000" y="5357880"/>
            <a:ext cx="128520" cy="128520"/>
          </a:xfrm>
          <a:custGeom>
            <a:avLst/>
            <a:gdLst>
              <a:gd name="textAreaLeft" fmla="*/ 0 w 128520"/>
              <a:gd name="textAreaRight" fmla="*/ 128880 w 1285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9543" h="127832">
                <a:moveTo>
                  <a:pt x="117593" y="13693"/>
                </a:moveTo>
                <a:lnTo>
                  <a:pt x="129542" y="13693"/>
                </a:lnTo>
                <a:lnTo>
                  <a:pt x="121386" y="13693"/>
                </a:lnTo>
                <a:lnTo>
                  <a:pt x="118428" y="14539"/>
                </a:lnTo>
                <a:lnTo>
                  <a:pt x="114763" y="15951"/>
                </a:lnTo>
                <a:lnTo>
                  <a:pt x="110626" y="17738"/>
                </a:lnTo>
                <a:lnTo>
                  <a:pt x="106176" y="20624"/>
                </a:lnTo>
                <a:lnTo>
                  <a:pt x="101515" y="24239"/>
                </a:lnTo>
                <a:lnTo>
                  <a:pt x="96715" y="28344"/>
                </a:lnTo>
                <a:lnTo>
                  <a:pt x="91821" y="31927"/>
                </a:lnTo>
                <a:lnTo>
                  <a:pt x="86865" y="35162"/>
                </a:lnTo>
                <a:lnTo>
                  <a:pt x="81868" y="38166"/>
                </a:lnTo>
                <a:lnTo>
                  <a:pt x="69542" y="46019"/>
                </a:lnTo>
                <a:lnTo>
                  <a:pt x="62699" y="50484"/>
                </a:lnTo>
                <a:lnTo>
                  <a:pt x="56444" y="55154"/>
                </a:lnTo>
                <a:lnTo>
                  <a:pt x="50581" y="59960"/>
                </a:lnTo>
                <a:lnTo>
                  <a:pt x="44979" y="64858"/>
                </a:lnTo>
                <a:lnTo>
                  <a:pt x="39549" y="68970"/>
                </a:lnTo>
                <a:lnTo>
                  <a:pt x="34237" y="72557"/>
                </a:lnTo>
                <a:lnTo>
                  <a:pt x="29003" y="75796"/>
                </a:lnTo>
                <a:lnTo>
                  <a:pt x="24666" y="79649"/>
                </a:lnTo>
                <a:lnTo>
                  <a:pt x="20929" y="83910"/>
                </a:lnTo>
                <a:lnTo>
                  <a:pt x="17590" y="88445"/>
                </a:lnTo>
                <a:lnTo>
                  <a:pt x="14518" y="92314"/>
                </a:lnTo>
                <a:lnTo>
                  <a:pt x="11623" y="95741"/>
                </a:lnTo>
                <a:lnTo>
                  <a:pt x="8847" y="98872"/>
                </a:lnTo>
                <a:lnTo>
                  <a:pt x="6149" y="102652"/>
                </a:lnTo>
                <a:lnTo>
                  <a:pt x="3504" y="106866"/>
                </a:lnTo>
                <a:lnTo>
                  <a:pt x="894" y="111368"/>
                </a:lnTo>
                <a:lnTo>
                  <a:pt x="0" y="115217"/>
                </a:lnTo>
                <a:lnTo>
                  <a:pt x="252" y="118629"/>
                </a:lnTo>
                <a:lnTo>
                  <a:pt x="1266" y="121750"/>
                </a:lnTo>
                <a:lnTo>
                  <a:pt x="2788" y="123831"/>
                </a:lnTo>
                <a:lnTo>
                  <a:pt x="4651" y="125219"/>
                </a:lnTo>
                <a:lnTo>
                  <a:pt x="6738" y="126144"/>
                </a:lnTo>
                <a:lnTo>
                  <a:pt x="9823" y="126760"/>
                </a:lnTo>
                <a:lnTo>
                  <a:pt x="13573" y="127171"/>
                </a:lnTo>
                <a:lnTo>
                  <a:pt x="17767" y="127445"/>
                </a:lnTo>
                <a:lnTo>
                  <a:pt x="22257" y="127628"/>
                </a:lnTo>
                <a:lnTo>
                  <a:pt x="31758" y="127831"/>
                </a:lnTo>
                <a:lnTo>
                  <a:pt x="35817" y="127038"/>
                </a:lnTo>
                <a:lnTo>
                  <a:pt x="39370" y="125663"/>
                </a:lnTo>
                <a:lnTo>
                  <a:pt x="42584" y="123900"/>
                </a:lnTo>
                <a:lnTo>
                  <a:pt x="47268" y="121031"/>
                </a:lnTo>
                <a:lnTo>
                  <a:pt x="59245" y="113328"/>
                </a:lnTo>
                <a:lnTo>
                  <a:pt x="65148" y="108903"/>
                </a:lnTo>
                <a:lnTo>
                  <a:pt x="70775" y="104260"/>
                </a:lnTo>
                <a:lnTo>
                  <a:pt x="76222" y="99471"/>
                </a:lnTo>
                <a:lnTo>
                  <a:pt x="80700" y="94585"/>
                </a:lnTo>
                <a:lnTo>
                  <a:pt x="84530" y="89635"/>
                </a:lnTo>
                <a:lnTo>
                  <a:pt x="87932" y="84640"/>
                </a:lnTo>
                <a:lnTo>
                  <a:pt x="91045" y="78772"/>
                </a:lnTo>
                <a:lnTo>
                  <a:pt x="93969" y="72319"/>
                </a:lnTo>
                <a:lnTo>
                  <a:pt x="96764" y="65477"/>
                </a:lnTo>
                <a:lnTo>
                  <a:pt x="99474" y="59223"/>
                </a:lnTo>
                <a:lnTo>
                  <a:pt x="104742" y="47757"/>
                </a:lnTo>
                <a:lnTo>
                  <a:pt x="105640" y="42329"/>
                </a:lnTo>
                <a:lnTo>
                  <a:pt x="105390" y="37017"/>
                </a:lnTo>
                <a:lnTo>
                  <a:pt x="104378" y="31783"/>
                </a:lnTo>
                <a:lnTo>
                  <a:pt x="103704" y="27446"/>
                </a:lnTo>
                <a:lnTo>
                  <a:pt x="103252" y="23709"/>
                </a:lnTo>
                <a:lnTo>
                  <a:pt x="102953" y="20370"/>
                </a:lnTo>
                <a:lnTo>
                  <a:pt x="102753" y="17297"/>
                </a:lnTo>
                <a:lnTo>
                  <a:pt x="102620" y="14403"/>
                </a:lnTo>
                <a:lnTo>
                  <a:pt x="102532" y="11626"/>
                </a:lnTo>
                <a:lnTo>
                  <a:pt x="101625" y="8929"/>
                </a:lnTo>
                <a:lnTo>
                  <a:pt x="100175" y="6283"/>
                </a:lnTo>
                <a:lnTo>
                  <a:pt x="98361" y="3673"/>
                </a:lnTo>
                <a:lnTo>
                  <a:pt x="96306" y="1933"/>
                </a:lnTo>
                <a:lnTo>
                  <a:pt x="94088" y="773"/>
                </a:lnTo>
                <a:lnTo>
                  <a:pt x="91764" y="0"/>
                </a:lnTo>
                <a:lnTo>
                  <a:pt x="88520" y="331"/>
                </a:lnTo>
                <a:lnTo>
                  <a:pt x="84664" y="1398"/>
                </a:lnTo>
                <a:lnTo>
                  <a:pt x="80400" y="2956"/>
                </a:lnTo>
                <a:lnTo>
                  <a:pt x="76711" y="3996"/>
                </a:lnTo>
                <a:lnTo>
                  <a:pt x="73405" y="4688"/>
                </a:lnTo>
                <a:lnTo>
                  <a:pt x="70354" y="5149"/>
                </a:lnTo>
                <a:lnTo>
                  <a:pt x="67475" y="5457"/>
                </a:lnTo>
                <a:lnTo>
                  <a:pt x="64708" y="5662"/>
                </a:lnTo>
                <a:lnTo>
                  <a:pt x="56634" y="607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InkAnnotation227"/>
          <p:cNvSpPr/>
          <p:nvPr/>
        </p:nvSpPr>
        <p:spPr>
          <a:xfrm>
            <a:off x="8327880" y="5288040"/>
            <a:ext cx="222480" cy="15840"/>
          </a:xfrm>
          <a:custGeom>
            <a:avLst/>
            <a:gdLst>
              <a:gd name="textAreaLeft" fmla="*/ 0 w 222480"/>
              <a:gd name="textAreaRight" fmla="*/ 222840 w 2224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0983" h="15232">
                <a:moveTo>
                  <a:pt x="0" y="7611"/>
                </a:moveTo>
                <a:lnTo>
                  <a:pt x="17913" y="7611"/>
                </a:lnTo>
                <a:lnTo>
                  <a:pt x="22103" y="6765"/>
                </a:lnTo>
                <a:lnTo>
                  <a:pt x="27434" y="5354"/>
                </a:lnTo>
                <a:lnTo>
                  <a:pt x="33530" y="3567"/>
                </a:lnTo>
                <a:lnTo>
                  <a:pt x="40133" y="2374"/>
                </a:lnTo>
                <a:lnTo>
                  <a:pt x="47076" y="1580"/>
                </a:lnTo>
                <a:lnTo>
                  <a:pt x="54243" y="1051"/>
                </a:lnTo>
                <a:lnTo>
                  <a:pt x="61564" y="697"/>
                </a:lnTo>
                <a:lnTo>
                  <a:pt x="76469" y="306"/>
                </a:lnTo>
                <a:lnTo>
                  <a:pt x="148049" y="0"/>
                </a:lnTo>
                <a:lnTo>
                  <a:pt x="154580" y="844"/>
                </a:lnTo>
                <a:lnTo>
                  <a:pt x="161474" y="2253"/>
                </a:lnTo>
                <a:lnTo>
                  <a:pt x="168609" y="4039"/>
                </a:lnTo>
                <a:lnTo>
                  <a:pt x="175060" y="5230"/>
                </a:lnTo>
                <a:lnTo>
                  <a:pt x="181054" y="6024"/>
                </a:lnTo>
                <a:lnTo>
                  <a:pt x="186744" y="6553"/>
                </a:lnTo>
                <a:lnTo>
                  <a:pt x="191382" y="7753"/>
                </a:lnTo>
                <a:lnTo>
                  <a:pt x="195323" y="9399"/>
                </a:lnTo>
                <a:lnTo>
                  <a:pt x="198796" y="11343"/>
                </a:lnTo>
                <a:lnTo>
                  <a:pt x="201958" y="12639"/>
                </a:lnTo>
                <a:lnTo>
                  <a:pt x="204912" y="13504"/>
                </a:lnTo>
                <a:lnTo>
                  <a:pt x="207728" y="14080"/>
                </a:lnTo>
                <a:lnTo>
                  <a:pt x="210452" y="14464"/>
                </a:lnTo>
                <a:lnTo>
                  <a:pt x="215738" y="14890"/>
                </a:lnTo>
                <a:lnTo>
                  <a:pt x="220982" y="152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InkAnnotation228"/>
          <p:cNvSpPr/>
          <p:nvPr/>
        </p:nvSpPr>
        <p:spPr>
          <a:xfrm>
            <a:off x="8313840" y="5410080"/>
            <a:ext cx="198360" cy="30240"/>
          </a:xfrm>
          <a:custGeom>
            <a:avLst/>
            <a:gdLst>
              <a:gd name="textAreaLeft" fmla="*/ 0 w 198360"/>
              <a:gd name="textAreaRight" fmla="*/ 198720 w 1983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98122" h="29422">
                <a:moveTo>
                  <a:pt x="0" y="22860"/>
                </a:moveTo>
                <a:lnTo>
                  <a:pt x="11351" y="22860"/>
                </a:lnTo>
                <a:lnTo>
                  <a:pt x="14341" y="23706"/>
                </a:lnTo>
                <a:lnTo>
                  <a:pt x="18026" y="25117"/>
                </a:lnTo>
                <a:lnTo>
                  <a:pt x="22178" y="26905"/>
                </a:lnTo>
                <a:lnTo>
                  <a:pt x="27486" y="28097"/>
                </a:lnTo>
                <a:lnTo>
                  <a:pt x="33564" y="28891"/>
                </a:lnTo>
                <a:lnTo>
                  <a:pt x="40155" y="29421"/>
                </a:lnTo>
                <a:lnTo>
                  <a:pt x="46243" y="28927"/>
                </a:lnTo>
                <a:lnTo>
                  <a:pt x="51996" y="27751"/>
                </a:lnTo>
                <a:lnTo>
                  <a:pt x="57524" y="26122"/>
                </a:lnTo>
                <a:lnTo>
                  <a:pt x="64596" y="25034"/>
                </a:lnTo>
                <a:lnTo>
                  <a:pt x="72698" y="24309"/>
                </a:lnTo>
                <a:lnTo>
                  <a:pt x="81485" y="23826"/>
                </a:lnTo>
                <a:lnTo>
                  <a:pt x="100280" y="23290"/>
                </a:lnTo>
                <a:lnTo>
                  <a:pt x="110033" y="23146"/>
                </a:lnTo>
                <a:lnTo>
                  <a:pt x="119075" y="22204"/>
                </a:lnTo>
                <a:lnTo>
                  <a:pt x="127645" y="20730"/>
                </a:lnTo>
                <a:lnTo>
                  <a:pt x="135897" y="18900"/>
                </a:lnTo>
                <a:lnTo>
                  <a:pt x="143938" y="16834"/>
                </a:lnTo>
                <a:lnTo>
                  <a:pt x="151838" y="14609"/>
                </a:lnTo>
                <a:lnTo>
                  <a:pt x="159647" y="12279"/>
                </a:lnTo>
                <a:lnTo>
                  <a:pt x="166545" y="9879"/>
                </a:lnTo>
                <a:lnTo>
                  <a:pt x="172836" y="7433"/>
                </a:lnTo>
                <a:lnTo>
                  <a:pt x="178724" y="4956"/>
                </a:lnTo>
                <a:lnTo>
                  <a:pt x="183496" y="3304"/>
                </a:lnTo>
                <a:lnTo>
                  <a:pt x="187525" y="2202"/>
                </a:lnTo>
                <a:lnTo>
                  <a:pt x="19812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InkAnnotation229"/>
          <p:cNvSpPr/>
          <p:nvPr/>
        </p:nvSpPr>
        <p:spPr>
          <a:xfrm>
            <a:off x="8556480" y="5235480"/>
            <a:ext cx="333360" cy="195480"/>
          </a:xfrm>
          <a:custGeom>
            <a:avLst/>
            <a:gdLst>
              <a:gd name="textAreaLeft" fmla="*/ 0 w 333360"/>
              <a:gd name="textAreaRight" fmla="*/ 333360 w 3333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333280" h="196143">
                <a:moveTo>
                  <a:pt x="15210" y="68580"/>
                </a:moveTo>
                <a:lnTo>
                  <a:pt x="8648" y="68580"/>
                </a:lnTo>
                <a:lnTo>
                  <a:pt x="3859" y="72625"/>
                </a:lnTo>
                <a:lnTo>
                  <a:pt x="2562" y="74663"/>
                </a:lnTo>
                <a:lnTo>
                  <a:pt x="1122" y="79186"/>
                </a:lnTo>
                <a:lnTo>
                  <a:pt x="481" y="84018"/>
                </a:lnTo>
                <a:lnTo>
                  <a:pt x="198" y="89835"/>
                </a:lnTo>
                <a:lnTo>
                  <a:pt x="15" y="105108"/>
                </a:lnTo>
                <a:lnTo>
                  <a:pt x="0" y="108173"/>
                </a:lnTo>
                <a:lnTo>
                  <a:pt x="837" y="111908"/>
                </a:lnTo>
                <a:lnTo>
                  <a:pt x="2242" y="116092"/>
                </a:lnTo>
                <a:lnTo>
                  <a:pt x="4024" y="120575"/>
                </a:lnTo>
                <a:lnTo>
                  <a:pt x="6060" y="124410"/>
                </a:lnTo>
                <a:lnTo>
                  <a:pt x="8264" y="127813"/>
                </a:lnTo>
                <a:lnTo>
                  <a:pt x="10578" y="130929"/>
                </a:lnTo>
                <a:lnTo>
                  <a:pt x="14662" y="134700"/>
                </a:lnTo>
                <a:lnTo>
                  <a:pt x="19925" y="138906"/>
                </a:lnTo>
                <a:lnTo>
                  <a:pt x="25974" y="143404"/>
                </a:lnTo>
                <a:lnTo>
                  <a:pt x="31699" y="147250"/>
                </a:lnTo>
                <a:lnTo>
                  <a:pt x="37209" y="150660"/>
                </a:lnTo>
                <a:lnTo>
                  <a:pt x="42576" y="153780"/>
                </a:lnTo>
                <a:lnTo>
                  <a:pt x="47847" y="155860"/>
                </a:lnTo>
                <a:lnTo>
                  <a:pt x="58220" y="158171"/>
                </a:lnTo>
                <a:lnTo>
                  <a:pt x="68475" y="159198"/>
                </a:lnTo>
                <a:lnTo>
                  <a:pt x="78676" y="159655"/>
                </a:lnTo>
                <a:lnTo>
                  <a:pt x="88855" y="159858"/>
                </a:lnTo>
                <a:lnTo>
                  <a:pt x="93093" y="159065"/>
                </a:lnTo>
                <a:lnTo>
                  <a:pt x="100060" y="155927"/>
                </a:lnTo>
                <a:lnTo>
                  <a:pt x="112788" y="149400"/>
                </a:lnTo>
                <a:lnTo>
                  <a:pt x="116669" y="146166"/>
                </a:lnTo>
                <a:lnTo>
                  <a:pt x="120102" y="142318"/>
                </a:lnTo>
                <a:lnTo>
                  <a:pt x="123238" y="138059"/>
                </a:lnTo>
                <a:lnTo>
                  <a:pt x="126175" y="134372"/>
                </a:lnTo>
                <a:lnTo>
                  <a:pt x="128980" y="131069"/>
                </a:lnTo>
                <a:lnTo>
                  <a:pt x="131696" y="128019"/>
                </a:lnTo>
                <a:lnTo>
                  <a:pt x="133508" y="124293"/>
                </a:lnTo>
                <a:lnTo>
                  <a:pt x="134715" y="120115"/>
                </a:lnTo>
                <a:lnTo>
                  <a:pt x="135519" y="115637"/>
                </a:lnTo>
                <a:lnTo>
                  <a:pt x="136057" y="111805"/>
                </a:lnTo>
                <a:lnTo>
                  <a:pt x="136415" y="108403"/>
                </a:lnTo>
                <a:lnTo>
                  <a:pt x="136812" y="102366"/>
                </a:lnTo>
                <a:lnTo>
                  <a:pt x="137112" y="92154"/>
                </a:lnTo>
                <a:lnTo>
                  <a:pt x="137117" y="91916"/>
                </a:lnTo>
                <a:lnTo>
                  <a:pt x="143210" y="97617"/>
                </a:lnTo>
                <a:lnTo>
                  <a:pt x="147735" y="102088"/>
                </a:lnTo>
                <a:lnTo>
                  <a:pt x="150126" y="105312"/>
                </a:lnTo>
                <a:lnTo>
                  <a:pt x="152567" y="109155"/>
                </a:lnTo>
                <a:lnTo>
                  <a:pt x="155042" y="113410"/>
                </a:lnTo>
                <a:lnTo>
                  <a:pt x="159231" y="117940"/>
                </a:lnTo>
                <a:lnTo>
                  <a:pt x="164563" y="122654"/>
                </a:lnTo>
                <a:lnTo>
                  <a:pt x="170659" y="127489"/>
                </a:lnTo>
                <a:lnTo>
                  <a:pt x="177263" y="133253"/>
                </a:lnTo>
                <a:lnTo>
                  <a:pt x="184205" y="139635"/>
                </a:lnTo>
                <a:lnTo>
                  <a:pt x="191373" y="146430"/>
                </a:lnTo>
                <a:lnTo>
                  <a:pt x="198692" y="152654"/>
                </a:lnTo>
                <a:lnTo>
                  <a:pt x="206112" y="158496"/>
                </a:lnTo>
                <a:lnTo>
                  <a:pt x="213598" y="164084"/>
                </a:lnTo>
                <a:lnTo>
                  <a:pt x="228689" y="174808"/>
                </a:lnTo>
                <a:lnTo>
                  <a:pt x="236269" y="180039"/>
                </a:lnTo>
                <a:lnTo>
                  <a:pt x="244710" y="184373"/>
                </a:lnTo>
                <a:lnTo>
                  <a:pt x="253723" y="188108"/>
                </a:lnTo>
                <a:lnTo>
                  <a:pt x="263119" y="191446"/>
                </a:lnTo>
                <a:lnTo>
                  <a:pt x="271076" y="193671"/>
                </a:lnTo>
                <a:lnTo>
                  <a:pt x="278074" y="195154"/>
                </a:lnTo>
                <a:lnTo>
                  <a:pt x="284433" y="196142"/>
                </a:lnTo>
                <a:lnTo>
                  <a:pt x="290365" y="195955"/>
                </a:lnTo>
                <a:lnTo>
                  <a:pt x="296014" y="194984"/>
                </a:lnTo>
                <a:lnTo>
                  <a:pt x="301472" y="193489"/>
                </a:lnTo>
                <a:lnTo>
                  <a:pt x="306804" y="191646"/>
                </a:lnTo>
                <a:lnTo>
                  <a:pt x="312053" y="189571"/>
                </a:lnTo>
                <a:lnTo>
                  <a:pt x="317246" y="187341"/>
                </a:lnTo>
                <a:lnTo>
                  <a:pt x="321554" y="184161"/>
                </a:lnTo>
                <a:lnTo>
                  <a:pt x="325273" y="180348"/>
                </a:lnTo>
                <a:lnTo>
                  <a:pt x="328598" y="176112"/>
                </a:lnTo>
                <a:lnTo>
                  <a:pt x="330816" y="170748"/>
                </a:lnTo>
                <a:lnTo>
                  <a:pt x="332294" y="164632"/>
                </a:lnTo>
                <a:lnTo>
                  <a:pt x="333279" y="158015"/>
                </a:lnTo>
                <a:lnTo>
                  <a:pt x="333089" y="150217"/>
                </a:lnTo>
                <a:lnTo>
                  <a:pt x="332116" y="141631"/>
                </a:lnTo>
                <a:lnTo>
                  <a:pt x="330621" y="132521"/>
                </a:lnTo>
                <a:lnTo>
                  <a:pt x="327930" y="123907"/>
                </a:lnTo>
                <a:lnTo>
                  <a:pt x="324443" y="115624"/>
                </a:lnTo>
                <a:lnTo>
                  <a:pt x="320426" y="107563"/>
                </a:lnTo>
                <a:lnTo>
                  <a:pt x="316901" y="98802"/>
                </a:lnTo>
                <a:lnTo>
                  <a:pt x="313703" y="89575"/>
                </a:lnTo>
                <a:lnTo>
                  <a:pt x="310726" y="80037"/>
                </a:lnTo>
                <a:lnTo>
                  <a:pt x="307047" y="71138"/>
                </a:lnTo>
                <a:lnTo>
                  <a:pt x="302902" y="62665"/>
                </a:lnTo>
                <a:lnTo>
                  <a:pt x="294626" y="47325"/>
                </a:lnTo>
                <a:lnTo>
                  <a:pt x="288126" y="34862"/>
                </a:lnTo>
                <a:lnTo>
                  <a:pt x="284361" y="29168"/>
                </a:lnTo>
                <a:lnTo>
                  <a:pt x="280157" y="23679"/>
                </a:lnTo>
                <a:lnTo>
                  <a:pt x="275661" y="18326"/>
                </a:lnTo>
                <a:lnTo>
                  <a:pt x="271817" y="13911"/>
                </a:lnTo>
                <a:lnTo>
                  <a:pt x="265290" y="6747"/>
                </a:lnTo>
                <a:lnTo>
                  <a:pt x="262362" y="4498"/>
                </a:lnTo>
                <a:lnTo>
                  <a:pt x="259565" y="2998"/>
                </a:lnTo>
                <a:lnTo>
                  <a:pt x="25143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InkAnnotation230"/>
          <p:cNvSpPr/>
          <p:nvPr/>
        </p:nvSpPr>
        <p:spPr>
          <a:xfrm>
            <a:off x="7889760" y="5105520"/>
            <a:ext cx="484200" cy="488880"/>
          </a:xfrm>
          <a:custGeom>
            <a:avLst/>
            <a:gdLst>
              <a:gd name="textAreaLeft" fmla="*/ 0 w 484200"/>
              <a:gd name="textAreaRight" fmla="*/ 484560 w 48420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485196" h="489535">
                <a:moveTo>
                  <a:pt x="485195" y="0"/>
                </a:moveTo>
                <a:lnTo>
                  <a:pt x="485195" y="15397"/>
                </a:lnTo>
                <a:lnTo>
                  <a:pt x="484348" y="18731"/>
                </a:lnTo>
                <a:lnTo>
                  <a:pt x="478265" y="29162"/>
                </a:lnTo>
                <a:lnTo>
                  <a:pt x="456677" y="61790"/>
                </a:lnTo>
                <a:lnTo>
                  <a:pt x="444581" y="78827"/>
                </a:lnTo>
                <a:lnTo>
                  <a:pt x="437799" y="88111"/>
                </a:lnTo>
                <a:lnTo>
                  <a:pt x="429890" y="97687"/>
                </a:lnTo>
                <a:lnTo>
                  <a:pt x="421233" y="107459"/>
                </a:lnTo>
                <a:lnTo>
                  <a:pt x="402580" y="127346"/>
                </a:lnTo>
                <a:lnTo>
                  <a:pt x="383003" y="147474"/>
                </a:lnTo>
                <a:lnTo>
                  <a:pt x="371346" y="157582"/>
                </a:lnTo>
                <a:lnTo>
                  <a:pt x="358496" y="167708"/>
                </a:lnTo>
                <a:lnTo>
                  <a:pt x="344850" y="177845"/>
                </a:lnTo>
                <a:lnTo>
                  <a:pt x="331519" y="188837"/>
                </a:lnTo>
                <a:lnTo>
                  <a:pt x="318398" y="200397"/>
                </a:lnTo>
                <a:lnTo>
                  <a:pt x="305417" y="212338"/>
                </a:lnTo>
                <a:lnTo>
                  <a:pt x="277448" y="236895"/>
                </a:lnTo>
                <a:lnTo>
                  <a:pt x="218099" y="287153"/>
                </a:lnTo>
                <a:lnTo>
                  <a:pt x="203838" y="299808"/>
                </a:lnTo>
                <a:lnTo>
                  <a:pt x="163541" y="336999"/>
                </a:lnTo>
                <a:lnTo>
                  <a:pt x="137628" y="359185"/>
                </a:lnTo>
                <a:lnTo>
                  <a:pt x="124790" y="370691"/>
                </a:lnTo>
                <a:lnTo>
                  <a:pt x="99239" y="394762"/>
                </a:lnTo>
                <a:lnTo>
                  <a:pt x="65097" y="428069"/>
                </a:lnTo>
                <a:lnTo>
                  <a:pt x="54423" y="437779"/>
                </a:lnTo>
                <a:lnTo>
                  <a:pt x="43922" y="446792"/>
                </a:lnTo>
                <a:lnTo>
                  <a:pt x="33532" y="455341"/>
                </a:lnTo>
                <a:lnTo>
                  <a:pt x="24914" y="463581"/>
                </a:lnTo>
                <a:lnTo>
                  <a:pt x="10822" y="479509"/>
                </a:lnTo>
                <a:lnTo>
                  <a:pt x="0" y="48953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InkAnnotation231"/>
          <p:cNvSpPr/>
          <p:nvPr/>
        </p:nvSpPr>
        <p:spPr>
          <a:xfrm>
            <a:off x="8062920" y="5418000"/>
            <a:ext cx="142920" cy="182880"/>
          </a:xfrm>
          <a:custGeom>
            <a:avLst/>
            <a:gdLst>
              <a:gd name="textAreaLeft" fmla="*/ 0 w 142920"/>
              <a:gd name="textAreaRight" fmla="*/ 143280 w 14292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143700" h="182426">
                <a:moveTo>
                  <a:pt x="52868" y="91440"/>
                </a:moveTo>
                <a:lnTo>
                  <a:pt x="46307" y="91440"/>
                </a:lnTo>
                <a:lnTo>
                  <a:pt x="43461" y="93697"/>
                </a:lnTo>
                <a:lnTo>
                  <a:pt x="39374" y="97523"/>
                </a:lnTo>
                <a:lnTo>
                  <a:pt x="34736" y="102046"/>
                </a:lnTo>
                <a:lnTo>
                  <a:pt x="31467" y="104437"/>
                </a:lnTo>
                <a:lnTo>
                  <a:pt x="27593" y="106878"/>
                </a:lnTo>
                <a:lnTo>
                  <a:pt x="23318" y="109352"/>
                </a:lnTo>
                <a:lnTo>
                  <a:pt x="19622" y="111848"/>
                </a:lnTo>
                <a:lnTo>
                  <a:pt x="16310" y="114359"/>
                </a:lnTo>
                <a:lnTo>
                  <a:pt x="13256" y="116879"/>
                </a:lnTo>
                <a:lnTo>
                  <a:pt x="10373" y="120253"/>
                </a:lnTo>
                <a:lnTo>
                  <a:pt x="7605" y="124195"/>
                </a:lnTo>
                <a:lnTo>
                  <a:pt x="4913" y="128517"/>
                </a:lnTo>
                <a:lnTo>
                  <a:pt x="3117" y="132245"/>
                </a:lnTo>
                <a:lnTo>
                  <a:pt x="1921" y="135576"/>
                </a:lnTo>
                <a:lnTo>
                  <a:pt x="1124" y="138644"/>
                </a:lnTo>
                <a:lnTo>
                  <a:pt x="592" y="142383"/>
                </a:lnTo>
                <a:lnTo>
                  <a:pt x="238" y="146568"/>
                </a:lnTo>
                <a:lnTo>
                  <a:pt x="0" y="151052"/>
                </a:lnTo>
                <a:lnTo>
                  <a:pt x="690" y="154888"/>
                </a:lnTo>
                <a:lnTo>
                  <a:pt x="1996" y="158292"/>
                </a:lnTo>
                <a:lnTo>
                  <a:pt x="3714" y="161408"/>
                </a:lnTo>
                <a:lnTo>
                  <a:pt x="6552" y="164332"/>
                </a:lnTo>
                <a:lnTo>
                  <a:pt x="10137" y="167127"/>
                </a:lnTo>
                <a:lnTo>
                  <a:pt x="14221" y="169839"/>
                </a:lnTo>
                <a:lnTo>
                  <a:pt x="18637" y="172492"/>
                </a:lnTo>
                <a:lnTo>
                  <a:pt x="23273" y="175108"/>
                </a:lnTo>
                <a:lnTo>
                  <a:pt x="28058" y="177699"/>
                </a:lnTo>
                <a:lnTo>
                  <a:pt x="33788" y="179426"/>
                </a:lnTo>
                <a:lnTo>
                  <a:pt x="40148" y="180577"/>
                </a:lnTo>
                <a:lnTo>
                  <a:pt x="46928" y="181345"/>
                </a:lnTo>
                <a:lnTo>
                  <a:pt x="53988" y="181857"/>
                </a:lnTo>
                <a:lnTo>
                  <a:pt x="61235" y="182198"/>
                </a:lnTo>
                <a:lnTo>
                  <a:pt x="68606" y="182425"/>
                </a:lnTo>
                <a:lnTo>
                  <a:pt x="75213" y="181730"/>
                </a:lnTo>
                <a:lnTo>
                  <a:pt x="81312" y="180420"/>
                </a:lnTo>
                <a:lnTo>
                  <a:pt x="93449" y="176707"/>
                </a:lnTo>
                <a:lnTo>
                  <a:pt x="107310" y="172234"/>
                </a:lnTo>
                <a:lnTo>
                  <a:pt x="113715" y="169009"/>
                </a:lnTo>
                <a:lnTo>
                  <a:pt x="119680" y="165166"/>
                </a:lnTo>
                <a:lnTo>
                  <a:pt x="125349" y="160911"/>
                </a:lnTo>
                <a:lnTo>
                  <a:pt x="129975" y="155534"/>
                </a:lnTo>
                <a:lnTo>
                  <a:pt x="133906" y="149410"/>
                </a:lnTo>
                <a:lnTo>
                  <a:pt x="137373" y="142786"/>
                </a:lnTo>
                <a:lnTo>
                  <a:pt x="139685" y="135831"/>
                </a:lnTo>
                <a:lnTo>
                  <a:pt x="141225" y="128654"/>
                </a:lnTo>
                <a:lnTo>
                  <a:pt x="142252" y="121329"/>
                </a:lnTo>
                <a:lnTo>
                  <a:pt x="142938" y="113906"/>
                </a:lnTo>
                <a:lnTo>
                  <a:pt x="143395" y="106418"/>
                </a:lnTo>
                <a:lnTo>
                  <a:pt x="143699" y="98885"/>
                </a:lnTo>
                <a:lnTo>
                  <a:pt x="143055" y="91324"/>
                </a:lnTo>
                <a:lnTo>
                  <a:pt x="141779" y="83743"/>
                </a:lnTo>
                <a:lnTo>
                  <a:pt x="140081" y="76149"/>
                </a:lnTo>
                <a:lnTo>
                  <a:pt x="137257" y="69392"/>
                </a:lnTo>
                <a:lnTo>
                  <a:pt x="133681" y="63195"/>
                </a:lnTo>
                <a:lnTo>
                  <a:pt x="129602" y="57370"/>
                </a:lnTo>
                <a:lnTo>
                  <a:pt x="126038" y="50947"/>
                </a:lnTo>
                <a:lnTo>
                  <a:pt x="122814" y="44125"/>
                </a:lnTo>
                <a:lnTo>
                  <a:pt x="119819" y="37037"/>
                </a:lnTo>
                <a:lnTo>
                  <a:pt x="116975" y="31464"/>
                </a:lnTo>
                <a:lnTo>
                  <a:pt x="114233" y="26903"/>
                </a:lnTo>
                <a:lnTo>
                  <a:pt x="111557" y="23015"/>
                </a:lnTo>
                <a:lnTo>
                  <a:pt x="108927" y="18730"/>
                </a:lnTo>
                <a:lnTo>
                  <a:pt x="106327" y="14180"/>
                </a:lnTo>
                <a:lnTo>
                  <a:pt x="98587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InkAnnotation232"/>
          <p:cNvSpPr/>
          <p:nvPr/>
        </p:nvSpPr>
        <p:spPr>
          <a:xfrm>
            <a:off x="7628040" y="6066000"/>
            <a:ext cx="152280" cy="7920"/>
          </a:xfrm>
          <a:custGeom>
            <a:avLst/>
            <a:gdLst>
              <a:gd name="textAreaLeft" fmla="*/ 0 w 152280"/>
              <a:gd name="textAreaRight" fmla="*/ 152640 w 152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52401" h="7622">
                <a:moveTo>
                  <a:pt x="0" y="0"/>
                </a:moveTo>
                <a:lnTo>
                  <a:pt x="10606" y="0"/>
                </a:lnTo>
                <a:lnTo>
                  <a:pt x="14689" y="847"/>
                </a:lnTo>
                <a:lnTo>
                  <a:pt x="19954" y="2258"/>
                </a:lnTo>
                <a:lnTo>
                  <a:pt x="26002" y="4045"/>
                </a:lnTo>
                <a:lnTo>
                  <a:pt x="32574" y="5237"/>
                </a:lnTo>
                <a:lnTo>
                  <a:pt x="39496" y="6032"/>
                </a:lnTo>
                <a:lnTo>
                  <a:pt x="46650" y="6561"/>
                </a:lnTo>
                <a:lnTo>
                  <a:pt x="54806" y="6914"/>
                </a:lnTo>
                <a:lnTo>
                  <a:pt x="72900" y="7306"/>
                </a:lnTo>
                <a:lnTo>
                  <a:pt x="152400" y="762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InkAnnotation233"/>
          <p:cNvSpPr/>
          <p:nvPr/>
        </p:nvSpPr>
        <p:spPr>
          <a:xfrm>
            <a:off x="7947000" y="5851440"/>
            <a:ext cx="23760" cy="222480"/>
          </a:xfrm>
          <a:custGeom>
            <a:avLst/>
            <a:gdLst>
              <a:gd name="textAreaLeft" fmla="*/ 0 w 23760"/>
              <a:gd name="textAreaRight" fmla="*/ 24120 w 23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2862" h="220982">
                <a:moveTo>
                  <a:pt x="22861" y="0"/>
                </a:moveTo>
                <a:lnTo>
                  <a:pt x="15334" y="0"/>
                </a:lnTo>
                <a:lnTo>
                  <a:pt x="11223" y="4045"/>
                </a:lnTo>
                <a:lnTo>
                  <a:pt x="10022" y="6083"/>
                </a:lnTo>
                <a:lnTo>
                  <a:pt x="9221" y="8288"/>
                </a:lnTo>
                <a:lnTo>
                  <a:pt x="8687" y="10606"/>
                </a:lnTo>
                <a:lnTo>
                  <a:pt x="8332" y="13844"/>
                </a:lnTo>
                <a:lnTo>
                  <a:pt x="8095" y="17696"/>
                </a:lnTo>
                <a:lnTo>
                  <a:pt x="7831" y="26491"/>
                </a:lnTo>
                <a:lnTo>
                  <a:pt x="7714" y="36046"/>
                </a:lnTo>
                <a:lnTo>
                  <a:pt x="6836" y="42657"/>
                </a:lnTo>
                <a:lnTo>
                  <a:pt x="5404" y="50451"/>
                </a:lnTo>
                <a:lnTo>
                  <a:pt x="3603" y="59034"/>
                </a:lnTo>
                <a:lnTo>
                  <a:pt x="2402" y="67296"/>
                </a:lnTo>
                <a:lnTo>
                  <a:pt x="1602" y="75344"/>
                </a:lnTo>
                <a:lnTo>
                  <a:pt x="1068" y="83249"/>
                </a:lnTo>
                <a:lnTo>
                  <a:pt x="711" y="91059"/>
                </a:lnTo>
                <a:lnTo>
                  <a:pt x="316" y="106511"/>
                </a:lnTo>
                <a:lnTo>
                  <a:pt x="94" y="129490"/>
                </a:lnTo>
                <a:lnTo>
                  <a:pt x="909" y="137126"/>
                </a:lnTo>
                <a:lnTo>
                  <a:pt x="2300" y="144758"/>
                </a:lnTo>
                <a:lnTo>
                  <a:pt x="4073" y="152386"/>
                </a:lnTo>
                <a:lnTo>
                  <a:pt x="4409" y="160011"/>
                </a:lnTo>
                <a:lnTo>
                  <a:pt x="3786" y="167633"/>
                </a:lnTo>
                <a:lnTo>
                  <a:pt x="2524" y="175256"/>
                </a:lnTo>
                <a:lnTo>
                  <a:pt x="2529" y="182031"/>
                </a:lnTo>
                <a:lnTo>
                  <a:pt x="3379" y="188240"/>
                </a:lnTo>
                <a:lnTo>
                  <a:pt x="4793" y="194074"/>
                </a:lnTo>
                <a:lnTo>
                  <a:pt x="4889" y="199656"/>
                </a:lnTo>
                <a:lnTo>
                  <a:pt x="4106" y="205071"/>
                </a:lnTo>
                <a:lnTo>
                  <a:pt x="0" y="2209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InkAnnotation234"/>
          <p:cNvSpPr/>
          <p:nvPr/>
        </p:nvSpPr>
        <p:spPr>
          <a:xfrm>
            <a:off x="7802640" y="5845320"/>
            <a:ext cx="419040" cy="433080"/>
          </a:xfrm>
          <a:custGeom>
            <a:avLst/>
            <a:gdLst>
              <a:gd name="textAreaLeft" fmla="*/ 0 w 419040"/>
              <a:gd name="textAreaRight" fmla="*/ 419400 w 41904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419101" h="434340">
                <a:moveTo>
                  <a:pt x="419100" y="0"/>
                </a:moveTo>
                <a:lnTo>
                  <a:pt x="419100" y="4044"/>
                </a:lnTo>
                <a:lnTo>
                  <a:pt x="418253" y="6083"/>
                </a:lnTo>
                <a:lnTo>
                  <a:pt x="410811" y="17695"/>
                </a:lnTo>
                <a:lnTo>
                  <a:pt x="405256" y="27338"/>
                </a:lnTo>
                <a:lnTo>
                  <a:pt x="397143" y="40090"/>
                </a:lnTo>
                <a:lnTo>
                  <a:pt x="391762" y="47046"/>
                </a:lnTo>
                <a:lnTo>
                  <a:pt x="385634" y="54224"/>
                </a:lnTo>
                <a:lnTo>
                  <a:pt x="379009" y="61549"/>
                </a:lnTo>
                <a:lnTo>
                  <a:pt x="362617" y="78719"/>
                </a:lnTo>
                <a:lnTo>
                  <a:pt x="353505" y="88039"/>
                </a:lnTo>
                <a:lnTo>
                  <a:pt x="344889" y="97639"/>
                </a:lnTo>
                <a:lnTo>
                  <a:pt x="336606" y="107426"/>
                </a:lnTo>
                <a:lnTo>
                  <a:pt x="328545" y="117337"/>
                </a:lnTo>
                <a:lnTo>
                  <a:pt x="318935" y="127331"/>
                </a:lnTo>
                <a:lnTo>
                  <a:pt x="308297" y="137380"/>
                </a:lnTo>
                <a:lnTo>
                  <a:pt x="296971" y="147467"/>
                </a:lnTo>
                <a:lnTo>
                  <a:pt x="286035" y="158424"/>
                </a:lnTo>
                <a:lnTo>
                  <a:pt x="275356" y="169963"/>
                </a:lnTo>
                <a:lnTo>
                  <a:pt x="264850" y="181888"/>
                </a:lnTo>
                <a:lnTo>
                  <a:pt x="253614" y="194072"/>
                </a:lnTo>
                <a:lnTo>
                  <a:pt x="229839" y="218898"/>
                </a:lnTo>
                <a:lnTo>
                  <a:pt x="217572" y="230599"/>
                </a:lnTo>
                <a:lnTo>
                  <a:pt x="205161" y="241786"/>
                </a:lnTo>
                <a:lnTo>
                  <a:pt x="180083" y="263247"/>
                </a:lnTo>
                <a:lnTo>
                  <a:pt x="154825" y="284074"/>
                </a:lnTo>
                <a:lnTo>
                  <a:pt x="142164" y="295215"/>
                </a:lnTo>
                <a:lnTo>
                  <a:pt x="129489" y="306877"/>
                </a:lnTo>
                <a:lnTo>
                  <a:pt x="93683" y="341257"/>
                </a:lnTo>
                <a:lnTo>
                  <a:pt x="0" y="4343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InkAnnotation235"/>
          <p:cNvSpPr/>
          <p:nvPr/>
        </p:nvSpPr>
        <p:spPr>
          <a:xfrm>
            <a:off x="8023320" y="6118200"/>
            <a:ext cx="214200" cy="195120"/>
          </a:xfrm>
          <a:custGeom>
            <a:avLst/>
            <a:gdLst>
              <a:gd name="textAreaLeft" fmla="*/ 0 w 214200"/>
              <a:gd name="textAreaRight" fmla="*/ 214560 w 2142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3361" h="194583">
                <a:moveTo>
                  <a:pt x="0" y="22851"/>
                </a:moveTo>
                <a:lnTo>
                  <a:pt x="0" y="18806"/>
                </a:lnTo>
                <a:lnTo>
                  <a:pt x="846" y="17615"/>
                </a:lnTo>
                <a:lnTo>
                  <a:pt x="2259" y="16820"/>
                </a:lnTo>
                <a:lnTo>
                  <a:pt x="8608" y="14594"/>
                </a:lnTo>
                <a:lnTo>
                  <a:pt x="15397" y="11279"/>
                </a:lnTo>
                <a:lnTo>
                  <a:pt x="19578" y="10056"/>
                </a:lnTo>
                <a:lnTo>
                  <a:pt x="24058" y="9241"/>
                </a:lnTo>
                <a:lnTo>
                  <a:pt x="28738" y="8698"/>
                </a:lnTo>
                <a:lnTo>
                  <a:pt x="32706" y="7489"/>
                </a:lnTo>
                <a:lnTo>
                  <a:pt x="39372" y="3888"/>
                </a:lnTo>
                <a:lnTo>
                  <a:pt x="43182" y="2590"/>
                </a:lnTo>
                <a:lnTo>
                  <a:pt x="47414" y="1723"/>
                </a:lnTo>
                <a:lnTo>
                  <a:pt x="51930" y="1146"/>
                </a:lnTo>
                <a:lnTo>
                  <a:pt x="57479" y="761"/>
                </a:lnTo>
                <a:lnTo>
                  <a:pt x="63720" y="504"/>
                </a:lnTo>
                <a:lnTo>
                  <a:pt x="82379" y="144"/>
                </a:lnTo>
                <a:lnTo>
                  <a:pt x="119296" y="0"/>
                </a:lnTo>
                <a:lnTo>
                  <a:pt x="124404" y="844"/>
                </a:lnTo>
                <a:lnTo>
                  <a:pt x="129503" y="2253"/>
                </a:lnTo>
                <a:lnTo>
                  <a:pt x="134596" y="4039"/>
                </a:lnTo>
                <a:lnTo>
                  <a:pt x="138837" y="5230"/>
                </a:lnTo>
                <a:lnTo>
                  <a:pt x="142511" y="6024"/>
                </a:lnTo>
                <a:lnTo>
                  <a:pt x="145808" y="6553"/>
                </a:lnTo>
                <a:lnTo>
                  <a:pt x="151728" y="9399"/>
                </a:lnTo>
                <a:lnTo>
                  <a:pt x="157181" y="13486"/>
                </a:lnTo>
                <a:lnTo>
                  <a:pt x="162427" y="18124"/>
                </a:lnTo>
                <a:lnTo>
                  <a:pt x="163319" y="20547"/>
                </a:lnTo>
                <a:lnTo>
                  <a:pt x="163065" y="23009"/>
                </a:lnTo>
                <a:lnTo>
                  <a:pt x="160527" y="28848"/>
                </a:lnTo>
                <a:lnTo>
                  <a:pt x="156576" y="37088"/>
                </a:lnTo>
                <a:lnTo>
                  <a:pt x="154338" y="40809"/>
                </a:lnTo>
                <a:lnTo>
                  <a:pt x="151998" y="44137"/>
                </a:lnTo>
                <a:lnTo>
                  <a:pt x="149591" y="47202"/>
                </a:lnTo>
                <a:lnTo>
                  <a:pt x="146294" y="50938"/>
                </a:lnTo>
                <a:lnTo>
                  <a:pt x="138115" y="59605"/>
                </a:lnTo>
                <a:lnTo>
                  <a:pt x="132717" y="64287"/>
                </a:lnTo>
                <a:lnTo>
                  <a:pt x="126577" y="69103"/>
                </a:lnTo>
                <a:lnTo>
                  <a:pt x="119945" y="74006"/>
                </a:lnTo>
                <a:lnTo>
                  <a:pt x="113830" y="78967"/>
                </a:lnTo>
                <a:lnTo>
                  <a:pt x="108061" y="83969"/>
                </a:lnTo>
                <a:lnTo>
                  <a:pt x="102520" y="88996"/>
                </a:lnTo>
                <a:lnTo>
                  <a:pt x="91849" y="99098"/>
                </a:lnTo>
                <a:lnTo>
                  <a:pt x="50816" y="139693"/>
                </a:lnTo>
                <a:lnTo>
                  <a:pt x="29448" y="161047"/>
                </a:lnTo>
                <a:lnTo>
                  <a:pt x="27252" y="164089"/>
                </a:lnTo>
                <a:lnTo>
                  <a:pt x="24812" y="169725"/>
                </a:lnTo>
                <a:lnTo>
                  <a:pt x="25008" y="172414"/>
                </a:lnTo>
                <a:lnTo>
                  <a:pt x="25985" y="175053"/>
                </a:lnTo>
                <a:lnTo>
                  <a:pt x="27484" y="177659"/>
                </a:lnTo>
                <a:lnTo>
                  <a:pt x="29148" y="182813"/>
                </a:lnTo>
                <a:lnTo>
                  <a:pt x="29592" y="185372"/>
                </a:lnTo>
                <a:lnTo>
                  <a:pt x="30735" y="187079"/>
                </a:lnTo>
                <a:lnTo>
                  <a:pt x="32343" y="188216"/>
                </a:lnTo>
                <a:lnTo>
                  <a:pt x="37235" y="190327"/>
                </a:lnTo>
                <a:lnTo>
                  <a:pt x="45053" y="194088"/>
                </a:lnTo>
                <a:lnTo>
                  <a:pt x="50355" y="194582"/>
                </a:lnTo>
                <a:lnTo>
                  <a:pt x="56430" y="194065"/>
                </a:lnTo>
                <a:lnTo>
                  <a:pt x="63020" y="192874"/>
                </a:lnTo>
                <a:lnTo>
                  <a:pt x="69952" y="192080"/>
                </a:lnTo>
                <a:lnTo>
                  <a:pt x="77115" y="191550"/>
                </a:lnTo>
                <a:lnTo>
                  <a:pt x="84430" y="191197"/>
                </a:lnTo>
                <a:lnTo>
                  <a:pt x="93541" y="190115"/>
                </a:lnTo>
                <a:lnTo>
                  <a:pt x="103847" y="188547"/>
                </a:lnTo>
                <a:lnTo>
                  <a:pt x="114951" y="186655"/>
                </a:lnTo>
                <a:lnTo>
                  <a:pt x="126587" y="183701"/>
                </a:lnTo>
                <a:lnTo>
                  <a:pt x="138577" y="180038"/>
                </a:lnTo>
                <a:lnTo>
                  <a:pt x="150805" y="175902"/>
                </a:lnTo>
                <a:lnTo>
                  <a:pt x="160651" y="172299"/>
                </a:lnTo>
                <a:lnTo>
                  <a:pt x="168907" y="169049"/>
                </a:lnTo>
                <a:lnTo>
                  <a:pt x="176105" y="166037"/>
                </a:lnTo>
                <a:lnTo>
                  <a:pt x="183443" y="163182"/>
                </a:lnTo>
                <a:lnTo>
                  <a:pt x="213360" y="1523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InkAnnotation236"/>
          <p:cNvSpPr/>
          <p:nvPr/>
        </p:nvSpPr>
        <p:spPr>
          <a:xfrm>
            <a:off x="8359920" y="6080040"/>
            <a:ext cx="333360" cy="206640"/>
          </a:xfrm>
          <a:custGeom>
            <a:avLst/>
            <a:gdLst>
              <a:gd name="textAreaLeft" fmla="*/ 0 w 333360"/>
              <a:gd name="textAreaRight" fmla="*/ 333720 w 3333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33643" h="205183">
                <a:moveTo>
                  <a:pt x="0" y="68580"/>
                </a:moveTo>
                <a:lnTo>
                  <a:pt x="0" y="79186"/>
                </a:lnTo>
                <a:lnTo>
                  <a:pt x="846" y="80731"/>
                </a:lnTo>
                <a:lnTo>
                  <a:pt x="2258" y="81760"/>
                </a:lnTo>
                <a:lnTo>
                  <a:pt x="4045" y="82447"/>
                </a:lnTo>
                <a:lnTo>
                  <a:pt x="5237" y="84598"/>
                </a:lnTo>
                <a:lnTo>
                  <a:pt x="6031" y="87725"/>
                </a:lnTo>
                <a:lnTo>
                  <a:pt x="6562" y="91504"/>
                </a:lnTo>
                <a:lnTo>
                  <a:pt x="7760" y="94869"/>
                </a:lnTo>
                <a:lnTo>
                  <a:pt x="11350" y="100866"/>
                </a:lnTo>
                <a:lnTo>
                  <a:pt x="18027" y="106354"/>
                </a:lnTo>
                <a:lnTo>
                  <a:pt x="26638" y="112462"/>
                </a:lnTo>
                <a:lnTo>
                  <a:pt x="31305" y="116461"/>
                </a:lnTo>
                <a:lnTo>
                  <a:pt x="36109" y="120821"/>
                </a:lnTo>
                <a:lnTo>
                  <a:pt x="41853" y="124574"/>
                </a:lnTo>
                <a:lnTo>
                  <a:pt x="48223" y="127923"/>
                </a:lnTo>
                <a:lnTo>
                  <a:pt x="61226" y="133901"/>
                </a:lnTo>
                <a:lnTo>
                  <a:pt x="72649" y="139381"/>
                </a:lnTo>
                <a:lnTo>
                  <a:pt x="81113" y="144638"/>
                </a:lnTo>
                <a:lnTo>
                  <a:pt x="84555" y="147225"/>
                </a:lnTo>
                <a:lnTo>
                  <a:pt x="88543" y="148950"/>
                </a:lnTo>
                <a:lnTo>
                  <a:pt x="97490" y="150867"/>
                </a:lnTo>
                <a:lnTo>
                  <a:pt x="104852" y="151719"/>
                </a:lnTo>
                <a:lnTo>
                  <a:pt x="108003" y="151946"/>
                </a:lnTo>
                <a:lnTo>
                  <a:pt x="110947" y="151251"/>
                </a:lnTo>
                <a:lnTo>
                  <a:pt x="116479" y="148220"/>
                </a:lnTo>
                <a:lnTo>
                  <a:pt x="121760" y="144051"/>
                </a:lnTo>
                <a:lnTo>
                  <a:pt x="124353" y="141754"/>
                </a:lnTo>
                <a:lnTo>
                  <a:pt x="126928" y="138529"/>
                </a:lnTo>
                <a:lnTo>
                  <a:pt x="129492" y="134686"/>
                </a:lnTo>
                <a:lnTo>
                  <a:pt x="132048" y="130431"/>
                </a:lnTo>
                <a:lnTo>
                  <a:pt x="133752" y="126747"/>
                </a:lnTo>
                <a:lnTo>
                  <a:pt x="135645" y="120397"/>
                </a:lnTo>
                <a:lnTo>
                  <a:pt x="136485" y="114752"/>
                </a:lnTo>
                <a:lnTo>
                  <a:pt x="136860" y="109421"/>
                </a:lnTo>
                <a:lnTo>
                  <a:pt x="137148" y="99514"/>
                </a:lnTo>
                <a:lnTo>
                  <a:pt x="133110" y="99195"/>
                </a:lnTo>
                <a:lnTo>
                  <a:pt x="132767" y="99996"/>
                </a:lnTo>
                <a:lnTo>
                  <a:pt x="133383" y="101378"/>
                </a:lnTo>
                <a:lnTo>
                  <a:pt x="134643" y="103145"/>
                </a:lnTo>
                <a:lnTo>
                  <a:pt x="135481" y="106017"/>
                </a:lnTo>
                <a:lnTo>
                  <a:pt x="136040" y="109625"/>
                </a:lnTo>
                <a:lnTo>
                  <a:pt x="136413" y="113723"/>
                </a:lnTo>
                <a:lnTo>
                  <a:pt x="138355" y="118149"/>
                </a:lnTo>
                <a:lnTo>
                  <a:pt x="141343" y="122792"/>
                </a:lnTo>
                <a:lnTo>
                  <a:pt x="145028" y="127582"/>
                </a:lnTo>
                <a:lnTo>
                  <a:pt x="149179" y="132468"/>
                </a:lnTo>
                <a:lnTo>
                  <a:pt x="153638" y="137419"/>
                </a:lnTo>
                <a:lnTo>
                  <a:pt x="158306" y="142412"/>
                </a:lnTo>
                <a:lnTo>
                  <a:pt x="177009" y="161576"/>
                </a:lnTo>
                <a:lnTo>
                  <a:pt x="183199" y="166985"/>
                </a:lnTo>
                <a:lnTo>
                  <a:pt x="189019" y="171437"/>
                </a:lnTo>
                <a:lnTo>
                  <a:pt x="214572" y="188710"/>
                </a:lnTo>
                <a:lnTo>
                  <a:pt x="220941" y="192693"/>
                </a:lnTo>
                <a:lnTo>
                  <a:pt x="226880" y="196195"/>
                </a:lnTo>
                <a:lnTo>
                  <a:pt x="232533" y="199377"/>
                </a:lnTo>
                <a:lnTo>
                  <a:pt x="237995" y="201498"/>
                </a:lnTo>
                <a:lnTo>
                  <a:pt x="243329" y="202912"/>
                </a:lnTo>
                <a:lnTo>
                  <a:pt x="248579" y="203854"/>
                </a:lnTo>
                <a:lnTo>
                  <a:pt x="258928" y="204902"/>
                </a:lnTo>
                <a:lnTo>
                  <a:pt x="264058" y="205182"/>
                </a:lnTo>
                <a:lnTo>
                  <a:pt x="274275" y="203234"/>
                </a:lnTo>
                <a:lnTo>
                  <a:pt x="279369" y="201529"/>
                </a:lnTo>
                <a:lnTo>
                  <a:pt x="289546" y="195120"/>
                </a:lnTo>
                <a:lnTo>
                  <a:pt x="294630" y="191040"/>
                </a:lnTo>
                <a:lnTo>
                  <a:pt x="299713" y="186626"/>
                </a:lnTo>
                <a:lnTo>
                  <a:pt x="304795" y="181991"/>
                </a:lnTo>
                <a:lnTo>
                  <a:pt x="309876" y="177207"/>
                </a:lnTo>
                <a:lnTo>
                  <a:pt x="314110" y="170631"/>
                </a:lnTo>
                <a:lnTo>
                  <a:pt x="317781" y="162860"/>
                </a:lnTo>
                <a:lnTo>
                  <a:pt x="324115" y="146043"/>
                </a:lnTo>
                <a:lnTo>
                  <a:pt x="329753" y="130102"/>
                </a:lnTo>
                <a:lnTo>
                  <a:pt x="331595" y="122294"/>
                </a:lnTo>
                <a:lnTo>
                  <a:pt x="332823" y="114549"/>
                </a:lnTo>
                <a:lnTo>
                  <a:pt x="333642" y="106846"/>
                </a:lnTo>
                <a:lnTo>
                  <a:pt x="333340" y="99171"/>
                </a:lnTo>
                <a:lnTo>
                  <a:pt x="332293" y="91514"/>
                </a:lnTo>
                <a:lnTo>
                  <a:pt x="330748" y="83869"/>
                </a:lnTo>
                <a:lnTo>
                  <a:pt x="328872" y="76233"/>
                </a:lnTo>
                <a:lnTo>
                  <a:pt x="326775" y="68602"/>
                </a:lnTo>
                <a:lnTo>
                  <a:pt x="324529" y="60974"/>
                </a:lnTo>
                <a:lnTo>
                  <a:pt x="321339" y="54196"/>
                </a:lnTo>
                <a:lnTo>
                  <a:pt x="317519" y="47984"/>
                </a:lnTo>
                <a:lnTo>
                  <a:pt x="313278" y="42150"/>
                </a:lnTo>
                <a:lnTo>
                  <a:pt x="309605" y="36566"/>
                </a:lnTo>
                <a:lnTo>
                  <a:pt x="306311" y="31151"/>
                </a:lnTo>
                <a:lnTo>
                  <a:pt x="303267" y="25847"/>
                </a:lnTo>
                <a:lnTo>
                  <a:pt x="300391" y="21464"/>
                </a:lnTo>
                <a:lnTo>
                  <a:pt x="297627" y="17696"/>
                </a:lnTo>
                <a:lnTo>
                  <a:pt x="294939" y="14338"/>
                </a:lnTo>
                <a:lnTo>
                  <a:pt x="289692" y="8348"/>
                </a:lnTo>
                <a:lnTo>
                  <a:pt x="287108" y="5565"/>
                </a:lnTo>
                <a:lnTo>
                  <a:pt x="284538" y="3710"/>
                </a:lnTo>
                <a:lnTo>
                  <a:pt x="27431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InkAnnotation237"/>
          <p:cNvSpPr/>
          <p:nvPr/>
        </p:nvSpPr>
        <p:spPr>
          <a:xfrm>
            <a:off x="8213760" y="6095880"/>
            <a:ext cx="61920" cy="15840"/>
          </a:xfrm>
          <a:custGeom>
            <a:avLst/>
            <a:gdLst>
              <a:gd name="textAreaLeft" fmla="*/ 0 w 61920"/>
              <a:gd name="textAreaRight" fmla="*/ 62280 w 61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0961" h="15241">
                <a:moveTo>
                  <a:pt x="0" y="15240"/>
                </a:moveTo>
                <a:lnTo>
                  <a:pt x="11351" y="15240"/>
                </a:lnTo>
                <a:lnTo>
                  <a:pt x="13494" y="14393"/>
                </a:lnTo>
                <a:lnTo>
                  <a:pt x="15769" y="12983"/>
                </a:lnTo>
                <a:lnTo>
                  <a:pt x="18133" y="11195"/>
                </a:lnTo>
                <a:lnTo>
                  <a:pt x="21402" y="10003"/>
                </a:lnTo>
                <a:lnTo>
                  <a:pt x="25275" y="9209"/>
                </a:lnTo>
                <a:lnTo>
                  <a:pt x="29550" y="8679"/>
                </a:lnTo>
                <a:lnTo>
                  <a:pt x="-31443" y="7479"/>
                </a:lnTo>
                <a:lnTo>
                  <a:pt x="-26721" y="5833"/>
                </a:lnTo>
                <a:lnTo>
                  <a:pt x="-21879" y="3889"/>
                </a:lnTo>
                <a:lnTo>
                  <a:pt x="-17805" y="2593"/>
                </a:lnTo>
                <a:lnTo>
                  <a:pt x="-14242" y="1728"/>
                </a:lnTo>
                <a:lnTo>
                  <a:pt x="-45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InkAnnotation238"/>
          <p:cNvSpPr/>
          <p:nvPr/>
        </p:nvSpPr>
        <p:spPr>
          <a:xfrm>
            <a:off x="8183520" y="6134040"/>
            <a:ext cx="84240" cy="7920"/>
          </a:xfrm>
          <a:custGeom>
            <a:avLst/>
            <a:gdLst>
              <a:gd name="textAreaLeft" fmla="*/ 0 w 84240"/>
              <a:gd name="textAreaRight" fmla="*/ 84600 w 84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83821" h="7621">
                <a:moveTo>
                  <a:pt x="0" y="7620"/>
                </a:moveTo>
                <a:lnTo>
                  <a:pt x="62582" y="7620"/>
                </a:lnTo>
                <a:lnTo>
                  <a:pt x="67967" y="6774"/>
                </a:lnTo>
                <a:lnTo>
                  <a:pt x="72405" y="5363"/>
                </a:lnTo>
                <a:lnTo>
                  <a:pt x="838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Equations with Variables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7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5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wo lines intersect, angles opposite each other are called vertical angles and are equal in measure. Solv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3429000" y="1752480"/>
            <a:ext cx="5602320" cy="1600200"/>
            <a:chOff x="3429000" y="1752480"/>
            <a:chExt cx="5602320" cy="1600200"/>
          </a:xfrm>
        </p:grpSpPr>
        <p:pic>
          <p:nvPicPr>
            <p:cNvPr id="338" name="Picture 7" descr=""/>
            <p:cNvPicPr/>
            <p:nvPr/>
          </p:nvPicPr>
          <p:blipFill>
            <a:blip r:embed="rId1"/>
            <a:stretch/>
          </p:blipFill>
          <p:spPr>
            <a:xfrm>
              <a:off x="3429000" y="1752480"/>
              <a:ext cx="5602320" cy="1600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39" name="Object 8"/>
            <p:cNvGraphicFramePr/>
            <p:nvPr/>
          </p:nvGraphicFramePr>
          <p:xfrm>
            <a:off x="7162560" y="2361960"/>
            <a:ext cx="121896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0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162560" y="2361960"/>
                      <a:ext cx="12189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1" name="Object 9"/>
            <p:cNvGraphicFramePr/>
            <p:nvPr/>
          </p:nvGraphicFramePr>
          <p:xfrm>
            <a:off x="4190760" y="2286000"/>
            <a:ext cx="1269720" cy="469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2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0760" y="2286000"/>
                      <a:ext cx="126972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3" name="SMARTInkAnnotation239"/>
          <p:cNvSpPr/>
          <p:nvPr/>
        </p:nvSpPr>
        <p:spPr>
          <a:xfrm>
            <a:off x="527040" y="2217600"/>
            <a:ext cx="301680" cy="289080"/>
          </a:xfrm>
          <a:custGeom>
            <a:avLst/>
            <a:gdLst>
              <a:gd name="textAreaLeft" fmla="*/ 0 w 301680"/>
              <a:gd name="textAreaRight" fmla="*/ 302040 w 3016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301801" h="289552">
                <a:moveTo>
                  <a:pt x="121026" y="15231"/>
                </a:moveTo>
                <a:lnTo>
                  <a:pt x="121026" y="313"/>
                </a:lnTo>
                <a:lnTo>
                  <a:pt x="128332" y="0"/>
                </a:lnTo>
                <a:lnTo>
                  <a:pt x="120316" y="8281"/>
                </a:lnTo>
                <a:lnTo>
                  <a:pt x="118013" y="10598"/>
                </a:lnTo>
                <a:lnTo>
                  <a:pt x="116477" y="13836"/>
                </a:lnTo>
                <a:lnTo>
                  <a:pt x="114771" y="21949"/>
                </a:lnTo>
                <a:lnTo>
                  <a:pt x="112623" y="26483"/>
                </a:lnTo>
                <a:lnTo>
                  <a:pt x="109497" y="31199"/>
                </a:lnTo>
                <a:lnTo>
                  <a:pt x="105720" y="36036"/>
                </a:lnTo>
                <a:lnTo>
                  <a:pt x="102356" y="40955"/>
                </a:lnTo>
                <a:lnTo>
                  <a:pt x="99266" y="45927"/>
                </a:lnTo>
                <a:lnTo>
                  <a:pt x="96359" y="50935"/>
                </a:lnTo>
                <a:lnTo>
                  <a:pt x="90872" y="61015"/>
                </a:lnTo>
                <a:lnTo>
                  <a:pt x="88223" y="66073"/>
                </a:lnTo>
                <a:lnTo>
                  <a:pt x="83918" y="71139"/>
                </a:lnTo>
                <a:lnTo>
                  <a:pt x="78507" y="76210"/>
                </a:lnTo>
                <a:lnTo>
                  <a:pt x="72360" y="81284"/>
                </a:lnTo>
                <a:lnTo>
                  <a:pt x="66569" y="87206"/>
                </a:lnTo>
                <a:lnTo>
                  <a:pt x="61015" y="93694"/>
                </a:lnTo>
                <a:lnTo>
                  <a:pt x="55619" y="100560"/>
                </a:lnTo>
                <a:lnTo>
                  <a:pt x="50328" y="106830"/>
                </a:lnTo>
                <a:lnTo>
                  <a:pt x="45107" y="112704"/>
                </a:lnTo>
                <a:lnTo>
                  <a:pt x="34791" y="123746"/>
                </a:lnTo>
                <a:lnTo>
                  <a:pt x="14371" y="144632"/>
                </a:lnTo>
                <a:lnTo>
                  <a:pt x="9283" y="149758"/>
                </a:lnTo>
                <a:lnTo>
                  <a:pt x="3629" y="157712"/>
                </a:lnTo>
                <a:lnTo>
                  <a:pt x="1116" y="164069"/>
                </a:lnTo>
                <a:lnTo>
                  <a:pt x="0" y="169717"/>
                </a:lnTo>
                <a:lnTo>
                  <a:pt x="548" y="171562"/>
                </a:lnTo>
                <a:lnTo>
                  <a:pt x="1761" y="172791"/>
                </a:lnTo>
                <a:lnTo>
                  <a:pt x="3416" y="173611"/>
                </a:lnTo>
                <a:lnTo>
                  <a:pt x="9771" y="174522"/>
                </a:lnTo>
                <a:lnTo>
                  <a:pt x="13836" y="174765"/>
                </a:lnTo>
                <a:lnTo>
                  <a:pt x="27384" y="175035"/>
                </a:lnTo>
                <a:lnTo>
                  <a:pt x="63676" y="175208"/>
                </a:lnTo>
                <a:lnTo>
                  <a:pt x="74326" y="174376"/>
                </a:lnTo>
                <a:lnTo>
                  <a:pt x="85659" y="172974"/>
                </a:lnTo>
                <a:lnTo>
                  <a:pt x="97448" y="171193"/>
                </a:lnTo>
                <a:lnTo>
                  <a:pt x="109541" y="170006"/>
                </a:lnTo>
                <a:lnTo>
                  <a:pt x="121836" y="169214"/>
                </a:lnTo>
                <a:lnTo>
                  <a:pt x="134266" y="168687"/>
                </a:lnTo>
                <a:lnTo>
                  <a:pt x="159366" y="168100"/>
                </a:lnTo>
                <a:lnTo>
                  <a:pt x="209974" y="167724"/>
                </a:lnTo>
                <a:lnTo>
                  <a:pt x="220964" y="168539"/>
                </a:lnTo>
                <a:lnTo>
                  <a:pt x="230832" y="169930"/>
                </a:lnTo>
                <a:lnTo>
                  <a:pt x="239950" y="171704"/>
                </a:lnTo>
                <a:lnTo>
                  <a:pt x="248569" y="173733"/>
                </a:lnTo>
                <a:lnTo>
                  <a:pt x="256855" y="175932"/>
                </a:lnTo>
                <a:lnTo>
                  <a:pt x="264918" y="178245"/>
                </a:lnTo>
                <a:lnTo>
                  <a:pt x="271988" y="180634"/>
                </a:lnTo>
                <a:lnTo>
                  <a:pt x="278394" y="183073"/>
                </a:lnTo>
                <a:lnTo>
                  <a:pt x="284358" y="185546"/>
                </a:lnTo>
                <a:lnTo>
                  <a:pt x="293242" y="190551"/>
                </a:lnTo>
                <a:lnTo>
                  <a:pt x="296797" y="193071"/>
                </a:lnTo>
                <a:lnTo>
                  <a:pt x="299167" y="196444"/>
                </a:lnTo>
                <a:lnTo>
                  <a:pt x="301800" y="204708"/>
                </a:lnTo>
                <a:lnTo>
                  <a:pt x="301655" y="209283"/>
                </a:lnTo>
                <a:lnTo>
                  <a:pt x="300712" y="214025"/>
                </a:lnTo>
                <a:lnTo>
                  <a:pt x="299237" y="218880"/>
                </a:lnTo>
                <a:lnTo>
                  <a:pt x="297407" y="223811"/>
                </a:lnTo>
                <a:lnTo>
                  <a:pt x="295340" y="228791"/>
                </a:lnTo>
                <a:lnTo>
                  <a:pt x="293115" y="233804"/>
                </a:lnTo>
                <a:lnTo>
                  <a:pt x="289092" y="238840"/>
                </a:lnTo>
                <a:lnTo>
                  <a:pt x="283870" y="243891"/>
                </a:lnTo>
                <a:lnTo>
                  <a:pt x="277849" y="248951"/>
                </a:lnTo>
                <a:lnTo>
                  <a:pt x="271295" y="254017"/>
                </a:lnTo>
                <a:lnTo>
                  <a:pt x="264385" y="259089"/>
                </a:lnTo>
                <a:lnTo>
                  <a:pt x="257239" y="264163"/>
                </a:lnTo>
                <a:lnTo>
                  <a:pt x="249935" y="268392"/>
                </a:lnTo>
                <a:lnTo>
                  <a:pt x="242525" y="272059"/>
                </a:lnTo>
                <a:lnTo>
                  <a:pt x="235045" y="275349"/>
                </a:lnTo>
                <a:lnTo>
                  <a:pt x="226672" y="278390"/>
                </a:lnTo>
                <a:lnTo>
                  <a:pt x="217704" y="281264"/>
                </a:lnTo>
                <a:lnTo>
                  <a:pt x="208338" y="284026"/>
                </a:lnTo>
                <a:lnTo>
                  <a:pt x="198707" y="285868"/>
                </a:lnTo>
                <a:lnTo>
                  <a:pt x="188900" y="287096"/>
                </a:lnTo>
                <a:lnTo>
                  <a:pt x="178975" y="287914"/>
                </a:lnTo>
                <a:lnTo>
                  <a:pt x="168972" y="288460"/>
                </a:lnTo>
                <a:lnTo>
                  <a:pt x="148827" y="289066"/>
                </a:lnTo>
                <a:lnTo>
                  <a:pt x="113406" y="28955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InkAnnotation240"/>
          <p:cNvSpPr/>
          <p:nvPr/>
        </p:nvSpPr>
        <p:spPr>
          <a:xfrm>
            <a:off x="631800" y="2187720"/>
            <a:ext cx="252360" cy="60120"/>
          </a:xfrm>
          <a:custGeom>
            <a:avLst/>
            <a:gdLst>
              <a:gd name="textAreaLeft" fmla="*/ 0 w 252360"/>
              <a:gd name="textAreaRight" fmla="*/ 252720 w 252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51461" h="60961">
                <a:moveTo>
                  <a:pt x="0" y="60960"/>
                </a:moveTo>
                <a:lnTo>
                  <a:pt x="4045" y="56915"/>
                </a:lnTo>
                <a:lnTo>
                  <a:pt x="6930" y="54877"/>
                </a:lnTo>
                <a:lnTo>
                  <a:pt x="10547" y="52671"/>
                </a:lnTo>
                <a:lnTo>
                  <a:pt x="14651" y="50354"/>
                </a:lnTo>
                <a:lnTo>
                  <a:pt x="19081" y="48810"/>
                </a:lnTo>
                <a:lnTo>
                  <a:pt x="23727" y="47780"/>
                </a:lnTo>
                <a:lnTo>
                  <a:pt x="28518" y="47093"/>
                </a:lnTo>
                <a:lnTo>
                  <a:pt x="34252" y="45789"/>
                </a:lnTo>
                <a:lnTo>
                  <a:pt x="40615" y="44073"/>
                </a:lnTo>
                <a:lnTo>
                  <a:pt x="47397" y="42082"/>
                </a:lnTo>
                <a:lnTo>
                  <a:pt x="63963" y="37612"/>
                </a:lnTo>
                <a:lnTo>
                  <a:pt x="132256" y="20292"/>
                </a:lnTo>
                <a:lnTo>
                  <a:pt x="154736" y="15228"/>
                </a:lnTo>
                <a:lnTo>
                  <a:pt x="166657" y="12692"/>
                </a:lnTo>
                <a:lnTo>
                  <a:pt x="193450" y="7616"/>
                </a:lnTo>
                <a:lnTo>
                  <a:pt x="207707" y="5078"/>
                </a:lnTo>
                <a:lnTo>
                  <a:pt x="218905" y="3385"/>
                </a:lnTo>
                <a:lnTo>
                  <a:pt x="228063" y="2257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InkAnnotation241"/>
          <p:cNvSpPr/>
          <p:nvPr/>
        </p:nvSpPr>
        <p:spPr>
          <a:xfrm>
            <a:off x="1074600" y="2293920"/>
            <a:ext cx="220680" cy="46080"/>
          </a:xfrm>
          <a:custGeom>
            <a:avLst/>
            <a:gdLst>
              <a:gd name="textAreaLeft" fmla="*/ 0 w 220680"/>
              <a:gd name="textAreaRight" fmla="*/ 221040 w 2206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20981" h="45721">
                <a:moveTo>
                  <a:pt x="0" y="45720"/>
                </a:moveTo>
                <a:lnTo>
                  <a:pt x="12136" y="41675"/>
                </a:lnTo>
                <a:lnTo>
                  <a:pt x="16557" y="40483"/>
                </a:lnTo>
                <a:lnTo>
                  <a:pt x="20351" y="39689"/>
                </a:lnTo>
                <a:lnTo>
                  <a:pt x="23728" y="39160"/>
                </a:lnTo>
                <a:lnTo>
                  <a:pt x="123911" y="20216"/>
                </a:lnTo>
                <a:lnTo>
                  <a:pt x="138487" y="16864"/>
                </a:lnTo>
                <a:lnTo>
                  <a:pt x="153285" y="12936"/>
                </a:lnTo>
                <a:lnTo>
                  <a:pt x="168230" y="8624"/>
                </a:lnTo>
                <a:lnTo>
                  <a:pt x="180733" y="5749"/>
                </a:lnTo>
                <a:lnTo>
                  <a:pt x="191609" y="3833"/>
                </a:lnTo>
                <a:lnTo>
                  <a:pt x="2209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InkAnnotation242"/>
          <p:cNvSpPr/>
          <p:nvPr/>
        </p:nvSpPr>
        <p:spPr>
          <a:xfrm>
            <a:off x="1031760" y="2324160"/>
            <a:ext cx="400320" cy="114120"/>
          </a:xfrm>
          <a:custGeom>
            <a:avLst/>
            <a:gdLst>
              <a:gd name="textAreaLeft" fmla="*/ 0 w 400320"/>
              <a:gd name="textAreaRight" fmla="*/ 400680 w 4003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00360" h="114299">
                <a:moveTo>
                  <a:pt x="19359" y="106680"/>
                </a:moveTo>
                <a:lnTo>
                  <a:pt x="15314" y="110725"/>
                </a:lnTo>
                <a:lnTo>
                  <a:pt x="13275" y="111917"/>
                </a:lnTo>
                <a:lnTo>
                  <a:pt x="5492" y="113986"/>
                </a:lnTo>
                <a:lnTo>
                  <a:pt x="0" y="114238"/>
                </a:lnTo>
                <a:lnTo>
                  <a:pt x="11500" y="114292"/>
                </a:lnTo>
                <a:lnTo>
                  <a:pt x="25121" y="114298"/>
                </a:lnTo>
                <a:lnTo>
                  <a:pt x="31667" y="113452"/>
                </a:lnTo>
                <a:lnTo>
                  <a:pt x="39418" y="112041"/>
                </a:lnTo>
                <a:lnTo>
                  <a:pt x="47971" y="110254"/>
                </a:lnTo>
                <a:lnTo>
                  <a:pt x="57907" y="107370"/>
                </a:lnTo>
                <a:lnTo>
                  <a:pt x="68765" y="103753"/>
                </a:lnTo>
                <a:lnTo>
                  <a:pt x="106529" y="90573"/>
                </a:lnTo>
                <a:lnTo>
                  <a:pt x="120652" y="85782"/>
                </a:lnTo>
                <a:lnTo>
                  <a:pt x="152149" y="75943"/>
                </a:lnTo>
                <a:lnTo>
                  <a:pt x="185057" y="65926"/>
                </a:lnTo>
                <a:lnTo>
                  <a:pt x="232990" y="50766"/>
                </a:lnTo>
                <a:lnTo>
                  <a:pt x="299596" y="30474"/>
                </a:lnTo>
                <a:lnTo>
                  <a:pt x="315404" y="25396"/>
                </a:lnTo>
                <a:lnTo>
                  <a:pt x="341999" y="17496"/>
                </a:lnTo>
                <a:lnTo>
                  <a:pt x="364261" y="11163"/>
                </a:lnTo>
                <a:lnTo>
                  <a:pt x="40035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InkAnnotation243"/>
          <p:cNvSpPr/>
          <p:nvPr/>
        </p:nvSpPr>
        <p:spPr>
          <a:xfrm>
            <a:off x="1425600" y="2179800"/>
            <a:ext cx="258840" cy="266400"/>
          </a:xfrm>
          <a:custGeom>
            <a:avLst/>
            <a:gdLst>
              <a:gd name="textAreaLeft" fmla="*/ 0 w 258840"/>
              <a:gd name="textAreaRight" fmla="*/ 259200 w 25884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259081" h="266701">
                <a:moveTo>
                  <a:pt x="259080" y="0"/>
                </a:moveTo>
                <a:lnTo>
                  <a:pt x="259080" y="10606"/>
                </a:lnTo>
                <a:lnTo>
                  <a:pt x="257387" y="12998"/>
                </a:lnTo>
                <a:lnTo>
                  <a:pt x="250990" y="17912"/>
                </a:lnTo>
                <a:lnTo>
                  <a:pt x="244760" y="25177"/>
                </a:lnTo>
                <a:lnTo>
                  <a:pt x="241913" y="29485"/>
                </a:lnTo>
                <a:lnTo>
                  <a:pt x="238322" y="34050"/>
                </a:lnTo>
                <a:lnTo>
                  <a:pt x="234235" y="38787"/>
                </a:lnTo>
                <a:lnTo>
                  <a:pt x="229817" y="43638"/>
                </a:lnTo>
                <a:lnTo>
                  <a:pt x="224331" y="50259"/>
                </a:lnTo>
                <a:lnTo>
                  <a:pt x="211462" y="66646"/>
                </a:lnTo>
                <a:lnTo>
                  <a:pt x="204475" y="74911"/>
                </a:lnTo>
                <a:lnTo>
                  <a:pt x="197277" y="82961"/>
                </a:lnTo>
                <a:lnTo>
                  <a:pt x="189938" y="90867"/>
                </a:lnTo>
                <a:lnTo>
                  <a:pt x="163428" y="118176"/>
                </a:lnTo>
                <a:lnTo>
                  <a:pt x="154672" y="127890"/>
                </a:lnTo>
                <a:lnTo>
                  <a:pt x="146295" y="137754"/>
                </a:lnTo>
                <a:lnTo>
                  <a:pt x="138170" y="147716"/>
                </a:lnTo>
                <a:lnTo>
                  <a:pt x="129366" y="157744"/>
                </a:lnTo>
                <a:lnTo>
                  <a:pt x="120111" y="167816"/>
                </a:lnTo>
                <a:lnTo>
                  <a:pt x="93162" y="195914"/>
                </a:lnTo>
                <a:lnTo>
                  <a:pt x="84968" y="204270"/>
                </a:lnTo>
                <a:lnTo>
                  <a:pt x="76119" y="212380"/>
                </a:lnTo>
                <a:lnTo>
                  <a:pt x="66832" y="220327"/>
                </a:lnTo>
                <a:lnTo>
                  <a:pt x="57255" y="228164"/>
                </a:lnTo>
                <a:lnTo>
                  <a:pt x="49176" y="234236"/>
                </a:lnTo>
                <a:lnTo>
                  <a:pt x="42098" y="239131"/>
                </a:lnTo>
                <a:lnTo>
                  <a:pt x="35685" y="243241"/>
                </a:lnTo>
                <a:lnTo>
                  <a:pt x="29717" y="246827"/>
                </a:lnTo>
                <a:lnTo>
                  <a:pt x="24044" y="250065"/>
                </a:lnTo>
                <a:lnTo>
                  <a:pt x="18570" y="253070"/>
                </a:lnTo>
                <a:lnTo>
                  <a:pt x="14073" y="255920"/>
                </a:lnTo>
                <a:lnTo>
                  <a:pt x="10229" y="258667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InkAnnotation244"/>
          <p:cNvSpPr/>
          <p:nvPr/>
        </p:nvSpPr>
        <p:spPr>
          <a:xfrm>
            <a:off x="1393920" y="2209680"/>
            <a:ext cx="442800" cy="212760"/>
          </a:xfrm>
          <a:custGeom>
            <a:avLst/>
            <a:gdLst>
              <a:gd name="textAreaLeft" fmla="*/ 0 w 442800"/>
              <a:gd name="textAreaRight" fmla="*/ 443160 w 4428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441961" h="213361">
                <a:moveTo>
                  <a:pt x="0" y="0"/>
                </a:moveTo>
                <a:lnTo>
                  <a:pt x="10606" y="0"/>
                </a:lnTo>
                <a:lnTo>
                  <a:pt x="21957" y="4045"/>
                </a:lnTo>
                <a:lnTo>
                  <a:pt x="33466" y="10547"/>
                </a:lnTo>
                <a:lnTo>
                  <a:pt x="47047" y="19081"/>
                </a:lnTo>
                <a:lnTo>
                  <a:pt x="61550" y="28518"/>
                </a:lnTo>
                <a:lnTo>
                  <a:pt x="69820" y="33406"/>
                </a:lnTo>
                <a:lnTo>
                  <a:pt x="78720" y="38357"/>
                </a:lnTo>
                <a:lnTo>
                  <a:pt x="97640" y="48374"/>
                </a:lnTo>
                <a:lnTo>
                  <a:pt x="117338" y="58471"/>
                </a:lnTo>
                <a:lnTo>
                  <a:pt x="127332" y="64381"/>
                </a:lnTo>
                <a:lnTo>
                  <a:pt x="137381" y="70860"/>
                </a:lnTo>
                <a:lnTo>
                  <a:pt x="147467" y="77720"/>
                </a:lnTo>
                <a:lnTo>
                  <a:pt x="159272" y="83987"/>
                </a:lnTo>
                <a:lnTo>
                  <a:pt x="172221" y="89858"/>
                </a:lnTo>
                <a:lnTo>
                  <a:pt x="185934" y="95465"/>
                </a:lnTo>
                <a:lnTo>
                  <a:pt x="200156" y="101744"/>
                </a:lnTo>
                <a:lnTo>
                  <a:pt x="229505" y="115493"/>
                </a:lnTo>
                <a:lnTo>
                  <a:pt x="274588" y="137513"/>
                </a:lnTo>
                <a:lnTo>
                  <a:pt x="289739" y="144169"/>
                </a:lnTo>
                <a:lnTo>
                  <a:pt x="304919" y="150299"/>
                </a:lnTo>
                <a:lnTo>
                  <a:pt x="320120" y="156080"/>
                </a:lnTo>
                <a:lnTo>
                  <a:pt x="335333" y="162473"/>
                </a:lnTo>
                <a:lnTo>
                  <a:pt x="350555" y="169276"/>
                </a:lnTo>
                <a:lnTo>
                  <a:pt x="365784" y="176350"/>
                </a:lnTo>
                <a:lnTo>
                  <a:pt x="378476" y="181914"/>
                </a:lnTo>
                <a:lnTo>
                  <a:pt x="389477" y="186469"/>
                </a:lnTo>
                <a:lnTo>
                  <a:pt x="399351" y="190353"/>
                </a:lnTo>
                <a:lnTo>
                  <a:pt x="408475" y="194635"/>
                </a:lnTo>
                <a:lnTo>
                  <a:pt x="417096" y="199184"/>
                </a:lnTo>
                <a:lnTo>
                  <a:pt x="441960" y="2133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InkAnnotation245"/>
          <p:cNvSpPr/>
          <p:nvPr/>
        </p:nvSpPr>
        <p:spPr>
          <a:xfrm>
            <a:off x="3467160" y="1752480"/>
            <a:ext cx="264960" cy="289080"/>
          </a:xfrm>
          <a:custGeom>
            <a:avLst/>
            <a:gdLst>
              <a:gd name="textAreaLeft" fmla="*/ 0 w 264960"/>
              <a:gd name="textAreaRight" fmla="*/ 265320 w 264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65493" h="289208">
                <a:moveTo>
                  <a:pt x="76200" y="289207"/>
                </a:moveTo>
                <a:lnTo>
                  <a:pt x="62333" y="289207"/>
                </a:lnTo>
                <a:lnTo>
                  <a:pt x="61875" y="288360"/>
                </a:lnTo>
                <a:lnTo>
                  <a:pt x="61367" y="285162"/>
                </a:lnTo>
                <a:lnTo>
                  <a:pt x="60385" y="283123"/>
                </a:lnTo>
                <a:lnTo>
                  <a:pt x="54957" y="276210"/>
                </a:lnTo>
                <a:lnTo>
                  <a:pt x="50390" y="271295"/>
                </a:lnTo>
                <a:lnTo>
                  <a:pt x="48833" y="267952"/>
                </a:lnTo>
                <a:lnTo>
                  <a:pt x="47104" y="259723"/>
                </a:lnTo>
                <a:lnTo>
                  <a:pt x="45796" y="255158"/>
                </a:lnTo>
                <a:lnTo>
                  <a:pt x="44078" y="250421"/>
                </a:lnTo>
                <a:lnTo>
                  <a:pt x="42085" y="245570"/>
                </a:lnTo>
                <a:lnTo>
                  <a:pt x="39910" y="240642"/>
                </a:lnTo>
                <a:lnTo>
                  <a:pt x="35236" y="230652"/>
                </a:lnTo>
                <a:lnTo>
                  <a:pt x="33651" y="225617"/>
                </a:lnTo>
                <a:lnTo>
                  <a:pt x="32594" y="220567"/>
                </a:lnTo>
                <a:lnTo>
                  <a:pt x="31890" y="215507"/>
                </a:lnTo>
                <a:lnTo>
                  <a:pt x="30573" y="209593"/>
                </a:lnTo>
                <a:lnTo>
                  <a:pt x="28849" y="203111"/>
                </a:lnTo>
                <a:lnTo>
                  <a:pt x="26853" y="196250"/>
                </a:lnTo>
                <a:lnTo>
                  <a:pt x="25522" y="189136"/>
                </a:lnTo>
                <a:lnTo>
                  <a:pt x="24635" y="181853"/>
                </a:lnTo>
                <a:lnTo>
                  <a:pt x="24043" y="174458"/>
                </a:lnTo>
                <a:lnTo>
                  <a:pt x="23649" y="167834"/>
                </a:lnTo>
                <a:lnTo>
                  <a:pt x="23211" y="155959"/>
                </a:lnTo>
                <a:lnTo>
                  <a:pt x="22930" y="129301"/>
                </a:lnTo>
                <a:lnTo>
                  <a:pt x="22870" y="101597"/>
                </a:lnTo>
                <a:lnTo>
                  <a:pt x="23713" y="97247"/>
                </a:lnTo>
                <a:lnTo>
                  <a:pt x="28099" y="87080"/>
                </a:lnTo>
                <a:lnTo>
                  <a:pt x="29775" y="78705"/>
                </a:lnTo>
                <a:lnTo>
                  <a:pt x="30387" y="69774"/>
                </a:lnTo>
                <a:lnTo>
                  <a:pt x="32696" y="66657"/>
                </a:lnTo>
                <a:lnTo>
                  <a:pt x="37033" y="61802"/>
                </a:lnTo>
                <a:lnTo>
                  <a:pt x="38235" y="61404"/>
                </a:lnTo>
                <a:lnTo>
                  <a:pt x="44819" y="60843"/>
                </a:lnTo>
                <a:lnTo>
                  <a:pt x="57119" y="60677"/>
                </a:lnTo>
                <a:lnTo>
                  <a:pt x="66591" y="60638"/>
                </a:lnTo>
                <a:lnTo>
                  <a:pt x="72334" y="59781"/>
                </a:lnTo>
                <a:lnTo>
                  <a:pt x="78702" y="58363"/>
                </a:lnTo>
                <a:lnTo>
                  <a:pt x="85489" y="56571"/>
                </a:lnTo>
                <a:lnTo>
                  <a:pt x="93399" y="55377"/>
                </a:lnTo>
                <a:lnTo>
                  <a:pt x="102060" y="54580"/>
                </a:lnTo>
                <a:lnTo>
                  <a:pt x="111220" y="54049"/>
                </a:lnTo>
                <a:lnTo>
                  <a:pt x="119867" y="52848"/>
                </a:lnTo>
                <a:lnTo>
                  <a:pt x="128171" y="51201"/>
                </a:lnTo>
                <a:lnTo>
                  <a:pt x="163795" y="42474"/>
                </a:lnTo>
                <a:lnTo>
                  <a:pt x="171850" y="40052"/>
                </a:lnTo>
                <a:lnTo>
                  <a:pt x="178914" y="37590"/>
                </a:lnTo>
                <a:lnTo>
                  <a:pt x="185316" y="35103"/>
                </a:lnTo>
                <a:lnTo>
                  <a:pt x="192971" y="32597"/>
                </a:lnTo>
                <a:lnTo>
                  <a:pt x="201461" y="30081"/>
                </a:lnTo>
                <a:lnTo>
                  <a:pt x="210507" y="27556"/>
                </a:lnTo>
                <a:lnTo>
                  <a:pt x="218232" y="25027"/>
                </a:lnTo>
                <a:lnTo>
                  <a:pt x="225075" y="22493"/>
                </a:lnTo>
                <a:lnTo>
                  <a:pt x="231330" y="19958"/>
                </a:lnTo>
                <a:lnTo>
                  <a:pt x="236346" y="17421"/>
                </a:lnTo>
                <a:lnTo>
                  <a:pt x="244179" y="12344"/>
                </a:lnTo>
                <a:lnTo>
                  <a:pt x="250482" y="9524"/>
                </a:lnTo>
                <a:lnTo>
                  <a:pt x="253348" y="8772"/>
                </a:lnTo>
                <a:lnTo>
                  <a:pt x="255259" y="7423"/>
                </a:lnTo>
                <a:lnTo>
                  <a:pt x="256533" y="5678"/>
                </a:lnTo>
                <a:lnTo>
                  <a:pt x="257382" y="3668"/>
                </a:lnTo>
                <a:lnTo>
                  <a:pt x="258795" y="2328"/>
                </a:lnTo>
                <a:lnTo>
                  <a:pt x="260584" y="1434"/>
                </a:lnTo>
                <a:lnTo>
                  <a:pt x="265492" y="0"/>
                </a:lnTo>
                <a:lnTo>
                  <a:pt x="265049" y="729"/>
                </a:lnTo>
                <a:lnTo>
                  <a:pt x="260033" y="6239"/>
                </a:lnTo>
                <a:lnTo>
                  <a:pt x="255317" y="15053"/>
                </a:lnTo>
                <a:lnTo>
                  <a:pt x="248659" y="23709"/>
                </a:lnTo>
                <a:lnTo>
                  <a:pt x="244513" y="28389"/>
                </a:lnTo>
                <a:lnTo>
                  <a:pt x="235390" y="38104"/>
                </a:lnTo>
                <a:lnTo>
                  <a:pt x="211691" y="62183"/>
                </a:lnTo>
                <a:lnTo>
                  <a:pt x="205475" y="69277"/>
                </a:lnTo>
                <a:lnTo>
                  <a:pt x="199636" y="76548"/>
                </a:lnTo>
                <a:lnTo>
                  <a:pt x="194051" y="83934"/>
                </a:lnTo>
                <a:lnTo>
                  <a:pt x="183330" y="98915"/>
                </a:lnTo>
                <a:lnTo>
                  <a:pt x="178100" y="106465"/>
                </a:lnTo>
                <a:lnTo>
                  <a:pt x="172074" y="114039"/>
                </a:lnTo>
                <a:lnTo>
                  <a:pt x="165516" y="121629"/>
                </a:lnTo>
                <a:lnTo>
                  <a:pt x="158604" y="129228"/>
                </a:lnTo>
                <a:lnTo>
                  <a:pt x="152303" y="136834"/>
                </a:lnTo>
                <a:lnTo>
                  <a:pt x="146409" y="144445"/>
                </a:lnTo>
                <a:lnTo>
                  <a:pt x="140786" y="152059"/>
                </a:lnTo>
                <a:lnTo>
                  <a:pt x="133651" y="159675"/>
                </a:lnTo>
                <a:lnTo>
                  <a:pt x="125507" y="167292"/>
                </a:lnTo>
                <a:lnTo>
                  <a:pt x="116691" y="174911"/>
                </a:lnTo>
                <a:lnTo>
                  <a:pt x="108274" y="181683"/>
                </a:lnTo>
                <a:lnTo>
                  <a:pt x="100123" y="187891"/>
                </a:lnTo>
                <a:lnTo>
                  <a:pt x="92149" y="193723"/>
                </a:lnTo>
                <a:lnTo>
                  <a:pt x="84293" y="200151"/>
                </a:lnTo>
                <a:lnTo>
                  <a:pt x="76515" y="206977"/>
                </a:lnTo>
                <a:lnTo>
                  <a:pt x="68791" y="214066"/>
                </a:lnTo>
                <a:lnTo>
                  <a:pt x="61947" y="219640"/>
                </a:lnTo>
                <a:lnTo>
                  <a:pt x="55691" y="224202"/>
                </a:lnTo>
                <a:lnTo>
                  <a:pt x="29439" y="241653"/>
                </a:lnTo>
                <a:lnTo>
                  <a:pt x="23860" y="245651"/>
                </a:lnTo>
                <a:lnTo>
                  <a:pt x="19293" y="249163"/>
                </a:lnTo>
                <a:lnTo>
                  <a:pt x="11962" y="254476"/>
                </a:lnTo>
                <a:lnTo>
                  <a:pt x="8821" y="255893"/>
                </a:lnTo>
                <a:lnTo>
                  <a:pt x="0" y="2587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InkAnnotation246"/>
          <p:cNvSpPr/>
          <p:nvPr/>
        </p:nvSpPr>
        <p:spPr>
          <a:xfrm>
            <a:off x="3360600" y="2987640"/>
            <a:ext cx="287640" cy="228600"/>
          </a:xfrm>
          <a:custGeom>
            <a:avLst/>
            <a:gdLst>
              <a:gd name="textAreaLeft" fmla="*/ 0 w 287640"/>
              <a:gd name="textAreaRight" fmla="*/ 288000 w 287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87762" h="228574">
                <a:moveTo>
                  <a:pt x="182742" y="0"/>
                </a:moveTo>
                <a:lnTo>
                  <a:pt x="182742" y="4045"/>
                </a:lnTo>
                <a:lnTo>
                  <a:pt x="181896" y="6084"/>
                </a:lnTo>
                <a:lnTo>
                  <a:pt x="176659" y="13844"/>
                </a:lnTo>
                <a:lnTo>
                  <a:pt x="174454" y="17696"/>
                </a:lnTo>
                <a:lnTo>
                  <a:pt x="169745" y="26491"/>
                </a:lnTo>
                <a:lnTo>
                  <a:pt x="164830" y="36045"/>
                </a:lnTo>
                <a:lnTo>
                  <a:pt x="162334" y="41810"/>
                </a:lnTo>
                <a:lnTo>
                  <a:pt x="159824" y="48194"/>
                </a:lnTo>
                <a:lnTo>
                  <a:pt x="157304" y="54989"/>
                </a:lnTo>
                <a:lnTo>
                  <a:pt x="153929" y="61213"/>
                </a:lnTo>
                <a:lnTo>
                  <a:pt x="149987" y="67055"/>
                </a:lnTo>
                <a:lnTo>
                  <a:pt x="145665" y="72643"/>
                </a:lnTo>
                <a:lnTo>
                  <a:pt x="141091" y="78909"/>
                </a:lnTo>
                <a:lnTo>
                  <a:pt x="131493" y="92644"/>
                </a:lnTo>
                <a:lnTo>
                  <a:pt x="125716" y="99863"/>
                </a:lnTo>
                <a:lnTo>
                  <a:pt x="119325" y="107215"/>
                </a:lnTo>
                <a:lnTo>
                  <a:pt x="112524" y="114657"/>
                </a:lnTo>
                <a:lnTo>
                  <a:pt x="106297" y="122158"/>
                </a:lnTo>
                <a:lnTo>
                  <a:pt x="100452" y="129699"/>
                </a:lnTo>
                <a:lnTo>
                  <a:pt x="94862" y="137266"/>
                </a:lnTo>
                <a:lnTo>
                  <a:pt x="88595" y="144004"/>
                </a:lnTo>
                <a:lnTo>
                  <a:pt x="81878" y="150189"/>
                </a:lnTo>
                <a:lnTo>
                  <a:pt x="74859" y="156007"/>
                </a:lnTo>
                <a:lnTo>
                  <a:pt x="68487" y="162424"/>
                </a:lnTo>
                <a:lnTo>
                  <a:pt x="62545" y="169243"/>
                </a:lnTo>
                <a:lnTo>
                  <a:pt x="56891" y="176329"/>
                </a:lnTo>
                <a:lnTo>
                  <a:pt x="50581" y="181899"/>
                </a:lnTo>
                <a:lnTo>
                  <a:pt x="43835" y="186460"/>
                </a:lnTo>
                <a:lnTo>
                  <a:pt x="36798" y="190346"/>
                </a:lnTo>
                <a:lnTo>
                  <a:pt x="31259" y="194631"/>
                </a:lnTo>
                <a:lnTo>
                  <a:pt x="26720" y="199181"/>
                </a:lnTo>
                <a:lnTo>
                  <a:pt x="22848" y="203907"/>
                </a:lnTo>
                <a:lnTo>
                  <a:pt x="19419" y="207058"/>
                </a:lnTo>
                <a:lnTo>
                  <a:pt x="10549" y="212340"/>
                </a:lnTo>
                <a:lnTo>
                  <a:pt x="2224" y="219023"/>
                </a:lnTo>
                <a:lnTo>
                  <a:pt x="1436" y="219675"/>
                </a:lnTo>
                <a:lnTo>
                  <a:pt x="912" y="220957"/>
                </a:lnTo>
                <a:lnTo>
                  <a:pt x="0" y="227426"/>
                </a:lnTo>
                <a:lnTo>
                  <a:pt x="802" y="227818"/>
                </a:lnTo>
                <a:lnTo>
                  <a:pt x="3949" y="228252"/>
                </a:lnTo>
                <a:lnTo>
                  <a:pt x="12685" y="228446"/>
                </a:lnTo>
                <a:lnTo>
                  <a:pt x="18571" y="228497"/>
                </a:lnTo>
                <a:lnTo>
                  <a:pt x="25035" y="227685"/>
                </a:lnTo>
                <a:lnTo>
                  <a:pt x="31884" y="226297"/>
                </a:lnTo>
                <a:lnTo>
                  <a:pt x="38990" y="224525"/>
                </a:lnTo>
                <a:lnTo>
                  <a:pt x="47114" y="223343"/>
                </a:lnTo>
                <a:lnTo>
                  <a:pt x="55917" y="222556"/>
                </a:lnTo>
                <a:lnTo>
                  <a:pt x="65172" y="222030"/>
                </a:lnTo>
                <a:lnTo>
                  <a:pt x="84486" y="221447"/>
                </a:lnTo>
                <a:lnTo>
                  <a:pt x="146971" y="221021"/>
                </a:lnTo>
                <a:lnTo>
                  <a:pt x="158894" y="221007"/>
                </a:lnTo>
                <a:lnTo>
                  <a:pt x="170231" y="221845"/>
                </a:lnTo>
                <a:lnTo>
                  <a:pt x="181174" y="223250"/>
                </a:lnTo>
                <a:lnTo>
                  <a:pt x="191857" y="225034"/>
                </a:lnTo>
                <a:lnTo>
                  <a:pt x="202365" y="226222"/>
                </a:lnTo>
                <a:lnTo>
                  <a:pt x="212758" y="227015"/>
                </a:lnTo>
                <a:lnTo>
                  <a:pt x="231643" y="227896"/>
                </a:lnTo>
                <a:lnTo>
                  <a:pt x="245680" y="228287"/>
                </a:lnTo>
                <a:lnTo>
                  <a:pt x="274945" y="228573"/>
                </a:lnTo>
                <a:lnTo>
                  <a:pt x="278078" y="227735"/>
                </a:lnTo>
                <a:lnTo>
                  <a:pt x="283816" y="224547"/>
                </a:lnTo>
                <a:lnTo>
                  <a:pt x="285684" y="222511"/>
                </a:lnTo>
                <a:lnTo>
                  <a:pt x="286931" y="220308"/>
                </a:lnTo>
                <a:lnTo>
                  <a:pt x="287761" y="217992"/>
                </a:lnTo>
                <a:lnTo>
                  <a:pt x="287468" y="215601"/>
                </a:lnTo>
                <a:lnTo>
                  <a:pt x="286426" y="213161"/>
                </a:lnTo>
                <a:lnTo>
                  <a:pt x="282164" y="207345"/>
                </a:lnTo>
                <a:lnTo>
                  <a:pt x="278657" y="203424"/>
                </a:lnTo>
                <a:lnTo>
                  <a:pt x="274625" y="199116"/>
                </a:lnTo>
                <a:lnTo>
                  <a:pt x="271091" y="194550"/>
                </a:lnTo>
                <a:lnTo>
                  <a:pt x="267888" y="189814"/>
                </a:lnTo>
                <a:lnTo>
                  <a:pt x="264906" y="184963"/>
                </a:lnTo>
                <a:lnTo>
                  <a:pt x="252619" y="165999"/>
                </a:lnTo>
                <a:lnTo>
                  <a:pt x="247107" y="159773"/>
                </a:lnTo>
                <a:lnTo>
                  <a:pt x="240892" y="153929"/>
                </a:lnTo>
                <a:lnTo>
                  <a:pt x="234209" y="148339"/>
                </a:lnTo>
                <a:lnTo>
                  <a:pt x="227213" y="142073"/>
                </a:lnTo>
                <a:lnTo>
                  <a:pt x="212668" y="128337"/>
                </a:lnTo>
                <a:lnTo>
                  <a:pt x="194243" y="110369"/>
                </a:lnTo>
                <a:lnTo>
                  <a:pt x="188716" y="104059"/>
                </a:lnTo>
                <a:lnTo>
                  <a:pt x="183338" y="97313"/>
                </a:lnTo>
                <a:lnTo>
                  <a:pt x="178059" y="90275"/>
                </a:lnTo>
                <a:lnTo>
                  <a:pt x="173693" y="84737"/>
                </a:lnTo>
                <a:lnTo>
                  <a:pt x="169937" y="80198"/>
                </a:lnTo>
                <a:lnTo>
                  <a:pt x="166585" y="76325"/>
                </a:lnTo>
                <a:lnTo>
                  <a:pt x="163504" y="72050"/>
                </a:lnTo>
                <a:lnTo>
                  <a:pt x="160603" y="67507"/>
                </a:lnTo>
                <a:lnTo>
                  <a:pt x="157823" y="62785"/>
                </a:lnTo>
                <a:lnTo>
                  <a:pt x="155123" y="59637"/>
                </a:lnTo>
                <a:lnTo>
                  <a:pt x="152476" y="57538"/>
                </a:lnTo>
                <a:lnTo>
                  <a:pt x="144642" y="533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InkAnnotation247"/>
          <p:cNvSpPr/>
          <p:nvPr/>
        </p:nvSpPr>
        <p:spPr>
          <a:xfrm>
            <a:off x="8763120" y="1935000"/>
            <a:ext cx="365040" cy="174960"/>
          </a:xfrm>
          <a:custGeom>
            <a:avLst/>
            <a:gdLst>
              <a:gd name="textAreaLeft" fmla="*/ 0 w 365040"/>
              <a:gd name="textAreaRight" fmla="*/ 365040 w 365040"/>
              <a:gd name="textAreaTop" fmla="*/ 0 h 174960"/>
              <a:gd name="textAreaBottom" fmla="*/ 175320 h 174960"/>
            </a:gdLst>
            <a:ahLst/>
            <a:rect l="textAreaLeft" t="textAreaTop" r="textAreaRight" b="textAreaBottom"/>
            <a:pathLst>
              <a:path w="365074" h="174804">
                <a:moveTo>
                  <a:pt x="0" y="7620"/>
                </a:moveTo>
                <a:lnTo>
                  <a:pt x="0" y="1059"/>
                </a:lnTo>
                <a:lnTo>
                  <a:pt x="846" y="706"/>
                </a:lnTo>
                <a:lnTo>
                  <a:pt x="7618" y="0"/>
                </a:lnTo>
                <a:lnTo>
                  <a:pt x="22272" y="0"/>
                </a:lnTo>
                <a:lnTo>
                  <a:pt x="31347" y="2258"/>
                </a:lnTo>
                <a:lnTo>
                  <a:pt x="36138" y="4045"/>
                </a:lnTo>
                <a:lnTo>
                  <a:pt x="42719" y="5237"/>
                </a:lnTo>
                <a:lnTo>
                  <a:pt x="50493" y="6031"/>
                </a:lnTo>
                <a:lnTo>
                  <a:pt x="59062" y="6561"/>
                </a:lnTo>
                <a:lnTo>
                  <a:pt x="68162" y="7761"/>
                </a:lnTo>
                <a:lnTo>
                  <a:pt x="77614" y="9407"/>
                </a:lnTo>
                <a:lnTo>
                  <a:pt x="121165" y="18133"/>
                </a:lnTo>
                <a:lnTo>
                  <a:pt x="133269" y="19709"/>
                </a:lnTo>
                <a:lnTo>
                  <a:pt x="145573" y="20759"/>
                </a:lnTo>
                <a:lnTo>
                  <a:pt x="158009" y="21459"/>
                </a:lnTo>
                <a:lnTo>
                  <a:pt x="185373" y="22238"/>
                </a:lnTo>
                <a:lnTo>
                  <a:pt x="199783" y="22445"/>
                </a:lnTo>
                <a:lnTo>
                  <a:pt x="213622" y="23430"/>
                </a:lnTo>
                <a:lnTo>
                  <a:pt x="227081" y="24933"/>
                </a:lnTo>
                <a:lnTo>
                  <a:pt x="240288" y="26782"/>
                </a:lnTo>
                <a:lnTo>
                  <a:pt x="252479" y="28862"/>
                </a:lnTo>
                <a:lnTo>
                  <a:pt x="263993" y="31095"/>
                </a:lnTo>
                <a:lnTo>
                  <a:pt x="275055" y="33430"/>
                </a:lnTo>
                <a:lnTo>
                  <a:pt x="284970" y="34987"/>
                </a:lnTo>
                <a:lnTo>
                  <a:pt x="294120" y="36024"/>
                </a:lnTo>
                <a:lnTo>
                  <a:pt x="302761" y="36716"/>
                </a:lnTo>
                <a:lnTo>
                  <a:pt x="310214" y="38024"/>
                </a:lnTo>
                <a:lnTo>
                  <a:pt x="316876" y="39743"/>
                </a:lnTo>
                <a:lnTo>
                  <a:pt x="343781" y="48585"/>
                </a:lnTo>
                <a:lnTo>
                  <a:pt x="354016" y="51226"/>
                </a:lnTo>
                <a:lnTo>
                  <a:pt x="357932" y="51931"/>
                </a:lnTo>
                <a:lnTo>
                  <a:pt x="360541" y="53247"/>
                </a:lnTo>
                <a:lnTo>
                  <a:pt x="362280" y="54972"/>
                </a:lnTo>
                <a:lnTo>
                  <a:pt x="363441" y="56968"/>
                </a:lnTo>
                <a:lnTo>
                  <a:pt x="364213" y="59992"/>
                </a:lnTo>
                <a:lnTo>
                  <a:pt x="364730" y="63701"/>
                </a:lnTo>
                <a:lnTo>
                  <a:pt x="365073" y="67867"/>
                </a:lnTo>
                <a:lnTo>
                  <a:pt x="363609" y="71492"/>
                </a:lnTo>
                <a:lnTo>
                  <a:pt x="360939" y="74755"/>
                </a:lnTo>
                <a:lnTo>
                  <a:pt x="357467" y="77777"/>
                </a:lnTo>
                <a:lnTo>
                  <a:pt x="354304" y="82331"/>
                </a:lnTo>
                <a:lnTo>
                  <a:pt x="351351" y="87907"/>
                </a:lnTo>
                <a:lnTo>
                  <a:pt x="348534" y="94165"/>
                </a:lnTo>
                <a:lnTo>
                  <a:pt x="344963" y="100030"/>
                </a:lnTo>
                <a:lnTo>
                  <a:pt x="340888" y="105634"/>
                </a:lnTo>
                <a:lnTo>
                  <a:pt x="336479" y="111062"/>
                </a:lnTo>
                <a:lnTo>
                  <a:pt x="332693" y="116375"/>
                </a:lnTo>
                <a:lnTo>
                  <a:pt x="329323" y="121610"/>
                </a:lnTo>
                <a:lnTo>
                  <a:pt x="326228" y="126793"/>
                </a:lnTo>
                <a:lnTo>
                  <a:pt x="321625" y="131942"/>
                </a:lnTo>
                <a:lnTo>
                  <a:pt x="316018" y="137068"/>
                </a:lnTo>
                <a:lnTo>
                  <a:pt x="309738" y="142179"/>
                </a:lnTo>
                <a:lnTo>
                  <a:pt x="304705" y="146433"/>
                </a:lnTo>
                <a:lnTo>
                  <a:pt x="300504" y="150115"/>
                </a:lnTo>
                <a:lnTo>
                  <a:pt x="296856" y="153417"/>
                </a:lnTo>
                <a:lnTo>
                  <a:pt x="292731" y="156465"/>
                </a:lnTo>
                <a:lnTo>
                  <a:pt x="288287" y="159343"/>
                </a:lnTo>
                <a:lnTo>
                  <a:pt x="279681" y="164800"/>
                </a:lnTo>
                <a:lnTo>
                  <a:pt x="273034" y="170047"/>
                </a:lnTo>
                <a:lnTo>
                  <a:pt x="269230" y="171784"/>
                </a:lnTo>
                <a:lnTo>
                  <a:pt x="260486" y="173715"/>
                </a:lnTo>
                <a:lnTo>
                  <a:pt x="250089" y="174803"/>
                </a:lnTo>
                <a:lnTo>
                  <a:pt x="242103" y="172799"/>
                </a:lnTo>
                <a:lnTo>
                  <a:pt x="232908" y="169087"/>
                </a:lnTo>
                <a:lnTo>
                  <a:pt x="223177" y="164614"/>
                </a:lnTo>
                <a:lnTo>
                  <a:pt x="208178" y="157336"/>
                </a:lnTo>
                <a:lnTo>
                  <a:pt x="203132" y="153997"/>
                </a:lnTo>
                <a:lnTo>
                  <a:pt x="198075" y="150079"/>
                </a:lnTo>
                <a:lnTo>
                  <a:pt x="193010" y="145772"/>
                </a:lnTo>
                <a:lnTo>
                  <a:pt x="187940" y="140362"/>
                </a:lnTo>
                <a:lnTo>
                  <a:pt x="182868" y="134214"/>
                </a:lnTo>
                <a:lnTo>
                  <a:pt x="177791" y="127576"/>
                </a:lnTo>
                <a:lnTo>
                  <a:pt x="172715" y="121458"/>
                </a:lnTo>
                <a:lnTo>
                  <a:pt x="167636" y="115685"/>
                </a:lnTo>
                <a:lnTo>
                  <a:pt x="162558" y="110143"/>
                </a:lnTo>
                <a:lnTo>
                  <a:pt x="157479" y="103909"/>
                </a:lnTo>
                <a:lnTo>
                  <a:pt x="152400" y="97213"/>
                </a:lnTo>
                <a:lnTo>
                  <a:pt x="147320" y="90209"/>
                </a:lnTo>
                <a:lnTo>
                  <a:pt x="143087" y="82999"/>
                </a:lnTo>
                <a:lnTo>
                  <a:pt x="139418" y="75653"/>
                </a:lnTo>
                <a:lnTo>
                  <a:pt x="133083" y="61564"/>
                </a:lnTo>
                <a:lnTo>
                  <a:pt x="127446" y="49657"/>
                </a:lnTo>
                <a:lnTo>
                  <a:pt x="125604" y="44958"/>
                </a:lnTo>
                <a:lnTo>
                  <a:pt x="124376" y="40979"/>
                </a:lnTo>
                <a:lnTo>
                  <a:pt x="123558" y="37479"/>
                </a:lnTo>
                <a:lnTo>
                  <a:pt x="123011" y="34300"/>
                </a:lnTo>
                <a:lnTo>
                  <a:pt x="122648" y="31333"/>
                </a:lnTo>
                <a:lnTo>
                  <a:pt x="122405" y="28509"/>
                </a:lnTo>
                <a:lnTo>
                  <a:pt x="122137" y="23113"/>
                </a:lnTo>
                <a:lnTo>
                  <a:pt x="121933" y="15701"/>
                </a:lnTo>
                <a:lnTo>
                  <a:pt x="129541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InkAnnotation248"/>
          <p:cNvSpPr/>
          <p:nvPr/>
        </p:nvSpPr>
        <p:spPr>
          <a:xfrm>
            <a:off x="8664480" y="3078000"/>
            <a:ext cx="230400" cy="190800"/>
          </a:xfrm>
          <a:custGeom>
            <a:avLst/>
            <a:gdLst>
              <a:gd name="textAreaLeft" fmla="*/ 0 w 230400"/>
              <a:gd name="textAreaRight" fmla="*/ 230760 w 23040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231608" h="190499">
                <a:moveTo>
                  <a:pt x="60959" y="0"/>
                </a:moveTo>
                <a:lnTo>
                  <a:pt x="71565" y="10606"/>
                </a:lnTo>
                <a:lnTo>
                  <a:pt x="78656" y="15438"/>
                </a:lnTo>
                <a:lnTo>
                  <a:pt x="82916" y="17912"/>
                </a:lnTo>
                <a:lnTo>
                  <a:pt x="92166" y="22918"/>
                </a:lnTo>
                <a:lnTo>
                  <a:pt x="97005" y="25439"/>
                </a:lnTo>
                <a:lnTo>
                  <a:pt x="101923" y="28813"/>
                </a:lnTo>
                <a:lnTo>
                  <a:pt x="106896" y="32755"/>
                </a:lnTo>
                <a:lnTo>
                  <a:pt x="111904" y="37077"/>
                </a:lnTo>
                <a:lnTo>
                  <a:pt x="117783" y="41651"/>
                </a:lnTo>
                <a:lnTo>
                  <a:pt x="124241" y="46394"/>
                </a:lnTo>
                <a:lnTo>
                  <a:pt x="131087" y="51249"/>
                </a:lnTo>
                <a:lnTo>
                  <a:pt x="137345" y="56180"/>
                </a:lnTo>
                <a:lnTo>
                  <a:pt x="143210" y="61160"/>
                </a:lnTo>
                <a:lnTo>
                  <a:pt x="148813" y="66173"/>
                </a:lnTo>
                <a:lnTo>
                  <a:pt x="155088" y="70362"/>
                </a:lnTo>
                <a:lnTo>
                  <a:pt x="161812" y="74001"/>
                </a:lnTo>
                <a:lnTo>
                  <a:pt x="168835" y="77274"/>
                </a:lnTo>
                <a:lnTo>
                  <a:pt x="176056" y="81149"/>
                </a:lnTo>
                <a:lnTo>
                  <a:pt x="183410" y="85427"/>
                </a:lnTo>
                <a:lnTo>
                  <a:pt x="190853" y="89971"/>
                </a:lnTo>
                <a:lnTo>
                  <a:pt x="197509" y="94694"/>
                </a:lnTo>
                <a:lnTo>
                  <a:pt x="203639" y="99536"/>
                </a:lnTo>
                <a:lnTo>
                  <a:pt x="209420" y="104457"/>
                </a:lnTo>
                <a:lnTo>
                  <a:pt x="214119" y="108585"/>
                </a:lnTo>
                <a:lnTo>
                  <a:pt x="221600" y="115429"/>
                </a:lnTo>
                <a:lnTo>
                  <a:pt x="230570" y="124042"/>
                </a:lnTo>
                <a:lnTo>
                  <a:pt x="231607" y="126721"/>
                </a:lnTo>
                <a:lnTo>
                  <a:pt x="231451" y="129354"/>
                </a:lnTo>
                <a:lnTo>
                  <a:pt x="230501" y="131956"/>
                </a:lnTo>
                <a:lnTo>
                  <a:pt x="227186" y="137105"/>
                </a:lnTo>
                <a:lnTo>
                  <a:pt x="222892" y="142215"/>
                </a:lnTo>
                <a:lnTo>
                  <a:pt x="218160" y="147309"/>
                </a:lnTo>
                <a:lnTo>
                  <a:pt x="214019" y="149853"/>
                </a:lnTo>
                <a:lnTo>
                  <a:pt x="208720" y="152396"/>
                </a:lnTo>
                <a:lnTo>
                  <a:pt x="202646" y="154937"/>
                </a:lnTo>
                <a:lnTo>
                  <a:pt x="195211" y="157478"/>
                </a:lnTo>
                <a:lnTo>
                  <a:pt x="186868" y="160019"/>
                </a:lnTo>
                <a:lnTo>
                  <a:pt x="169411" y="165100"/>
                </a:lnTo>
                <a:lnTo>
                  <a:pt x="153187" y="170180"/>
                </a:lnTo>
                <a:lnTo>
                  <a:pt x="135252" y="175260"/>
                </a:lnTo>
                <a:lnTo>
                  <a:pt x="125727" y="177800"/>
                </a:lnTo>
                <a:lnTo>
                  <a:pt x="117686" y="179493"/>
                </a:lnTo>
                <a:lnTo>
                  <a:pt x="110630" y="180623"/>
                </a:lnTo>
                <a:lnTo>
                  <a:pt x="104233" y="181375"/>
                </a:lnTo>
                <a:lnTo>
                  <a:pt x="97429" y="181877"/>
                </a:lnTo>
                <a:lnTo>
                  <a:pt x="90353" y="182211"/>
                </a:lnTo>
                <a:lnTo>
                  <a:pt x="83095" y="182434"/>
                </a:lnTo>
                <a:lnTo>
                  <a:pt x="76563" y="183429"/>
                </a:lnTo>
                <a:lnTo>
                  <a:pt x="70516" y="184940"/>
                </a:lnTo>
                <a:lnTo>
                  <a:pt x="64791" y="186793"/>
                </a:lnTo>
                <a:lnTo>
                  <a:pt x="60126" y="188029"/>
                </a:lnTo>
                <a:lnTo>
                  <a:pt x="56171" y="188853"/>
                </a:lnTo>
                <a:lnTo>
                  <a:pt x="46332" y="190404"/>
                </a:lnTo>
                <a:lnTo>
                  <a:pt x="39211" y="190492"/>
                </a:lnTo>
                <a:lnTo>
                  <a:pt x="38429" y="190498"/>
                </a:lnTo>
                <a:lnTo>
                  <a:pt x="42243" y="186454"/>
                </a:lnTo>
                <a:lnTo>
                  <a:pt x="43402" y="184416"/>
                </a:lnTo>
                <a:lnTo>
                  <a:pt x="44689" y="179894"/>
                </a:lnTo>
                <a:lnTo>
                  <a:pt x="45034" y="176656"/>
                </a:lnTo>
                <a:lnTo>
                  <a:pt x="45262" y="172804"/>
                </a:lnTo>
                <a:lnTo>
                  <a:pt x="45516" y="164009"/>
                </a:lnTo>
                <a:lnTo>
                  <a:pt x="45630" y="154455"/>
                </a:lnTo>
                <a:lnTo>
                  <a:pt x="44813" y="148690"/>
                </a:lnTo>
                <a:lnTo>
                  <a:pt x="43422" y="142307"/>
                </a:lnTo>
                <a:lnTo>
                  <a:pt x="41649" y="135511"/>
                </a:lnTo>
                <a:lnTo>
                  <a:pt x="38772" y="129287"/>
                </a:lnTo>
                <a:lnTo>
                  <a:pt x="35161" y="123445"/>
                </a:lnTo>
                <a:lnTo>
                  <a:pt x="31061" y="117856"/>
                </a:lnTo>
                <a:lnTo>
                  <a:pt x="27481" y="113285"/>
                </a:lnTo>
                <a:lnTo>
                  <a:pt x="24247" y="109390"/>
                </a:lnTo>
                <a:lnTo>
                  <a:pt x="21245" y="105946"/>
                </a:lnTo>
                <a:lnTo>
                  <a:pt x="17549" y="101957"/>
                </a:lnTo>
                <a:lnTo>
                  <a:pt x="0" y="838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InkAnnotation249"/>
          <p:cNvSpPr/>
          <p:nvPr/>
        </p:nvSpPr>
        <p:spPr>
          <a:xfrm>
            <a:off x="6041880" y="2422440"/>
            <a:ext cx="609840" cy="108000"/>
          </a:xfrm>
          <a:custGeom>
            <a:avLst/>
            <a:gdLst>
              <a:gd name="textAreaLeft" fmla="*/ 0 w 609840"/>
              <a:gd name="textAreaRight" fmla="*/ 610200 w 6098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609601" h="106644">
                <a:moveTo>
                  <a:pt x="0" y="106643"/>
                </a:moveTo>
                <a:lnTo>
                  <a:pt x="14088" y="92555"/>
                </a:lnTo>
                <a:lnTo>
                  <a:pt x="15319" y="92171"/>
                </a:lnTo>
                <a:lnTo>
                  <a:pt x="18944" y="91745"/>
                </a:lnTo>
                <a:lnTo>
                  <a:pt x="21096" y="90784"/>
                </a:lnTo>
                <a:lnTo>
                  <a:pt x="25744" y="87459"/>
                </a:lnTo>
                <a:lnTo>
                  <a:pt x="28170" y="85387"/>
                </a:lnTo>
                <a:lnTo>
                  <a:pt x="30633" y="83159"/>
                </a:lnTo>
                <a:lnTo>
                  <a:pt x="33122" y="80827"/>
                </a:lnTo>
                <a:lnTo>
                  <a:pt x="36475" y="78426"/>
                </a:lnTo>
                <a:lnTo>
                  <a:pt x="40403" y="75978"/>
                </a:lnTo>
                <a:lnTo>
                  <a:pt x="44715" y="73500"/>
                </a:lnTo>
                <a:lnTo>
                  <a:pt x="48437" y="71001"/>
                </a:lnTo>
                <a:lnTo>
                  <a:pt x="51765" y="68488"/>
                </a:lnTo>
                <a:lnTo>
                  <a:pt x="54830" y="65967"/>
                </a:lnTo>
                <a:lnTo>
                  <a:pt x="58566" y="63439"/>
                </a:lnTo>
                <a:lnTo>
                  <a:pt x="62751" y="60907"/>
                </a:lnTo>
                <a:lnTo>
                  <a:pt x="67234" y="58372"/>
                </a:lnTo>
                <a:lnTo>
                  <a:pt x="76731" y="53298"/>
                </a:lnTo>
                <a:lnTo>
                  <a:pt x="96625" y="43142"/>
                </a:lnTo>
                <a:lnTo>
                  <a:pt x="102516" y="40603"/>
                </a:lnTo>
                <a:lnTo>
                  <a:pt x="108985" y="38063"/>
                </a:lnTo>
                <a:lnTo>
                  <a:pt x="115836" y="35523"/>
                </a:lnTo>
                <a:lnTo>
                  <a:pt x="122097" y="32983"/>
                </a:lnTo>
                <a:lnTo>
                  <a:pt x="127965" y="30443"/>
                </a:lnTo>
                <a:lnTo>
                  <a:pt x="133570" y="27903"/>
                </a:lnTo>
                <a:lnTo>
                  <a:pt x="139847" y="25363"/>
                </a:lnTo>
                <a:lnTo>
                  <a:pt x="153594" y="20283"/>
                </a:lnTo>
                <a:lnTo>
                  <a:pt x="165913" y="17461"/>
                </a:lnTo>
                <a:lnTo>
                  <a:pt x="177879" y="15360"/>
                </a:lnTo>
                <a:lnTo>
                  <a:pt x="184627" y="13614"/>
                </a:lnTo>
                <a:lnTo>
                  <a:pt x="191664" y="11604"/>
                </a:lnTo>
                <a:lnTo>
                  <a:pt x="206258" y="7112"/>
                </a:lnTo>
                <a:lnTo>
                  <a:pt x="213705" y="4729"/>
                </a:lnTo>
                <a:lnTo>
                  <a:pt x="231011" y="2081"/>
                </a:lnTo>
                <a:lnTo>
                  <a:pt x="249145" y="905"/>
                </a:lnTo>
                <a:lnTo>
                  <a:pt x="265671" y="381"/>
                </a:lnTo>
                <a:lnTo>
                  <a:pt x="322936" y="0"/>
                </a:lnTo>
                <a:lnTo>
                  <a:pt x="340800" y="2238"/>
                </a:lnTo>
                <a:lnTo>
                  <a:pt x="358053" y="5207"/>
                </a:lnTo>
                <a:lnTo>
                  <a:pt x="377010" y="6527"/>
                </a:lnTo>
                <a:lnTo>
                  <a:pt x="386807" y="7726"/>
                </a:lnTo>
                <a:lnTo>
                  <a:pt x="396724" y="9372"/>
                </a:lnTo>
                <a:lnTo>
                  <a:pt x="406723" y="11315"/>
                </a:lnTo>
                <a:lnTo>
                  <a:pt x="426864" y="15733"/>
                </a:lnTo>
                <a:lnTo>
                  <a:pt x="436976" y="18096"/>
                </a:lnTo>
                <a:lnTo>
                  <a:pt x="446257" y="20519"/>
                </a:lnTo>
                <a:lnTo>
                  <a:pt x="454985" y="22980"/>
                </a:lnTo>
                <a:lnTo>
                  <a:pt x="463343" y="25468"/>
                </a:lnTo>
                <a:lnTo>
                  <a:pt x="481662" y="30490"/>
                </a:lnTo>
                <a:lnTo>
                  <a:pt x="521017" y="40612"/>
                </a:lnTo>
                <a:lnTo>
                  <a:pt x="529378" y="43149"/>
                </a:lnTo>
                <a:lnTo>
                  <a:pt x="536645" y="45687"/>
                </a:lnTo>
                <a:lnTo>
                  <a:pt x="543184" y="48226"/>
                </a:lnTo>
                <a:lnTo>
                  <a:pt x="549235" y="50765"/>
                </a:lnTo>
                <a:lnTo>
                  <a:pt x="554964" y="53304"/>
                </a:lnTo>
                <a:lnTo>
                  <a:pt x="565844" y="58384"/>
                </a:lnTo>
                <a:lnTo>
                  <a:pt x="591744" y="71083"/>
                </a:lnTo>
                <a:lnTo>
                  <a:pt x="596003" y="73623"/>
                </a:lnTo>
                <a:lnTo>
                  <a:pt x="599688" y="76163"/>
                </a:lnTo>
                <a:lnTo>
                  <a:pt x="602992" y="78703"/>
                </a:lnTo>
                <a:lnTo>
                  <a:pt x="605195" y="81243"/>
                </a:lnTo>
                <a:lnTo>
                  <a:pt x="606664" y="83783"/>
                </a:lnTo>
                <a:lnTo>
                  <a:pt x="609600" y="91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InkAnnotation250"/>
          <p:cNvSpPr/>
          <p:nvPr/>
        </p:nvSpPr>
        <p:spPr>
          <a:xfrm>
            <a:off x="6095880" y="2682720"/>
            <a:ext cx="549360" cy="114480"/>
          </a:xfrm>
          <a:custGeom>
            <a:avLst/>
            <a:gdLst>
              <a:gd name="textAreaLeft" fmla="*/ 0 w 549360"/>
              <a:gd name="textAreaRight" fmla="*/ 549720 w 5493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548641" h="114291">
                <a:moveTo>
                  <a:pt x="0" y="0"/>
                </a:moveTo>
                <a:lnTo>
                  <a:pt x="0" y="25439"/>
                </a:lnTo>
                <a:lnTo>
                  <a:pt x="847" y="27966"/>
                </a:lnTo>
                <a:lnTo>
                  <a:pt x="2258" y="30498"/>
                </a:lnTo>
                <a:lnTo>
                  <a:pt x="4046" y="33031"/>
                </a:lnTo>
                <a:lnTo>
                  <a:pt x="6084" y="36414"/>
                </a:lnTo>
                <a:lnTo>
                  <a:pt x="8289" y="40363"/>
                </a:lnTo>
                <a:lnTo>
                  <a:pt x="10606" y="44689"/>
                </a:lnTo>
                <a:lnTo>
                  <a:pt x="12997" y="48419"/>
                </a:lnTo>
                <a:lnTo>
                  <a:pt x="15439" y="51753"/>
                </a:lnTo>
                <a:lnTo>
                  <a:pt x="17913" y="54822"/>
                </a:lnTo>
                <a:lnTo>
                  <a:pt x="21255" y="58561"/>
                </a:lnTo>
                <a:lnTo>
                  <a:pt x="29485" y="67232"/>
                </a:lnTo>
                <a:lnTo>
                  <a:pt x="34050" y="71068"/>
                </a:lnTo>
                <a:lnTo>
                  <a:pt x="38786" y="74472"/>
                </a:lnTo>
                <a:lnTo>
                  <a:pt x="43637" y="77588"/>
                </a:lnTo>
                <a:lnTo>
                  <a:pt x="49412" y="80512"/>
                </a:lnTo>
                <a:lnTo>
                  <a:pt x="55802" y="83308"/>
                </a:lnTo>
                <a:lnTo>
                  <a:pt x="62601" y="86019"/>
                </a:lnTo>
                <a:lnTo>
                  <a:pt x="70521" y="89519"/>
                </a:lnTo>
                <a:lnTo>
                  <a:pt x="88352" y="97924"/>
                </a:lnTo>
                <a:lnTo>
                  <a:pt x="97001" y="100843"/>
                </a:lnTo>
                <a:lnTo>
                  <a:pt x="113385" y="104086"/>
                </a:lnTo>
                <a:lnTo>
                  <a:pt x="122157" y="105797"/>
                </a:lnTo>
                <a:lnTo>
                  <a:pt x="140934" y="109956"/>
                </a:lnTo>
                <a:lnTo>
                  <a:pt x="151530" y="111405"/>
                </a:lnTo>
                <a:lnTo>
                  <a:pt x="162827" y="112370"/>
                </a:lnTo>
                <a:lnTo>
                  <a:pt x="174591" y="113013"/>
                </a:lnTo>
                <a:lnTo>
                  <a:pt x="196694" y="113728"/>
                </a:lnTo>
                <a:lnTo>
                  <a:pt x="242524" y="114187"/>
                </a:lnTo>
                <a:lnTo>
                  <a:pt x="313563" y="114290"/>
                </a:lnTo>
                <a:lnTo>
                  <a:pt x="324188" y="113447"/>
                </a:lnTo>
                <a:lnTo>
                  <a:pt x="334659" y="112038"/>
                </a:lnTo>
                <a:lnTo>
                  <a:pt x="345026" y="110252"/>
                </a:lnTo>
                <a:lnTo>
                  <a:pt x="355324" y="109062"/>
                </a:lnTo>
                <a:lnTo>
                  <a:pt x="365576" y="108268"/>
                </a:lnTo>
                <a:lnTo>
                  <a:pt x="375797" y="107738"/>
                </a:lnTo>
                <a:lnTo>
                  <a:pt x="385998" y="106539"/>
                </a:lnTo>
                <a:lnTo>
                  <a:pt x="396186" y="104893"/>
                </a:lnTo>
                <a:lnTo>
                  <a:pt x="406364" y="102949"/>
                </a:lnTo>
                <a:lnTo>
                  <a:pt x="415689" y="100806"/>
                </a:lnTo>
                <a:lnTo>
                  <a:pt x="424447" y="98531"/>
                </a:lnTo>
                <a:lnTo>
                  <a:pt x="432825" y="96167"/>
                </a:lnTo>
                <a:lnTo>
                  <a:pt x="448907" y="91283"/>
                </a:lnTo>
                <a:lnTo>
                  <a:pt x="456751" y="88796"/>
                </a:lnTo>
                <a:lnTo>
                  <a:pt x="472241" y="86031"/>
                </a:lnTo>
                <a:lnTo>
                  <a:pt x="486745" y="83956"/>
                </a:lnTo>
                <a:lnTo>
                  <a:pt x="492984" y="82217"/>
                </a:lnTo>
                <a:lnTo>
                  <a:pt x="504430" y="78875"/>
                </a:lnTo>
                <a:lnTo>
                  <a:pt x="520395" y="76146"/>
                </a:lnTo>
                <a:lnTo>
                  <a:pt x="525577" y="74471"/>
                </a:lnTo>
                <a:lnTo>
                  <a:pt x="537970" y="69744"/>
                </a:lnTo>
                <a:lnTo>
                  <a:pt x="548640" y="685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InkAnnotation251"/>
          <p:cNvSpPr/>
          <p:nvPr/>
        </p:nvSpPr>
        <p:spPr>
          <a:xfrm>
            <a:off x="5813280" y="2522520"/>
            <a:ext cx="114480" cy="128520"/>
          </a:xfrm>
          <a:custGeom>
            <a:avLst/>
            <a:gdLst>
              <a:gd name="textAreaLeft" fmla="*/ 0 w 114480"/>
              <a:gd name="textAreaRight" fmla="*/ 114840 w 1144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14197" h="129541">
                <a:moveTo>
                  <a:pt x="37996" y="0"/>
                </a:moveTo>
                <a:lnTo>
                  <a:pt x="37996" y="7307"/>
                </a:lnTo>
                <a:lnTo>
                  <a:pt x="35738" y="7481"/>
                </a:lnTo>
                <a:lnTo>
                  <a:pt x="33951" y="7527"/>
                </a:lnTo>
                <a:lnTo>
                  <a:pt x="31912" y="8405"/>
                </a:lnTo>
                <a:lnTo>
                  <a:pt x="29708" y="9837"/>
                </a:lnTo>
                <a:lnTo>
                  <a:pt x="27390" y="11638"/>
                </a:lnTo>
                <a:lnTo>
                  <a:pt x="25845" y="13685"/>
                </a:lnTo>
                <a:lnTo>
                  <a:pt x="24815" y="15897"/>
                </a:lnTo>
                <a:lnTo>
                  <a:pt x="24129" y="18218"/>
                </a:lnTo>
                <a:lnTo>
                  <a:pt x="22825" y="20612"/>
                </a:lnTo>
                <a:lnTo>
                  <a:pt x="21109" y="23055"/>
                </a:lnTo>
                <a:lnTo>
                  <a:pt x="19118" y="25530"/>
                </a:lnTo>
                <a:lnTo>
                  <a:pt x="16943" y="28873"/>
                </a:lnTo>
                <a:lnTo>
                  <a:pt x="14648" y="32795"/>
                </a:lnTo>
                <a:lnTo>
                  <a:pt x="12271" y="37104"/>
                </a:lnTo>
                <a:lnTo>
                  <a:pt x="10685" y="40823"/>
                </a:lnTo>
                <a:lnTo>
                  <a:pt x="9629" y="44148"/>
                </a:lnTo>
                <a:lnTo>
                  <a:pt x="8925" y="47213"/>
                </a:lnTo>
                <a:lnTo>
                  <a:pt x="7609" y="50101"/>
                </a:lnTo>
                <a:lnTo>
                  <a:pt x="5884" y="52874"/>
                </a:lnTo>
                <a:lnTo>
                  <a:pt x="3888" y="55570"/>
                </a:lnTo>
                <a:lnTo>
                  <a:pt x="2557" y="59060"/>
                </a:lnTo>
                <a:lnTo>
                  <a:pt x="1670" y="63080"/>
                </a:lnTo>
                <a:lnTo>
                  <a:pt x="1079" y="67453"/>
                </a:lnTo>
                <a:lnTo>
                  <a:pt x="685" y="72062"/>
                </a:lnTo>
                <a:lnTo>
                  <a:pt x="422" y="76828"/>
                </a:lnTo>
                <a:lnTo>
                  <a:pt x="51" y="89368"/>
                </a:lnTo>
                <a:lnTo>
                  <a:pt x="0" y="92599"/>
                </a:lnTo>
                <a:lnTo>
                  <a:pt x="812" y="95599"/>
                </a:lnTo>
                <a:lnTo>
                  <a:pt x="2200" y="98446"/>
                </a:lnTo>
                <a:lnTo>
                  <a:pt x="3972" y="101191"/>
                </a:lnTo>
                <a:lnTo>
                  <a:pt x="6000" y="103867"/>
                </a:lnTo>
                <a:lnTo>
                  <a:pt x="8198" y="106498"/>
                </a:lnTo>
                <a:lnTo>
                  <a:pt x="10511" y="109099"/>
                </a:lnTo>
                <a:lnTo>
                  <a:pt x="14593" y="111680"/>
                </a:lnTo>
                <a:lnTo>
                  <a:pt x="19854" y="114246"/>
                </a:lnTo>
                <a:lnTo>
                  <a:pt x="25901" y="116804"/>
                </a:lnTo>
                <a:lnTo>
                  <a:pt x="37136" y="121904"/>
                </a:lnTo>
                <a:lnTo>
                  <a:pt x="42503" y="124449"/>
                </a:lnTo>
                <a:lnTo>
                  <a:pt x="48620" y="126146"/>
                </a:lnTo>
                <a:lnTo>
                  <a:pt x="55239" y="127278"/>
                </a:lnTo>
                <a:lnTo>
                  <a:pt x="62191" y="128032"/>
                </a:lnTo>
                <a:lnTo>
                  <a:pt x="69366" y="128534"/>
                </a:lnTo>
                <a:lnTo>
                  <a:pt x="76689" y="128870"/>
                </a:lnTo>
                <a:lnTo>
                  <a:pt x="96874" y="129341"/>
                </a:lnTo>
                <a:lnTo>
                  <a:pt x="114196" y="1295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InkAnnotation252"/>
          <p:cNvSpPr/>
          <p:nvPr/>
        </p:nvSpPr>
        <p:spPr>
          <a:xfrm>
            <a:off x="5632560" y="2454120"/>
            <a:ext cx="66600" cy="243000"/>
          </a:xfrm>
          <a:custGeom>
            <a:avLst/>
            <a:gdLst>
              <a:gd name="textAreaLeft" fmla="*/ 0 w 66600"/>
              <a:gd name="textAreaRight" fmla="*/ 66960 w 66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7814" h="243841">
                <a:moveTo>
                  <a:pt x="60193" y="0"/>
                </a:moveTo>
                <a:lnTo>
                  <a:pt x="60193" y="13867"/>
                </a:lnTo>
                <a:lnTo>
                  <a:pt x="59346" y="16018"/>
                </a:lnTo>
                <a:lnTo>
                  <a:pt x="57936" y="19145"/>
                </a:lnTo>
                <a:lnTo>
                  <a:pt x="56148" y="22924"/>
                </a:lnTo>
                <a:lnTo>
                  <a:pt x="54956" y="27136"/>
                </a:lnTo>
                <a:lnTo>
                  <a:pt x="54162" y="31637"/>
                </a:lnTo>
                <a:lnTo>
                  <a:pt x="53632" y="36331"/>
                </a:lnTo>
                <a:lnTo>
                  <a:pt x="53279" y="41154"/>
                </a:lnTo>
                <a:lnTo>
                  <a:pt x="53044" y="46063"/>
                </a:lnTo>
                <a:lnTo>
                  <a:pt x="52887" y="51028"/>
                </a:lnTo>
                <a:lnTo>
                  <a:pt x="51936" y="56032"/>
                </a:lnTo>
                <a:lnTo>
                  <a:pt x="50455" y="61062"/>
                </a:lnTo>
                <a:lnTo>
                  <a:pt x="48621" y="66108"/>
                </a:lnTo>
                <a:lnTo>
                  <a:pt x="45705" y="72012"/>
                </a:lnTo>
                <a:lnTo>
                  <a:pt x="42068" y="78488"/>
                </a:lnTo>
                <a:lnTo>
                  <a:pt x="37950" y="85345"/>
                </a:lnTo>
                <a:lnTo>
                  <a:pt x="34358" y="92457"/>
                </a:lnTo>
                <a:lnTo>
                  <a:pt x="31116" y="99738"/>
                </a:lnTo>
                <a:lnTo>
                  <a:pt x="28108" y="107132"/>
                </a:lnTo>
                <a:lnTo>
                  <a:pt x="25257" y="114601"/>
                </a:lnTo>
                <a:lnTo>
                  <a:pt x="19831" y="129674"/>
                </a:lnTo>
                <a:lnTo>
                  <a:pt x="16352" y="136403"/>
                </a:lnTo>
                <a:lnTo>
                  <a:pt x="12339" y="142582"/>
                </a:lnTo>
                <a:lnTo>
                  <a:pt x="7970" y="148394"/>
                </a:lnTo>
                <a:lnTo>
                  <a:pt x="5058" y="154810"/>
                </a:lnTo>
                <a:lnTo>
                  <a:pt x="3116" y="161626"/>
                </a:lnTo>
                <a:lnTo>
                  <a:pt x="1822" y="168711"/>
                </a:lnTo>
                <a:lnTo>
                  <a:pt x="959" y="175127"/>
                </a:lnTo>
                <a:lnTo>
                  <a:pt x="384" y="181098"/>
                </a:lnTo>
                <a:lnTo>
                  <a:pt x="0" y="186772"/>
                </a:lnTo>
                <a:lnTo>
                  <a:pt x="592" y="192248"/>
                </a:lnTo>
                <a:lnTo>
                  <a:pt x="1832" y="197592"/>
                </a:lnTo>
                <a:lnTo>
                  <a:pt x="3506" y="202848"/>
                </a:lnTo>
                <a:lnTo>
                  <a:pt x="6315" y="208045"/>
                </a:lnTo>
                <a:lnTo>
                  <a:pt x="9881" y="213203"/>
                </a:lnTo>
                <a:lnTo>
                  <a:pt x="13952" y="218336"/>
                </a:lnTo>
                <a:lnTo>
                  <a:pt x="19206" y="222604"/>
                </a:lnTo>
                <a:lnTo>
                  <a:pt x="25248" y="226296"/>
                </a:lnTo>
                <a:lnTo>
                  <a:pt x="31817" y="229604"/>
                </a:lnTo>
                <a:lnTo>
                  <a:pt x="37042" y="231809"/>
                </a:lnTo>
                <a:lnTo>
                  <a:pt x="41372" y="233280"/>
                </a:lnTo>
                <a:lnTo>
                  <a:pt x="45106" y="234259"/>
                </a:lnTo>
                <a:lnTo>
                  <a:pt x="49288" y="235760"/>
                </a:lnTo>
                <a:lnTo>
                  <a:pt x="53770" y="237606"/>
                </a:lnTo>
                <a:lnTo>
                  <a:pt x="67813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InkAnnotation253"/>
          <p:cNvSpPr/>
          <p:nvPr/>
        </p:nvSpPr>
        <p:spPr>
          <a:xfrm>
            <a:off x="6651720" y="2544840"/>
            <a:ext cx="88920" cy="176040"/>
          </a:xfrm>
          <a:custGeom>
            <a:avLst/>
            <a:gdLst>
              <a:gd name="textAreaLeft" fmla="*/ 0 w 88920"/>
              <a:gd name="textAreaRight" fmla="*/ 89280 w 8892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87847" h="175261">
                <a:moveTo>
                  <a:pt x="0" y="0"/>
                </a:moveTo>
                <a:lnTo>
                  <a:pt x="4045" y="0"/>
                </a:lnTo>
                <a:lnTo>
                  <a:pt x="5237" y="847"/>
                </a:lnTo>
                <a:lnTo>
                  <a:pt x="6031" y="2258"/>
                </a:lnTo>
                <a:lnTo>
                  <a:pt x="6561" y="4045"/>
                </a:lnTo>
                <a:lnTo>
                  <a:pt x="7761" y="5237"/>
                </a:lnTo>
                <a:lnTo>
                  <a:pt x="9407" y="6031"/>
                </a:lnTo>
                <a:lnTo>
                  <a:pt x="11351" y="6561"/>
                </a:lnTo>
                <a:lnTo>
                  <a:pt x="13494" y="7761"/>
                </a:lnTo>
                <a:lnTo>
                  <a:pt x="15769" y="9407"/>
                </a:lnTo>
                <a:lnTo>
                  <a:pt x="18133" y="11352"/>
                </a:lnTo>
                <a:lnTo>
                  <a:pt x="20555" y="13494"/>
                </a:lnTo>
                <a:lnTo>
                  <a:pt x="25505" y="18133"/>
                </a:lnTo>
                <a:lnTo>
                  <a:pt x="28011" y="21402"/>
                </a:lnTo>
                <a:lnTo>
                  <a:pt x="30527" y="25275"/>
                </a:lnTo>
                <a:lnTo>
                  <a:pt x="33051" y="29550"/>
                </a:lnTo>
                <a:lnTo>
                  <a:pt x="36427" y="34093"/>
                </a:lnTo>
                <a:lnTo>
                  <a:pt x="40372" y="38815"/>
                </a:lnTo>
                <a:lnTo>
                  <a:pt x="48423" y="47731"/>
                </a:lnTo>
                <a:lnTo>
                  <a:pt x="54823" y="54516"/>
                </a:lnTo>
                <a:lnTo>
                  <a:pt x="58562" y="59204"/>
                </a:lnTo>
                <a:lnTo>
                  <a:pt x="62748" y="64870"/>
                </a:lnTo>
                <a:lnTo>
                  <a:pt x="67232" y="71186"/>
                </a:lnTo>
                <a:lnTo>
                  <a:pt x="71068" y="77091"/>
                </a:lnTo>
                <a:lnTo>
                  <a:pt x="74472" y="82720"/>
                </a:lnTo>
                <a:lnTo>
                  <a:pt x="77588" y="88167"/>
                </a:lnTo>
                <a:lnTo>
                  <a:pt x="79666" y="93491"/>
                </a:lnTo>
                <a:lnTo>
                  <a:pt x="81050" y="98734"/>
                </a:lnTo>
                <a:lnTo>
                  <a:pt x="81974" y="103923"/>
                </a:lnTo>
                <a:lnTo>
                  <a:pt x="83436" y="109922"/>
                </a:lnTo>
                <a:lnTo>
                  <a:pt x="85257" y="116461"/>
                </a:lnTo>
                <a:lnTo>
                  <a:pt x="87319" y="123361"/>
                </a:lnTo>
                <a:lnTo>
                  <a:pt x="87846" y="128807"/>
                </a:lnTo>
                <a:lnTo>
                  <a:pt x="87351" y="133285"/>
                </a:lnTo>
                <a:lnTo>
                  <a:pt x="86174" y="137117"/>
                </a:lnTo>
                <a:lnTo>
                  <a:pt x="84543" y="140518"/>
                </a:lnTo>
                <a:lnTo>
                  <a:pt x="82610" y="143632"/>
                </a:lnTo>
                <a:lnTo>
                  <a:pt x="80472" y="146555"/>
                </a:lnTo>
                <a:lnTo>
                  <a:pt x="77356" y="149350"/>
                </a:lnTo>
                <a:lnTo>
                  <a:pt x="73584" y="152060"/>
                </a:lnTo>
                <a:lnTo>
                  <a:pt x="69375" y="154713"/>
                </a:lnTo>
                <a:lnTo>
                  <a:pt x="64877" y="157329"/>
                </a:lnTo>
                <a:lnTo>
                  <a:pt x="55363" y="162493"/>
                </a:lnTo>
                <a:lnTo>
                  <a:pt x="52149" y="165055"/>
                </a:lnTo>
                <a:lnTo>
                  <a:pt x="50005" y="167610"/>
                </a:lnTo>
                <a:lnTo>
                  <a:pt x="48577" y="170160"/>
                </a:lnTo>
                <a:lnTo>
                  <a:pt x="46778" y="171860"/>
                </a:lnTo>
                <a:lnTo>
                  <a:pt x="44732" y="172993"/>
                </a:lnTo>
                <a:lnTo>
                  <a:pt x="38100" y="175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InkAnnotation254"/>
          <p:cNvSpPr/>
          <p:nvPr/>
        </p:nvSpPr>
        <p:spPr>
          <a:xfrm>
            <a:off x="6880320" y="2454120"/>
            <a:ext cx="88920" cy="289080"/>
          </a:xfrm>
          <a:custGeom>
            <a:avLst/>
            <a:gdLst>
              <a:gd name="textAreaLeft" fmla="*/ 0 w 88920"/>
              <a:gd name="textAreaRight" fmla="*/ 89280 w 889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7845" h="289561">
                <a:moveTo>
                  <a:pt x="0" y="0"/>
                </a:moveTo>
                <a:lnTo>
                  <a:pt x="0" y="10606"/>
                </a:lnTo>
                <a:lnTo>
                  <a:pt x="2259" y="17696"/>
                </a:lnTo>
                <a:lnTo>
                  <a:pt x="4045" y="21957"/>
                </a:lnTo>
                <a:lnTo>
                  <a:pt x="6083" y="26491"/>
                </a:lnTo>
                <a:lnTo>
                  <a:pt x="10606" y="36045"/>
                </a:lnTo>
                <a:lnTo>
                  <a:pt x="12998" y="41810"/>
                </a:lnTo>
                <a:lnTo>
                  <a:pt x="15438" y="48193"/>
                </a:lnTo>
                <a:lnTo>
                  <a:pt x="17913" y="54989"/>
                </a:lnTo>
                <a:lnTo>
                  <a:pt x="21254" y="61213"/>
                </a:lnTo>
                <a:lnTo>
                  <a:pt x="25177" y="67055"/>
                </a:lnTo>
                <a:lnTo>
                  <a:pt x="29485" y="72643"/>
                </a:lnTo>
                <a:lnTo>
                  <a:pt x="34050" y="79756"/>
                </a:lnTo>
                <a:lnTo>
                  <a:pt x="38787" y="87884"/>
                </a:lnTo>
                <a:lnTo>
                  <a:pt x="43637" y="96689"/>
                </a:lnTo>
                <a:lnTo>
                  <a:pt x="47718" y="105099"/>
                </a:lnTo>
                <a:lnTo>
                  <a:pt x="51285" y="113246"/>
                </a:lnTo>
                <a:lnTo>
                  <a:pt x="54510" y="121218"/>
                </a:lnTo>
                <a:lnTo>
                  <a:pt x="58354" y="129918"/>
                </a:lnTo>
                <a:lnTo>
                  <a:pt x="67139" y="148617"/>
                </a:lnTo>
                <a:lnTo>
                  <a:pt x="71006" y="158345"/>
                </a:lnTo>
                <a:lnTo>
                  <a:pt x="74431" y="168217"/>
                </a:lnTo>
                <a:lnTo>
                  <a:pt x="77561" y="178184"/>
                </a:lnTo>
                <a:lnTo>
                  <a:pt x="79648" y="187370"/>
                </a:lnTo>
                <a:lnTo>
                  <a:pt x="81038" y="196033"/>
                </a:lnTo>
                <a:lnTo>
                  <a:pt x="81965" y="204349"/>
                </a:lnTo>
                <a:lnTo>
                  <a:pt x="83430" y="212433"/>
                </a:lnTo>
                <a:lnTo>
                  <a:pt x="85254" y="220362"/>
                </a:lnTo>
                <a:lnTo>
                  <a:pt x="87316" y="228188"/>
                </a:lnTo>
                <a:lnTo>
                  <a:pt x="87844" y="235099"/>
                </a:lnTo>
                <a:lnTo>
                  <a:pt x="87350" y="241399"/>
                </a:lnTo>
                <a:lnTo>
                  <a:pt x="86173" y="247293"/>
                </a:lnTo>
                <a:lnTo>
                  <a:pt x="84542" y="252915"/>
                </a:lnTo>
                <a:lnTo>
                  <a:pt x="82608" y="258357"/>
                </a:lnTo>
                <a:lnTo>
                  <a:pt x="80472" y="263678"/>
                </a:lnTo>
                <a:lnTo>
                  <a:pt x="77355" y="268072"/>
                </a:lnTo>
                <a:lnTo>
                  <a:pt x="73584" y="271848"/>
                </a:lnTo>
                <a:lnTo>
                  <a:pt x="69375" y="275212"/>
                </a:lnTo>
                <a:lnTo>
                  <a:pt x="65724" y="278302"/>
                </a:lnTo>
                <a:lnTo>
                  <a:pt x="62443" y="281208"/>
                </a:lnTo>
                <a:lnTo>
                  <a:pt x="59409" y="283992"/>
                </a:lnTo>
                <a:lnTo>
                  <a:pt x="56539" y="285848"/>
                </a:lnTo>
                <a:lnTo>
                  <a:pt x="53780" y="287086"/>
                </a:lnTo>
                <a:lnTo>
                  <a:pt x="45720" y="2895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InkAnnotation255"/>
          <p:cNvSpPr/>
          <p:nvPr/>
        </p:nvSpPr>
        <p:spPr>
          <a:xfrm>
            <a:off x="511200" y="3165480"/>
            <a:ext cx="220680" cy="282600"/>
          </a:xfrm>
          <a:custGeom>
            <a:avLst/>
            <a:gdLst>
              <a:gd name="textAreaLeft" fmla="*/ 0 w 220680"/>
              <a:gd name="textAreaRight" fmla="*/ 221040 w 220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20659" h="281414">
                <a:moveTo>
                  <a:pt x="14918" y="80231"/>
                </a:moveTo>
                <a:lnTo>
                  <a:pt x="10873" y="80231"/>
                </a:lnTo>
                <a:lnTo>
                  <a:pt x="9681" y="79384"/>
                </a:lnTo>
                <a:lnTo>
                  <a:pt x="8887" y="77973"/>
                </a:lnTo>
                <a:lnTo>
                  <a:pt x="7612" y="73670"/>
                </a:lnTo>
                <a:lnTo>
                  <a:pt x="3346" y="68880"/>
                </a:lnTo>
                <a:lnTo>
                  <a:pt x="2123" y="66737"/>
                </a:lnTo>
                <a:lnTo>
                  <a:pt x="765" y="62098"/>
                </a:lnTo>
                <a:lnTo>
                  <a:pt x="0" y="54726"/>
                </a:lnTo>
                <a:lnTo>
                  <a:pt x="1586" y="52221"/>
                </a:lnTo>
                <a:lnTo>
                  <a:pt x="7864" y="47180"/>
                </a:lnTo>
                <a:lnTo>
                  <a:pt x="14040" y="42117"/>
                </a:lnTo>
                <a:lnTo>
                  <a:pt x="16873" y="39582"/>
                </a:lnTo>
                <a:lnTo>
                  <a:pt x="21301" y="37045"/>
                </a:lnTo>
                <a:lnTo>
                  <a:pt x="26793" y="34507"/>
                </a:lnTo>
                <a:lnTo>
                  <a:pt x="32995" y="31968"/>
                </a:lnTo>
                <a:lnTo>
                  <a:pt x="39669" y="28582"/>
                </a:lnTo>
                <a:lnTo>
                  <a:pt x="46659" y="24632"/>
                </a:lnTo>
                <a:lnTo>
                  <a:pt x="53859" y="20305"/>
                </a:lnTo>
                <a:lnTo>
                  <a:pt x="62045" y="16574"/>
                </a:lnTo>
                <a:lnTo>
                  <a:pt x="70889" y="13239"/>
                </a:lnTo>
                <a:lnTo>
                  <a:pt x="80172" y="10170"/>
                </a:lnTo>
                <a:lnTo>
                  <a:pt x="89748" y="8124"/>
                </a:lnTo>
                <a:lnTo>
                  <a:pt x="99518" y="6759"/>
                </a:lnTo>
                <a:lnTo>
                  <a:pt x="109418" y="5850"/>
                </a:lnTo>
                <a:lnTo>
                  <a:pt x="118558" y="4397"/>
                </a:lnTo>
                <a:lnTo>
                  <a:pt x="127191" y="2582"/>
                </a:lnTo>
                <a:lnTo>
                  <a:pt x="135487" y="525"/>
                </a:lnTo>
                <a:lnTo>
                  <a:pt x="144404" y="0"/>
                </a:lnTo>
                <a:lnTo>
                  <a:pt x="153735" y="498"/>
                </a:lnTo>
                <a:lnTo>
                  <a:pt x="163343" y="1675"/>
                </a:lnTo>
                <a:lnTo>
                  <a:pt x="171441" y="2461"/>
                </a:lnTo>
                <a:lnTo>
                  <a:pt x="178534" y="2984"/>
                </a:lnTo>
                <a:lnTo>
                  <a:pt x="184955" y="3333"/>
                </a:lnTo>
                <a:lnTo>
                  <a:pt x="190929" y="4413"/>
                </a:lnTo>
                <a:lnTo>
                  <a:pt x="196606" y="5979"/>
                </a:lnTo>
                <a:lnTo>
                  <a:pt x="202083" y="7870"/>
                </a:lnTo>
                <a:lnTo>
                  <a:pt x="206581" y="9977"/>
                </a:lnTo>
                <a:lnTo>
                  <a:pt x="210427" y="12228"/>
                </a:lnTo>
                <a:lnTo>
                  <a:pt x="213837" y="14576"/>
                </a:lnTo>
                <a:lnTo>
                  <a:pt x="216111" y="17834"/>
                </a:lnTo>
                <a:lnTo>
                  <a:pt x="218637" y="25970"/>
                </a:lnTo>
                <a:lnTo>
                  <a:pt x="218464" y="30511"/>
                </a:lnTo>
                <a:lnTo>
                  <a:pt x="217502" y="35231"/>
                </a:lnTo>
                <a:lnTo>
                  <a:pt x="216014" y="40071"/>
                </a:lnTo>
                <a:lnTo>
                  <a:pt x="213329" y="44991"/>
                </a:lnTo>
                <a:lnTo>
                  <a:pt x="209845" y="49964"/>
                </a:lnTo>
                <a:lnTo>
                  <a:pt x="205829" y="54973"/>
                </a:lnTo>
                <a:lnTo>
                  <a:pt x="200612" y="60853"/>
                </a:lnTo>
                <a:lnTo>
                  <a:pt x="188042" y="74159"/>
                </a:lnTo>
                <a:lnTo>
                  <a:pt x="137710" y="125028"/>
                </a:lnTo>
                <a:lnTo>
                  <a:pt x="128952" y="132956"/>
                </a:lnTo>
                <a:lnTo>
                  <a:pt x="119728" y="140781"/>
                </a:lnTo>
                <a:lnTo>
                  <a:pt x="110191" y="148538"/>
                </a:lnTo>
                <a:lnTo>
                  <a:pt x="102140" y="157095"/>
                </a:lnTo>
                <a:lnTo>
                  <a:pt x="95079" y="166187"/>
                </a:lnTo>
                <a:lnTo>
                  <a:pt x="71581" y="201068"/>
                </a:lnTo>
                <a:lnTo>
                  <a:pt x="67086" y="209049"/>
                </a:lnTo>
                <a:lnTo>
                  <a:pt x="63244" y="216910"/>
                </a:lnTo>
                <a:lnTo>
                  <a:pt x="59835" y="224690"/>
                </a:lnTo>
                <a:lnTo>
                  <a:pt x="57563" y="231571"/>
                </a:lnTo>
                <a:lnTo>
                  <a:pt x="56048" y="237851"/>
                </a:lnTo>
                <a:lnTo>
                  <a:pt x="55038" y="243731"/>
                </a:lnTo>
                <a:lnTo>
                  <a:pt x="55211" y="249344"/>
                </a:lnTo>
                <a:lnTo>
                  <a:pt x="56173" y="254780"/>
                </a:lnTo>
                <a:lnTo>
                  <a:pt x="57662" y="260097"/>
                </a:lnTo>
                <a:lnTo>
                  <a:pt x="60347" y="264488"/>
                </a:lnTo>
                <a:lnTo>
                  <a:pt x="63831" y="268263"/>
                </a:lnTo>
                <a:lnTo>
                  <a:pt x="67847" y="271625"/>
                </a:lnTo>
                <a:lnTo>
                  <a:pt x="73064" y="274714"/>
                </a:lnTo>
                <a:lnTo>
                  <a:pt x="79082" y="277619"/>
                </a:lnTo>
                <a:lnTo>
                  <a:pt x="85634" y="280403"/>
                </a:lnTo>
                <a:lnTo>
                  <a:pt x="94235" y="281413"/>
                </a:lnTo>
                <a:lnTo>
                  <a:pt x="104203" y="281239"/>
                </a:lnTo>
                <a:lnTo>
                  <a:pt x="115081" y="280276"/>
                </a:lnTo>
                <a:lnTo>
                  <a:pt x="126567" y="278788"/>
                </a:lnTo>
                <a:lnTo>
                  <a:pt x="138457" y="276949"/>
                </a:lnTo>
                <a:lnTo>
                  <a:pt x="150618" y="274876"/>
                </a:lnTo>
                <a:lnTo>
                  <a:pt x="161264" y="273494"/>
                </a:lnTo>
                <a:lnTo>
                  <a:pt x="170902" y="272573"/>
                </a:lnTo>
                <a:lnTo>
                  <a:pt x="179868" y="271959"/>
                </a:lnTo>
                <a:lnTo>
                  <a:pt x="188384" y="270703"/>
                </a:lnTo>
                <a:lnTo>
                  <a:pt x="196602" y="269019"/>
                </a:lnTo>
                <a:lnTo>
                  <a:pt x="220658" y="2631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InkAnnotation256"/>
          <p:cNvSpPr/>
          <p:nvPr/>
        </p:nvSpPr>
        <p:spPr>
          <a:xfrm>
            <a:off x="911160" y="3124080"/>
            <a:ext cx="171360" cy="457200"/>
          </a:xfrm>
          <a:custGeom>
            <a:avLst/>
            <a:gdLst>
              <a:gd name="textAreaLeft" fmla="*/ 0 w 171360"/>
              <a:gd name="textAreaRight" fmla="*/ 171720 w 171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70663" h="457201">
                <a:moveTo>
                  <a:pt x="140182" y="0"/>
                </a:moveTo>
                <a:lnTo>
                  <a:pt x="132092" y="4045"/>
                </a:lnTo>
                <a:lnTo>
                  <a:pt x="128862" y="7777"/>
                </a:lnTo>
                <a:lnTo>
                  <a:pt x="125862" y="12805"/>
                </a:lnTo>
                <a:lnTo>
                  <a:pt x="123015" y="18696"/>
                </a:lnTo>
                <a:lnTo>
                  <a:pt x="119424" y="24318"/>
                </a:lnTo>
                <a:lnTo>
                  <a:pt x="115337" y="29758"/>
                </a:lnTo>
                <a:lnTo>
                  <a:pt x="110918" y="35079"/>
                </a:lnTo>
                <a:lnTo>
                  <a:pt x="106280" y="42013"/>
                </a:lnTo>
                <a:lnTo>
                  <a:pt x="101494" y="50022"/>
                </a:lnTo>
                <a:lnTo>
                  <a:pt x="96610" y="58748"/>
                </a:lnTo>
                <a:lnTo>
                  <a:pt x="90814" y="67952"/>
                </a:lnTo>
                <a:lnTo>
                  <a:pt x="84410" y="77475"/>
                </a:lnTo>
                <a:lnTo>
                  <a:pt x="77600" y="87210"/>
                </a:lnTo>
                <a:lnTo>
                  <a:pt x="71368" y="97087"/>
                </a:lnTo>
                <a:lnTo>
                  <a:pt x="65519" y="107058"/>
                </a:lnTo>
                <a:lnTo>
                  <a:pt x="53658" y="128015"/>
                </a:lnTo>
                <a:lnTo>
                  <a:pt x="39920" y="151440"/>
                </a:lnTo>
                <a:lnTo>
                  <a:pt x="33548" y="163613"/>
                </a:lnTo>
                <a:lnTo>
                  <a:pt x="27606" y="175963"/>
                </a:lnTo>
                <a:lnTo>
                  <a:pt x="21951" y="188428"/>
                </a:lnTo>
                <a:lnTo>
                  <a:pt x="17335" y="200972"/>
                </a:lnTo>
                <a:lnTo>
                  <a:pt x="13410" y="213568"/>
                </a:lnTo>
                <a:lnTo>
                  <a:pt x="9948" y="226199"/>
                </a:lnTo>
                <a:lnTo>
                  <a:pt x="6793" y="238852"/>
                </a:lnTo>
                <a:lnTo>
                  <a:pt x="1029" y="264201"/>
                </a:lnTo>
                <a:lnTo>
                  <a:pt x="0" y="276887"/>
                </a:lnTo>
                <a:lnTo>
                  <a:pt x="161" y="289578"/>
                </a:lnTo>
                <a:lnTo>
                  <a:pt x="1114" y="302272"/>
                </a:lnTo>
                <a:lnTo>
                  <a:pt x="2597" y="314122"/>
                </a:lnTo>
                <a:lnTo>
                  <a:pt x="4432" y="325408"/>
                </a:lnTo>
                <a:lnTo>
                  <a:pt x="6502" y="336319"/>
                </a:lnTo>
                <a:lnTo>
                  <a:pt x="9575" y="346979"/>
                </a:lnTo>
                <a:lnTo>
                  <a:pt x="13318" y="357473"/>
                </a:lnTo>
                <a:lnTo>
                  <a:pt x="17506" y="367855"/>
                </a:lnTo>
                <a:lnTo>
                  <a:pt x="23685" y="377317"/>
                </a:lnTo>
                <a:lnTo>
                  <a:pt x="31190" y="386164"/>
                </a:lnTo>
                <a:lnTo>
                  <a:pt x="39581" y="394603"/>
                </a:lnTo>
                <a:lnTo>
                  <a:pt x="48561" y="401922"/>
                </a:lnTo>
                <a:lnTo>
                  <a:pt x="57935" y="408495"/>
                </a:lnTo>
                <a:lnTo>
                  <a:pt x="67571" y="414570"/>
                </a:lnTo>
                <a:lnTo>
                  <a:pt x="78228" y="420313"/>
                </a:lnTo>
                <a:lnTo>
                  <a:pt x="89566" y="425836"/>
                </a:lnTo>
                <a:lnTo>
                  <a:pt x="101358" y="431211"/>
                </a:lnTo>
                <a:lnTo>
                  <a:pt x="111759" y="435640"/>
                </a:lnTo>
                <a:lnTo>
                  <a:pt x="121233" y="439440"/>
                </a:lnTo>
                <a:lnTo>
                  <a:pt x="138534" y="445920"/>
                </a:lnTo>
                <a:lnTo>
                  <a:pt x="170662" y="4572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InkAnnotation257"/>
          <p:cNvSpPr/>
          <p:nvPr/>
        </p:nvSpPr>
        <p:spPr>
          <a:xfrm>
            <a:off x="1028880" y="3260880"/>
            <a:ext cx="296640" cy="282600"/>
          </a:xfrm>
          <a:custGeom>
            <a:avLst/>
            <a:gdLst>
              <a:gd name="textAreaLeft" fmla="*/ 0 w 296640"/>
              <a:gd name="textAreaRight" fmla="*/ 297000 w 2966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97181" h="281941">
                <a:moveTo>
                  <a:pt x="297180" y="0"/>
                </a:moveTo>
                <a:lnTo>
                  <a:pt x="290619" y="0"/>
                </a:lnTo>
                <a:lnTo>
                  <a:pt x="290031" y="4516"/>
                </a:lnTo>
                <a:lnTo>
                  <a:pt x="289874" y="8091"/>
                </a:lnTo>
                <a:lnTo>
                  <a:pt x="288923" y="11320"/>
                </a:lnTo>
                <a:lnTo>
                  <a:pt x="285608" y="17167"/>
                </a:lnTo>
                <a:lnTo>
                  <a:pt x="281312" y="24846"/>
                </a:lnTo>
                <a:lnTo>
                  <a:pt x="278982" y="29264"/>
                </a:lnTo>
                <a:lnTo>
                  <a:pt x="277428" y="34749"/>
                </a:lnTo>
                <a:lnTo>
                  <a:pt x="276392" y="40946"/>
                </a:lnTo>
                <a:lnTo>
                  <a:pt x="275701" y="47617"/>
                </a:lnTo>
                <a:lnTo>
                  <a:pt x="272701" y="54605"/>
                </a:lnTo>
                <a:lnTo>
                  <a:pt x="268161" y="61803"/>
                </a:lnTo>
                <a:lnTo>
                  <a:pt x="262594" y="69142"/>
                </a:lnTo>
                <a:lnTo>
                  <a:pt x="258036" y="76575"/>
                </a:lnTo>
                <a:lnTo>
                  <a:pt x="254151" y="84070"/>
                </a:lnTo>
                <a:lnTo>
                  <a:pt x="250714" y="91607"/>
                </a:lnTo>
                <a:lnTo>
                  <a:pt x="245882" y="100018"/>
                </a:lnTo>
                <a:lnTo>
                  <a:pt x="240122" y="109012"/>
                </a:lnTo>
                <a:lnTo>
                  <a:pt x="233741" y="118395"/>
                </a:lnTo>
                <a:lnTo>
                  <a:pt x="226947" y="127190"/>
                </a:lnTo>
                <a:lnTo>
                  <a:pt x="219878" y="135593"/>
                </a:lnTo>
                <a:lnTo>
                  <a:pt x="212626" y="143736"/>
                </a:lnTo>
                <a:lnTo>
                  <a:pt x="205250" y="152550"/>
                </a:lnTo>
                <a:lnTo>
                  <a:pt x="190282" y="171376"/>
                </a:lnTo>
                <a:lnTo>
                  <a:pt x="181888" y="180290"/>
                </a:lnTo>
                <a:lnTo>
                  <a:pt x="172905" y="188774"/>
                </a:lnTo>
                <a:lnTo>
                  <a:pt x="163530" y="196969"/>
                </a:lnTo>
                <a:lnTo>
                  <a:pt x="154740" y="204973"/>
                </a:lnTo>
                <a:lnTo>
                  <a:pt x="138200" y="220639"/>
                </a:lnTo>
                <a:lnTo>
                  <a:pt x="129387" y="228373"/>
                </a:lnTo>
                <a:lnTo>
                  <a:pt x="120125" y="236068"/>
                </a:lnTo>
                <a:lnTo>
                  <a:pt x="110563" y="243739"/>
                </a:lnTo>
                <a:lnTo>
                  <a:pt x="100802" y="249699"/>
                </a:lnTo>
                <a:lnTo>
                  <a:pt x="90908" y="254520"/>
                </a:lnTo>
                <a:lnTo>
                  <a:pt x="80925" y="258580"/>
                </a:lnTo>
                <a:lnTo>
                  <a:pt x="63060" y="265349"/>
                </a:lnTo>
                <a:lnTo>
                  <a:pt x="38722" y="273920"/>
                </a:lnTo>
                <a:lnTo>
                  <a:pt x="30895" y="276593"/>
                </a:lnTo>
                <a:lnTo>
                  <a:pt x="24830" y="278375"/>
                </a:lnTo>
                <a:lnTo>
                  <a:pt x="15833" y="280356"/>
                </a:lnTo>
                <a:lnTo>
                  <a:pt x="9012" y="281236"/>
                </a:lnTo>
                <a:lnTo>
                  <a:pt x="0" y="2819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InkAnnotation258"/>
          <p:cNvSpPr/>
          <p:nvPr/>
        </p:nvSpPr>
        <p:spPr>
          <a:xfrm>
            <a:off x="1096920" y="3352680"/>
            <a:ext cx="252360" cy="144720"/>
          </a:xfrm>
          <a:custGeom>
            <a:avLst/>
            <a:gdLst>
              <a:gd name="textAreaLeft" fmla="*/ 0 w 252360"/>
              <a:gd name="textAreaRight" fmla="*/ 252720 w 252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51461" h="144781">
                <a:moveTo>
                  <a:pt x="0" y="0"/>
                </a:moveTo>
                <a:lnTo>
                  <a:pt x="4046" y="0"/>
                </a:lnTo>
                <a:lnTo>
                  <a:pt x="5237" y="1693"/>
                </a:lnTo>
                <a:lnTo>
                  <a:pt x="6031" y="4516"/>
                </a:lnTo>
                <a:lnTo>
                  <a:pt x="6561" y="8091"/>
                </a:lnTo>
                <a:lnTo>
                  <a:pt x="7761" y="10473"/>
                </a:lnTo>
                <a:lnTo>
                  <a:pt x="9407" y="12062"/>
                </a:lnTo>
                <a:lnTo>
                  <a:pt x="11352" y="13122"/>
                </a:lnTo>
                <a:lnTo>
                  <a:pt x="13494" y="15521"/>
                </a:lnTo>
                <a:lnTo>
                  <a:pt x="15769" y="18814"/>
                </a:lnTo>
                <a:lnTo>
                  <a:pt x="18133" y="22703"/>
                </a:lnTo>
                <a:lnTo>
                  <a:pt x="21402" y="26989"/>
                </a:lnTo>
                <a:lnTo>
                  <a:pt x="25275" y="31539"/>
                </a:lnTo>
                <a:lnTo>
                  <a:pt x="29550" y="36266"/>
                </a:lnTo>
                <a:lnTo>
                  <a:pt x="38815" y="46034"/>
                </a:lnTo>
                <a:lnTo>
                  <a:pt x="62607" y="70147"/>
                </a:lnTo>
                <a:lnTo>
                  <a:pt x="70524" y="76398"/>
                </a:lnTo>
                <a:lnTo>
                  <a:pt x="79190" y="82259"/>
                </a:lnTo>
                <a:lnTo>
                  <a:pt x="88353" y="87859"/>
                </a:lnTo>
                <a:lnTo>
                  <a:pt x="97849" y="93286"/>
                </a:lnTo>
                <a:lnTo>
                  <a:pt x="117431" y="103832"/>
                </a:lnTo>
                <a:lnTo>
                  <a:pt x="127394" y="108168"/>
                </a:lnTo>
                <a:lnTo>
                  <a:pt x="137423" y="111905"/>
                </a:lnTo>
                <a:lnTo>
                  <a:pt x="147495" y="115244"/>
                </a:lnTo>
                <a:lnTo>
                  <a:pt x="157597" y="119162"/>
                </a:lnTo>
                <a:lnTo>
                  <a:pt x="167718" y="123468"/>
                </a:lnTo>
                <a:lnTo>
                  <a:pt x="177852" y="128032"/>
                </a:lnTo>
                <a:lnTo>
                  <a:pt x="188841" y="131922"/>
                </a:lnTo>
                <a:lnTo>
                  <a:pt x="200401" y="135361"/>
                </a:lnTo>
                <a:lnTo>
                  <a:pt x="212340" y="138500"/>
                </a:lnTo>
                <a:lnTo>
                  <a:pt x="221994" y="140594"/>
                </a:lnTo>
                <a:lnTo>
                  <a:pt x="230122" y="141989"/>
                </a:lnTo>
                <a:lnTo>
                  <a:pt x="251460" y="1447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InkAnnotation259"/>
          <p:cNvSpPr/>
          <p:nvPr/>
        </p:nvSpPr>
        <p:spPr>
          <a:xfrm>
            <a:off x="1494000" y="3222720"/>
            <a:ext cx="45720" cy="304560"/>
          </a:xfrm>
          <a:custGeom>
            <a:avLst/>
            <a:gdLst>
              <a:gd name="textAreaLeft" fmla="*/ 0 w 45720"/>
              <a:gd name="textAreaRight" fmla="*/ 46080 w 4572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45721" h="304801">
                <a:moveTo>
                  <a:pt x="0" y="0"/>
                </a:moveTo>
                <a:lnTo>
                  <a:pt x="0" y="36110"/>
                </a:lnTo>
                <a:lnTo>
                  <a:pt x="847" y="41854"/>
                </a:lnTo>
                <a:lnTo>
                  <a:pt x="2258" y="48222"/>
                </a:lnTo>
                <a:lnTo>
                  <a:pt x="4045" y="55009"/>
                </a:lnTo>
                <a:lnTo>
                  <a:pt x="5237" y="62072"/>
                </a:lnTo>
                <a:lnTo>
                  <a:pt x="6031" y="69322"/>
                </a:lnTo>
                <a:lnTo>
                  <a:pt x="6561" y="76694"/>
                </a:lnTo>
                <a:lnTo>
                  <a:pt x="6914" y="84996"/>
                </a:lnTo>
                <a:lnTo>
                  <a:pt x="7306" y="103252"/>
                </a:lnTo>
                <a:lnTo>
                  <a:pt x="7612" y="185777"/>
                </a:lnTo>
                <a:lnTo>
                  <a:pt x="8461" y="194971"/>
                </a:lnTo>
                <a:lnTo>
                  <a:pt x="9874" y="203641"/>
                </a:lnTo>
                <a:lnTo>
                  <a:pt x="11663" y="211961"/>
                </a:lnTo>
                <a:lnTo>
                  <a:pt x="13702" y="220047"/>
                </a:lnTo>
                <a:lnTo>
                  <a:pt x="15908" y="227978"/>
                </a:lnTo>
                <a:lnTo>
                  <a:pt x="18225" y="235805"/>
                </a:lnTo>
                <a:lnTo>
                  <a:pt x="19770" y="243564"/>
                </a:lnTo>
                <a:lnTo>
                  <a:pt x="20800" y="251276"/>
                </a:lnTo>
                <a:lnTo>
                  <a:pt x="21487" y="258957"/>
                </a:lnTo>
                <a:lnTo>
                  <a:pt x="22791" y="265772"/>
                </a:lnTo>
                <a:lnTo>
                  <a:pt x="24507" y="272008"/>
                </a:lnTo>
                <a:lnTo>
                  <a:pt x="26499" y="277858"/>
                </a:lnTo>
                <a:lnTo>
                  <a:pt x="28672" y="282606"/>
                </a:lnTo>
                <a:lnTo>
                  <a:pt x="30968" y="286617"/>
                </a:lnTo>
                <a:lnTo>
                  <a:pt x="33345" y="290138"/>
                </a:lnTo>
                <a:lnTo>
                  <a:pt x="35777" y="293332"/>
                </a:lnTo>
                <a:lnTo>
                  <a:pt x="38245" y="296309"/>
                </a:lnTo>
                <a:lnTo>
                  <a:pt x="45720" y="3048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InkAnnotation260"/>
          <p:cNvSpPr/>
          <p:nvPr/>
        </p:nvSpPr>
        <p:spPr>
          <a:xfrm>
            <a:off x="1425600" y="3352680"/>
            <a:ext cx="212760" cy="46080"/>
          </a:xfrm>
          <a:custGeom>
            <a:avLst/>
            <a:gdLst>
              <a:gd name="textAreaLeft" fmla="*/ 0 w 212760"/>
              <a:gd name="textAreaRight" fmla="*/ 213120 w 21276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3361" h="45721">
                <a:moveTo>
                  <a:pt x="0" y="45720"/>
                </a:moveTo>
                <a:lnTo>
                  <a:pt x="4045" y="45720"/>
                </a:lnTo>
                <a:lnTo>
                  <a:pt x="6930" y="44874"/>
                </a:lnTo>
                <a:lnTo>
                  <a:pt x="10547" y="43462"/>
                </a:lnTo>
                <a:lnTo>
                  <a:pt x="14651" y="41675"/>
                </a:lnTo>
                <a:lnTo>
                  <a:pt x="19927" y="40483"/>
                </a:lnTo>
                <a:lnTo>
                  <a:pt x="25985" y="39689"/>
                </a:lnTo>
                <a:lnTo>
                  <a:pt x="32563" y="39159"/>
                </a:lnTo>
                <a:lnTo>
                  <a:pt x="39489" y="37960"/>
                </a:lnTo>
                <a:lnTo>
                  <a:pt x="46646" y="36313"/>
                </a:lnTo>
                <a:lnTo>
                  <a:pt x="53957" y="34369"/>
                </a:lnTo>
                <a:lnTo>
                  <a:pt x="62218" y="33072"/>
                </a:lnTo>
                <a:lnTo>
                  <a:pt x="71112" y="32208"/>
                </a:lnTo>
                <a:lnTo>
                  <a:pt x="80428" y="31633"/>
                </a:lnTo>
                <a:lnTo>
                  <a:pt x="90872" y="30402"/>
                </a:lnTo>
                <a:lnTo>
                  <a:pt x="102068" y="28734"/>
                </a:lnTo>
                <a:lnTo>
                  <a:pt x="113765" y="26776"/>
                </a:lnTo>
                <a:lnTo>
                  <a:pt x="124950" y="24624"/>
                </a:lnTo>
                <a:lnTo>
                  <a:pt x="146409" y="19975"/>
                </a:lnTo>
                <a:lnTo>
                  <a:pt x="177530" y="12598"/>
                </a:lnTo>
                <a:lnTo>
                  <a:pt x="186087" y="10092"/>
                </a:lnTo>
                <a:lnTo>
                  <a:pt x="193485" y="7574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InkAnnotation261"/>
          <p:cNvSpPr/>
          <p:nvPr/>
        </p:nvSpPr>
        <p:spPr>
          <a:xfrm>
            <a:off x="1733400" y="3216240"/>
            <a:ext cx="277920" cy="335160"/>
          </a:xfrm>
          <a:custGeom>
            <a:avLst/>
            <a:gdLst>
              <a:gd name="textAreaLeft" fmla="*/ 0 w 277920"/>
              <a:gd name="textAreaRight" fmla="*/ 278280 w 2779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77480" h="335279">
                <a:moveTo>
                  <a:pt x="64119" y="7618"/>
                </a:moveTo>
                <a:lnTo>
                  <a:pt x="64119" y="3573"/>
                </a:lnTo>
                <a:lnTo>
                  <a:pt x="64966" y="2381"/>
                </a:lnTo>
                <a:lnTo>
                  <a:pt x="66377" y="1587"/>
                </a:lnTo>
                <a:lnTo>
                  <a:pt x="71425" y="91"/>
                </a:lnTo>
                <a:lnTo>
                  <a:pt x="78272" y="6"/>
                </a:lnTo>
                <a:lnTo>
                  <a:pt x="74992" y="0"/>
                </a:lnTo>
                <a:lnTo>
                  <a:pt x="73907" y="1693"/>
                </a:lnTo>
                <a:lnTo>
                  <a:pt x="71535" y="11319"/>
                </a:lnTo>
                <a:lnTo>
                  <a:pt x="65846" y="21603"/>
                </a:lnTo>
                <a:lnTo>
                  <a:pt x="63577" y="27101"/>
                </a:lnTo>
                <a:lnTo>
                  <a:pt x="61218" y="33307"/>
                </a:lnTo>
                <a:lnTo>
                  <a:pt x="56338" y="46975"/>
                </a:lnTo>
                <a:lnTo>
                  <a:pt x="53852" y="54176"/>
                </a:lnTo>
                <a:lnTo>
                  <a:pt x="50501" y="61517"/>
                </a:lnTo>
                <a:lnTo>
                  <a:pt x="46573" y="68951"/>
                </a:lnTo>
                <a:lnTo>
                  <a:pt x="42262" y="76447"/>
                </a:lnTo>
                <a:lnTo>
                  <a:pt x="38541" y="83984"/>
                </a:lnTo>
                <a:lnTo>
                  <a:pt x="35214" y="91549"/>
                </a:lnTo>
                <a:lnTo>
                  <a:pt x="32149" y="99132"/>
                </a:lnTo>
                <a:lnTo>
                  <a:pt x="28412" y="107574"/>
                </a:lnTo>
                <a:lnTo>
                  <a:pt x="19745" y="125985"/>
                </a:lnTo>
                <a:lnTo>
                  <a:pt x="15909" y="134790"/>
                </a:lnTo>
                <a:lnTo>
                  <a:pt x="12506" y="143199"/>
                </a:lnTo>
                <a:lnTo>
                  <a:pt x="9390" y="151345"/>
                </a:lnTo>
                <a:lnTo>
                  <a:pt x="6467" y="160163"/>
                </a:lnTo>
                <a:lnTo>
                  <a:pt x="3671" y="169428"/>
                </a:lnTo>
                <a:lnTo>
                  <a:pt x="960" y="178991"/>
                </a:lnTo>
                <a:lnTo>
                  <a:pt x="0" y="187907"/>
                </a:lnTo>
                <a:lnTo>
                  <a:pt x="206" y="196391"/>
                </a:lnTo>
                <a:lnTo>
                  <a:pt x="1191" y="204586"/>
                </a:lnTo>
                <a:lnTo>
                  <a:pt x="1847" y="212590"/>
                </a:lnTo>
                <a:lnTo>
                  <a:pt x="2284" y="220466"/>
                </a:lnTo>
                <a:lnTo>
                  <a:pt x="2576" y="228257"/>
                </a:lnTo>
                <a:lnTo>
                  <a:pt x="4463" y="235144"/>
                </a:lnTo>
                <a:lnTo>
                  <a:pt x="7415" y="241429"/>
                </a:lnTo>
                <a:lnTo>
                  <a:pt x="11076" y="247312"/>
                </a:lnTo>
                <a:lnTo>
                  <a:pt x="15211" y="252927"/>
                </a:lnTo>
                <a:lnTo>
                  <a:pt x="19660" y="258364"/>
                </a:lnTo>
                <a:lnTo>
                  <a:pt x="24320" y="263682"/>
                </a:lnTo>
                <a:lnTo>
                  <a:pt x="29966" y="268921"/>
                </a:lnTo>
                <a:lnTo>
                  <a:pt x="36270" y="274107"/>
                </a:lnTo>
                <a:lnTo>
                  <a:pt x="43013" y="279257"/>
                </a:lnTo>
                <a:lnTo>
                  <a:pt x="50048" y="282691"/>
                </a:lnTo>
                <a:lnTo>
                  <a:pt x="57279" y="284980"/>
                </a:lnTo>
                <a:lnTo>
                  <a:pt x="64639" y="286506"/>
                </a:lnTo>
                <a:lnTo>
                  <a:pt x="81848" y="290460"/>
                </a:lnTo>
                <a:lnTo>
                  <a:pt x="91178" y="292699"/>
                </a:lnTo>
                <a:lnTo>
                  <a:pt x="99938" y="293345"/>
                </a:lnTo>
                <a:lnTo>
                  <a:pt x="108319" y="292929"/>
                </a:lnTo>
                <a:lnTo>
                  <a:pt x="116445" y="291806"/>
                </a:lnTo>
                <a:lnTo>
                  <a:pt x="125250" y="290210"/>
                </a:lnTo>
                <a:lnTo>
                  <a:pt x="134506" y="288300"/>
                </a:lnTo>
                <a:lnTo>
                  <a:pt x="144064" y="286179"/>
                </a:lnTo>
                <a:lnTo>
                  <a:pt x="152975" y="283919"/>
                </a:lnTo>
                <a:lnTo>
                  <a:pt x="161457" y="281565"/>
                </a:lnTo>
                <a:lnTo>
                  <a:pt x="169651" y="279149"/>
                </a:lnTo>
                <a:lnTo>
                  <a:pt x="176807" y="275846"/>
                </a:lnTo>
                <a:lnTo>
                  <a:pt x="183271" y="271950"/>
                </a:lnTo>
                <a:lnTo>
                  <a:pt x="189274" y="267659"/>
                </a:lnTo>
                <a:lnTo>
                  <a:pt x="194122" y="263106"/>
                </a:lnTo>
                <a:lnTo>
                  <a:pt x="201767" y="253530"/>
                </a:lnTo>
                <a:lnTo>
                  <a:pt x="205729" y="243630"/>
                </a:lnTo>
                <a:lnTo>
                  <a:pt x="207490" y="233586"/>
                </a:lnTo>
                <a:lnTo>
                  <a:pt x="208272" y="223477"/>
                </a:lnTo>
                <a:lnTo>
                  <a:pt x="208621" y="215597"/>
                </a:lnTo>
                <a:lnTo>
                  <a:pt x="208713" y="212311"/>
                </a:lnTo>
                <a:lnTo>
                  <a:pt x="207928" y="209274"/>
                </a:lnTo>
                <a:lnTo>
                  <a:pt x="204799" y="203641"/>
                </a:lnTo>
                <a:lnTo>
                  <a:pt x="198328" y="196057"/>
                </a:lnTo>
                <a:lnTo>
                  <a:pt x="194231" y="191664"/>
                </a:lnTo>
                <a:lnTo>
                  <a:pt x="189807" y="188735"/>
                </a:lnTo>
                <a:lnTo>
                  <a:pt x="185165" y="186783"/>
                </a:lnTo>
                <a:lnTo>
                  <a:pt x="180376" y="185481"/>
                </a:lnTo>
                <a:lnTo>
                  <a:pt x="175490" y="184614"/>
                </a:lnTo>
                <a:lnTo>
                  <a:pt x="170540" y="184035"/>
                </a:lnTo>
                <a:lnTo>
                  <a:pt x="165546" y="183650"/>
                </a:lnTo>
                <a:lnTo>
                  <a:pt x="160524" y="183392"/>
                </a:lnTo>
                <a:lnTo>
                  <a:pt x="150428" y="183107"/>
                </a:lnTo>
                <a:lnTo>
                  <a:pt x="145365" y="183877"/>
                </a:lnTo>
                <a:lnTo>
                  <a:pt x="140296" y="185238"/>
                </a:lnTo>
                <a:lnTo>
                  <a:pt x="135224" y="186991"/>
                </a:lnTo>
                <a:lnTo>
                  <a:pt x="127330" y="191197"/>
                </a:lnTo>
                <a:lnTo>
                  <a:pt x="124040" y="193504"/>
                </a:lnTo>
                <a:lnTo>
                  <a:pt x="118126" y="200583"/>
                </a:lnTo>
                <a:lnTo>
                  <a:pt x="115364" y="204841"/>
                </a:lnTo>
                <a:lnTo>
                  <a:pt x="112294" y="214088"/>
                </a:lnTo>
                <a:lnTo>
                  <a:pt x="111476" y="218925"/>
                </a:lnTo>
                <a:lnTo>
                  <a:pt x="111777" y="224689"/>
                </a:lnTo>
                <a:lnTo>
                  <a:pt x="112824" y="231072"/>
                </a:lnTo>
                <a:lnTo>
                  <a:pt x="114369" y="237868"/>
                </a:lnTo>
                <a:lnTo>
                  <a:pt x="116246" y="244091"/>
                </a:lnTo>
                <a:lnTo>
                  <a:pt x="118343" y="249934"/>
                </a:lnTo>
                <a:lnTo>
                  <a:pt x="120588" y="255522"/>
                </a:lnTo>
                <a:lnTo>
                  <a:pt x="123779" y="260941"/>
                </a:lnTo>
                <a:lnTo>
                  <a:pt x="127599" y="266246"/>
                </a:lnTo>
                <a:lnTo>
                  <a:pt x="131839" y="271477"/>
                </a:lnTo>
                <a:lnTo>
                  <a:pt x="137206" y="277504"/>
                </a:lnTo>
                <a:lnTo>
                  <a:pt x="149942" y="290974"/>
                </a:lnTo>
                <a:lnTo>
                  <a:pt x="157741" y="296429"/>
                </a:lnTo>
                <a:lnTo>
                  <a:pt x="166327" y="300912"/>
                </a:lnTo>
                <a:lnTo>
                  <a:pt x="175438" y="304747"/>
                </a:lnTo>
                <a:lnTo>
                  <a:pt x="184898" y="308998"/>
                </a:lnTo>
                <a:lnTo>
                  <a:pt x="204441" y="318236"/>
                </a:lnTo>
                <a:lnTo>
                  <a:pt x="214393" y="322223"/>
                </a:lnTo>
                <a:lnTo>
                  <a:pt x="224415" y="325728"/>
                </a:lnTo>
                <a:lnTo>
                  <a:pt x="234483" y="328911"/>
                </a:lnTo>
                <a:lnTo>
                  <a:pt x="242888" y="331034"/>
                </a:lnTo>
                <a:lnTo>
                  <a:pt x="250185" y="332449"/>
                </a:lnTo>
                <a:lnTo>
                  <a:pt x="256743" y="333392"/>
                </a:lnTo>
                <a:lnTo>
                  <a:pt x="261962" y="334020"/>
                </a:lnTo>
                <a:lnTo>
                  <a:pt x="266288" y="334440"/>
                </a:lnTo>
                <a:lnTo>
                  <a:pt x="277479" y="3352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InkAnnotation262"/>
          <p:cNvSpPr/>
          <p:nvPr/>
        </p:nvSpPr>
        <p:spPr>
          <a:xfrm>
            <a:off x="1981080" y="3116160"/>
            <a:ext cx="173160" cy="503280"/>
          </a:xfrm>
          <a:custGeom>
            <a:avLst/>
            <a:gdLst>
              <a:gd name="textAreaLeft" fmla="*/ 0 w 173160"/>
              <a:gd name="textAreaRight" fmla="*/ 173520 w 1731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73522" h="502893">
                <a:moveTo>
                  <a:pt x="22860" y="7592"/>
                </a:moveTo>
                <a:lnTo>
                  <a:pt x="22860" y="0"/>
                </a:lnTo>
                <a:lnTo>
                  <a:pt x="26905" y="4026"/>
                </a:lnTo>
                <a:lnTo>
                  <a:pt x="31149" y="10523"/>
                </a:lnTo>
                <a:lnTo>
                  <a:pt x="35857" y="19054"/>
                </a:lnTo>
                <a:lnTo>
                  <a:pt x="40772" y="28491"/>
                </a:lnTo>
                <a:lnTo>
                  <a:pt x="44115" y="34225"/>
                </a:lnTo>
                <a:lnTo>
                  <a:pt x="52345" y="47369"/>
                </a:lnTo>
                <a:lnTo>
                  <a:pt x="57756" y="54430"/>
                </a:lnTo>
                <a:lnTo>
                  <a:pt x="63904" y="61677"/>
                </a:lnTo>
                <a:lnTo>
                  <a:pt x="70543" y="69049"/>
                </a:lnTo>
                <a:lnTo>
                  <a:pt x="76662" y="77350"/>
                </a:lnTo>
                <a:lnTo>
                  <a:pt x="82435" y="86271"/>
                </a:lnTo>
                <a:lnTo>
                  <a:pt x="107912" y="128967"/>
                </a:lnTo>
                <a:lnTo>
                  <a:pt x="114274" y="141002"/>
                </a:lnTo>
                <a:lnTo>
                  <a:pt x="120210" y="153259"/>
                </a:lnTo>
                <a:lnTo>
                  <a:pt x="125860" y="165663"/>
                </a:lnTo>
                <a:lnTo>
                  <a:pt x="132166" y="178166"/>
                </a:lnTo>
                <a:lnTo>
                  <a:pt x="138911" y="190735"/>
                </a:lnTo>
                <a:lnTo>
                  <a:pt x="145948" y="203347"/>
                </a:lnTo>
                <a:lnTo>
                  <a:pt x="151485" y="216836"/>
                </a:lnTo>
                <a:lnTo>
                  <a:pt x="156023" y="230908"/>
                </a:lnTo>
                <a:lnTo>
                  <a:pt x="159896" y="245369"/>
                </a:lnTo>
                <a:lnTo>
                  <a:pt x="166456" y="272727"/>
                </a:lnTo>
                <a:lnTo>
                  <a:pt x="169391" y="285948"/>
                </a:lnTo>
                <a:lnTo>
                  <a:pt x="171347" y="298996"/>
                </a:lnTo>
                <a:lnTo>
                  <a:pt x="172652" y="311928"/>
                </a:lnTo>
                <a:lnTo>
                  <a:pt x="173521" y="324783"/>
                </a:lnTo>
                <a:lnTo>
                  <a:pt x="173254" y="337586"/>
                </a:lnTo>
                <a:lnTo>
                  <a:pt x="172229" y="350354"/>
                </a:lnTo>
                <a:lnTo>
                  <a:pt x="170700" y="363100"/>
                </a:lnTo>
                <a:lnTo>
                  <a:pt x="168833" y="374984"/>
                </a:lnTo>
                <a:lnTo>
                  <a:pt x="166742" y="386294"/>
                </a:lnTo>
                <a:lnTo>
                  <a:pt x="164502" y="397220"/>
                </a:lnTo>
                <a:lnTo>
                  <a:pt x="160468" y="407044"/>
                </a:lnTo>
                <a:lnTo>
                  <a:pt x="155239" y="416133"/>
                </a:lnTo>
                <a:lnTo>
                  <a:pt x="138001" y="441061"/>
                </a:lnTo>
                <a:lnTo>
                  <a:pt x="132641" y="448972"/>
                </a:lnTo>
                <a:lnTo>
                  <a:pt x="126527" y="455939"/>
                </a:lnTo>
                <a:lnTo>
                  <a:pt x="119912" y="462276"/>
                </a:lnTo>
                <a:lnTo>
                  <a:pt x="112961" y="468195"/>
                </a:lnTo>
                <a:lnTo>
                  <a:pt x="105787" y="473834"/>
                </a:lnTo>
                <a:lnTo>
                  <a:pt x="98465" y="479287"/>
                </a:lnTo>
                <a:lnTo>
                  <a:pt x="91043" y="484615"/>
                </a:lnTo>
                <a:lnTo>
                  <a:pt x="83556" y="489014"/>
                </a:lnTo>
                <a:lnTo>
                  <a:pt x="76024" y="492793"/>
                </a:lnTo>
                <a:lnTo>
                  <a:pt x="68463" y="496159"/>
                </a:lnTo>
                <a:lnTo>
                  <a:pt x="60882" y="498404"/>
                </a:lnTo>
                <a:lnTo>
                  <a:pt x="53288" y="499900"/>
                </a:lnTo>
                <a:lnTo>
                  <a:pt x="45685" y="500897"/>
                </a:lnTo>
                <a:lnTo>
                  <a:pt x="38924" y="501562"/>
                </a:lnTo>
                <a:lnTo>
                  <a:pt x="32723" y="502006"/>
                </a:lnTo>
                <a:lnTo>
                  <a:pt x="26895" y="502301"/>
                </a:lnTo>
                <a:lnTo>
                  <a:pt x="15904" y="502629"/>
                </a:lnTo>
                <a:lnTo>
                  <a:pt x="0" y="5028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InkAnnotation263"/>
          <p:cNvSpPr/>
          <p:nvPr/>
        </p:nvSpPr>
        <p:spPr>
          <a:xfrm>
            <a:off x="2873520" y="3276720"/>
            <a:ext cx="257040" cy="291960"/>
          </a:xfrm>
          <a:custGeom>
            <a:avLst/>
            <a:gdLst>
              <a:gd name="textAreaLeft" fmla="*/ 0 w 257040"/>
              <a:gd name="textAreaRight" fmla="*/ 257400 w 2570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58001" h="292853">
                <a:moveTo>
                  <a:pt x="152256" y="0"/>
                </a:moveTo>
                <a:lnTo>
                  <a:pt x="144950" y="0"/>
                </a:lnTo>
                <a:lnTo>
                  <a:pt x="140684" y="4045"/>
                </a:lnTo>
                <a:lnTo>
                  <a:pt x="138615" y="5237"/>
                </a:lnTo>
                <a:lnTo>
                  <a:pt x="131657" y="7760"/>
                </a:lnTo>
                <a:lnTo>
                  <a:pt x="126732" y="11352"/>
                </a:lnTo>
                <a:lnTo>
                  <a:pt x="119463" y="15769"/>
                </a:lnTo>
                <a:lnTo>
                  <a:pt x="111435" y="20555"/>
                </a:lnTo>
                <a:lnTo>
                  <a:pt x="105045" y="25505"/>
                </a:lnTo>
                <a:lnTo>
                  <a:pt x="100462" y="28010"/>
                </a:lnTo>
                <a:lnTo>
                  <a:pt x="94866" y="30526"/>
                </a:lnTo>
                <a:lnTo>
                  <a:pt x="88596" y="33051"/>
                </a:lnTo>
                <a:lnTo>
                  <a:pt x="82723" y="35581"/>
                </a:lnTo>
                <a:lnTo>
                  <a:pt x="71682" y="40649"/>
                </a:lnTo>
                <a:lnTo>
                  <a:pt x="66366" y="42340"/>
                </a:lnTo>
                <a:lnTo>
                  <a:pt x="61129" y="43466"/>
                </a:lnTo>
                <a:lnTo>
                  <a:pt x="55945" y="44218"/>
                </a:lnTo>
                <a:lnTo>
                  <a:pt x="50795" y="45565"/>
                </a:lnTo>
                <a:lnTo>
                  <a:pt x="45669" y="47310"/>
                </a:lnTo>
                <a:lnTo>
                  <a:pt x="40558" y="49320"/>
                </a:lnTo>
                <a:lnTo>
                  <a:pt x="35457" y="51507"/>
                </a:lnTo>
                <a:lnTo>
                  <a:pt x="25274" y="56194"/>
                </a:lnTo>
                <a:lnTo>
                  <a:pt x="17362" y="58842"/>
                </a:lnTo>
                <a:lnTo>
                  <a:pt x="11023" y="60019"/>
                </a:lnTo>
                <a:lnTo>
                  <a:pt x="3541" y="60682"/>
                </a:lnTo>
                <a:lnTo>
                  <a:pt x="341" y="60923"/>
                </a:lnTo>
                <a:lnTo>
                  <a:pt x="0" y="64994"/>
                </a:lnTo>
                <a:lnTo>
                  <a:pt x="799" y="66189"/>
                </a:lnTo>
                <a:lnTo>
                  <a:pt x="2178" y="66986"/>
                </a:lnTo>
                <a:lnTo>
                  <a:pt x="5968" y="67872"/>
                </a:lnTo>
                <a:lnTo>
                  <a:pt x="10475" y="68265"/>
                </a:lnTo>
                <a:lnTo>
                  <a:pt x="17557" y="70698"/>
                </a:lnTo>
                <a:lnTo>
                  <a:pt x="21817" y="72532"/>
                </a:lnTo>
                <a:lnTo>
                  <a:pt x="26350" y="73755"/>
                </a:lnTo>
                <a:lnTo>
                  <a:pt x="31065" y="74569"/>
                </a:lnTo>
                <a:lnTo>
                  <a:pt x="35902" y="75113"/>
                </a:lnTo>
                <a:lnTo>
                  <a:pt x="40820" y="76322"/>
                </a:lnTo>
                <a:lnTo>
                  <a:pt x="45792" y="77975"/>
                </a:lnTo>
                <a:lnTo>
                  <a:pt x="50800" y="79923"/>
                </a:lnTo>
                <a:lnTo>
                  <a:pt x="57526" y="82069"/>
                </a:lnTo>
                <a:lnTo>
                  <a:pt x="65396" y="84346"/>
                </a:lnTo>
                <a:lnTo>
                  <a:pt x="74029" y="86711"/>
                </a:lnTo>
                <a:lnTo>
                  <a:pt x="83172" y="89980"/>
                </a:lnTo>
                <a:lnTo>
                  <a:pt x="92653" y="93854"/>
                </a:lnTo>
                <a:lnTo>
                  <a:pt x="102360" y="98129"/>
                </a:lnTo>
                <a:lnTo>
                  <a:pt x="111372" y="102672"/>
                </a:lnTo>
                <a:lnTo>
                  <a:pt x="119921" y="107395"/>
                </a:lnTo>
                <a:lnTo>
                  <a:pt x="128159" y="112237"/>
                </a:lnTo>
                <a:lnTo>
                  <a:pt x="137885" y="117158"/>
                </a:lnTo>
                <a:lnTo>
                  <a:pt x="148602" y="122132"/>
                </a:lnTo>
                <a:lnTo>
                  <a:pt x="159980" y="127141"/>
                </a:lnTo>
                <a:lnTo>
                  <a:pt x="170105" y="133021"/>
                </a:lnTo>
                <a:lnTo>
                  <a:pt x="179396" y="139481"/>
                </a:lnTo>
                <a:lnTo>
                  <a:pt x="188129" y="146327"/>
                </a:lnTo>
                <a:lnTo>
                  <a:pt x="196492" y="153432"/>
                </a:lnTo>
                <a:lnTo>
                  <a:pt x="204607" y="160708"/>
                </a:lnTo>
                <a:lnTo>
                  <a:pt x="219550" y="174719"/>
                </a:lnTo>
                <a:lnTo>
                  <a:pt x="231836" y="186591"/>
                </a:lnTo>
                <a:lnTo>
                  <a:pt x="237482" y="192974"/>
                </a:lnTo>
                <a:lnTo>
                  <a:pt x="242941" y="199769"/>
                </a:lnTo>
                <a:lnTo>
                  <a:pt x="248272" y="206840"/>
                </a:lnTo>
                <a:lnTo>
                  <a:pt x="251827" y="214093"/>
                </a:lnTo>
                <a:lnTo>
                  <a:pt x="254197" y="221469"/>
                </a:lnTo>
                <a:lnTo>
                  <a:pt x="255777" y="228926"/>
                </a:lnTo>
                <a:lnTo>
                  <a:pt x="256830" y="235591"/>
                </a:lnTo>
                <a:lnTo>
                  <a:pt x="257532" y="241727"/>
                </a:lnTo>
                <a:lnTo>
                  <a:pt x="258000" y="247512"/>
                </a:lnTo>
                <a:lnTo>
                  <a:pt x="257466" y="253061"/>
                </a:lnTo>
                <a:lnTo>
                  <a:pt x="256263" y="258454"/>
                </a:lnTo>
                <a:lnTo>
                  <a:pt x="254614" y="263743"/>
                </a:lnTo>
                <a:lnTo>
                  <a:pt x="250524" y="271877"/>
                </a:lnTo>
                <a:lnTo>
                  <a:pt x="248248" y="275231"/>
                </a:lnTo>
                <a:lnTo>
                  <a:pt x="244191" y="278314"/>
                </a:lnTo>
                <a:lnTo>
                  <a:pt x="238946" y="281216"/>
                </a:lnTo>
                <a:lnTo>
                  <a:pt x="232910" y="283997"/>
                </a:lnTo>
                <a:lnTo>
                  <a:pt x="226345" y="286698"/>
                </a:lnTo>
                <a:lnTo>
                  <a:pt x="219429" y="289346"/>
                </a:lnTo>
                <a:lnTo>
                  <a:pt x="212278" y="291957"/>
                </a:lnTo>
                <a:lnTo>
                  <a:pt x="204124" y="292852"/>
                </a:lnTo>
                <a:lnTo>
                  <a:pt x="195302" y="292601"/>
                </a:lnTo>
                <a:lnTo>
                  <a:pt x="186033" y="291588"/>
                </a:lnTo>
                <a:lnTo>
                  <a:pt x="176467" y="290912"/>
                </a:lnTo>
                <a:lnTo>
                  <a:pt x="166704" y="290461"/>
                </a:lnTo>
                <a:lnTo>
                  <a:pt x="156808" y="290161"/>
                </a:lnTo>
                <a:lnTo>
                  <a:pt x="146824" y="288268"/>
                </a:lnTo>
                <a:lnTo>
                  <a:pt x="136781" y="285312"/>
                </a:lnTo>
                <a:lnTo>
                  <a:pt x="126699" y="281648"/>
                </a:lnTo>
                <a:lnTo>
                  <a:pt x="116592" y="278359"/>
                </a:lnTo>
                <a:lnTo>
                  <a:pt x="106467" y="275319"/>
                </a:lnTo>
                <a:lnTo>
                  <a:pt x="96330" y="272446"/>
                </a:lnTo>
                <a:lnTo>
                  <a:pt x="86185" y="267991"/>
                </a:lnTo>
                <a:lnTo>
                  <a:pt x="76035" y="262480"/>
                </a:lnTo>
                <a:lnTo>
                  <a:pt x="65882" y="256267"/>
                </a:lnTo>
                <a:lnTo>
                  <a:pt x="57420" y="251278"/>
                </a:lnTo>
                <a:lnTo>
                  <a:pt x="43503" y="243477"/>
                </a:lnTo>
                <a:lnTo>
                  <a:pt x="31672" y="237187"/>
                </a:lnTo>
                <a:lnTo>
                  <a:pt x="15096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InkAnnotation264"/>
          <p:cNvSpPr/>
          <p:nvPr/>
        </p:nvSpPr>
        <p:spPr>
          <a:xfrm>
            <a:off x="2895480" y="3276720"/>
            <a:ext cx="282600" cy="15840"/>
          </a:xfrm>
          <a:custGeom>
            <a:avLst/>
            <a:gdLst>
              <a:gd name="textAreaLeft" fmla="*/ 0 w 282600"/>
              <a:gd name="textAreaRight" fmla="*/ 282960 w 282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1941" h="15239">
                <a:moveTo>
                  <a:pt x="0" y="7618"/>
                </a:moveTo>
                <a:lnTo>
                  <a:pt x="8091" y="7618"/>
                </a:lnTo>
                <a:lnTo>
                  <a:pt x="11320" y="6772"/>
                </a:lnTo>
                <a:lnTo>
                  <a:pt x="14320" y="5360"/>
                </a:lnTo>
                <a:lnTo>
                  <a:pt x="21173" y="1057"/>
                </a:lnTo>
                <a:lnTo>
                  <a:pt x="24275" y="704"/>
                </a:lnTo>
                <a:lnTo>
                  <a:pt x="28883" y="469"/>
                </a:lnTo>
                <a:lnTo>
                  <a:pt x="40777" y="207"/>
                </a:lnTo>
                <a:lnTo>
                  <a:pt x="143909" y="0"/>
                </a:lnTo>
                <a:lnTo>
                  <a:pt x="156899" y="846"/>
                </a:lnTo>
                <a:lnTo>
                  <a:pt x="170640" y="2257"/>
                </a:lnTo>
                <a:lnTo>
                  <a:pt x="184880" y="4044"/>
                </a:lnTo>
                <a:lnTo>
                  <a:pt x="197760" y="5235"/>
                </a:lnTo>
                <a:lnTo>
                  <a:pt x="209734" y="6030"/>
                </a:lnTo>
                <a:lnTo>
                  <a:pt x="231222" y="6912"/>
                </a:lnTo>
                <a:lnTo>
                  <a:pt x="249239" y="7304"/>
                </a:lnTo>
                <a:lnTo>
                  <a:pt x="256753" y="8255"/>
                </a:lnTo>
                <a:lnTo>
                  <a:pt x="263455" y="9737"/>
                </a:lnTo>
                <a:lnTo>
                  <a:pt x="281940" y="1523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InkAnnotation265"/>
          <p:cNvSpPr/>
          <p:nvPr/>
        </p:nvSpPr>
        <p:spPr>
          <a:xfrm>
            <a:off x="3192480" y="3330720"/>
            <a:ext cx="198360" cy="242640"/>
          </a:xfrm>
          <a:custGeom>
            <a:avLst/>
            <a:gdLst>
              <a:gd name="textAreaLeft" fmla="*/ 0 w 198360"/>
              <a:gd name="textAreaRight" fmla="*/ 198720 w 1983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98121" h="243841">
                <a:moveTo>
                  <a:pt x="198120" y="0"/>
                </a:moveTo>
                <a:lnTo>
                  <a:pt x="198120" y="22703"/>
                </a:lnTo>
                <a:lnTo>
                  <a:pt x="197274" y="27835"/>
                </a:lnTo>
                <a:lnTo>
                  <a:pt x="195863" y="33797"/>
                </a:lnTo>
                <a:lnTo>
                  <a:pt x="194076" y="40311"/>
                </a:lnTo>
                <a:lnTo>
                  <a:pt x="189832" y="54323"/>
                </a:lnTo>
                <a:lnTo>
                  <a:pt x="180208" y="84014"/>
                </a:lnTo>
                <a:lnTo>
                  <a:pt x="176019" y="91569"/>
                </a:lnTo>
                <a:lnTo>
                  <a:pt x="170686" y="99146"/>
                </a:lnTo>
                <a:lnTo>
                  <a:pt x="164591" y="106737"/>
                </a:lnTo>
                <a:lnTo>
                  <a:pt x="158834" y="113492"/>
                </a:lnTo>
                <a:lnTo>
                  <a:pt x="153303" y="119688"/>
                </a:lnTo>
                <a:lnTo>
                  <a:pt x="147922" y="125512"/>
                </a:lnTo>
                <a:lnTo>
                  <a:pt x="142641" y="131934"/>
                </a:lnTo>
                <a:lnTo>
                  <a:pt x="137428" y="138756"/>
                </a:lnTo>
                <a:lnTo>
                  <a:pt x="132259" y="145844"/>
                </a:lnTo>
                <a:lnTo>
                  <a:pt x="126272" y="153110"/>
                </a:lnTo>
                <a:lnTo>
                  <a:pt x="119741" y="160493"/>
                </a:lnTo>
                <a:lnTo>
                  <a:pt x="106558" y="174624"/>
                </a:lnTo>
                <a:lnTo>
                  <a:pt x="95055" y="186548"/>
                </a:lnTo>
                <a:lnTo>
                  <a:pt x="88770" y="192099"/>
                </a:lnTo>
                <a:lnTo>
                  <a:pt x="82040" y="197492"/>
                </a:lnTo>
                <a:lnTo>
                  <a:pt x="75013" y="202782"/>
                </a:lnTo>
                <a:lnTo>
                  <a:pt x="68635" y="208001"/>
                </a:lnTo>
                <a:lnTo>
                  <a:pt x="62690" y="213174"/>
                </a:lnTo>
                <a:lnTo>
                  <a:pt x="57033" y="218316"/>
                </a:lnTo>
                <a:lnTo>
                  <a:pt x="50722" y="222590"/>
                </a:lnTo>
                <a:lnTo>
                  <a:pt x="43975" y="226287"/>
                </a:lnTo>
                <a:lnTo>
                  <a:pt x="24601" y="235535"/>
                </a:lnTo>
                <a:lnTo>
                  <a:pt x="18941" y="238303"/>
                </a:lnTo>
                <a:lnTo>
                  <a:pt x="14320" y="240149"/>
                </a:lnTo>
                <a:lnTo>
                  <a:pt x="10394" y="241379"/>
                </a:lnTo>
                <a:lnTo>
                  <a:pt x="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InkAnnotation266"/>
          <p:cNvSpPr/>
          <p:nvPr/>
        </p:nvSpPr>
        <p:spPr>
          <a:xfrm>
            <a:off x="3124080" y="3390840"/>
            <a:ext cx="289080" cy="136440"/>
          </a:xfrm>
          <a:custGeom>
            <a:avLst/>
            <a:gdLst>
              <a:gd name="textAreaLeft" fmla="*/ 0 w 289080"/>
              <a:gd name="textAreaRight" fmla="*/ 289440 w 2890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89561" h="137068">
                <a:moveTo>
                  <a:pt x="0" y="7527"/>
                </a:moveTo>
                <a:lnTo>
                  <a:pt x="4045" y="7527"/>
                </a:lnTo>
                <a:lnTo>
                  <a:pt x="6084" y="6681"/>
                </a:lnTo>
                <a:lnTo>
                  <a:pt x="10606" y="3482"/>
                </a:lnTo>
                <a:lnTo>
                  <a:pt x="13867" y="967"/>
                </a:lnTo>
                <a:lnTo>
                  <a:pt x="19146" y="378"/>
                </a:lnTo>
                <a:lnTo>
                  <a:pt x="27136" y="116"/>
                </a:lnTo>
                <a:lnTo>
                  <a:pt x="36332" y="0"/>
                </a:lnTo>
                <a:lnTo>
                  <a:pt x="41154" y="816"/>
                </a:lnTo>
                <a:lnTo>
                  <a:pt x="46063" y="2206"/>
                </a:lnTo>
                <a:lnTo>
                  <a:pt x="63320" y="8208"/>
                </a:lnTo>
                <a:lnTo>
                  <a:pt x="114438" y="25347"/>
                </a:lnTo>
                <a:lnTo>
                  <a:pt x="122012" y="28720"/>
                </a:lnTo>
                <a:lnTo>
                  <a:pt x="129601" y="32663"/>
                </a:lnTo>
                <a:lnTo>
                  <a:pt x="137201" y="36984"/>
                </a:lnTo>
                <a:lnTo>
                  <a:pt x="143961" y="41558"/>
                </a:lnTo>
                <a:lnTo>
                  <a:pt x="150161" y="46301"/>
                </a:lnTo>
                <a:lnTo>
                  <a:pt x="155987" y="51157"/>
                </a:lnTo>
                <a:lnTo>
                  <a:pt x="162411" y="56087"/>
                </a:lnTo>
                <a:lnTo>
                  <a:pt x="169235" y="61067"/>
                </a:lnTo>
                <a:lnTo>
                  <a:pt x="176323" y="66080"/>
                </a:lnTo>
                <a:lnTo>
                  <a:pt x="182742" y="71116"/>
                </a:lnTo>
                <a:lnTo>
                  <a:pt x="188715" y="76167"/>
                </a:lnTo>
                <a:lnTo>
                  <a:pt x="194390" y="81227"/>
                </a:lnTo>
                <a:lnTo>
                  <a:pt x="200713" y="86294"/>
                </a:lnTo>
                <a:lnTo>
                  <a:pt x="207469" y="91365"/>
                </a:lnTo>
                <a:lnTo>
                  <a:pt x="221748" y="101515"/>
                </a:lnTo>
                <a:lnTo>
                  <a:pt x="236562" y="111671"/>
                </a:lnTo>
                <a:lnTo>
                  <a:pt x="244068" y="115903"/>
                </a:lnTo>
                <a:lnTo>
                  <a:pt x="251612" y="119571"/>
                </a:lnTo>
                <a:lnTo>
                  <a:pt x="259181" y="122863"/>
                </a:lnTo>
                <a:lnTo>
                  <a:pt x="265074" y="125905"/>
                </a:lnTo>
                <a:lnTo>
                  <a:pt x="269850" y="128779"/>
                </a:lnTo>
                <a:lnTo>
                  <a:pt x="273880" y="131542"/>
                </a:lnTo>
                <a:lnTo>
                  <a:pt x="280615" y="134612"/>
                </a:lnTo>
                <a:lnTo>
                  <a:pt x="289560" y="13706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InkAnnotation267"/>
          <p:cNvSpPr/>
          <p:nvPr/>
        </p:nvSpPr>
        <p:spPr>
          <a:xfrm>
            <a:off x="3527280" y="3406680"/>
            <a:ext cx="176400" cy="14400"/>
          </a:xfrm>
          <a:custGeom>
            <a:avLst/>
            <a:gdLst>
              <a:gd name="textAreaLeft" fmla="*/ 0 w 176400"/>
              <a:gd name="textAreaRight" fmla="*/ 176760 w 1764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5261" h="15241">
                <a:moveTo>
                  <a:pt x="0" y="15240"/>
                </a:moveTo>
                <a:lnTo>
                  <a:pt x="33309" y="15240"/>
                </a:lnTo>
                <a:lnTo>
                  <a:pt x="39986" y="14393"/>
                </a:lnTo>
                <a:lnTo>
                  <a:pt x="46977" y="12982"/>
                </a:lnTo>
                <a:lnTo>
                  <a:pt x="54178" y="11195"/>
                </a:lnTo>
                <a:lnTo>
                  <a:pt x="62366" y="10003"/>
                </a:lnTo>
                <a:lnTo>
                  <a:pt x="71210" y="9209"/>
                </a:lnTo>
                <a:lnTo>
                  <a:pt x="80493" y="8679"/>
                </a:lnTo>
                <a:lnTo>
                  <a:pt x="99839" y="8091"/>
                </a:lnTo>
                <a:lnTo>
                  <a:pt x="135809" y="7713"/>
                </a:lnTo>
                <a:lnTo>
                  <a:pt x="143033" y="6835"/>
                </a:lnTo>
                <a:lnTo>
                  <a:pt x="149541" y="5403"/>
                </a:lnTo>
                <a:lnTo>
                  <a:pt x="155574" y="3603"/>
                </a:lnTo>
                <a:lnTo>
                  <a:pt x="160443" y="2402"/>
                </a:lnTo>
                <a:lnTo>
                  <a:pt x="164535" y="1601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InkAnnotation268"/>
          <p:cNvSpPr/>
          <p:nvPr/>
        </p:nvSpPr>
        <p:spPr>
          <a:xfrm>
            <a:off x="3749760" y="3330720"/>
            <a:ext cx="241200" cy="266400"/>
          </a:xfrm>
          <a:custGeom>
            <a:avLst/>
            <a:gdLst>
              <a:gd name="textAreaLeft" fmla="*/ 0 w 241200"/>
              <a:gd name="textAreaRight" fmla="*/ 241560 w 24120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241847" h="266359">
                <a:moveTo>
                  <a:pt x="0" y="14898"/>
                </a:moveTo>
                <a:lnTo>
                  <a:pt x="10605" y="14898"/>
                </a:lnTo>
                <a:lnTo>
                  <a:pt x="17695" y="12640"/>
                </a:lnTo>
                <a:lnTo>
                  <a:pt x="21957" y="10853"/>
                </a:lnTo>
                <a:lnTo>
                  <a:pt x="26491" y="9661"/>
                </a:lnTo>
                <a:lnTo>
                  <a:pt x="31207" y="8867"/>
                </a:lnTo>
                <a:lnTo>
                  <a:pt x="36044" y="8337"/>
                </a:lnTo>
                <a:lnTo>
                  <a:pt x="40963" y="7138"/>
                </a:lnTo>
                <a:lnTo>
                  <a:pt x="45935" y="5491"/>
                </a:lnTo>
                <a:lnTo>
                  <a:pt x="50943" y="3547"/>
                </a:lnTo>
                <a:lnTo>
                  <a:pt x="56822" y="2251"/>
                </a:lnTo>
                <a:lnTo>
                  <a:pt x="63281" y="1386"/>
                </a:lnTo>
                <a:lnTo>
                  <a:pt x="70127" y="810"/>
                </a:lnTo>
                <a:lnTo>
                  <a:pt x="77231" y="426"/>
                </a:lnTo>
                <a:lnTo>
                  <a:pt x="91898" y="0"/>
                </a:lnTo>
                <a:lnTo>
                  <a:pt x="99365" y="733"/>
                </a:lnTo>
                <a:lnTo>
                  <a:pt x="106883" y="2068"/>
                </a:lnTo>
                <a:lnTo>
                  <a:pt x="131857" y="7992"/>
                </a:lnTo>
                <a:lnTo>
                  <a:pt x="141244" y="10294"/>
                </a:lnTo>
                <a:lnTo>
                  <a:pt x="150043" y="12676"/>
                </a:lnTo>
                <a:lnTo>
                  <a:pt x="166592" y="17579"/>
                </a:lnTo>
                <a:lnTo>
                  <a:pt x="190188" y="25100"/>
                </a:lnTo>
                <a:lnTo>
                  <a:pt x="197066" y="27626"/>
                </a:lnTo>
                <a:lnTo>
                  <a:pt x="203343" y="30157"/>
                </a:lnTo>
                <a:lnTo>
                  <a:pt x="209222" y="32691"/>
                </a:lnTo>
                <a:lnTo>
                  <a:pt x="214834" y="36073"/>
                </a:lnTo>
                <a:lnTo>
                  <a:pt x="220269" y="40021"/>
                </a:lnTo>
                <a:lnTo>
                  <a:pt x="225586" y="44347"/>
                </a:lnTo>
                <a:lnTo>
                  <a:pt x="229977" y="48077"/>
                </a:lnTo>
                <a:lnTo>
                  <a:pt x="237114" y="54480"/>
                </a:lnTo>
                <a:lnTo>
                  <a:pt x="239355" y="57373"/>
                </a:lnTo>
                <a:lnTo>
                  <a:pt x="241846" y="62845"/>
                </a:lnTo>
                <a:lnTo>
                  <a:pt x="241664" y="65489"/>
                </a:lnTo>
                <a:lnTo>
                  <a:pt x="240696" y="68099"/>
                </a:lnTo>
                <a:lnTo>
                  <a:pt x="237362" y="74103"/>
                </a:lnTo>
                <a:lnTo>
                  <a:pt x="233058" y="82416"/>
                </a:lnTo>
                <a:lnTo>
                  <a:pt x="226065" y="89497"/>
                </a:lnTo>
                <a:lnTo>
                  <a:pt x="221830" y="92571"/>
                </a:lnTo>
                <a:lnTo>
                  <a:pt x="216466" y="95467"/>
                </a:lnTo>
                <a:lnTo>
                  <a:pt x="210351" y="98244"/>
                </a:lnTo>
                <a:lnTo>
                  <a:pt x="203734" y="100942"/>
                </a:lnTo>
                <a:lnTo>
                  <a:pt x="196782" y="104434"/>
                </a:lnTo>
                <a:lnTo>
                  <a:pt x="189608" y="108455"/>
                </a:lnTo>
                <a:lnTo>
                  <a:pt x="182285" y="112830"/>
                </a:lnTo>
                <a:lnTo>
                  <a:pt x="174863" y="116592"/>
                </a:lnTo>
                <a:lnTo>
                  <a:pt x="167375" y="119947"/>
                </a:lnTo>
                <a:lnTo>
                  <a:pt x="159843" y="123031"/>
                </a:lnTo>
                <a:lnTo>
                  <a:pt x="152282" y="125933"/>
                </a:lnTo>
                <a:lnTo>
                  <a:pt x="137107" y="131416"/>
                </a:lnTo>
                <a:lnTo>
                  <a:pt x="130351" y="133217"/>
                </a:lnTo>
                <a:lnTo>
                  <a:pt x="124153" y="134417"/>
                </a:lnTo>
                <a:lnTo>
                  <a:pt x="118328" y="135218"/>
                </a:lnTo>
                <a:lnTo>
                  <a:pt x="112752" y="135751"/>
                </a:lnTo>
                <a:lnTo>
                  <a:pt x="107341" y="136107"/>
                </a:lnTo>
                <a:lnTo>
                  <a:pt x="102040" y="136344"/>
                </a:lnTo>
                <a:lnTo>
                  <a:pt x="98506" y="137349"/>
                </a:lnTo>
                <a:lnTo>
                  <a:pt x="96151" y="138866"/>
                </a:lnTo>
                <a:lnTo>
                  <a:pt x="92370" y="143337"/>
                </a:lnTo>
                <a:lnTo>
                  <a:pt x="92907" y="144551"/>
                </a:lnTo>
                <a:lnTo>
                  <a:pt x="99850" y="152582"/>
                </a:lnTo>
                <a:lnTo>
                  <a:pt x="102127" y="154948"/>
                </a:lnTo>
                <a:lnTo>
                  <a:pt x="109172" y="159833"/>
                </a:lnTo>
                <a:lnTo>
                  <a:pt x="113421" y="162321"/>
                </a:lnTo>
                <a:lnTo>
                  <a:pt x="118793" y="163981"/>
                </a:lnTo>
                <a:lnTo>
                  <a:pt x="124915" y="165086"/>
                </a:lnTo>
                <a:lnTo>
                  <a:pt x="131537" y="165824"/>
                </a:lnTo>
                <a:lnTo>
                  <a:pt x="138491" y="168009"/>
                </a:lnTo>
                <a:lnTo>
                  <a:pt x="145667" y="171158"/>
                </a:lnTo>
                <a:lnTo>
                  <a:pt x="152991" y="174951"/>
                </a:lnTo>
                <a:lnTo>
                  <a:pt x="158720" y="178327"/>
                </a:lnTo>
                <a:lnTo>
                  <a:pt x="163387" y="181424"/>
                </a:lnTo>
                <a:lnTo>
                  <a:pt x="167344" y="184336"/>
                </a:lnTo>
                <a:lnTo>
                  <a:pt x="171676" y="187970"/>
                </a:lnTo>
                <a:lnTo>
                  <a:pt x="176257" y="192086"/>
                </a:lnTo>
                <a:lnTo>
                  <a:pt x="188537" y="203711"/>
                </a:lnTo>
                <a:lnTo>
                  <a:pt x="191731" y="206813"/>
                </a:lnTo>
                <a:lnTo>
                  <a:pt x="193860" y="209729"/>
                </a:lnTo>
                <a:lnTo>
                  <a:pt x="196226" y="215225"/>
                </a:lnTo>
                <a:lnTo>
                  <a:pt x="196010" y="217029"/>
                </a:lnTo>
                <a:lnTo>
                  <a:pt x="195020" y="218232"/>
                </a:lnTo>
                <a:lnTo>
                  <a:pt x="190815" y="220415"/>
                </a:lnTo>
                <a:lnTo>
                  <a:pt x="183302" y="224208"/>
                </a:lnTo>
                <a:lnTo>
                  <a:pt x="176576" y="228716"/>
                </a:lnTo>
                <a:lnTo>
                  <a:pt x="173597" y="231103"/>
                </a:lnTo>
                <a:lnTo>
                  <a:pt x="169071" y="233542"/>
                </a:lnTo>
                <a:lnTo>
                  <a:pt x="163514" y="236014"/>
                </a:lnTo>
                <a:lnTo>
                  <a:pt x="157269" y="238508"/>
                </a:lnTo>
                <a:lnTo>
                  <a:pt x="143557" y="243538"/>
                </a:lnTo>
                <a:lnTo>
                  <a:pt x="114058" y="253666"/>
                </a:lnTo>
                <a:lnTo>
                  <a:pt x="106519" y="255357"/>
                </a:lnTo>
                <a:lnTo>
                  <a:pt x="98952" y="256484"/>
                </a:lnTo>
                <a:lnTo>
                  <a:pt x="91368" y="257235"/>
                </a:lnTo>
                <a:lnTo>
                  <a:pt x="83771" y="258583"/>
                </a:lnTo>
                <a:lnTo>
                  <a:pt x="76167" y="260328"/>
                </a:lnTo>
                <a:lnTo>
                  <a:pt x="68558" y="262338"/>
                </a:lnTo>
                <a:lnTo>
                  <a:pt x="60945" y="263678"/>
                </a:lnTo>
                <a:lnTo>
                  <a:pt x="53330" y="264571"/>
                </a:lnTo>
                <a:lnTo>
                  <a:pt x="45713" y="265167"/>
                </a:lnTo>
                <a:lnTo>
                  <a:pt x="38942" y="265564"/>
                </a:lnTo>
                <a:lnTo>
                  <a:pt x="26903" y="266005"/>
                </a:lnTo>
                <a:lnTo>
                  <a:pt x="0" y="2663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InkAnnotation269"/>
          <p:cNvSpPr/>
          <p:nvPr/>
        </p:nvSpPr>
        <p:spPr>
          <a:xfrm>
            <a:off x="2324160" y="3382920"/>
            <a:ext cx="220680" cy="15840"/>
          </a:xfrm>
          <a:custGeom>
            <a:avLst/>
            <a:gdLst>
              <a:gd name="textAreaLeft" fmla="*/ 0 w 220680"/>
              <a:gd name="textAreaRight" fmla="*/ 221040 w 2206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0981" h="15140">
                <a:moveTo>
                  <a:pt x="0" y="15139"/>
                </a:moveTo>
                <a:lnTo>
                  <a:pt x="4045" y="15139"/>
                </a:lnTo>
                <a:lnTo>
                  <a:pt x="6930" y="14293"/>
                </a:lnTo>
                <a:lnTo>
                  <a:pt x="10547" y="12881"/>
                </a:lnTo>
                <a:lnTo>
                  <a:pt x="14651" y="11094"/>
                </a:lnTo>
                <a:lnTo>
                  <a:pt x="19081" y="9902"/>
                </a:lnTo>
                <a:lnTo>
                  <a:pt x="23727" y="9108"/>
                </a:lnTo>
                <a:lnTo>
                  <a:pt x="28518" y="8578"/>
                </a:lnTo>
                <a:lnTo>
                  <a:pt x="34252" y="7379"/>
                </a:lnTo>
                <a:lnTo>
                  <a:pt x="40615" y="5732"/>
                </a:lnTo>
                <a:lnTo>
                  <a:pt x="47397" y="3788"/>
                </a:lnTo>
                <a:lnTo>
                  <a:pt x="55304" y="2491"/>
                </a:lnTo>
                <a:lnTo>
                  <a:pt x="63963" y="1627"/>
                </a:lnTo>
                <a:lnTo>
                  <a:pt x="73122" y="1052"/>
                </a:lnTo>
                <a:lnTo>
                  <a:pt x="92330" y="411"/>
                </a:lnTo>
                <a:lnTo>
                  <a:pt x="132256" y="0"/>
                </a:lnTo>
                <a:lnTo>
                  <a:pt x="143204" y="813"/>
                </a:lnTo>
                <a:lnTo>
                  <a:pt x="154736" y="2202"/>
                </a:lnTo>
                <a:lnTo>
                  <a:pt x="166657" y="3974"/>
                </a:lnTo>
                <a:lnTo>
                  <a:pt x="176298" y="5156"/>
                </a:lnTo>
                <a:lnTo>
                  <a:pt x="184419" y="5944"/>
                </a:lnTo>
                <a:lnTo>
                  <a:pt x="191526" y="6469"/>
                </a:lnTo>
                <a:lnTo>
                  <a:pt x="197957" y="7666"/>
                </a:lnTo>
                <a:lnTo>
                  <a:pt x="203938" y="9310"/>
                </a:lnTo>
                <a:lnTo>
                  <a:pt x="220980" y="15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InkAnnotation270"/>
          <p:cNvSpPr/>
          <p:nvPr/>
        </p:nvSpPr>
        <p:spPr>
          <a:xfrm>
            <a:off x="2301840" y="3489480"/>
            <a:ext cx="311040" cy="15840"/>
          </a:xfrm>
          <a:custGeom>
            <a:avLst/>
            <a:gdLst>
              <a:gd name="textAreaLeft" fmla="*/ 0 w 311040"/>
              <a:gd name="textAreaRight" fmla="*/ 311040 w 311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12421" h="15233">
                <a:moveTo>
                  <a:pt x="0" y="15232"/>
                </a:moveTo>
                <a:lnTo>
                  <a:pt x="0" y="11187"/>
                </a:lnTo>
                <a:lnTo>
                  <a:pt x="847" y="9995"/>
                </a:lnTo>
                <a:lnTo>
                  <a:pt x="2258" y="9201"/>
                </a:lnTo>
                <a:lnTo>
                  <a:pt x="4046" y="8672"/>
                </a:lnTo>
                <a:lnTo>
                  <a:pt x="6931" y="8318"/>
                </a:lnTo>
                <a:lnTo>
                  <a:pt x="14652" y="7926"/>
                </a:lnTo>
                <a:lnTo>
                  <a:pt x="32564" y="7705"/>
                </a:lnTo>
                <a:lnTo>
                  <a:pt x="40336" y="6827"/>
                </a:lnTo>
                <a:lnTo>
                  <a:pt x="48904" y="5396"/>
                </a:lnTo>
                <a:lnTo>
                  <a:pt x="58003" y="3595"/>
                </a:lnTo>
                <a:lnTo>
                  <a:pt x="69149" y="2394"/>
                </a:lnTo>
                <a:lnTo>
                  <a:pt x="81659" y="1593"/>
                </a:lnTo>
                <a:lnTo>
                  <a:pt x="107413" y="704"/>
                </a:lnTo>
                <a:lnTo>
                  <a:pt x="142646" y="203"/>
                </a:lnTo>
                <a:lnTo>
                  <a:pt x="242127" y="0"/>
                </a:lnTo>
                <a:lnTo>
                  <a:pt x="253705" y="844"/>
                </a:lnTo>
                <a:lnTo>
                  <a:pt x="264810" y="2253"/>
                </a:lnTo>
                <a:lnTo>
                  <a:pt x="275600" y="4040"/>
                </a:lnTo>
                <a:lnTo>
                  <a:pt x="284487" y="5230"/>
                </a:lnTo>
                <a:lnTo>
                  <a:pt x="292105" y="6024"/>
                </a:lnTo>
                <a:lnTo>
                  <a:pt x="312420" y="76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InkAnnotation271"/>
          <p:cNvSpPr/>
          <p:nvPr/>
        </p:nvSpPr>
        <p:spPr>
          <a:xfrm>
            <a:off x="587520" y="3719520"/>
            <a:ext cx="266400" cy="279360"/>
          </a:xfrm>
          <a:custGeom>
            <a:avLst/>
            <a:gdLst>
              <a:gd name="textAreaLeft" fmla="*/ 0 w 266400"/>
              <a:gd name="textAreaRight" fmla="*/ 266760 w 26640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66294" h="279360">
                <a:moveTo>
                  <a:pt x="14833" y="121333"/>
                </a:moveTo>
                <a:lnTo>
                  <a:pt x="10788" y="121333"/>
                </a:lnTo>
                <a:lnTo>
                  <a:pt x="8750" y="120486"/>
                </a:lnTo>
                <a:lnTo>
                  <a:pt x="966" y="114772"/>
                </a:lnTo>
                <a:lnTo>
                  <a:pt x="508" y="113573"/>
                </a:lnTo>
                <a:lnTo>
                  <a:pt x="0" y="109982"/>
                </a:lnTo>
                <a:lnTo>
                  <a:pt x="2032" y="103306"/>
                </a:lnTo>
                <a:lnTo>
                  <a:pt x="3759" y="99155"/>
                </a:lnTo>
                <a:lnTo>
                  <a:pt x="6603" y="94694"/>
                </a:lnTo>
                <a:lnTo>
                  <a:pt x="10193" y="90027"/>
                </a:lnTo>
                <a:lnTo>
                  <a:pt x="14280" y="85223"/>
                </a:lnTo>
                <a:lnTo>
                  <a:pt x="19544" y="80326"/>
                </a:lnTo>
                <a:lnTo>
                  <a:pt x="25594" y="75369"/>
                </a:lnTo>
                <a:lnTo>
                  <a:pt x="57599" y="51200"/>
                </a:lnTo>
                <a:lnTo>
                  <a:pt x="67050" y="44944"/>
                </a:lnTo>
                <a:lnTo>
                  <a:pt x="76738" y="39081"/>
                </a:lnTo>
                <a:lnTo>
                  <a:pt x="86583" y="33478"/>
                </a:lnTo>
                <a:lnTo>
                  <a:pt x="97380" y="28050"/>
                </a:lnTo>
                <a:lnTo>
                  <a:pt x="108811" y="22737"/>
                </a:lnTo>
                <a:lnTo>
                  <a:pt x="120665" y="17503"/>
                </a:lnTo>
                <a:lnTo>
                  <a:pt x="132801" y="13167"/>
                </a:lnTo>
                <a:lnTo>
                  <a:pt x="145125" y="9429"/>
                </a:lnTo>
                <a:lnTo>
                  <a:pt x="157574" y="6090"/>
                </a:lnTo>
                <a:lnTo>
                  <a:pt x="169261" y="3865"/>
                </a:lnTo>
                <a:lnTo>
                  <a:pt x="180438" y="2381"/>
                </a:lnTo>
                <a:lnTo>
                  <a:pt x="191276" y="1391"/>
                </a:lnTo>
                <a:lnTo>
                  <a:pt x="201042" y="733"/>
                </a:lnTo>
                <a:lnTo>
                  <a:pt x="210092" y="293"/>
                </a:lnTo>
                <a:lnTo>
                  <a:pt x="218666" y="0"/>
                </a:lnTo>
                <a:lnTo>
                  <a:pt x="226075" y="651"/>
                </a:lnTo>
                <a:lnTo>
                  <a:pt x="232708" y="1932"/>
                </a:lnTo>
                <a:lnTo>
                  <a:pt x="238823" y="3632"/>
                </a:lnTo>
                <a:lnTo>
                  <a:pt x="242900" y="5613"/>
                </a:lnTo>
                <a:lnTo>
                  <a:pt x="245617" y="7779"/>
                </a:lnTo>
                <a:lnTo>
                  <a:pt x="247429" y="10071"/>
                </a:lnTo>
                <a:lnTo>
                  <a:pt x="248637" y="14138"/>
                </a:lnTo>
                <a:lnTo>
                  <a:pt x="249442" y="19390"/>
                </a:lnTo>
                <a:lnTo>
                  <a:pt x="249979" y="25431"/>
                </a:lnTo>
                <a:lnTo>
                  <a:pt x="248644" y="31152"/>
                </a:lnTo>
                <a:lnTo>
                  <a:pt x="246060" y="36659"/>
                </a:lnTo>
                <a:lnTo>
                  <a:pt x="242644" y="42023"/>
                </a:lnTo>
                <a:lnTo>
                  <a:pt x="237827" y="48140"/>
                </a:lnTo>
                <a:lnTo>
                  <a:pt x="232076" y="54758"/>
                </a:lnTo>
                <a:lnTo>
                  <a:pt x="225701" y="61710"/>
                </a:lnTo>
                <a:lnTo>
                  <a:pt x="218912" y="69731"/>
                </a:lnTo>
                <a:lnTo>
                  <a:pt x="204595" y="87674"/>
                </a:lnTo>
                <a:lnTo>
                  <a:pt x="195528" y="97201"/>
                </a:lnTo>
                <a:lnTo>
                  <a:pt x="185249" y="106938"/>
                </a:lnTo>
                <a:lnTo>
                  <a:pt x="174164" y="116816"/>
                </a:lnTo>
                <a:lnTo>
                  <a:pt x="152816" y="136824"/>
                </a:lnTo>
                <a:lnTo>
                  <a:pt x="142381" y="146900"/>
                </a:lnTo>
                <a:lnTo>
                  <a:pt x="132885" y="157004"/>
                </a:lnTo>
                <a:lnTo>
                  <a:pt x="124015" y="167127"/>
                </a:lnTo>
                <a:lnTo>
                  <a:pt x="115561" y="177263"/>
                </a:lnTo>
                <a:lnTo>
                  <a:pt x="108231" y="186559"/>
                </a:lnTo>
                <a:lnTo>
                  <a:pt x="101652" y="195297"/>
                </a:lnTo>
                <a:lnTo>
                  <a:pt x="95572" y="203662"/>
                </a:lnTo>
                <a:lnTo>
                  <a:pt x="90673" y="211780"/>
                </a:lnTo>
                <a:lnTo>
                  <a:pt x="86559" y="219731"/>
                </a:lnTo>
                <a:lnTo>
                  <a:pt x="82971" y="227572"/>
                </a:lnTo>
                <a:lnTo>
                  <a:pt x="81425" y="234492"/>
                </a:lnTo>
                <a:lnTo>
                  <a:pt x="81241" y="240799"/>
                </a:lnTo>
                <a:lnTo>
                  <a:pt x="81965" y="246697"/>
                </a:lnTo>
                <a:lnTo>
                  <a:pt x="84141" y="252322"/>
                </a:lnTo>
                <a:lnTo>
                  <a:pt x="87285" y="257766"/>
                </a:lnTo>
                <a:lnTo>
                  <a:pt x="91074" y="263088"/>
                </a:lnTo>
                <a:lnTo>
                  <a:pt x="96141" y="267483"/>
                </a:lnTo>
                <a:lnTo>
                  <a:pt x="102058" y="271260"/>
                </a:lnTo>
                <a:lnTo>
                  <a:pt x="108543" y="274624"/>
                </a:lnTo>
                <a:lnTo>
                  <a:pt x="117100" y="276867"/>
                </a:lnTo>
                <a:lnTo>
                  <a:pt x="127038" y="278362"/>
                </a:lnTo>
                <a:lnTo>
                  <a:pt x="137896" y="279359"/>
                </a:lnTo>
                <a:lnTo>
                  <a:pt x="149368" y="279178"/>
                </a:lnTo>
                <a:lnTo>
                  <a:pt x="161250" y="278209"/>
                </a:lnTo>
                <a:lnTo>
                  <a:pt x="173404" y="276717"/>
                </a:lnTo>
                <a:lnTo>
                  <a:pt x="200456" y="272802"/>
                </a:lnTo>
                <a:lnTo>
                  <a:pt x="214781" y="270572"/>
                </a:lnTo>
                <a:lnTo>
                  <a:pt x="226872" y="268239"/>
                </a:lnTo>
                <a:lnTo>
                  <a:pt x="237472" y="265837"/>
                </a:lnTo>
                <a:lnTo>
                  <a:pt x="266293" y="25849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InkAnnotation272"/>
          <p:cNvSpPr/>
          <p:nvPr/>
        </p:nvSpPr>
        <p:spPr>
          <a:xfrm>
            <a:off x="860400" y="3825720"/>
            <a:ext cx="222120" cy="196920"/>
          </a:xfrm>
          <a:custGeom>
            <a:avLst/>
            <a:gdLst>
              <a:gd name="textAreaLeft" fmla="*/ 0 w 222120"/>
              <a:gd name="textAreaRight" fmla="*/ 222480 w 2221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20981" h="198121">
                <a:moveTo>
                  <a:pt x="220980" y="0"/>
                </a:moveTo>
                <a:lnTo>
                  <a:pt x="216935" y="4045"/>
                </a:lnTo>
                <a:lnTo>
                  <a:pt x="214897" y="5237"/>
                </a:lnTo>
                <a:lnTo>
                  <a:pt x="210374" y="6561"/>
                </a:lnTo>
                <a:lnTo>
                  <a:pt x="207983" y="8607"/>
                </a:lnTo>
                <a:lnTo>
                  <a:pt x="205542" y="11665"/>
                </a:lnTo>
                <a:lnTo>
                  <a:pt x="203068" y="15397"/>
                </a:lnTo>
                <a:lnTo>
                  <a:pt x="198879" y="19578"/>
                </a:lnTo>
                <a:lnTo>
                  <a:pt x="193546" y="24059"/>
                </a:lnTo>
                <a:lnTo>
                  <a:pt x="187451" y="28739"/>
                </a:lnTo>
                <a:lnTo>
                  <a:pt x="180847" y="34399"/>
                </a:lnTo>
                <a:lnTo>
                  <a:pt x="173905" y="40713"/>
                </a:lnTo>
                <a:lnTo>
                  <a:pt x="166736" y="47462"/>
                </a:lnTo>
                <a:lnTo>
                  <a:pt x="160264" y="54501"/>
                </a:lnTo>
                <a:lnTo>
                  <a:pt x="154256" y="61734"/>
                </a:lnTo>
                <a:lnTo>
                  <a:pt x="148557" y="69096"/>
                </a:lnTo>
                <a:lnTo>
                  <a:pt x="142218" y="76544"/>
                </a:lnTo>
                <a:lnTo>
                  <a:pt x="135452" y="84049"/>
                </a:lnTo>
                <a:lnTo>
                  <a:pt x="121161" y="99162"/>
                </a:lnTo>
                <a:lnTo>
                  <a:pt x="106343" y="114345"/>
                </a:lnTo>
                <a:lnTo>
                  <a:pt x="97988" y="121950"/>
                </a:lnTo>
                <a:lnTo>
                  <a:pt x="89032" y="129560"/>
                </a:lnTo>
                <a:lnTo>
                  <a:pt x="79675" y="137174"/>
                </a:lnTo>
                <a:lnTo>
                  <a:pt x="71744" y="144789"/>
                </a:lnTo>
                <a:lnTo>
                  <a:pt x="64762" y="152406"/>
                </a:lnTo>
                <a:lnTo>
                  <a:pt x="58415" y="160024"/>
                </a:lnTo>
                <a:lnTo>
                  <a:pt x="51643" y="165950"/>
                </a:lnTo>
                <a:lnTo>
                  <a:pt x="44589" y="170746"/>
                </a:lnTo>
                <a:lnTo>
                  <a:pt x="37346" y="174791"/>
                </a:lnTo>
                <a:lnTo>
                  <a:pt x="30824" y="179181"/>
                </a:lnTo>
                <a:lnTo>
                  <a:pt x="24783" y="183801"/>
                </a:lnTo>
                <a:lnTo>
                  <a:pt x="19062" y="188574"/>
                </a:lnTo>
                <a:lnTo>
                  <a:pt x="14401" y="191756"/>
                </a:lnTo>
                <a:lnTo>
                  <a:pt x="10448" y="193877"/>
                </a:lnTo>
                <a:lnTo>
                  <a:pt x="0" y="1981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InkAnnotation273"/>
          <p:cNvSpPr/>
          <p:nvPr/>
        </p:nvSpPr>
        <p:spPr>
          <a:xfrm>
            <a:off x="838080" y="3817800"/>
            <a:ext cx="244440" cy="128880"/>
          </a:xfrm>
          <a:custGeom>
            <a:avLst/>
            <a:gdLst>
              <a:gd name="textAreaLeft" fmla="*/ 0 w 244440"/>
              <a:gd name="textAreaRight" fmla="*/ 244800 w 24444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243841" h="129541">
                <a:moveTo>
                  <a:pt x="0" y="0"/>
                </a:moveTo>
                <a:lnTo>
                  <a:pt x="6561" y="6561"/>
                </a:lnTo>
                <a:lnTo>
                  <a:pt x="11665" y="9407"/>
                </a:lnTo>
                <a:lnTo>
                  <a:pt x="15397" y="11352"/>
                </a:lnTo>
                <a:lnTo>
                  <a:pt x="18731" y="13495"/>
                </a:lnTo>
                <a:lnTo>
                  <a:pt x="21801" y="15770"/>
                </a:lnTo>
                <a:lnTo>
                  <a:pt x="24694" y="18133"/>
                </a:lnTo>
                <a:lnTo>
                  <a:pt x="29163" y="21402"/>
                </a:lnTo>
                <a:lnTo>
                  <a:pt x="40901" y="29550"/>
                </a:lnTo>
                <a:lnTo>
                  <a:pt x="61790" y="43657"/>
                </a:lnTo>
                <a:lnTo>
                  <a:pt x="69980" y="48579"/>
                </a:lnTo>
                <a:lnTo>
                  <a:pt x="78826" y="53553"/>
                </a:lnTo>
                <a:lnTo>
                  <a:pt x="88111" y="58562"/>
                </a:lnTo>
                <a:lnTo>
                  <a:pt x="96841" y="64441"/>
                </a:lnTo>
                <a:lnTo>
                  <a:pt x="105201" y="70901"/>
                </a:lnTo>
                <a:lnTo>
                  <a:pt x="113313" y="77747"/>
                </a:lnTo>
                <a:lnTo>
                  <a:pt x="122956" y="84005"/>
                </a:lnTo>
                <a:lnTo>
                  <a:pt x="133617" y="89870"/>
                </a:lnTo>
                <a:lnTo>
                  <a:pt x="144958" y="95473"/>
                </a:lnTo>
                <a:lnTo>
                  <a:pt x="155906" y="100056"/>
                </a:lnTo>
                <a:lnTo>
                  <a:pt x="166590" y="103957"/>
                </a:lnTo>
                <a:lnTo>
                  <a:pt x="177100" y="107405"/>
                </a:lnTo>
                <a:lnTo>
                  <a:pt x="187494" y="110550"/>
                </a:lnTo>
                <a:lnTo>
                  <a:pt x="208073" y="116302"/>
                </a:lnTo>
                <a:lnTo>
                  <a:pt x="216608" y="119022"/>
                </a:lnTo>
                <a:lnTo>
                  <a:pt x="223992" y="121681"/>
                </a:lnTo>
                <a:lnTo>
                  <a:pt x="243840" y="1295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InkAnnotation274"/>
          <p:cNvSpPr/>
          <p:nvPr/>
        </p:nvSpPr>
        <p:spPr>
          <a:xfrm>
            <a:off x="1279440" y="3718080"/>
            <a:ext cx="54000" cy="274320"/>
          </a:xfrm>
          <a:custGeom>
            <a:avLst/>
            <a:gdLst>
              <a:gd name="textAreaLeft" fmla="*/ 0 w 54000"/>
              <a:gd name="textAreaRight" fmla="*/ 54360 w 540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53341" h="274321">
                <a:moveTo>
                  <a:pt x="0" y="0"/>
                </a:moveTo>
                <a:lnTo>
                  <a:pt x="0" y="26003"/>
                </a:lnTo>
                <a:lnTo>
                  <a:pt x="847" y="31729"/>
                </a:lnTo>
                <a:lnTo>
                  <a:pt x="2258" y="37239"/>
                </a:lnTo>
                <a:lnTo>
                  <a:pt x="4045" y="42606"/>
                </a:lnTo>
                <a:lnTo>
                  <a:pt x="5237" y="48724"/>
                </a:lnTo>
                <a:lnTo>
                  <a:pt x="6031" y="55343"/>
                </a:lnTo>
                <a:lnTo>
                  <a:pt x="6561" y="62295"/>
                </a:lnTo>
                <a:lnTo>
                  <a:pt x="6914" y="70317"/>
                </a:lnTo>
                <a:lnTo>
                  <a:pt x="7306" y="88261"/>
                </a:lnTo>
                <a:lnTo>
                  <a:pt x="8257" y="97787"/>
                </a:lnTo>
                <a:lnTo>
                  <a:pt x="9738" y="107525"/>
                </a:lnTo>
                <a:lnTo>
                  <a:pt x="11572" y="117403"/>
                </a:lnTo>
                <a:lnTo>
                  <a:pt x="12795" y="127375"/>
                </a:lnTo>
                <a:lnTo>
                  <a:pt x="13610" y="137410"/>
                </a:lnTo>
                <a:lnTo>
                  <a:pt x="14153" y="147487"/>
                </a:lnTo>
                <a:lnTo>
                  <a:pt x="15362" y="156745"/>
                </a:lnTo>
                <a:lnTo>
                  <a:pt x="17015" y="165456"/>
                </a:lnTo>
                <a:lnTo>
                  <a:pt x="25751" y="201734"/>
                </a:lnTo>
                <a:lnTo>
                  <a:pt x="28174" y="210689"/>
                </a:lnTo>
                <a:lnTo>
                  <a:pt x="33124" y="227413"/>
                </a:lnTo>
                <a:lnTo>
                  <a:pt x="35629" y="234582"/>
                </a:lnTo>
                <a:lnTo>
                  <a:pt x="38146" y="241055"/>
                </a:lnTo>
                <a:lnTo>
                  <a:pt x="40671" y="247063"/>
                </a:lnTo>
                <a:lnTo>
                  <a:pt x="42354" y="252762"/>
                </a:lnTo>
                <a:lnTo>
                  <a:pt x="43476" y="258255"/>
                </a:lnTo>
                <a:lnTo>
                  <a:pt x="44224" y="263610"/>
                </a:lnTo>
                <a:lnTo>
                  <a:pt x="45569" y="267180"/>
                </a:lnTo>
                <a:lnTo>
                  <a:pt x="47313" y="269560"/>
                </a:lnTo>
                <a:lnTo>
                  <a:pt x="53340" y="2743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InkAnnotation275"/>
          <p:cNvSpPr/>
          <p:nvPr/>
        </p:nvSpPr>
        <p:spPr>
          <a:xfrm>
            <a:off x="1203480" y="3855960"/>
            <a:ext cx="152280" cy="14400"/>
          </a:xfrm>
          <a:custGeom>
            <a:avLst/>
            <a:gdLst>
              <a:gd name="textAreaLeft" fmla="*/ 0 w 152280"/>
              <a:gd name="textAreaRight" fmla="*/ 152640 w 1522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2401" h="15241">
                <a:moveTo>
                  <a:pt x="0" y="15240"/>
                </a:moveTo>
                <a:lnTo>
                  <a:pt x="32784" y="15240"/>
                </a:lnTo>
                <a:lnTo>
                  <a:pt x="39636" y="14393"/>
                </a:lnTo>
                <a:lnTo>
                  <a:pt x="46744" y="12983"/>
                </a:lnTo>
                <a:lnTo>
                  <a:pt x="54023" y="11195"/>
                </a:lnTo>
                <a:lnTo>
                  <a:pt x="63109" y="10004"/>
                </a:lnTo>
                <a:lnTo>
                  <a:pt x="73399" y="9209"/>
                </a:lnTo>
                <a:lnTo>
                  <a:pt x="84493" y="8679"/>
                </a:lnTo>
                <a:lnTo>
                  <a:pt x="95275" y="7480"/>
                </a:lnTo>
                <a:lnTo>
                  <a:pt x="105850" y="5833"/>
                </a:lnTo>
                <a:lnTo>
                  <a:pt x="116287" y="3889"/>
                </a:lnTo>
                <a:lnTo>
                  <a:pt x="124938" y="2593"/>
                </a:lnTo>
                <a:lnTo>
                  <a:pt x="132399" y="1728"/>
                </a:lnTo>
                <a:lnTo>
                  <a:pt x="1524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InkAnnotation276"/>
          <p:cNvSpPr/>
          <p:nvPr/>
        </p:nvSpPr>
        <p:spPr>
          <a:xfrm>
            <a:off x="1486080" y="3711600"/>
            <a:ext cx="29880" cy="250920"/>
          </a:xfrm>
          <a:custGeom>
            <a:avLst/>
            <a:gdLst>
              <a:gd name="textAreaLeft" fmla="*/ 0 w 29880"/>
              <a:gd name="textAreaRight" fmla="*/ 30240 w 298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0388" h="251461">
                <a:moveTo>
                  <a:pt x="7527" y="0"/>
                </a:moveTo>
                <a:lnTo>
                  <a:pt x="7527" y="13867"/>
                </a:lnTo>
                <a:lnTo>
                  <a:pt x="6680" y="16018"/>
                </a:lnTo>
                <a:lnTo>
                  <a:pt x="5269" y="19146"/>
                </a:lnTo>
                <a:lnTo>
                  <a:pt x="3482" y="22924"/>
                </a:lnTo>
                <a:lnTo>
                  <a:pt x="2290" y="27983"/>
                </a:lnTo>
                <a:lnTo>
                  <a:pt x="1496" y="33895"/>
                </a:lnTo>
                <a:lnTo>
                  <a:pt x="966" y="40377"/>
                </a:lnTo>
                <a:lnTo>
                  <a:pt x="613" y="47238"/>
                </a:lnTo>
                <a:lnTo>
                  <a:pt x="221" y="61634"/>
                </a:lnTo>
                <a:lnTo>
                  <a:pt x="0" y="88065"/>
                </a:lnTo>
                <a:lnTo>
                  <a:pt x="816" y="97657"/>
                </a:lnTo>
                <a:lnTo>
                  <a:pt x="2206" y="107438"/>
                </a:lnTo>
                <a:lnTo>
                  <a:pt x="3980" y="117345"/>
                </a:lnTo>
                <a:lnTo>
                  <a:pt x="5162" y="127337"/>
                </a:lnTo>
                <a:lnTo>
                  <a:pt x="5951" y="137384"/>
                </a:lnTo>
                <a:lnTo>
                  <a:pt x="6476" y="147470"/>
                </a:lnTo>
                <a:lnTo>
                  <a:pt x="7673" y="156733"/>
                </a:lnTo>
                <a:lnTo>
                  <a:pt x="9318" y="165449"/>
                </a:lnTo>
                <a:lnTo>
                  <a:pt x="11261" y="173799"/>
                </a:lnTo>
                <a:lnTo>
                  <a:pt x="12556" y="181906"/>
                </a:lnTo>
                <a:lnTo>
                  <a:pt x="13420" y="189851"/>
                </a:lnTo>
                <a:lnTo>
                  <a:pt x="13996" y="197688"/>
                </a:lnTo>
                <a:lnTo>
                  <a:pt x="15226" y="205452"/>
                </a:lnTo>
                <a:lnTo>
                  <a:pt x="16893" y="213168"/>
                </a:lnTo>
                <a:lnTo>
                  <a:pt x="18851" y="220852"/>
                </a:lnTo>
                <a:lnTo>
                  <a:pt x="20157" y="226821"/>
                </a:lnTo>
                <a:lnTo>
                  <a:pt x="21027" y="231648"/>
                </a:lnTo>
                <a:lnTo>
                  <a:pt x="21607" y="235712"/>
                </a:lnTo>
                <a:lnTo>
                  <a:pt x="22840" y="239268"/>
                </a:lnTo>
                <a:lnTo>
                  <a:pt x="24510" y="242485"/>
                </a:lnTo>
                <a:lnTo>
                  <a:pt x="30387" y="2514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InkAnnotation277"/>
          <p:cNvSpPr/>
          <p:nvPr/>
        </p:nvSpPr>
        <p:spPr>
          <a:xfrm>
            <a:off x="1531800" y="3718080"/>
            <a:ext cx="274680" cy="198360"/>
          </a:xfrm>
          <a:custGeom>
            <a:avLst/>
            <a:gdLst>
              <a:gd name="textAreaLeft" fmla="*/ 0 w 274680"/>
              <a:gd name="textAreaRight" fmla="*/ 275040 w 2746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74228" h="197999">
                <a:moveTo>
                  <a:pt x="7527" y="15231"/>
                </a:moveTo>
                <a:lnTo>
                  <a:pt x="221" y="7925"/>
                </a:lnTo>
                <a:lnTo>
                  <a:pt x="0" y="3659"/>
                </a:lnTo>
                <a:lnTo>
                  <a:pt x="816" y="2436"/>
                </a:lnTo>
                <a:lnTo>
                  <a:pt x="2206" y="1621"/>
                </a:lnTo>
                <a:lnTo>
                  <a:pt x="3980" y="1078"/>
                </a:lnTo>
                <a:lnTo>
                  <a:pt x="10466" y="474"/>
                </a:lnTo>
                <a:lnTo>
                  <a:pt x="14566" y="313"/>
                </a:lnTo>
                <a:lnTo>
                  <a:pt x="32473" y="87"/>
                </a:lnTo>
                <a:lnTo>
                  <a:pt x="80336" y="0"/>
                </a:lnTo>
                <a:lnTo>
                  <a:pt x="89086" y="844"/>
                </a:lnTo>
                <a:lnTo>
                  <a:pt x="97460" y="2253"/>
                </a:lnTo>
                <a:lnTo>
                  <a:pt x="105582" y="4039"/>
                </a:lnTo>
                <a:lnTo>
                  <a:pt x="113537" y="6077"/>
                </a:lnTo>
                <a:lnTo>
                  <a:pt x="121380" y="8281"/>
                </a:lnTo>
                <a:lnTo>
                  <a:pt x="129149" y="10598"/>
                </a:lnTo>
                <a:lnTo>
                  <a:pt x="136022" y="12989"/>
                </a:lnTo>
                <a:lnTo>
                  <a:pt x="142297" y="15429"/>
                </a:lnTo>
                <a:lnTo>
                  <a:pt x="148174" y="17904"/>
                </a:lnTo>
                <a:lnTo>
                  <a:pt x="153785" y="21246"/>
                </a:lnTo>
                <a:lnTo>
                  <a:pt x="159219" y="25168"/>
                </a:lnTo>
                <a:lnTo>
                  <a:pt x="164535" y="29476"/>
                </a:lnTo>
                <a:lnTo>
                  <a:pt x="168079" y="33194"/>
                </a:lnTo>
                <a:lnTo>
                  <a:pt x="170442" y="36520"/>
                </a:lnTo>
                <a:lnTo>
                  <a:pt x="173067" y="42473"/>
                </a:lnTo>
                <a:lnTo>
                  <a:pt x="174234" y="47941"/>
                </a:lnTo>
                <a:lnTo>
                  <a:pt x="173698" y="51431"/>
                </a:lnTo>
                <a:lnTo>
                  <a:pt x="172495" y="55451"/>
                </a:lnTo>
                <a:lnTo>
                  <a:pt x="170846" y="59824"/>
                </a:lnTo>
                <a:lnTo>
                  <a:pt x="168053" y="64433"/>
                </a:lnTo>
                <a:lnTo>
                  <a:pt x="164498" y="69199"/>
                </a:lnTo>
                <a:lnTo>
                  <a:pt x="160434" y="74070"/>
                </a:lnTo>
                <a:lnTo>
                  <a:pt x="156032" y="79010"/>
                </a:lnTo>
                <a:lnTo>
                  <a:pt x="146625" y="89015"/>
                </a:lnTo>
                <a:lnTo>
                  <a:pt x="140899" y="94054"/>
                </a:lnTo>
                <a:lnTo>
                  <a:pt x="134542" y="99106"/>
                </a:lnTo>
                <a:lnTo>
                  <a:pt x="127763" y="104168"/>
                </a:lnTo>
                <a:lnTo>
                  <a:pt x="121552" y="109236"/>
                </a:lnTo>
                <a:lnTo>
                  <a:pt x="115717" y="114307"/>
                </a:lnTo>
                <a:lnTo>
                  <a:pt x="110134" y="119382"/>
                </a:lnTo>
                <a:lnTo>
                  <a:pt x="99415" y="129536"/>
                </a:lnTo>
                <a:lnTo>
                  <a:pt x="94185" y="134614"/>
                </a:lnTo>
                <a:lnTo>
                  <a:pt x="89853" y="139693"/>
                </a:lnTo>
                <a:lnTo>
                  <a:pt x="86118" y="144773"/>
                </a:lnTo>
                <a:lnTo>
                  <a:pt x="82781" y="149852"/>
                </a:lnTo>
                <a:lnTo>
                  <a:pt x="80556" y="154085"/>
                </a:lnTo>
                <a:lnTo>
                  <a:pt x="79073" y="157754"/>
                </a:lnTo>
                <a:lnTo>
                  <a:pt x="78084" y="161047"/>
                </a:lnTo>
                <a:lnTo>
                  <a:pt x="79119" y="164088"/>
                </a:lnTo>
                <a:lnTo>
                  <a:pt x="81502" y="166962"/>
                </a:lnTo>
                <a:lnTo>
                  <a:pt x="84783" y="169725"/>
                </a:lnTo>
                <a:lnTo>
                  <a:pt x="88665" y="173261"/>
                </a:lnTo>
                <a:lnTo>
                  <a:pt x="97493" y="181704"/>
                </a:lnTo>
                <a:lnTo>
                  <a:pt x="103064" y="184633"/>
                </a:lnTo>
                <a:lnTo>
                  <a:pt x="109319" y="186586"/>
                </a:lnTo>
                <a:lnTo>
                  <a:pt x="116028" y="187888"/>
                </a:lnTo>
                <a:lnTo>
                  <a:pt x="132514" y="191592"/>
                </a:lnTo>
                <a:lnTo>
                  <a:pt x="141652" y="193765"/>
                </a:lnTo>
                <a:lnTo>
                  <a:pt x="151131" y="195213"/>
                </a:lnTo>
                <a:lnTo>
                  <a:pt x="160836" y="196179"/>
                </a:lnTo>
                <a:lnTo>
                  <a:pt x="170693" y="196823"/>
                </a:lnTo>
                <a:lnTo>
                  <a:pt x="180651" y="197252"/>
                </a:lnTo>
                <a:lnTo>
                  <a:pt x="200747" y="197729"/>
                </a:lnTo>
                <a:lnTo>
                  <a:pt x="227055" y="197998"/>
                </a:lnTo>
                <a:lnTo>
                  <a:pt x="235159" y="197189"/>
                </a:lnTo>
                <a:lnTo>
                  <a:pt x="243102" y="195803"/>
                </a:lnTo>
                <a:lnTo>
                  <a:pt x="250937" y="194032"/>
                </a:lnTo>
                <a:lnTo>
                  <a:pt x="257007" y="192852"/>
                </a:lnTo>
                <a:lnTo>
                  <a:pt x="261901" y="192065"/>
                </a:lnTo>
                <a:lnTo>
                  <a:pt x="274227" y="1904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InkAnnotation278"/>
          <p:cNvSpPr/>
          <p:nvPr/>
        </p:nvSpPr>
        <p:spPr>
          <a:xfrm>
            <a:off x="2087640" y="3855960"/>
            <a:ext cx="214200" cy="14400"/>
          </a:xfrm>
          <a:custGeom>
            <a:avLst/>
            <a:gdLst>
              <a:gd name="textAreaLeft" fmla="*/ 0 w 214200"/>
              <a:gd name="textAreaRight" fmla="*/ 214560 w 214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13361" h="15241">
                <a:moveTo>
                  <a:pt x="0" y="15240"/>
                </a:moveTo>
                <a:lnTo>
                  <a:pt x="4045" y="11195"/>
                </a:lnTo>
                <a:lnTo>
                  <a:pt x="6084" y="10004"/>
                </a:lnTo>
                <a:lnTo>
                  <a:pt x="8289" y="9209"/>
                </a:lnTo>
                <a:lnTo>
                  <a:pt x="10606" y="8679"/>
                </a:lnTo>
                <a:lnTo>
                  <a:pt x="14691" y="7480"/>
                </a:lnTo>
                <a:lnTo>
                  <a:pt x="26002" y="3889"/>
                </a:lnTo>
                <a:lnTo>
                  <a:pt x="32575" y="2593"/>
                </a:lnTo>
                <a:lnTo>
                  <a:pt x="39497" y="1728"/>
                </a:lnTo>
                <a:lnTo>
                  <a:pt x="46651" y="1152"/>
                </a:lnTo>
                <a:lnTo>
                  <a:pt x="55654" y="768"/>
                </a:lnTo>
                <a:lnTo>
                  <a:pt x="76946" y="342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InkAnnotation279"/>
          <p:cNvSpPr/>
          <p:nvPr/>
        </p:nvSpPr>
        <p:spPr>
          <a:xfrm>
            <a:off x="2125800" y="3954600"/>
            <a:ext cx="182520" cy="7920"/>
          </a:xfrm>
          <a:custGeom>
            <a:avLst/>
            <a:gdLst>
              <a:gd name="textAreaLeft" fmla="*/ 0 w 182520"/>
              <a:gd name="textAreaRight" fmla="*/ 182880 w 182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82881" h="7613">
                <a:moveTo>
                  <a:pt x="0" y="0"/>
                </a:moveTo>
                <a:lnTo>
                  <a:pt x="8091" y="4045"/>
                </a:lnTo>
                <a:lnTo>
                  <a:pt x="11320" y="5237"/>
                </a:lnTo>
                <a:lnTo>
                  <a:pt x="14320" y="6031"/>
                </a:lnTo>
                <a:lnTo>
                  <a:pt x="17167" y="6561"/>
                </a:lnTo>
                <a:lnTo>
                  <a:pt x="21605" y="6914"/>
                </a:lnTo>
                <a:lnTo>
                  <a:pt x="27103" y="7149"/>
                </a:lnTo>
                <a:lnTo>
                  <a:pt x="39985" y="7411"/>
                </a:lnTo>
                <a:lnTo>
                  <a:pt x="120346" y="7612"/>
                </a:lnTo>
                <a:lnTo>
                  <a:pt x="130184" y="6768"/>
                </a:lnTo>
                <a:lnTo>
                  <a:pt x="138436" y="5359"/>
                </a:lnTo>
                <a:lnTo>
                  <a:pt x="145631" y="3573"/>
                </a:lnTo>
                <a:lnTo>
                  <a:pt x="152967" y="2382"/>
                </a:lnTo>
                <a:lnTo>
                  <a:pt x="160398" y="1588"/>
                </a:lnTo>
                <a:lnTo>
                  <a:pt x="1828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InkAnnotation280"/>
          <p:cNvSpPr/>
          <p:nvPr/>
        </p:nvSpPr>
        <p:spPr>
          <a:xfrm>
            <a:off x="2448000" y="3711600"/>
            <a:ext cx="317520" cy="287280"/>
          </a:xfrm>
          <a:custGeom>
            <a:avLst/>
            <a:gdLst>
              <a:gd name="textAreaLeft" fmla="*/ 0 w 317520"/>
              <a:gd name="textAreaRight" fmla="*/ 317880 w 3175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17364" h="287930">
                <a:moveTo>
                  <a:pt x="143170" y="0"/>
                </a:moveTo>
                <a:lnTo>
                  <a:pt x="135578" y="0"/>
                </a:lnTo>
                <a:lnTo>
                  <a:pt x="135558" y="4045"/>
                </a:lnTo>
                <a:lnTo>
                  <a:pt x="134709" y="5237"/>
                </a:lnTo>
                <a:lnTo>
                  <a:pt x="133296" y="6031"/>
                </a:lnTo>
                <a:lnTo>
                  <a:pt x="131507" y="6561"/>
                </a:lnTo>
                <a:lnTo>
                  <a:pt x="127262" y="9407"/>
                </a:lnTo>
                <a:lnTo>
                  <a:pt x="117638" y="18133"/>
                </a:lnTo>
                <a:lnTo>
                  <a:pt x="110374" y="23017"/>
                </a:lnTo>
                <a:lnTo>
                  <a:pt x="106066" y="25505"/>
                </a:lnTo>
                <a:lnTo>
                  <a:pt x="99021" y="32785"/>
                </a:lnTo>
                <a:lnTo>
                  <a:pt x="95958" y="37096"/>
                </a:lnTo>
                <a:lnTo>
                  <a:pt x="91375" y="40817"/>
                </a:lnTo>
                <a:lnTo>
                  <a:pt x="85780" y="44145"/>
                </a:lnTo>
                <a:lnTo>
                  <a:pt x="46859" y="63408"/>
                </a:lnTo>
                <a:lnTo>
                  <a:pt x="38841" y="68539"/>
                </a:lnTo>
                <a:lnTo>
                  <a:pt x="31608" y="73642"/>
                </a:lnTo>
                <a:lnTo>
                  <a:pt x="22749" y="78732"/>
                </a:lnTo>
                <a:lnTo>
                  <a:pt x="15425" y="83816"/>
                </a:lnTo>
                <a:lnTo>
                  <a:pt x="6542" y="91439"/>
                </a:lnTo>
                <a:lnTo>
                  <a:pt x="0" y="97555"/>
                </a:lnTo>
                <a:lnTo>
                  <a:pt x="310" y="98903"/>
                </a:lnTo>
                <a:lnTo>
                  <a:pt x="5092" y="105489"/>
                </a:lnTo>
                <a:lnTo>
                  <a:pt x="12375" y="106151"/>
                </a:lnTo>
                <a:lnTo>
                  <a:pt x="17874" y="106327"/>
                </a:lnTo>
                <a:lnTo>
                  <a:pt x="23233" y="107292"/>
                </a:lnTo>
                <a:lnTo>
                  <a:pt x="28498" y="108781"/>
                </a:lnTo>
                <a:lnTo>
                  <a:pt x="33702" y="110621"/>
                </a:lnTo>
                <a:lnTo>
                  <a:pt x="40558" y="111847"/>
                </a:lnTo>
                <a:lnTo>
                  <a:pt x="48515" y="112665"/>
                </a:lnTo>
                <a:lnTo>
                  <a:pt x="57207" y="113210"/>
                </a:lnTo>
                <a:lnTo>
                  <a:pt x="66388" y="114420"/>
                </a:lnTo>
                <a:lnTo>
                  <a:pt x="75895" y="116073"/>
                </a:lnTo>
                <a:lnTo>
                  <a:pt x="156392" y="132184"/>
                </a:lnTo>
                <a:lnTo>
                  <a:pt x="168918" y="135536"/>
                </a:lnTo>
                <a:lnTo>
                  <a:pt x="181502" y="139464"/>
                </a:lnTo>
                <a:lnTo>
                  <a:pt x="194124" y="143776"/>
                </a:lnTo>
                <a:lnTo>
                  <a:pt x="205926" y="148344"/>
                </a:lnTo>
                <a:lnTo>
                  <a:pt x="217181" y="153083"/>
                </a:lnTo>
                <a:lnTo>
                  <a:pt x="228071" y="157935"/>
                </a:lnTo>
                <a:lnTo>
                  <a:pt x="249202" y="167842"/>
                </a:lnTo>
                <a:lnTo>
                  <a:pt x="259578" y="172855"/>
                </a:lnTo>
                <a:lnTo>
                  <a:pt x="269035" y="177890"/>
                </a:lnTo>
                <a:lnTo>
                  <a:pt x="277880" y="182940"/>
                </a:lnTo>
                <a:lnTo>
                  <a:pt x="286317" y="188000"/>
                </a:lnTo>
                <a:lnTo>
                  <a:pt x="293635" y="193067"/>
                </a:lnTo>
                <a:lnTo>
                  <a:pt x="300207" y="198138"/>
                </a:lnTo>
                <a:lnTo>
                  <a:pt x="306281" y="203212"/>
                </a:lnTo>
                <a:lnTo>
                  <a:pt x="310331" y="209135"/>
                </a:lnTo>
                <a:lnTo>
                  <a:pt x="313031" y="215623"/>
                </a:lnTo>
                <a:lnTo>
                  <a:pt x="314830" y="222489"/>
                </a:lnTo>
                <a:lnTo>
                  <a:pt x="316030" y="227913"/>
                </a:lnTo>
                <a:lnTo>
                  <a:pt x="317363" y="236197"/>
                </a:lnTo>
                <a:lnTo>
                  <a:pt x="316026" y="240438"/>
                </a:lnTo>
                <a:lnTo>
                  <a:pt x="313441" y="244958"/>
                </a:lnTo>
                <a:lnTo>
                  <a:pt x="310024" y="249666"/>
                </a:lnTo>
                <a:lnTo>
                  <a:pt x="306052" y="254497"/>
                </a:lnTo>
                <a:lnTo>
                  <a:pt x="301712" y="259411"/>
                </a:lnTo>
                <a:lnTo>
                  <a:pt x="297125" y="264381"/>
                </a:lnTo>
                <a:lnTo>
                  <a:pt x="287512" y="272160"/>
                </a:lnTo>
                <a:lnTo>
                  <a:pt x="282578" y="275421"/>
                </a:lnTo>
                <a:lnTo>
                  <a:pt x="275902" y="278441"/>
                </a:lnTo>
                <a:lnTo>
                  <a:pt x="268065" y="281300"/>
                </a:lnTo>
                <a:lnTo>
                  <a:pt x="259453" y="284053"/>
                </a:lnTo>
                <a:lnTo>
                  <a:pt x="251172" y="285889"/>
                </a:lnTo>
                <a:lnTo>
                  <a:pt x="243112" y="287113"/>
                </a:lnTo>
                <a:lnTo>
                  <a:pt x="235198" y="287929"/>
                </a:lnTo>
                <a:lnTo>
                  <a:pt x="226535" y="287626"/>
                </a:lnTo>
                <a:lnTo>
                  <a:pt x="217373" y="286578"/>
                </a:lnTo>
                <a:lnTo>
                  <a:pt x="207879" y="285032"/>
                </a:lnTo>
                <a:lnTo>
                  <a:pt x="198162" y="283155"/>
                </a:lnTo>
                <a:lnTo>
                  <a:pt x="178336" y="278811"/>
                </a:lnTo>
                <a:lnTo>
                  <a:pt x="168307" y="275621"/>
                </a:lnTo>
                <a:lnTo>
                  <a:pt x="158235" y="271800"/>
                </a:lnTo>
                <a:lnTo>
                  <a:pt x="148133" y="267560"/>
                </a:lnTo>
                <a:lnTo>
                  <a:pt x="140552" y="263887"/>
                </a:lnTo>
                <a:lnTo>
                  <a:pt x="134651" y="260591"/>
                </a:lnTo>
                <a:lnTo>
                  <a:pt x="120310" y="2514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InkAnnotation281"/>
          <p:cNvSpPr/>
          <p:nvPr/>
        </p:nvSpPr>
        <p:spPr>
          <a:xfrm>
            <a:off x="2468520" y="3703680"/>
            <a:ext cx="258840" cy="14400"/>
          </a:xfrm>
          <a:custGeom>
            <a:avLst/>
            <a:gdLst>
              <a:gd name="textAreaLeft" fmla="*/ 0 w 258840"/>
              <a:gd name="textAreaRight" fmla="*/ 259200 w 258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59081" h="15213">
                <a:moveTo>
                  <a:pt x="0" y="15212"/>
                </a:moveTo>
                <a:lnTo>
                  <a:pt x="4045" y="11167"/>
                </a:lnTo>
                <a:lnTo>
                  <a:pt x="6084" y="9975"/>
                </a:lnTo>
                <a:lnTo>
                  <a:pt x="8289" y="9181"/>
                </a:lnTo>
                <a:lnTo>
                  <a:pt x="13867" y="7906"/>
                </a:lnTo>
                <a:lnTo>
                  <a:pt x="26969" y="3640"/>
                </a:lnTo>
                <a:lnTo>
                  <a:pt x="33219" y="2417"/>
                </a:lnTo>
                <a:lnTo>
                  <a:pt x="39926" y="1602"/>
                </a:lnTo>
                <a:lnTo>
                  <a:pt x="46937" y="1059"/>
                </a:lnTo>
                <a:lnTo>
                  <a:pt x="55845" y="696"/>
                </a:lnTo>
                <a:lnTo>
                  <a:pt x="77031" y="294"/>
                </a:lnTo>
                <a:lnTo>
                  <a:pt x="154201" y="0"/>
                </a:lnTo>
                <a:lnTo>
                  <a:pt x="168841" y="838"/>
                </a:lnTo>
                <a:lnTo>
                  <a:pt x="183680" y="2242"/>
                </a:lnTo>
                <a:lnTo>
                  <a:pt x="198654" y="4026"/>
                </a:lnTo>
                <a:lnTo>
                  <a:pt x="212023" y="5214"/>
                </a:lnTo>
                <a:lnTo>
                  <a:pt x="224322" y="6007"/>
                </a:lnTo>
                <a:lnTo>
                  <a:pt x="259080" y="75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InkAnnotation282"/>
          <p:cNvSpPr/>
          <p:nvPr/>
        </p:nvSpPr>
        <p:spPr>
          <a:xfrm>
            <a:off x="2865600" y="3780000"/>
            <a:ext cx="198360" cy="236520"/>
          </a:xfrm>
          <a:custGeom>
            <a:avLst/>
            <a:gdLst>
              <a:gd name="textAreaLeft" fmla="*/ 0 w 198360"/>
              <a:gd name="textAreaRight" fmla="*/ 198720 w 1983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98121" h="236221">
                <a:moveTo>
                  <a:pt x="198120" y="0"/>
                </a:moveTo>
                <a:lnTo>
                  <a:pt x="198120" y="4045"/>
                </a:lnTo>
                <a:lnTo>
                  <a:pt x="195863" y="10547"/>
                </a:lnTo>
                <a:lnTo>
                  <a:pt x="194075" y="14651"/>
                </a:lnTo>
                <a:lnTo>
                  <a:pt x="192089" y="21470"/>
                </a:lnTo>
                <a:lnTo>
                  <a:pt x="191206" y="28169"/>
                </a:lnTo>
                <a:lnTo>
                  <a:pt x="190971" y="32326"/>
                </a:lnTo>
                <a:lnTo>
                  <a:pt x="190814" y="36791"/>
                </a:lnTo>
                <a:lnTo>
                  <a:pt x="189016" y="42307"/>
                </a:lnTo>
                <a:lnTo>
                  <a:pt x="186124" y="48525"/>
                </a:lnTo>
                <a:lnTo>
                  <a:pt x="182503" y="55210"/>
                </a:lnTo>
                <a:lnTo>
                  <a:pt x="178395" y="62207"/>
                </a:lnTo>
                <a:lnTo>
                  <a:pt x="169316" y="76754"/>
                </a:lnTo>
                <a:lnTo>
                  <a:pt x="154684" y="99224"/>
                </a:lnTo>
                <a:lnTo>
                  <a:pt x="142408" y="116631"/>
                </a:lnTo>
                <a:lnTo>
                  <a:pt x="135579" y="126014"/>
                </a:lnTo>
                <a:lnTo>
                  <a:pt x="128486" y="134810"/>
                </a:lnTo>
                <a:lnTo>
                  <a:pt x="121217" y="143213"/>
                </a:lnTo>
                <a:lnTo>
                  <a:pt x="113832" y="151355"/>
                </a:lnTo>
                <a:lnTo>
                  <a:pt x="106368" y="158477"/>
                </a:lnTo>
                <a:lnTo>
                  <a:pt x="98852" y="164918"/>
                </a:lnTo>
                <a:lnTo>
                  <a:pt x="82881" y="177437"/>
                </a:lnTo>
                <a:lnTo>
                  <a:pt x="64494" y="191467"/>
                </a:lnTo>
                <a:lnTo>
                  <a:pt x="47291" y="203912"/>
                </a:lnTo>
                <a:lnTo>
                  <a:pt x="39147" y="209602"/>
                </a:lnTo>
                <a:lnTo>
                  <a:pt x="32871" y="214241"/>
                </a:lnTo>
                <a:lnTo>
                  <a:pt x="27841" y="218181"/>
                </a:lnTo>
                <a:lnTo>
                  <a:pt x="23641" y="221654"/>
                </a:lnTo>
                <a:lnTo>
                  <a:pt x="19147" y="224816"/>
                </a:lnTo>
                <a:lnTo>
                  <a:pt x="14458" y="227771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InkAnnotation283"/>
          <p:cNvSpPr/>
          <p:nvPr/>
        </p:nvSpPr>
        <p:spPr>
          <a:xfrm>
            <a:off x="2827440" y="3840120"/>
            <a:ext cx="198360" cy="38160"/>
          </a:xfrm>
          <a:custGeom>
            <a:avLst/>
            <a:gdLst>
              <a:gd name="textAreaLeft" fmla="*/ 0 w 198360"/>
              <a:gd name="textAreaRight" fmla="*/ 198720 w 1983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8121" h="38101">
                <a:moveTo>
                  <a:pt x="0" y="0"/>
                </a:moveTo>
                <a:lnTo>
                  <a:pt x="4046" y="0"/>
                </a:lnTo>
                <a:lnTo>
                  <a:pt x="5237" y="847"/>
                </a:lnTo>
                <a:lnTo>
                  <a:pt x="6031" y="2258"/>
                </a:lnTo>
                <a:lnTo>
                  <a:pt x="6561" y="4045"/>
                </a:lnTo>
                <a:lnTo>
                  <a:pt x="7760" y="5236"/>
                </a:lnTo>
                <a:lnTo>
                  <a:pt x="9407" y="6031"/>
                </a:lnTo>
                <a:lnTo>
                  <a:pt x="11352" y="6561"/>
                </a:lnTo>
                <a:lnTo>
                  <a:pt x="14341" y="7760"/>
                </a:lnTo>
                <a:lnTo>
                  <a:pt x="18027" y="9407"/>
                </a:lnTo>
                <a:lnTo>
                  <a:pt x="22178" y="11352"/>
                </a:lnTo>
                <a:lnTo>
                  <a:pt x="27486" y="13494"/>
                </a:lnTo>
                <a:lnTo>
                  <a:pt x="40156" y="18133"/>
                </a:lnTo>
                <a:lnTo>
                  <a:pt x="47937" y="19709"/>
                </a:lnTo>
                <a:lnTo>
                  <a:pt x="56511" y="20759"/>
                </a:lnTo>
                <a:lnTo>
                  <a:pt x="65614" y="21459"/>
                </a:lnTo>
                <a:lnTo>
                  <a:pt x="75070" y="22773"/>
                </a:lnTo>
                <a:lnTo>
                  <a:pt x="84760" y="24495"/>
                </a:lnTo>
                <a:lnTo>
                  <a:pt x="128691" y="33343"/>
                </a:lnTo>
                <a:lnTo>
                  <a:pt x="139134" y="34928"/>
                </a:lnTo>
                <a:lnTo>
                  <a:pt x="148636" y="35986"/>
                </a:lnTo>
                <a:lnTo>
                  <a:pt x="157511" y="36690"/>
                </a:lnTo>
                <a:lnTo>
                  <a:pt x="165967" y="37160"/>
                </a:lnTo>
                <a:lnTo>
                  <a:pt x="198120" y="381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InkAnnotation284"/>
          <p:cNvSpPr/>
          <p:nvPr/>
        </p:nvSpPr>
        <p:spPr>
          <a:xfrm>
            <a:off x="3238560" y="3840120"/>
            <a:ext cx="228600" cy="15840"/>
          </a:xfrm>
          <a:custGeom>
            <a:avLst/>
            <a:gdLst>
              <a:gd name="textAreaLeft" fmla="*/ 0 w 228600"/>
              <a:gd name="textAreaRight" fmla="*/ 228960 w 228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28601" h="15241">
                <a:moveTo>
                  <a:pt x="0" y="15240"/>
                </a:moveTo>
                <a:lnTo>
                  <a:pt x="17167" y="15240"/>
                </a:lnTo>
                <a:lnTo>
                  <a:pt x="21605" y="14394"/>
                </a:lnTo>
                <a:lnTo>
                  <a:pt x="27103" y="12982"/>
                </a:lnTo>
                <a:lnTo>
                  <a:pt x="33309" y="11195"/>
                </a:lnTo>
                <a:lnTo>
                  <a:pt x="39986" y="10003"/>
                </a:lnTo>
                <a:lnTo>
                  <a:pt x="46977" y="9209"/>
                </a:lnTo>
                <a:lnTo>
                  <a:pt x="54178" y="8679"/>
                </a:lnTo>
                <a:lnTo>
                  <a:pt x="63212" y="8326"/>
                </a:lnTo>
                <a:lnTo>
                  <a:pt x="84539" y="7934"/>
                </a:lnTo>
                <a:lnTo>
                  <a:pt x="96153" y="6982"/>
                </a:lnTo>
                <a:lnTo>
                  <a:pt x="108128" y="5502"/>
                </a:lnTo>
                <a:lnTo>
                  <a:pt x="120346" y="3668"/>
                </a:lnTo>
                <a:lnTo>
                  <a:pt x="131877" y="2446"/>
                </a:lnTo>
                <a:lnTo>
                  <a:pt x="142951" y="1630"/>
                </a:lnTo>
                <a:lnTo>
                  <a:pt x="153721" y="1087"/>
                </a:lnTo>
                <a:lnTo>
                  <a:pt x="176976" y="483"/>
                </a:lnTo>
                <a:lnTo>
                  <a:pt x="2286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InkAnnotation285"/>
          <p:cNvSpPr/>
          <p:nvPr/>
        </p:nvSpPr>
        <p:spPr>
          <a:xfrm>
            <a:off x="3543480" y="3741840"/>
            <a:ext cx="272880" cy="266760"/>
          </a:xfrm>
          <a:custGeom>
            <a:avLst/>
            <a:gdLst>
              <a:gd name="textAreaLeft" fmla="*/ 0 w 272880"/>
              <a:gd name="textAreaRight" fmla="*/ 273240 w 2728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73456" h="266588">
                <a:moveTo>
                  <a:pt x="0" y="15139"/>
                </a:moveTo>
                <a:lnTo>
                  <a:pt x="4045" y="11094"/>
                </a:lnTo>
                <a:lnTo>
                  <a:pt x="6083" y="9902"/>
                </a:lnTo>
                <a:lnTo>
                  <a:pt x="13844" y="7378"/>
                </a:lnTo>
                <a:lnTo>
                  <a:pt x="21958" y="3788"/>
                </a:lnTo>
                <a:lnTo>
                  <a:pt x="27339" y="2492"/>
                </a:lnTo>
                <a:lnTo>
                  <a:pt x="33466" y="1627"/>
                </a:lnTo>
                <a:lnTo>
                  <a:pt x="40091" y="1051"/>
                </a:lnTo>
                <a:lnTo>
                  <a:pt x="47894" y="667"/>
                </a:lnTo>
                <a:lnTo>
                  <a:pt x="65595" y="241"/>
                </a:lnTo>
                <a:lnTo>
                  <a:pt x="94601" y="0"/>
                </a:lnTo>
                <a:lnTo>
                  <a:pt x="104554" y="813"/>
                </a:lnTo>
                <a:lnTo>
                  <a:pt x="114576" y="2202"/>
                </a:lnTo>
                <a:lnTo>
                  <a:pt x="124644" y="3974"/>
                </a:lnTo>
                <a:lnTo>
                  <a:pt x="134743" y="6003"/>
                </a:lnTo>
                <a:lnTo>
                  <a:pt x="154995" y="10514"/>
                </a:lnTo>
                <a:lnTo>
                  <a:pt x="164290" y="12056"/>
                </a:lnTo>
                <a:lnTo>
                  <a:pt x="173027" y="13084"/>
                </a:lnTo>
                <a:lnTo>
                  <a:pt x="181391" y="13769"/>
                </a:lnTo>
                <a:lnTo>
                  <a:pt x="189507" y="15072"/>
                </a:lnTo>
                <a:lnTo>
                  <a:pt x="197458" y="16788"/>
                </a:lnTo>
                <a:lnTo>
                  <a:pt x="205299" y="18778"/>
                </a:lnTo>
                <a:lnTo>
                  <a:pt x="211373" y="20952"/>
                </a:lnTo>
                <a:lnTo>
                  <a:pt x="216269" y="23248"/>
                </a:lnTo>
                <a:lnTo>
                  <a:pt x="226165" y="28971"/>
                </a:lnTo>
                <a:lnTo>
                  <a:pt x="226130" y="30287"/>
                </a:lnTo>
                <a:lnTo>
                  <a:pt x="225260" y="32011"/>
                </a:lnTo>
                <a:lnTo>
                  <a:pt x="223834" y="34007"/>
                </a:lnTo>
                <a:lnTo>
                  <a:pt x="221189" y="35338"/>
                </a:lnTo>
                <a:lnTo>
                  <a:pt x="213736" y="36816"/>
                </a:lnTo>
                <a:lnTo>
                  <a:pt x="208530" y="38057"/>
                </a:lnTo>
                <a:lnTo>
                  <a:pt x="202520" y="39732"/>
                </a:lnTo>
                <a:lnTo>
                  <a:pt x="195974" y="41694"/>
                </a:lnTo>
                <a:lnTo>
                  <a:pt x="189069" y="43002"/>
                </a:lnTo>
                <a:lnTo>
                  <a:pt x="181926" y="43875"/>
                </a:lnTo>
                <a:lnTo>
                  <a:pt x="174624" y="44456"/>
                </a:lnTo>
                <a:lnTo>
                  <a:pt x="167217" y="45690"/>
                </a:lnTo>
                <a:lnTo>
                  <a:pt x="159738" y="47360"/>
                </a:lnTo>
                <a:lnTo>
                  <a:pt x="152212" y="49319"/>
                </a:lnTo>
                <a:lnTo>
                  <a:pt x="145502" y="51473"/>
                </a:lnTo>
                <a:lnTo>
                  <a:pt x="139335" y="53755"/>
                </a:lnTo>
                <a:lnTo>
                  <a:pt x="133529" y="56123"/>
                </a:lnTo>
                <a:lnTo>
                  <a:pt x="128813" y="58549"/>
                </a:lnTo>
                <a:lnTo>
                  <a:pt x="121315" y="63501"/>
                </a:lnTo>
                <a:lnTo>
                  <a:pt x="118977" y="66007"/>
                </a:lnTo>
                <a:lnTo>
                  <a:pt x="117418" y="68525"/>
                </a:lnTo>
                <a:lnTo>
                  <a:pt x="115686" y="73579"/>
                </a:lnTo>
                <a:lnTo>
                  <a:pt x="114916" y="78648"/>
                </a:lnTo>
                <a:lnTo>
                  <a:pt x="116404" y="82032"/>
                </a:lnTo>
                <a:lnTo>
                  <a:pt x="122574" y="90307"/>
                </a:lnTo>
                <a:lnTo>
                  <a:pt x="130959" y="97372"/>
                </a:lnTo>
                <a:lnTo>
                  <a:pt x="135567" y="100441"/>
                </a:lnTo>
                <a:lnTo>
                  <a:pt x="142024" y="104180"/>
                </a:lnTo>
                <a:lnTo>
                  <a:pt x="158231" y="112851"/>
                </a:lnTo>
                <a:lnTo>
                  <a:pt x="166447" y="116687"/>
                </a:lnTo>
                <a:lnTo>
                  <a:pt x="174465" y="120091"/>
                </a:lnTo>
                <a:lnTo>
                  <a:pt x="182350" y="123207"/>
                </a:lnTo>
                <a:lnTo>
                  <a:pt x="190147" y="126978"/>
                </a:lnTo>
                <a:lnTo>
                  <a:pt x="197884" y="131185"/>
                </a:lnTo>
                <a:lnTo>
                  <a:pt x="205583" y="135683"/>
                </a:lnTo>
                <a:lnTo>
                  <a:pt x="214102" y="140375"/>
                </a:lnTo>
                <a:lnTo>
                  <a:pt x="232599" y="150104"/>
                </a:lnTo>
                <a:lnTo>
                  <a:pt x="239733" y="155916"/>
                </a:lnTo>
                <a:lnTo>
                  <a:pt x="245335" y="162330"/>
                </a:lnTo>
                <a:lnTo>
                  <a:pt x="249917" y="169146"/>
                </a:lnTo>
                <a:lnTo>
                  <a:pt x="254665" y="175384"/>
                </a:lnTo>
                <a:lnTo>
                  <a:pt x="259523" y="181236"/>
                </a:lnTo>
                <a:lnTo>
                  <a:pt x="264456" y="186831"/>
                </a:lnTo>
                <a:lnTo>
                  <a:pt x="267744" y="191406"/>
                </a:lnTo>
                <a:lnTo>
                  <a:pt x="271398" y="198750"/>
                </a:lnTo>
                <a:lnTo>
                  <a:pt x="272371" y="202739"/>
                </a:lnTo>
                <a:lnTo>
                  <a:pt x="273021" y="207093"/>
                </a:lnTo>
                <a:lnTo>
                  <a:pt x="273455" y="211688"/>
                </a:lnTo>
                <a:lnTo>
                  <a:pt x="272897" y="216445"/>
                </a:lnTo>
                <a:lnTo>
                  <a:pt x="271678" y="221310"/>
                </a:lnTo>
                <a:lnTo>
                  <a:pt x="270019" y="226246"/>
                </a:lnTo>
                <a:lnTo>
                  <a:pt x="267220" y="230384"/>
                </a:lnTo>
                <a:lnTo>
                  <a:pt x="259593" y="237239"/>
                </a:lnTo>
                <a:lnTo>
                  <a:pt x="255189" y="240252"/>
                </a:lnTo>
                <a:lnTo>
                  <a:pt x="250560" y="243108"/>
                </a:lnTo>
                <a:lnTo>
                  <a:pt x="245780" y="245858"/>
                </a:lnTo>
                <a:lnTo>
                  <a:pt x="240053" y="248539"/>
                </a:lnTo>
                <a:lnTo>
                  <a:pt x="233696" y="251172"/>
                </a:lnTo>
                <a:lnTo>
                  <a:pt x="226917" y="253774"/>
                </a:lnTo>
                <a:lnTo>
                  <a:pt x="212612" y="258924"/>
                </a:lnTo>
                <a:lnTo>
                  <a:pt x="205242" y="261482"/>
                </a:lnTo>
                <a:lnTo>
                  <a:pt x="197788" y="263188"/>
                </a:lnTo>
                <a:lnTo>
                  <a:pt x="190279" y="264325"/>
                </a:lnTo>
                <a:lnTo>
                  <a:pt x="182733" y="265083"/>
                </a:lnTo>
                <a:lnTo>
                  <a:pt x="176009" y="265589"/>
                </a:lnTo>
                <a:lnTo>
                  <a:pt x="169833" y="265925"/>
                </a:lnTo>
                <a:lnTo>
                  <a:pt x="164022" y="266150"/>
                </a:lnTo>
                <a:lnTo>
                  <a:pt x="143708" y="266467"/>
                </a:lnTo>
                <a:lnTo>
                  <a:pt x="109572" y="266587"/>
                </a:lnTo>
                <a:lnTo>
                  <a:pt x="104375" y="265745"/>
                </a:lnTo>
                <a:lnTo>
                  <a:pt x="99217" y="264336"/>
                </a:lnTo>
                <a:lnTo>
                  <a:pt x="94085" y="262550"/>
                </a:lnTo>
                <a:lnTo>
                  <a:pt x="88970" y="261360"/>
                </a:lnTo>
                <a:lnTo>
                  <a:pt x="83867" y="260566"/>
                </a:lnTo>
                <a:lnTo>
                  <a:pt x="68580" y="2589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InkAnnotation286"/>
          <p:cNvSpPr/>
          <p:nvPr/>
        </p:nvSpPr>
        <p:spPr>
          <a:xfrm>
            <a:off x="2925720" y="3870360"/>
            <a:ext cx="236520" cy="138240"/>
          </a:xfrm>
          <a:custGeom>
            <a:avLst/>
            <a:gdLst>
              <a:gd name="textAreaLeft" fmla="*/ 0 w 236520"/>
              <a:gd name="textAreaRight" fmla="*/ 236880 w 23652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36221" h="137161">
                <a:moveTo>
                  <a:pt x="0" y="0"/>
                </a:moveTo>
                <a:lnTo>
                  <a:pt x="4045" y="0"/>
                </a:lnTo>
                <a:lnTo>
                  <a:pt x="5237" y="847"/>
                </a:lnTo>
                <a:lnTo>
                  <a:pt x="6031" y="2258"/>
                </a:lnTo>
                <a:lnTo>
                  <a:pt x="6561" y="4045"/>
                </a:lnTo>
                <a:lnTo>
                  <a:pt x="7760" y="5237"/>
                </a:lnTo>
                <a:lnTo>
                  <a:pt x="9407" y="6031"/>
                </a:lnTo>
                <a:lnTo>
                  <a:pt x="14088" y="7306"/>
                </a:lnTo>
                <a:lnTo>
                  <a:pt x="19243" y="9738"/>
                </a:lnTo>
                <a:lnTo>
                  <a:pt x="26333" y="13642"/>
                </a:lnTo>
                <a:lnTo>
                  <a:pt x="29408" y="15868"/>
                </a:lnTo>
                <a:lnTo>
                  <a:pt x="32306" y="18199"/>
                </a:lnTo>
                <a:lnTo>
                  <a:pt x="35084" y="20599"/>
                </a:lnTo>
                <a:lnTo>
                  <a:pt x="37783" y="23046"/>
                </a:lnTo>
                <a:lnTo>
                  <a:pt x="43039" y="28023"/>
                </a:lnTo>
                <a:lnTo>
                  <a:pt x="69241" y="54014"/>
                </a:lnTo>
                <a:lnTo>
                  <a:pt x="74101" y="58870"/>
                </a:lnTo>
                <a:lnTo>
                  <a:pt x="79880" y="62953"/>
                </a:lnTo>
                <a:lnTo>
                  <a:pt x="86274" y="66522"/>
                </a:lnTo>
                <a:lnTo>
                  <a:pt x="93076" y="69748"/>
                </a:lnTo>
                <a:lnTo>
                  <a:pt x="100151" y="72745"/>
                </a:lnTo>
                <a:lnTo>
                  <a:pt x="107407" y="75591"/>
                </a:lnTo>
                <a:lnTo>
                  <a:pt x="114785" y="78333"/>
                </a:lnTo>
                <a:lnTo>
                  <a:pt x="122243" y="81856"/>
                </a:lnTo>
                <a:lnTo>
                  <a:pt x="129756" y="85897"/>
                </a:lnTo>
                <a:lnTo>
                  <a:pt x="137304" y="90285"/>
                </a:lnTo>
                <a:lnTo>
                  <a:pt x="145722" y="94057"/>
                </a:lnTo>
                <a:lnTo>
                  <a:pt x="154722" y="97418"/>
                </a:lnTo>
                <a:lnTo>
                  <a:pt x="164108" y="100505"/>
                </a:lnTo>
                <a:lnTo>
                  <a:pt x="172905" y="104257"/>
                </a:lnTo>
                <a:lnTo>
                  <a:pt x="181311" y="108451"/>
                </a:lnTo>
                <a:lnTo>
                  <a:pt x="189453" y="112941"/>
                </a:lnTo>
                <a:lnTo>
                  <a:pt x="197423" y="116780"/>
                </a:lnTo>
                <a:lnTo>
                  <a:pt x="205275" y="120187"/>
                </a:lnTo>
                <a:lnTo>
                  <a:pt x="213050" y="123305"/>
                </a:lnTo>
                <a:lnTo>
                  <a:pt x="219080" y="126231"/>
                </a:lnTo>
                <a:lnTo>
                  <a:pt x="223947" y="129027"/>
                </a:lnTo>
                <a:lnTo>
                  <a:pt x="236220" y="1371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InkAnnotation287"/>
          <p:cNvSpPr/>
          <p:nvPr/>
        </p:nvSpPr>
        <p:spPr>
          <a:xfrm>
            <a:off x="326880" y="4152960"/>
            <a:ext cx="138240" cy="22320"/>
          </a:xfrm>
          <a:custGeom>
            <a:avLst/>
            <a:gdLst>
              <a:gd name="textAreaLeft" fmla="*/ 0 w 138240"/>
              <a:gd name="textAreaRight" fmla="*/ 138600 w 138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7161" h="22861">
                <a:moveTo>
                  <a:pt x="0" y="22860"/>
                </a:moveTo>
                <a:lnTo>
                  <a:pt x="8090" y="18815"/>
                </a:lnTo>
                <a:lnTo>
                  <a:pt x="12167" y="17623"/>
                </a:lnTo>
                <a:lnTo>
                  <a:pt x="16578" y="16829"/>
                </a:lnTo>
                <a:lnTo>
                  <a:pt x="21212" y="16299"/>
                </a:lnTo>
                <a:lnTo>
                  <a:pt x="26841" y="15946"/>
                </a:lnTo>
                <a:lnTo>
                  <a:pt x="39870" y="15554"/>
                </a:lnTo>
                <a:lnTo>
                  <a:pt x="47746" y="14603"/>
                </a:lnTo>
                <a:lnTo>
                  <a:pt x="56384" y="13122"/>
                </a:lnTo>
                <a:lnTo>
                  <a:pt x="65530" y="11288"/>
                </a:lnTo>
                <a:lnTo>
                  <a:pt x="84722" y="6993"/>
                </a:lnTo>
                <a:lnTo>
                  <a:pt x="94582" y="4662"/>
                </a:lnTo>
                <a:lnTo>
                  <a:pt x="103694" y="3108"/>
                </a:lnTo>
                <a:lnTo>
                  <a:pt x="112310" y="2072"/>
                </a:lnTo>
                <a:lnTo>
                  <a:pt x="1371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InkAnnotation288"/>
          <p:cNvSpPr/>
          <p:nvPr/>
        </p:nvSpPr>
        <p:spPr>
          <a:xfrm>
            <a:off x="541440" y="4092480"/>
            <a:ext cx="182520" cy="196920"/>
          </a:xfrm>
          <a:custGeom>
            <a:avLst/>
            <a:gdLst>
              <a:gd name="textAreaLeft" fmla="*/ 0 w 182520"/>
              <a:gd name="textAreaRight" fmla="*/ 182880 w 182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82881" h="197676">
                <a:moveTo>
                  <a:pt x="0" y="37655"/>
                </a:moveTo>
                <a:lnTo>
                  <a:pt x="4045" y="37655"/>
                </a:lnTo>
                <a:lnTo>
                  <a:pt x="6930" y="36809"/>
                </a:lnTo>
                <a:lnTo>
                  <a:pt x="10547" y="35398"/>
                </a:lnTo>
                <a:lnTo>
                  <a:pt x="14651" y="33610"/>
                </a:lnTo>
                <a:lnTo>
                  <a:pt x="17388" y="31572"/>
                </a:lnTo>
                <a:lnTo>
                  <a:pt x="19212" y="29366"/>
                </a:lnTo>
                <a:lnTo>
                  <a:pt x="20428" y="27050"/>
                </a:lnTo>
                <a:lnTo>
                  <a:pt x="22932" y="24658"/>
                </a:lnTo>
                <a:lnTo>
                  <a:pt x="26295" y="22217"/>
                </a:lnTo>
                <a:lnTo>
                  <a:pt x="30230" y="19743"/>
                </a:lnTo>
                <a:lnTo>
                  <a:pt x="36240" y="17247"/>
                </a:lnTo>
                <a:lnTo>
                  <a:pt x="43633" y="14736"/>
                </a:lnTo>
                <a:lnTo>
                  <a:pt x="60033" y="9689"/>
                </a:lnTo>
                <a:lnTo>
                  <a:pt x="75788" y="4623"/>
                </a:lnTo>
                <a:lnTo>
                  <a:pt x="84392" y="2934"/>
                </a:lnTo>
                <a:lnTo>
                  <a:pt x="93515" y="1808"/>
                </a:lnTo>
                <a:lnTo>
                  <a:pt x="102983" y="1057"/>
                </a:lnTo>
                <a:lnTo>
                  <a:pt x="111835" y="556"/>
                </a:lnTo>
                <a:lnTo>
                  <a:pt x="128445" y="0"/>
                </a:lnTo>
                <a:lnTo>
                  <a:pt x="135583" y="698"/>
                </a:lnTo>
                <a:lnTo>
                  <a:pt x="142035" y="2011"/>
                </a:lnTo>
                <a:lnTo>
                  <a:pt x="148030" y="3732"/>
                </a:lnTo>
                <a:lnTo>
                  <a:pt x="153720" y="4880"/>
                </a:lnTo>
                <a:lnTo>
                  <a:pt x="159207" y="5645"/>
                </a:lnTo>
                <a:lnTo>
                  <a:pt x="164558" y="6156"/>
                </a:lnTo>
                <a:lnTo>
                  <a:pt x="168972" y="8188"/>
                </a:lnTo>
                <a:lnTo>
                  <a:pt x="172761" y="11237"/>
                </a:lnTo>
                <a:lnTo>
                  <a:pt x="176134" y="14963"/>
                </a:lnTo>
                <a:lnTo>
                  <a:pt x="178383" y="18294"/>
                </a:lnTo>
                <a:lnTo>
                  <a:pt x="180881" y="24252"/>
                </a:lnTo>
                <a:lnTo>
                  <a:pt x="180701" y="27873"/>
                </a:lnTo>
                <a:lnTo>
                  <a:pt x="179734" y="31981"/>
                </a:lnTo>
                <a:lnTo>
                  <a:pt x="178243" y="36412"/>
                </a:lnTo>
                <a:lnTo>
                  <a:pt x="175555" y="41907"/>
                </a:lnTo>
                <a:lnTo>
                  <a:pt x="172070" y="48109"/>
                </a:lnTo>
                <a:lnTo>
                  <a:pt x="168053" y="54785"/>
                </a:lnTo>
                <a:lnTo>
                  <a:pt x="163682" y="60928"/>
                </a:lnTo>
                <a:lnTo>
                  <a:pt x="159075" y="66717"/>
                </a:lnTo>
                <a:lnTo>
                  <a:pt x="154310" y="72270"/>
                </a:lnTo>
                <a:lnTo>
                  <a:pt x="149440" y="78512"/>
                </a:lnTo>
                <a:lnTo>
                  <a:pt x="144500" y="85213"/>
                </a:lnTo>
                <a:lnTo>
                  <a:pt x="139513" y="92220"/>
                </a:lnTo>
                <a:lnTo>
                  <a:pt x="134496" y="98585"/>
                </a:lnTo>
                <a:lnTo>
                  <a:pt x="129457" y="104522"/>
                </a:lnTo>
                <a:lnTo>
                  <a:pt x="124405" y="110173"/>
                </a:lnTo>
                <a:lnTo>
                  <a:pt x="114275" y="120967"/>
                </a:lnTo>
                <a:lnTo>
                  <a:pt x="109204" y="126217"/>
                </a:lnTo>
                <a:lnTo>
                  <a:pt x="104976" y="131410"/>
                </a:lnTo>
                <a:lnTo>
                  <a:pt x="101311" y="136565"/>
                </a:lnTo>
                <a:lnTo>
                  <a:pt x="98020" y="141695"/>
                </a:lnTo>
                <a:lnTo>
                  <a:pt x="95827" y="146809"/>
                </a:lnTo>
                <a:lnTo>
                  <a:pt x="94365" y="151911"/>
                </a:lnTo>
                <a:lnTo>
                  <a:pt x="93390" y="157006"/>
                </a:lnTo>
                <a:lnTo>
                  <a:pt x="92740" y="161248"/>
                </a:lnTo>
                <a:lnTo>
                  <a:pt x="92306" y="164924"/>
                </a:lnTo>
                <a:lnTo>
                  <a:pt x="92018" y="168221"/>
                </a:lnTo>
                <a:lnTo>
                  <a:pt x="93519" y="171266"/>
                </a:lnTo>
                <a:lnTo>
                  <a:pt x="96212" y="174142"/>
                </a:lnTo>
                <a:lnTo>
                  <a:pt x="99702" y="176907"/>
                </a:lnTo>
                <a:lnTo>
                  <a:pt x="104568" y="179596"/>
                </a:lnTo>
                <a:lnTo>
                  <a:pt x="110352" y="182236"/>
                </a:lnTo>
                <a:lnTo>
                  <a:pt x="116748" y="184842"/>
                </a:lnTo>
                <a:lnTo>
                  <a:pt x="123552" y="186580"/>
                </a:lnTo>
                <a:lnTo>
                  <a:pt x="130628" y="187739"/>
                </a:lnTo>
                <a:lnTo>
                  <a:pt x="137885" y="188511"/>
                </a:lnTo>
                <a:lnTo>
                  <a:pt x="144417" y="189872"/>
                </a:lnTo>
                <a:lnTo>
                  <a:pt x="150465" y="191627"/>
                </a:lnTo>
                <a:lnTo>
                  <a:pt x="156190" y="193643"/>
                </a:lnTo>
                <a:lnTo>
                  <a:pt x="161700" y="194987"/>
                </a:lnTo>
                <a:lnTo>
                  <a:pt x="167067" y="195883"/>
                </a:lnTo>
                <a:lnTo>
                  <a:pt x="182880" y="1976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InkAnnotation289"/>
          <p:cNvSpPr/>
          <p:nvPr/>
        </p:nvSpPr>
        <p:spPr>
          <a:xfrm>
            <a:off x="853920" y="4191120"/>
            <a:ext cx="136800" cy="160200"/>
          </a:xfrm>
          <a:custGeom>
            <a:avLst/>
            <a:gdLst>
              <a:gd name="textAreaLeft" fmla="*/ 0 w 136800"/>
              <a:gd name="textAreaRight" fmla="*/ 137160 w 1368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37161" h="160021">
                <a:moveTo>
                  <a:pt x="137160" y="0"/>
                </a:moveTo>
                <a:lnTo>
                  <a:pt x="137160" y="4045"/>
                </a:lnTo>
                <a:lnTo>
                  <a:pt x="136314" y="6083"/>
                </a:lnTo>
                <a:lnTo>
                  <a:pt x="133115" y="10606"/>
                </a:lnTo>
                <a:lnTo>
                  <a:pt x="128871" y="15439"/>
                </a:lnTo>
                <a:lnTo>
                  <a:pt x="126554" y="17912"/>
                </a:lnTo>
                <a:lnTo>
                  <a:pt x="124163" y="21255"/>
                </a:lnTo>
                <a:lnTo>
                  <a:pt x="121722" y="25176"/>
                </a:lnTo>
                <a:lnTo>
                  <a:pt x="119248" y="29484"/>
                </a:lnTo>
                <a:lnTo>
                  <a:pt x="115905" y="34896"/>
                </a:lnTo>
                <a:lnTo>
                  <a:pt x="107676" y="47683"/>
                </a:lnTo>
                <a:lnTo>
                  <a:pt x="102264" y="54649"/>
                </a:lnTo>
                <a:lnTo>
                  <a:pt x="96116" y="61833"/>
                </a:lnTo>
                <a:lnTo>
                  <a:pt x="89477" y="69162"/>
                </a:lnTo>
                <a:lnTo>
                  <a:pt x="83358" y="76588"/>
                </a:lnTo>
                <a:lnTo>
                  <a:pt x="77586" y="84079"/>
                </a:lnTo>
                <a:lnTo>
                  <a:pt x="72044" y="91612"/>
                </a:lnTo>
                <a:lnTo>
                  <a:pt x="65809" y="99175"/>
                </a:lnTo>
                <a:lnTo>
                  <a:pt x="59113" y="106756"/>
                </a:lnTo>
                <a:lnTo>
                  <a:pt x="52108" y="114351"/>
                </a:lnTo>
                <a:lnTo>
                  <a:pt x="44899" y="121108"/>
                </a:lnTo>
                <a:lnTo>
                  <a:pt x="37553" y="127305"/>
                </a:lnTo>
                <a:lnTo>
                  <a:pt x="30115" y="133130"/>
                </a:lnTo>
                <a:lnTo>
                  <a:pt x="24310" y="138707"/>
                </a:lnTo>
                <a:lnTo>
                  <a:pt x="19593" y="144118"/>
                </a:lnTo>
                <a:lnTo>
                  <a:pt x="15602" y="149419"/>
                </a:lnTo>
                <a:lnTo>
                  <a:pt x="12095" y="152953"/>
                </a:lnTo>
                <a:lnTo>
                  <a:pt x="8910" y="155309"/>
                </a:lnTo>
                <a:lnTo>
                  <a:pt x="0" y="1600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InkAnnotation290"/>
          <p:cNvSpPr/>
          <p:nvPr/>
        </p:nvSpPr>
        <p:spPr>
          <a:xfrm>
            <a:off x="846000" y="4183200"/>
            <a:ext cx="220680" cy="91800"/>
          </a:xfrm>
          <a:custGeom>
            <a:avLst/>
            <a:gdLst>
              <a:gd name="textAreaLeft" fmla="*/ 0 w 220680"/>
              <a:gd name="textAreaRight" fmla="*/ 221040 w 22068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220981" h="91441">
                <a:moveTo>
                  <a:pt x="0" y="0"/>
                </a:moveTo>
                <a:lnTo>
                  <a:pt x="4045" y="4045"/>
                </a:lnTo>
                <a:lnTo>
                  <a:pt x="6084" y="5237"/>
                </a:lnTo>
                <a:lnTo>
                  <a:pt x="10606" y="6561"/>
                </a:lnTo>
                <a:lnTo>
                  <a:pt x="13844" y="8608"/>
                </a:lnTo>
                <a:lnTo>
                  <a:pt x="17696" y="11665"/>
                </a:lnTo>
                <a:lnTo>
                  <a:pt x="21957" y="15397"/>
                </a:lnTo>
                <a:lnTo>
                  <a:pt x="27338" y="19578"/>
                </a:lnTo>
                <a:lnTo>
                  <a:pt x="33466" y="24059"/>
                </a:lnTo>
                <a:lnTo>
                  <a:pt x="40090" y="28739"/>
                </a:lnTo>
                <a:lnTo>
                  <a:pt x="47894" y="33553"/>
                </a:lnTo>
                <a:lnTo>
                  <a:pt x="56482" y="38455"/>
                </a:lnTo>
                <a:lnTo>
                  <a:pt x="75057" y="48418"/>
                </a:lnTo>
                <a:lnTo>
                  <a:pt x="94601" y="58491"/>
                </a:lnTo>
                <a:lnTo>
                  <a:pt x="105400" y="62700"/>
                </a:lnTo>
                <a:lnTo>
                  <a:pt x="116834" y="66354"/>
                </a:lnTo>
                <a:lnTo>
                  <a:pt x="128689" y="69636"/>
                </a:lnTo>
                <a:lnTo>
                  <a:pt x="155409" y="77798"/>
                </a:lnTo>
                <a:lnTo>
                  <a:pt x="169646" y="82346"/>
                </a:lnTo>
                <a:lnTo>
                  <a:pt x="181677" y="85377"/>
                </a:lnTo>
                <a:lnTo>
                  <a:pt x="192238" y="87398"/>
                </a:lnTo>
                <a:lnTo>
                  <a:pt x="220980" y="914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InkAnnotation291"/>
          <p:cNvSpPr/>
          <p:nvPr/>
        </p:nvSpPr>
        <p:spPr>
          <a:xfrm>
            <a:off x="2332080" y="4175280"/>
            <a:ext cx="220680" cy="7920"/>
          </a:xfrm>
          <a:custGeom>
            <a:avLst/>
            <a:gdLst>
              <a:gd name="textAreaLeft" fmla="*/ 0 w 220680"/>
              <a:gd name="textAreaRight" fmla="*/ 221040 w 220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0981" h="7621">
                <a:moveTo>
                  <a:pt x="0" y="7620"/>
                </a:moveTo>
                <a:lnTo>
                  <a:pt x="102134" y="7620"/>
                </a:lnTo>
                <a:lnTo>
                  <a:pt x="112962" y="6774"/>
                </a:lnTo>
                <a:lnTo>
                  <a:pt x="124415" y="5363"/>
                </a:lnTo>
                <a:lnTo>
                  <a:pt x="136284" y="3576"/>
                </a:lnTo>
                <a:lnTo>
                  <a:pt x="149276" y="2383"/>
                </a:lnTo>
                <a:lnTo>
                  <a:pt x="163017" y="1589"/>
                </a:lnTo>
                <a:lnTo>
                  <a:pt x="197597" y="471"/>
                </a:lnTo>
                <a:lnTo>
                  <a:pt x="2209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InkAnnotation292"/>
          <p:cNvSpPr/>
          <p:nvPr/>
        </p:nvSpPr>
        <p:spPr>
          <a:xfrm>
            <a:off x="2583000" y="4084560"/>
            <a:ext cx="252360" cy="198360"/>
          </a:xfrm>
          <a:custGeom>
            <a:avLst/>
            <a:gdLst>
              <a:gd name="textAreaLeft" fmla="*/ 0 w 252360"/>
              <a:gd name="textAreaRight" fmla="*/ 252720 w 2523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51461" h="197676">
                <a:moveTo>
                  <a:pt x="0" y="45275"/>
                </a:moveTo>
                <a:lnTo>
                  <a:pt x="0" y="38714"/>
                </a:lnTo>
                <a:lnTo>
                  <a:pt x="4516" y="35868"/>
                </a:lnTo>
                <a:lnTo>
                  <a:pt x="8091" y="33924"/>
                </a:lnTo>
                <a:lnTo>
                  <a:pt x="13013" y="31781"/>
                </a:lnTo>
                <a:lnTo>
                  <a:pt x="18836" y="29505"/>
                </a:lnTo>
                <a:lnTo>
                  <a:pt x="32078" y="24719"/>
                </a:lnTo>
                <a:lnTo>
                  <a:pt x="46430" y="19770"/>
                </a:lnTo>
                <a:lnTo>
                  <a:pt x="54660" y="17265"/>
                </a:lnTo>
                <a:lnTo>
                  <a:pt x="72836" y="12224"/>
                </a:lnTo>
                <a:lnTo>
                  <a:pt x="83271" y="9694"/>
                </a:lnTo>
                <a:lnTo>
                  <a:pt x="106154" y="4626"/>
                </a:lnTo>
                <a:lnTo>
                  <a:pt x="116489" y="2936"/>
                </a:lnTo>
                <a:lnTo>
                  <a:pt x="125920" y="1809"/>
                </a:lnTo>
                <a:lnTo>
                  <a:pt x="134746" y="1058"/>
                </a:lnTo>
                <a:lnTo>
                  <a:pt x="143171" y="557"/>
                </a:lnTo>
                <a:lnTo>
                  <a:pt x="159305" y="0"/>
                </a:lnTo>
                <a:lnTo>
                  <a:pt x="166317" y="698"/>
                </a:lnTo>
                <a:lnTo>
                  <a:pt x="172684" y="2011"/>
                </a:lnTo>
                <a:lnTo>
                  <a:pt x="178623" y="3732"/>
                </a:lnTo>
                <a:lnTo>
                  <a:pt x="183429" y="4880"/>
                </a:lnTo>
                <a:lnTo>
                  <a:pt x="191026" y="6155"/>
                </a:lnTo>
                <a:lnTo>
                  <a:pt x="193391" y="7341"/>
                </a:lnTo>
                <a:lnTo>
                  <a:pt x="194968" y="8980"/>
                </a:lnTo>
                <a:lnTo>
                  <a:pt x="196019" y="10918"/>
                </a:lnTo>
                <a:lnTo>
                  <a:pt x="195872" y="13057"/>
                </a:lnTo>
                <a:lnTo>
                  <a:pt x="194928" y="15329"/>
                </a:lnTo>
                <a:lnTo>
                  <a:pt x="193452" y="17692"/>
                </a:lnTo>
                <a:lnTo>
                  <a:pt x="189928" y="20112"/>
                </a:lnTo>
                <a:lnTo>
                  <a:pt x="185039" y="22573"/>
                </a:lnTo>
                <a:lnTo>
                  <a:pt x="179240" y="25060"/>
                </a:lnTo>
                <a:lnTo>
                  <a:pt x="173680" y="28412"/>
                </a:lnTo>
                <a:lnTo>
                  <a:pt x="168280" y="32340"/>
                </a:lnTo>
                <a:lnTo>
                  <a:pt x="162987" y="36651"/>
                </a:lnTo>
                <a:lnTo>
                  <a:pt x="156071" y="41220"/>
                </a:lnTo>
                <a:lnTo>
                  <a:pt x="148074" y="45958"/>
                </a:lnTo>
                <a:lnTo>
                  <a:pt x="139356" y="50810"/>
                </a:lnTo>
                <a:lnTo>
                  <a:pt x="120638" y="60717"/>
                </a:lnTo>
                <a:lnTo>
                  <a:pt x="110906" y="65730"/>
                </a:lnTo>
                <a:lnTo>
                  <a:pt x="101877" y="70765"/>
                </a:lnTo>
                <a:lnTo>
                  <a:pt x="93318" y="75815"/>
                </a:lnTo>
                <a:lnTo>
                  <a:pt x="85072" y="80875"/>
                </a:lnTo>
                <a:lnTo>
                  <a:pt x="77035" y="85095"/>
                </a:lnTo>
                <a:lnTo>
                  <a:pt x="69137" y="88755"/>
                </a:lnTo>
                <a:lnTo>
                  <a:pt x="61331" y="92042"/>
                </a:lnTo>
                <a:lnTo>
                  <a:pt x="55281" y="95926"/>
                </a:lnTo>
                <a:lnTo>
                  <a:pt x="50400" y="100209"/>
                </a:lnTo>
                <a:lnTo>
                  <a:pt x="46300" y="104758"/>
                </a:lnTo>
                <a:lnTo>
                  <a:pt x="42720" y="109484"/>
                </a:lnTo>
                <a:lnTo>
                  <a:pt x="39487" y="114328"/>
                </a:lnTo>
                <a:lnTo>
                  <a:pt x="36485" y="119250"/>
                </a:lnTo>
                <a:lnTo>
                  <a:pt x="34483" y="124225"/>
                </a:lnTo>
                <a:lnTo>
                  <a:pt x="33149" y="129235"/>
                </a:lnTo>
                <a:lnTo>
                  <a:pt x="32259" y="134269"/>
                </a:lnTo>
                <a:lnTo>
                  <a:pt x="32513" y="138471"/>
                </a:lnTo>
                <a:lnTo>
                  <a:pt x="33528" y="142119"/>
                </a:lnTo>
                <a:lnTo>
                  <a:pt x="35052" y="145397"/>
                </a:lnTo>
                <a:lnTo>
                  <a:pt x="38608" y="149277"/>
                </a:lnTo>
                <a:lnTo>
                  <a:pt x="43519" y="153557"/>
                </a:lnTo>
                <a:lnTo>
                  <a:pt x="49333" y="158103"/>
                </a:lnTo>
                <a:lnTo>
                  <a:pt x="56595" y="161980"/>
                </a:lnTo>
                <a:lnTo>
                  <a:pt x="64823" y="165412"/>
                </a:lnTo>
                <a:lnTo>
                  <a:pt x="73695" y="168546"/>
                </a:lnTo>
                <a:lnTo>
                  <a:pt x="83844" y="171482"/>
                </a:lnTo>
                <a:lnTo>
                  <a:pt x="94842" y="174287"/>
                </a:lnTo>
                <a:lnTo>
                  <a:pt x="106408" y="177003"/>
                </a:lnTo>
                <a:lnTo>
                  <a:pt x="119199" y="179660"/>
                </a:lnTo>
                <a:lnTo>
                  <a:pt x="146957" y="184871"/>
                </a:lnTo>
                <a:lnTo>
                  <a:pt x="191145" y="192564"/>
                </a:lnTo>
                <a:lnTo>
                  <a:pt x="204477" y="194268"/>
                </a:lnTo>
                <a:lnTo>
                  <a:pt x="216751" y="195404"/>
                </a:lnTo>
                <a:lnTo>
                  <a:pt x="251460" y="19767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InkAnnotation293"/>
          <p:cNvSpPr/>
          <p:nvPr/>
        </p:nvSpPr>
        <p:spPr>
          <a:xfrm>
            <a:off x="2971800" y="4168800"/>
            <a:ext cx="106200" cy="120600"/>
          </a:xfrm>
          <a:custGeom>
            <a:avLst/>
            <a:gdLst>
              <a:gd name="textAreaLeft" fmla="*/ 0 w 106200"/>
              <a:gd name="textAreaRight" fmla="*/ 106560 w 10620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6681" h="121921">
                <a:moveTo>
                  <a:pt x="106680" y="0"/>
                </a:moveTo>
                <a:lnTo>
                  <a:pt x="106680" y="8091"/>
                </a:lnTo>
                <a:lnTo>
                  <a:pt x="105833" y="11320"/>
                </a:lnTo>
                <a:lnTo>
                  <a:pt x="104423" y="14320"/>
                </a:lnTo>
                <a:lnTo>
                  <a:pt x="102635" y="17167"/>
                </a:lnTo>
                <a:lnTo>
                  <a:pt x="100597" y="20758"/>
                </a:lnTo>
                <a:lnTo>
                  <a:pt x="96074" y="29263"/>
                </a:lnTo>
                <a:lnTo>
                  <a:pt x="92836" y="34749"/>
                </a:lnTo>
                <a:lnTo>
                  <a:pt x="84723" y="47617"/>
                </a:lnTo>
                <a:lnTo>
                  <a:pt x="79342" y="53758"/>
                </a:lnTo>
                <a:lnTo>
                  <a:pt x="73214" y="59545"/>
                </a:lnTo>
                <a:lnTo>
                  <a:pt x="66589" y="65097"/>
                </a:lnTo>
                <a:lnTo>
                  <a:pt x="50198" y="78038"/>
                </a:lnTo>
                <a:lnTo>
                  <a:pt x="41085" y="85046"/>
                </a:lnTo>
                <a:lnTo>
                  <a:pt x="34163" y="90564"/>
                </a:lnTo>
                <a:lnTo>
                  <a:pt x="28703" y="95089"/>
                </a:lnTo>
                <a:lnTo>
                  <a:pt x="24215" y="98953"/>
                </a:lnTo>
                <a:lnTo>
                  <a:pt x="19530" y="103223"/>
                </a:lnTo>
                <a:lnTo>
                  <a:pt x="0" y="121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InkAnnotation294"/>
          <p:cNvSpPr/>
          <p:nvPr/>
        </p:nvSpPr>
        <p:spPr>
          <a:xfrm>
            <a:off x="2895480" y="4130640"/>
            <a:ext cx="228600" cy="12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28601" h="121607">
                <a:moveTo>
                  <a:pt x="0" y="7306"/>
                </a:moveTo>
                <a:lnTo>
                  <a:pt x="0" y="3261"/>
                </a:lnTo>
                <a:lnTo>
                  <a:pt x="1693" y="2069"/>
                </a:lnTo>
                <a:lnTo>
                  <a:pt x="8091" y="745"/>
                </a:lnTo>
                <a:lnTo>
                  <a:pt x="14320" y="157"/>
                </a:lnTo>
                <a:lnTo>
                  <a:pt x="17167" y="0"/>
                </a:lnTo>
                <a:lnTo>
                  <a:pt x="21605" y="742"/>
                </a:lnTo>
                <a:lnTo>
                  <a:pt x="27103" y="2084"/>
                </a:lnTo>
                <a:lnTo>
                  <a:pt x="33309" y="3824"/>
                </a:lnTo>
                <a:lnTo>
                  <a:pt x="46977" y="8016"/>
                </a:lnTo>
                <a:lnTo>
                  <a:pt x="54178" y="10319"/>
                </a:lnTo>
                <a:lnTo>
                  <a:pt x="61519" y="13548"/>
                </a:lnTo>
                <a:lnTo>
                  <a:pt x="68953" y="17394"/>
                </a:lnTo>
                <a:lnTo>
                  <a:pt x="76449" y="21651"/>
                </a:lnTo>
                <a:lnTo>
                  <a:pt x="84832" y="25336"/>
                </a:lnTo>
                <a:lnTo>
                  <a:pt x="93808" y="28640"/>
                </a:lnTo>
                <a:lnTo>
                  <a:pt x="103179" y="31688"/>
                </a:lnTo>
                <a:lnTo>
                  <a:pt x="111119" y="36261"/>
                </a:lnTo>
                <a:lnTo>
                  <a:pt x="118107" y="41849"/>
                </a:lnTo>
                <a:lnTo>
                  <a:pt x="124458" y="48115"/>
                </a:lnTo>
                <a:lnTo>
                  <a:pt x="132078" y="54832"/>
                </a:lnTo>
                <a:lnTo>
                  <a:pt x="140545" y="61850"/>
                </a:lnTo>
                <a:lnTo>
                  <a:pt x="149577" y="69069"/>
                </a:lnTo>
                <a:lnTo>
                  <a:pt x="158985" y="75575"/>
                </a:lnTo>
                <a:lnTo>
                  <a:pt x="168643" y="81605"/>
                </a:lnTo>
                <a:lnTo>
                  <a:pt x="178469" y="87319"/>
                </a:lnTo>
                <a:lnTo>
                  <a:pt x="186712" y="92821"/>
                </a:lnTo>
                <a:lnTo>
                  <a:pt x="193902" y="98182"/>
                </a:lnTo>
                <a:lnTo>
                  <a:pt x="200388" y="103450"/>
                </a:lnTo>
                <a:lnTo>
                  <a:pt x="206405" y="107809"/>
                </a:lnTo>
                <a:lnTo>
                  <a:pt x="212111" y="111561"/>
                </a:lnTo>
                <a:lnTo>
                  <a:pt x="228600" y="1216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InkAnnotation295"/>
          <p:cNvSpPr/>
          <p:nvPr/>
        </p:nvSpPr>
        <p:spPr>
          <a:xfrm>
            <a:off x="1028880" y="4511520"/>
            <a:ext cx="45720" cy="243000"/>
          </a:xfrm>
          <a:custGeom>
            <a:avLst/>
            <a:gdLst>
              <a:gd name="textAreaLeft" fmla="*/ 0 w 45720"/>
              <a:gd name="textAreaRight" fmla="*/ 46080 w 4572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5721" h="243841">
                <a:moveTo>
                  <a:pt x="0" y="0"/>
                </a:moveTo>
                <a:lnTo>
                  <a:pt x="0" y="11351"/>
                </a:lnTo>
                <a:lnTo>
                  <a:pt x="847" y="13495"/>
                </a:lnTo>
                <a:lnTo>
                  <a:pt x="2258" y="15770"/>
                </a:lnTo>
                <a:lnTo>
                  <a:pt x="4045" y="18133"/>
                </a:lnTo>
                <a:lnTo>
                  <a:pt x="5237" y="21402"/>
                </a:lnTo>
                <a:lnTo>
                  <a:pt x="6031" y="25275"/>
                </a:lnTo>
                <a:lnTo>
                  <a:pt x="6561" y="29550"/>
                </a:lnTo>
                <a:lnTo>
                  <a:pt x="7760" y="34940"/>
                </a:lnTo>
                <a:lnTo>
                  <a:pt x="9407" y="41073"/>
                </a:lnTo>
                <a:lnTo>
                  <a:pt x="11352" y="47702"/>
                </a:lnTo>
                <a:lnTo>
                  <a:pt x="12648" y="53815"/>
                </a:lnTo>
                <a:lnTo>
                  <a:pt x="13512" y="59583"/>
                </a:lnTo>
                <a:lnTo>
                  <a:pt x="14088" y="65122"/>
                </a:lnTo>
                <a:lnTo>
                  <a:pt x="15319" y="72202"/>
                </a:lnTo>
                <a:lnTo>
                  <a:pt x="16986" y="80308"/>
                </a:lnTo>
                <a:lnTo>
                  <a:pt x="18944" y="89098"/>
                </a:lnTo>
                <a:lnTo>
                  <a:pt x="21096" y="97499"/>
                </a:lnTo>
                <a:lnTo>
                  <a:pt x="23377" y="105640"/>
                </a:lnTo>
                <a:lnTo>
                  <a:pt x="25745" y="113606"/>
                </a:lnTo>
                <a:lnTo>
                  <a:pt x="30633" y="131490"/>
                </a:lnTo>
                <a:lnTo>
                  <a:pt x="33122" y="141000"/>
                </a:lnTo>
                <a:lnTo>
                  <a:pt x="34782" y="149880"/>
                </a:lnTo>
                <a:lnTo>
                  <a:pt x="35888" y="158340"/>
                </a:lnTo>
                <a:lnTo>
                  <a:pt x="36625" y="166520"/>
                </a:lnTo>
                <a:lnTo>
                  <a:pt x="37117" y="175360"/>
                </a:lnTo>
                <a:lnTo>
                  <a:pt x="37663" y="194213"/>
                </a:lnTo>
                <a:lnTo>
                  <a:pt x="38655" y="203135"/>
                </a:lnTo>
                <a:lnTo>
                  <a:pt x="40164" y="211624"/>
                </a:lnTo>
                <a:lnTo>
                  <a:pt x="42016" y="219822"/>
                </a:lnTo>
                <a:lnTo>
                  <a:pt x="43251" y="226135"/>
                </a:lnTo>
                <a:lnTo>
                  <a:pt x="44074" y="231190"/>
                </a:lnTo>
                <a:lnTo>
                  <a:pt x="45720" y="2438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InkAnnotation296"/>
          <p:cNvSpPr/>
          <p:nvPr/>
        </p:nvSpPr>
        <p:spPr>
          <a:xfrm>
            <a:off x="1058760" y="4506840"/>
            <a:ext cx="343080" cy="239760"/>
          </a:xfrm>
          <a:custGeom>
            <a:avLst/>
            <a:gdLst>
              <a:gd name="textAreaLeft" fmla="*/ 0 w 343080"/>
              <a:gd name="textAreaRight" fmla="*/ 343440 w 3430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42901" h="239049">
                <a:moveTo>
                  <a:pt x="0" y="72611"/>
                </a:moveTo>
                <a:lnTo>
                  <a:pt x="4046" y="68566"/>
                </a:lnTo>
                <a:lnTo>
                  <a:pt x="5237" y="66528"/>
                </a:lnTo>
                <a:lnTo>
                  <a:pt x="6561" y="62005"/>
                </a:lnTo>
                <a:lnTo>
                  <a:pt x="7306" y="54699"/>
                </a:lnTo>
                <a:lnTo>
                  <a:pt x="8258" y="52203"/>
                </a:lnTo>
                <a:lnTo>
                  <a:pt x="11573" y="47172"/>
                </a:lnTo>
                <a:lnTo>
                  <a:pt x="18126" y="42114"/>
                </a:lnTo>
                <a:lnTo>
                  <a:pt x="26683" y="37043"/>
                </a:lnTo>
                <a:lnTo>
                  <a:pt x="36130" y="31968"/>
                </a:lnTo>
                <a:lnTo>
                  <a:pt x="41867" y="28582"/>
                </a:lnTo>
                <a:lnTo>
                  <a:pt x="55014" y="20305"/>
                </a:lnTo>
                <a:lnTo>
                  <a:pt x="62923" y="16573"/>
                </a:lnTo>
                <a:lnTo>
                  <a:pt x="71582" y="13239"/>
                </a:lnTo>
                <a:lnTo>
                  <a:pt x="80742" y="10170"/>
                </a:lnTo>
                <a:lnTo>
                  <a:pt x="90234" y="8124"/>
                </a:lnTo>
                <a:lnTo>
                  <a:pt x="99950" y="6760"/>
                </a:lnTo>
                <a:lnTo>
                  <a:pt x="109813" y="5850"/>
                </a:lnTo>
                <a:lnTo>
                  <a:pt x="118929" y="4397"/>
                </a:lnTo>
                <a:lnTo>
                  <a:pt x="127546" y="2582"/>
                </a:lnTo>
                <a:lnTo>
                  <a:pt x="135831" y="525"/>
                </a:lnTo>
                <a:lnTo>
                  <a:pt x="144741" y="0"/>
                </a:lnTo>
                <a:lnTo>
                  <a:pt x="154067" y="497"/>
                </a:lnTo>
                <a:lnTo>
                  <a:pt x="163671" y="1675"/>
                </a:lnTo>
                <a:lnTo>
                  <a:pt x="172614" y="2460"/>
                </a:lnTo>
                <a:lnTo>
                  <a:pt x="181116" y="2984"/>
                </a:lnTo>
                <a:lnTo>
                  <a:pt x="189324" y="3333"/>
                </a:lnTo>
                <a:lnTo>
                  <a:pt x="196490" y="4413"/>
                </a:lnTo>
                <a:lnTo>
                  <a:pt x="202960" y="5979"/>
                </a:lnTo>
                <a:lnTo>
                  <a:pt x="208967" y="7869"/>
                </a:lnTo>
                <a:lnTo>
                  <a:pt x="214665" y="9130"/>
                </a:lnTo>
                <a:lnTo>
                  <a:pt x="220157" y="9971"/>
                </a:lnTo>
                <a:lnTo>
                  <a:pt x="225511" y="10531"/>
                </a:lnTo>
                <a:lnTo>
                  <a:pt x="229081" y="12597"/>
                </a:lnTo>
                <a:lnTo>
                  <a:pt x="231461" y="15668"/>
                </a:lnTo>
                <a:lnTo>
                  <a:pt x="234951" y="22750"/>
                </a:lnTo>
                <a:lnTo>
                  <a:pt x="239325" y="28719"/>
                </a:lnTo>
                <a:lnTo>
                  <a:pt x="239984" y="31497"/>
                </a:lnTo>
                <a:lnTo>
                  <a:pt x="239576" y="34195"/>
                </a:lnTo>
                <a:lnTo>
                  <a:pt x="236865" y="40297"/>
                </a:lnTo>
                <a:lnTo>
                  <a:pt x="232838" y="48654"/>
                </a:lnTo>
                <a:lnTo>
                  <a:pt x="229732" y="54099"/>
                </a:lnTo>
                <a:lnTo>
                  <a:pt x="225968" y="60270"/>
                </a:lnTo>
                <a:lnTo>
                  <a:pt x="221765" y="66923"/>
                </a:lnTo>
                <a:lnTo>
                  <a:pt x="217270" y="73053"/>
                </a:lnTo>
                <a:lnTo>
                  <a:pt x="212580" y="78832"/>
                </a:lnTo>
                <a:lnTo>
                  <a:pt x="207760" y="84378"/>
                </a:lnTo>
                <a:lnTo>
                  <a:pt x="202854" y="89769"/>
                </a:lnTo>
                <a:lnTo>
                  <a:pt x="192886" y="100275"/>
                </a:lnTo>
                <a:lnTo>
                  <a:pt x="188704" y="106294"/>
                </a:lnTo>
                <a:lnTo>
                  <a:pt x="185069" y="112846"/>
                </a:lnTo>
                <a:lnTo>
                  <a:pt x="181799" y="119754"/>
                </a:lnTo>
                <a:lnTo>
                  <a:pt x="177927" y="126054"/>
                </a:lnTo>
                <a:lnTo>
                  <a:pt x="173651" y="131946"/>
                </a:lnTo>
                <a:lnTo>
                  <a:pt x="169107" y="137568"/>
                </a:lnTo>
                <a:lnTo>
                  <a:pt x="166078" y="143856"/>
                </a:lnTo>
                <a:lnTo>
                  <a:pt x="164059" y="150588"/>
                </a:lnTo>
                <a:lnTo>
                  <a:pt x="162713" y="157615"/>
                </a:lnTo>
                <a:lnTo>
                  <a:pt x="161815" y="163994"/>
                </a:lnTo>
                <a:lnTo>
                  <a:pt x="161217" y="169940"/>
                </a:lnTo>
                <a:lnTo>
                  <a:pt x="160818" y="175597"/>
                </a:lnTo>
                <a:lnTo>
                  <a:pt x="160552" y="181062"/>
                </a:lnTo>
                <a:lnTo>
                  <a:pt x="160257" y="191649"/>
                </a:lnTo>
                <a:lnTo>
                  <a:pt x="161871" y="196843"/>
                </a:lnTo>
                <a:lnTo>
                  <a:pt x="164641" y="201999"/>
                </a:lnTo>
                <a:lnTo>
                  <a:pt x="168181" y="207130"/>
                </a:lnTo>
                <a:lnTo>
                  <a:pt x="172234" y="211397"/>
                </a:lnTo>
                <a:lnTo>
                  <a:pt x="181253" y="218396"/>
                </a:lnTo>
                <a:lnTo>
                  <a:pt x="186875" y="221448"/>
                </a:lnTo>
                <a:lnTo>
                  <a:pt x="193164" y="224329"/>
                </a:lnTo>
                <a:lnTo>
                  <a:pt x="199896" y="227097"/>
                </a:lnTo>
                <a:lnTo>
                  <a:pt x="207771" y="228941"/>
                </a:lnTo>
                <a:lnTo>
                  <a:pt x="216407" y="230172"/>
                </a:lnTo>
                <a:lnTo>
                  <a:pt x="225551" y="230991"/>
                </a:lnTo>
                <a:lnTo>
                  <a:pt x="234188" y="232385"/>
                </a:lnTo>
                <a:lnTo>
                  <a:pt x="242485" y="234160"/>
                </a:lnTo>
                <a:lnTo>
                  <a:pt x="250557" y="236190"/>
                </a:lnTo>
                <a:lnTo>
                  <a:pt x="259325" y="237544"/>
                </a:lnTo>
                <a:lnTo>
                  <a:pt x="268556" y="238446"/>
                </a:lnTo>
                <a:lnTo>
                  <a:pt x="278098" y="239048"/>
                </a:lnTo>
                <a:lnTo>
                  <a:pt x="286999" y="238602"/>
                </a:lnTo>
                <a:lnTo>
                  <a:pt x="295473" y="237459"/>
                </a:lnTo>
                <a:lnTo>
                  <a:pt x="303662" y="235850"/>
                </a:lnTo>
                <a:lnTo>
                  <a:pt x="310814" y="234776"/>
                </a:lnTo>
                <a:lnTo>
                  <a:pt x="317277" y="234062"/>
                </a:lnTo>
                <a:lnTo>
                  <a:pt x="328125" y="233267"/>
                </a:lnTo>
                <a:lnTo>
                  <a:pt x="342900" y="2326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InkAnnotation297"/>
          <p:cNvSpPr/>
          <p:nvPr/>
        </p:nvSpPr>
        <p:spPr>
          <a:xfrm>
            <a:off x="1523880" y="4664160"/>
            <a:ext cx="114480" cy="6120"/>
          </a:xfrm>
          <a:custGeom>
            <a:avLst/>
            <a:gdLst>
              <a:gd name="textAreaLeft" fmla="*/ 0 w 114480"/>
              <a:gd name="textAreaRight" fmla="*/ 114840 w 1144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14301" h="7621">
                <a:moveTo>
                  <a:pt x="0" y="7620"/>
                </a:moveTo>
                <a:lnTo>
                  <a:pt x="61771" y="7620"/>
                </a:lnTo>
                <a:lnTo>
                  <a:pt x="69967" y="6774"/>
                </a:lnTo>
                <a:lnTo>
                  <a:pt x="78818" y="5363"/>
                </a:lnTo>
                <a:lnTo>
                  <a:pt x="88105" y="3575"/>
                </a:lnTo>
                <a:lnTo>
                  <a:pt x="95143" y="2383"/>
                </a:lnTo>
                <a:lnTo>
                  <a:pt x="100683" y="1589"/>
                </a:lnTo>
                <a:lnTo>
                  <a:pt x="1143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InkAnnotation298"/>
          <p:cNvSpPr/>
          <p:nvPr/>
        </p:nvSpPr>
        <p:spPr>
          <a:xfrm>
            <a:off x="1577880" y="4708440"/>
            <a:ext cx="120600" cy="15840"/>
          </a:xfrm>
          <a:custGeom>
            <a:avLst/>
            <a:gdLst>
              <a:gd name="textAreaLeft" fmla="*/ 0 w 120600"/>
              <a:gd name="textAreaRight" fmla="*/ 120960 w 120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21921" h="1524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6084" y="6914"/>
                </a:lnTo>
                <a:lnTo>
                  <a:pt x="8289" y="7150"/>
                </a:lnTo>
                <a:lnTo>
                  <a:pt x="10606" y="7306"/>
                </a:lnTo>
                <a:lnTo>
                  <a:pt x="13844" y="8257"/>
                </a:lnTo>
                <a:lnTo>
                  <a:pt x="17696" y="9738"/>
                </a:lnTo>
                <a:lnTo>
                  <a:pt x="21957" y="11573"/>
                </a:lnTo>
                <a:lnTo>
                  <a:pt x="27338" y="12795"/>
                </a:lnTo>
                <a:lnTo>
                  <a:pt x="33465" y="13610"/>
                </a:lnTo>
                <a:lnTo>
                  <a:pt x="40090" y="14153"/>
                </a:lnTo>
                <a:lnTo>
                  <a:pt x="47047" y="14516"/>
                </a:lnTo>
                <a:lnTo>
                  <a:pt x="61550" y="14918"/>
                </a:lnTo>
                <a:lnTo>
                  <a:pt x="12192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InkAnnotation299"/>
          <p:cNvSpPr/>
          <p:nvPr/>
        </p:nvSpPr>
        <p:spPr>
          <a:xfrm>
            <a:off x="1816200" y="4473720"/>
            <a:ext cx="285480" cy="250560"/>
          </a:xfrm>
          <a:custGeom>
            <a:avLst/>
            <a:gdLst>
              <a:gd name="textAreaLeft" fmla="*/ 0 w 285480"/>
              <a:gd name="textAreaRight" fmla="*/ 285840 w 28548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85209" h="251409">
                <a:moveTo>
                  <a:pt x="4390" y="53328"/>
                </a:moveTo>
                <a:lnTo>
                  <a:pt x="0" y="53328"/>
                </a:lnTo>
                <a:lnTo>
                  <a:pt x="3645" y="53328"/>
                </a:lnTo>
                <a:lnTo>
                  <a:pt x="11173" y="47245"/>
                </a:lnTo>
                <a:lnTo>
                  <a:pt x="18976" y="42722"/>
                </a:lnTo>
                <a:lnTo>
                  <a:pt x="28088" y="37890"/>
                </a:lnTo>
                <a:lnTo>
                  <a:pt x="32889" y="35416"/>
                </a:lnTo>
                <a:lnTo>
                  <a:pt x="39476" y="32920"/>
                </a:lnTo>
                <a:lnTo>
                  <a:pt x="47254" y="30410"/>
                </a:lnTo>
                <a:lnTo>
                  <a:pt x="64081" y="25362"/>
                </a:lnTo>
                <a:lnTo>
                  <a:pt x="80026" y="20297"/>
                </a:lnTo>
                <a:lnTo>
                  <a:pt x="89527" y="17760"/>
                </a:lnTo>
                <a:lnTo>
                  <a:pt x="100095" y="15223"/>
                </a:lnTo>
                <a:lnTo>
                  <a:pt x="132936" y="7606"/>
                </a:lnTo>
                <a:lnTo>
                  <a:pt x="143427" y="5067"/>
                </a:lnTo>
                <a:lnTo>
                  <a:pt x="154655" y="3374"/>
                </a:lnTo>
                <a:lnTo>
                  <a:pt x="166373" y="2245"/>
                </a:lnTo>
                <a:lnTo>
                  <a:pt x="178419" y="1493"/>
                </a:lnTo>
                <a:lnTo>
                  <a:pt x="200834" y="657"/>
                </a:lnTo>
                <a:lnTo>
                  <a:pt x="238774" y="120"/>
                </a:lnTo>
                <a:lnTo>
                  <a:pt x="271518" y="0"/>
                </a:lnTo>
                <a:lnTo>
                  <a:pt x="273915" y="842"/>
                </a:lnTo>
                <a:lnTo>
                  <a:pt x="275513" y="2251"/>
                </a:lnTo>
                <a:lnTo>
                  <a:pt x="276579" y="4037"/>
                </a:lnTo>
                <a:lnTo>
                  <a:pt x="276443" y="6074"/>
                </a:lnTo>
                <a:lnTo>
                  <a:pt x="275505" y="8279"/>
                </a:lnTo>
                <a:lnTo>
                  <a:pt x="274034" y="10595"/>
                </a:lnTo>
                <a:lnTo>
                  <a:pt x="267883" y="15427"/>
                </a:lnTo>
                <a:lnTo>
                  <a:pt x="259505" y="20397"/>
                </a:lnTo>
                <a:lnTo>
                  <a:pt x="250136" y="25427"/>
                </a:lnTo>
                <a:lnTo>
                  <a:pt x="244421" y="28801"/>
                </a:lnTo>
                <a:lnTo>
                  <a:pt x="231297" y="37065"/>
                </a:lnTo>
                <a:lnTo>
                  <a:pt x="223395" y="40793"/>
                </a:lnTo>
                <a:lnTo>
                  <a:pt x="214740" y="44125"/>
                </a:lnTo>
                <a:lnTo>
                  <a:pt x="180561" y="55555"/>
                </a:lnTo>
                <a:lnTo>
                  <a:pt x="173484" y="58199"/>
                </a:lnTo>
                <a:lnTo>
                  <a:pt x="167073" y="60809"/>
                </a:lnTo>
                <a:lnTo>
                  <a:pt x="161105" y="63396"/>
                </a:lnTo>
                <a:lnTo>
                  <a:pt x="149959" y="68527"/>
                </a:lnTo>
                <a:lnTo>
                  <a:pt x="144616" y="71080"/>
                </a:lnTo>
                <a:lnTo>
                  <a:pt x="141054" y="73630"/>
                </a:lnTo>
                <a:lnTo>
                  <a:pt x="138679" y="76175"/>
                </a:lnTo>
                <a:lnTo>
                  <a:pt x="137096" y="78720"/>
                </a:lnTo>
                <a:lnTo>
                  <a:pt x="135337" y="83804"/>
                </a:lnTo>
                <a:lnTo>
                  <a:pt x="134868" y="86346"/>
                </a:lnTo>
                <a:lnTo>
                  <a:pt x="136249" y="88886"/>
                </a:lnTo>
                <a:lnTo>
                  <a:pt x="142298" y="93967"/>
                </a:lnTo>
                <a:lnTo>
                  <a:pt x="152890" y="101305"/>
                </a:lnTo>
                <a:lnTo>
                  <a:pt x="159270" y="105633"/>
                </a:lnTo>
                <a:lnTo>
                  <a:pt x="165216" y="110211"/>
                </a:lnTo>
                <a:lnTo>
                  <a:pt x="170875" y="114957"/>
                </a:lnTo>
                <a:lnTo>
                  <a:pt x="176340" y="119814"/>
                </a:lnTo>
                <a:lnTo>
                  <a:pt x="183370" y="123899"/>
                </a:lnTo>
                <a:lnTo>
                  <a:pt x="191443" y="127469"/>
                </a:lnTo>
                <a:lnTo>
                  <a:pt x="200212" y="130695"/>
                </a:lnTo>
                <a:lnTo>
                  <a:pt x="208598" y="134539"/>
                </a:lnTo>
                <a:lnTo>
                  <a:pt x="216729" y="138796"/>
                </a:lnTo>
                <a:lnTo>
                  <a:pt x="224689" y="143327"/>
                </a:lnTo>
                <a:lnTo>
                  <a:pt x="242566" y="152876"/>
                </a:lnTo>
                <a:lnTo>
                  <a:pt x="252073" y="157794"/>
                </a:lnTo>
                <a:lnTo>
                  <a:pt x="260106" y="162765"/>
                </a:lnTo>
                <a:lnTo>
                  <a:pt x="267154" y="167773"/>
                </a:lnTo>
                <a:lnTo>
                  <a:pt x="273546" y="172804"/>
                </a:lnTo>
                <a:lnTo>
                  <a:pt x="277808" y="177852"/>
                </a:lnTo>
                <a:lnTo>
                  <a:pt x="280648" y="182911"/>
                </a:lnTo>
                <a:lnTo>
                  <a:pt x="282542" y="187977"/>
                </a:lnTo>
                <a:lnTo>
                  <a:pt x="283805" y="192200"/>
                </a:lnTo>
                <a:lnTo>
                  <a:pt x="285208" y="199151"/>
                </a:lnTo>
                <a:lnTo>
                  <a:pt x="283889" y="203037"/>
                </a:lnTo>
                <a:lnTo>
                  <a:pt x="281316" y="207320"/>
                </a:lnTo>
                <a:lnTo>
                  <a:pt x="277907" y="211869"/>
                </a:lnTo>
                <a:lnTo>
                  <a:pt x="273095" y="215749"/>
                </a:lnTo>
                <a:lnTo>
                  <a:pt x="267346" y="219183"/>
                </a:lnTo>
                <a:lnTo>
                  <a:pt x="260975" y="222317"/>
                </a:lnTo>
                <a:lnTo>
                  <a:pt x="254186" y="225254"/>
                </a:lnTo>
                <a:lnTo>
                  <a:pt x="247121" y="228059"/>
                </a:lnTo>
                <a:lnTo>
                  <a:pt x="239871" y="230775"/>
                </a:lnTo>
                <a:lnTo>
                  <a:pt x="231650" y="233433"/>
                </a:lnTo>
                <a:lnTo>
                  <a:pt x="222784" y="236051"/>
                </a:lnTo>
                <a:lnTo>
                  <a:pt x="203901" y="241218"/>
                </a:lnTo>
                <a:lnTo>
                  <a:pt x="184219" y="246337"/>
                </a:lnTo>
                <a:lnTo>
                  <a:pt x="175076" y="248041"/>
                </a:lnTo>
                <a:lnTo>
                  <a:pt x="166441" y="249176"/>
                </a:lnTo>
                <a:lnTo>
                  <a:pt x="158144" y="249934"/>
                </a:lnTo>
                <a:lnTo>
                  <a:pt x="150073" y="250439"/>
                </a:lnTo>
                <a:lnTo>
                  <a:pt x="134331" y="250999"/>
                </a:lnTo>
                <a:lnTo>
                  <a:pt x="100398" y="251389"/>
                </a:lnTo>
                <a:lnTo>
                  <a:pt x="96335" y="251408"/>
                </a:lnTo>
                <a:lnTo>
                  <a:pt x="93627" y="250575"/>
                </a:lnTo>
                <a:lnTo>
                  <a:pt x="91821" y="249173"/>
                </a:lnTo>
                <a:lnTo>
                  <a:pt x="90618" y="247391"/>
                </a:lnTo>
                <a:lnTo>
                  <a:pt x="88968" y="246203"/>
                </a:lnTo>
                <a:lnTo>
                  <a:pt x="80590" y="2438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InkAnnotation300"/>
          <p:cNvSpPr/>
          <p:nvPr/>
        </p:nvSpPr>
        <p:spPr>
          <a:xfrm>
            <a:off x="2111400" y="4618080"/>
            <a:ext cx="196920" cy="128520"/>
          </a:xfrm>
          <a:custGeom>
            <a:avLst/>
            <a:gdLst>
              <a:gd name="textAreaLeft" fmla="*/ 0 w 196920"/>
              <a:gd name="textAreaRight" fmla="*/ 197280 w 1969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98121" h="129541">
                <a:moveTo>
                  <a:pt x="198120" y="0"/>
                </a:moveTo>
                <a:lnTo>
                  <a:pt x="194075" y="8091"/>
                </a:lnTo>
                <a:lnTo>
                  <a:pt x="192036" y="10474"/>
                </a:lnTo>
                <a:lnTo>
                  <a:pt x="189831" y="12063"/>
                </a:lnTo>
                <a:lnTo>
                  <a:pt x="187514" y="13122"/>
                </a:lnTo>
                <a:lnTo>
                  <a:pt x="184276" y="15521"/>
                </a:lnTo>
                <a:lnTo>
                  <a:pt x="180424" y="18814"/>
                </a:lnTo>
                <a:lnTo>
                  <a:pt x="176163" y="22703"/>
                </a:lnTo>
                <a:lnTo>
                  <a:pt x="170782" y="26989"/>
                </a:lnTo>
                <a:lnTo>
                  <a:pt x="164655" y="31539"/>
                </a:lnTo>
                <a:lnTo>
                  <a:pt x="158030" y="36266"/>
                </a:lnTo>
                <a:lnTo>
                  <a:pt x="151920" y="41111"/>
                </a:lnTo>
                <a:lnTo>
                  <a:pt x="146153" y="46034"/>
                </a:lnTo>
                <a:lnTo>
                  <a:pt x="140615" y="51009"/>
                </a:lnTo>
                <a:lnTo>
                  <a:pt x="133537" y="56020"/>
                </a:lnTo>
                <a:lnTo>
                  <a:pt x="125432" y="61053"/>
                </a:lnTo>
                <a:lnTo>
                  <a:pt x="116641" y="66102"/>
                </a:lnTo>
                <a:lnTo>
                  <a:pt x="109087" y="71161"/>
                </a:lnTo>
                <a:lnTo>
                  <a:pt x="102358" y="76228"/>
                </a:lnTo>
                <a:lnTo>
                  <a:pt x="96179" y="81299"/>
                </a:lnTo>
                <a:lnTo>
                  <a:pt x="89519" y="86373"/>
                </a:lnTo>
                <a:lnTo>
                  <a:pt x="75347" y="96526"/>
                </a:lnTo>
                <a:lnTo>
                  <a:pt x="67164" y="101604"/>
                </a:lnTo>
                <a:lnTo>
                  <a:pt x="58323" y="106682"/>
                </a:lnTo>
                <a:lnTo>
                  <a:pt x="41162" y="115995"/>
                </a:lnTo>
                <a:lnTo>
                  <a:pt x="27890" y="122956"/>
                </a:lnTo>
                <a:lnTo>
                  <a:pt x="21980" y="125150"/>
                </a:lnTo>
                <a:lnTo>
                  <a:pt x="16347" y="126614"/>
                </a:lnTo>
                <a:lnTo>
                  <a:pt x="0" y="1295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InkAnnotation301"/>
          <p:cNvSpPr/>
          <p:nvPr/>
        </p:nvSpPr>
        <p:spPr>
          <a:xfrm>
            <a:off x="2171880" y="4602240"/>
            <a:ext cx="182520" cy="122040"/>
          </a:xfrm>
          <a:custGeom>
            <a:avLst/>
            <a:gdLst>
              <a:gd name="textAreaLeft" fmla="*/ 0 w 182520"/>
              <a:gd name="textAreaRight" fmla="*/ 182880 w 1825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82881" h="121921">
                <a:moveTo>
                  <a:pt x="0" y="0"/>
                </a:moveTo>
                <a:lnTo>
                  <a:pt x="11352" y="0"/>
                </a:lnTo>
                <a:lnTo>
                  <a:pt x="12648" y="846"/>
                </a:lnTo>
                <a:lnTo>
                  <a:pt x="13512" y="2258"/>
                </a:lnTo>
                <a:lnTo>
                  <a:pt x="14088" y="4045"/>
                </a:lnTo>
                <a:lnTo>
                  <a:pt x="15319" y="6930"/>
                </a:lnTo>
                <a:lnTo>
                  <a:pt x="18944" y="14651"/>
                </a:lnTo>
                <a:lnTo>
                  <a:pt x="21943" y="18234"/>
                </a:lnTo>
                <a:lnTo>
                  <a:pt x="25635" y="21470"/>
                </a:lnTo>
                <a:lnTo>
                  <a:pt x="29790" y="24473"/>
                </a:lnTo>
                <a:lnTo>
                  <a:pt x="34254" y="28168"/>
                </a:lnTo>
                <a:lnTo>
                  <a:pt x="38922" y="32326"/>
                </a:lnTo>
                <a:lnTo>
                  <a:pt x="48625" y="41460"/>
                </a:lnTo>
                <a:lnTo>
                  <a:pt x="58582" y="51165"/>
                </a:lnTo>
                <a:lnTo>
                  <a:pt x="64455" y="56123"/>
                </a:lnTo>
                <a:lnTo>
                  <a:pt x="70910" y="61122"/>
                </a:lnTo>
                <a:lnTo>
                  <a:pt x="77753" y="66148"/>
                </a:lnTo>
                <a:lnTo>
                  <a:pt x="92130" y="76248"/>
                </a:lnTo>
                <a:lnTo>
                  <a:pt x="99520" y="81312"/>
                </a:lnTo>
                <a:lnTo>
                  <a:pt x="106987" y="85535"/>
                </a:lnTo>
                <a:lnTo>
                  <a:pt x="114505" y="89196"/>
                </a:lnTo>
                <a:lnTo>
                  <a:pt x="122057" y="92484"/>
                </a:lnTo>
                <a:lnTo>
                  <a:pt x="139479" y="100653"/>
                </a:lnTo>
                <a:lnTo>
                  <a:pt x="182880" y="1219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InkAnnotation302"/>
          <p:cNvSpPr/>
          <p:nvPr/>
        </p:nvSpPr>
        <p:spPr>
          <a:xfrm>
            <a:off x="2438280" y="4610160"/>
            <a:ext cx="144720" cy="15840"/>
          </a:xfrm>
          <a:custGeom>
            <a:avLst/>
            <a:gdLst>
              <a:gd name="textAreaLeft" fmla="*/ 0 w 144720"/>
              <a:gd name="textAreaRight" fmla="*/ 145080 w 1447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4781" h="15241">
                <a:moveTo>
                  <a:pt x="0" y="15240"/>
                </a:moveTo>
                <a:lnTo>
                  <a:pt x="4045" y="15240"/>
                </a:lnTo>
                <a:lnTo>
                  <a:pt x="7777" y="14394"/>
                </a:lnTo>
                <a:lnTo>
                  <a:pt x="12805" y="12983"/>
                </a:lnTo>
                <a:lnTo>
                  <a:pt x="18696" y="11195"/>
                </a:lnTo>
                <a:lnTo>
                  <a:pt x="25164" y="10003"/>
                </a:lnTo>
                <a:lnTo>
                  <a:pt x="32016" y="9209"/>
                </a:lnTo>
                <a:lnTo>
                  <a:pt x="39124" y="8679"/>
                </a:lnTo>
                <a:lnTo>
                  <a:pt x="48096" y="8326"/>
                </a:lnTo>
                <a:lnTo>
                  <a:pt x="69354" y="7934"/>
                </a:lnTo>
                <a:lnTo>
                  <a:pt x="80949" y="6983"/>
                </a:lnTo>
                <a:lnTo>
                  <a:pt x="92913" y="5502"/>
                </a:lnTo>
                <a:lnTo>
                  <a:pt x="105122" y="3668"/>
                </a:lnTo>
                <a:lnTo>
                  <a:pt x="114955" y="2445"/>
                </a:lnTo>
                <a:lnTo>
                  <a:pt x="123203" y="1630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InkAnnotation303"/>
          <p:cNvSpPr/>
          <p:nvPr/>
        </p:nvSpPr>
        <p:spPr>
          <a:xfrm>
            <a:off x="2674800" y="4457880"/>
            <a:ext cx="292320" cy="258480"/>
          </a:xfrm>
          <a:custGeom>
            <a:avLst/>
            <a:gdLst>
              <a:gd name="textAreaLeft" fmla="*/ 0 w 292320"/>
              <a:gd name="textAreaRight" fmla="*/ 292680 w 29232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291939" h="259053">
                <a:moveTo>
                  <a:pt x="0" y="15212"/>
                </a:moveTo>
                <a:lnTo>
                  <a:pt x="0" y="7906"/>
                </a:lnTo>
                <a:lnTo>
                  <a:pt x="8091" y="7685"/>
                </a:lnTo>
                <a:lnTo>
                  <a:pt x="13014" y="6808"/>
                </a:lnTo>
                <a:lnTo>
                  <a:pt x="18836" y="5376"/>
                </a:lnTo>
                <a:lnTo>
                  <a:pt x="25257" y="3574"/>
                </a:lnTo>
                <a:lnTo>
                  <a:pt x="32078" y="2374"/>
                </a:lnTo>
                <a:lnTo>
                  <a:pt x="39166" y="1573"/>
                </a:lnTo>
                <a:lnTo>
                  <a:pt x="46430" y="1039"/>
                </a:lnTo>
                <a:lnTo>
                  <a:pt x="53813" y="684"/>
                </a:lnTo>
                <a:lnTo>
                  <a:pt x="68791" y="288"/>
                </a:lnTo>
                <a:lnTo>
                  <a:pt x="128970" y="0"/>
                </a:lnTo>
                <a:lnTo>
                  <a:pt x="140167" y="837"/>
                </a:lnTo>
                <a:lnTo>
                  <a:pt x="151018" y="2242"/>
                </a:lnTo>
                <a:lnTo>
                  <a:pt x="161638" y="4025"/>
                </a:lnTo>
                <a:lnTo>
                  <a:pt x="171259" y="5215"/>
                </a:lnTo>
                <a:lnTo>
                  <a:pt x="180213" y="6007"/>
                </a:lnTo>
                <a:lnTo>
                  <a:pt x="188722" y="6536"/>
                </a:lnTo>
                <a:lnTo>
                  <a:pt x="196088" y="7734"/>
                </a:lnTo>
                <a:lnTo>
                  <a:pt x="202692" y="9380"/>
                </a:lnTo>
                <a:lnTo>
                  <a:pt x="208788" y="11324"/>
                </a:lnTo>
                <a:lnTo>
                  <a:pt x="214546" y="12620"/>
                </a:lnTo>
                <a:lnTo>
                  <a:pt x="220077" y="13484"/>
                </a:lnTo>
                <a:lnTo>
                  <a:pt x="225458" y="14060"/>
                </a:lnTo>
                <a:lnTo>
                  <a:pt x="233695" y="16958"/>
                </a:lnTo>
                <a:lnTo>
                  <a:pt x="237076" y="18916"/>
                </a:lnTo>
                <a:lnTo>
                  <a:pt x="239331" y="21068"/>
                </a:lnTo>
                <a:lnTo>
                  <a:pt x="240834" y="23350"/>
                </a:lnTo>
                <a:lnTo>
                  <a:pt x="241837" y="25717"/>
                </a:lnTo>
                <a:lnTo>
                  <a:pt x="241658" y="27295"/>
                </a:lnTo>
                <a:lnTo>
                  <a:pt x="240692" y="28347"/>
                </a:lnTo>
                <a:lnTo>
                  <a:pt x="239201" y="29049"/>
                </a:lnTo>
                <a:lnTo>
                  <a:pt x="233058" y="34082"/>
                </a:lnTo>
                <a:lnTo>
                  <a:pt x="226066" y="38556"/>
                </a:lnTo>
                <a:lnTo>
                  <a:pt x="221831" y="40935"/>
                </a:lnTo>
                <a:lnTo>
                  <a:pt x="216467" y="43367"/>
                </a:lnTo>
                <a:lnTo>
                  <a:pt x="210352" y="45835"/>
                </a:lnTo>
                <a:lnTo>
                  <a:pt x="203734" y="48328"/>
                </a:lnTo>
                <a:lnTo>
                  <a:pt x="197630" y="50836"/>
                </a:lnTo>
                <a:lnTo>
                  <a:pt x="191867" y="53355"/>
                </a:lnTo>
                <a:lnTo>
                  <a:pt x="186331" y="55880"/>
                </a:lnTo>
                <a:lnTo>
                  <a:pt x="180948" y="57564"/>
                </a:lnTo>
                <a:lnTo>
                  <a:pt x="175665" y="58687"/>
                </a:lnTo>
                <a:lnTo>
                  <a:pt x="170450" y="59436"/>
                </a:lnTo>
                <a:lnTo>
                  <a:pt x="162398" y="62524"/>
                </a:lnTo>
                <a:lnTo>
                  <a:pt x="155997" y="66719"/>
                </a:lnTo>
                <a:lnTo>
                  <a:pt x="150330" y="71406"/>
                </a:lnTo>
                <a:lnTo>
                  <a:pt x="148480" y="73842"/>
                </a:lnTo>
                <a:lnTo>
                  <a:pt x="146424" y="78806"/>
                </a:lnTo>
                <a:lnTo>
                  <a:pt x="146723" y="82161"/>
                </a:lnTo>
                <a:lnTo>
                  <a:pt x="147769" y="86091"/>
                </a:lnTo>
                <a:lnTo>
                  <a:pt x="149313" y="90405"/>
                </a:lnTo>
                <a:lnTo>
                  <a:pt x="152035" y="94974"/>
                </a:lnTo>
                <a:lnTo>
                  <a:pt x="155543" y="99714"/>
                </a:lnTo>
                <a:lnTo>
                  <a:pt x="159576" y="104566"/>
                </a:lnTo>
                <a:lnTo>
                  <a:pt x="164804" y="108648"/>
                </a:lnTo>
                <a:lnTo>
                  <a:pt x="170829" y="112216"/>
                </a:lnTo>
                <a:lnTo>
                  <a:pt x="177386" y="115441"/>
                </a:lnTo>
                <a:lnTo>
                  <a:pt x="184298" y="120132"/>
                </a:lnTo>
                <a:lnTo>
                  <a:pt x="191445" y="125798"/>
                </a:lnTo>
                <a:lnTo>
                  <a:pt x="198750" y="132116"/>
                </a:lnTo>
                <a:lnTo>
                  <a:pt x="206160" y="138021"/>
                </a:lnTo>
                <a:lnTo>
                  <a:pt x="213640" y="143652"/>
                </a:lnTo>
                <a:lnTo>
                  <a:pt x="228725" y="154423"/>
                </a:lnTo>
                <a:lnTo>
                  <a:pt x="243896" y="164855"/>
                </a:lnTo>
                <a:lnTo>
                  <a:pt x="250651" y="170007"/>
                </a:lnTo>
                <a:lnTo>
                  <a:pt x="256847" y="175135"/>
                </a:lnTo>
                <a:lnTo>
                  <a:pt x="262672" y="180247"/>
                </a:lnTo>
                <a:lnTo>
                  <a:pt x="268248" y="185349"/>
                </a:lnTo>
                <a:lnTo>
                  <a:pt x="278959" y="195533"/>
                </a:lnTo>
                <a:lnTo>
                  <a:pt x="283340" y="200619"/>
                </a:lnTo>
                <a:lnTo>
                  <a:pt x="287106" y="205704"/>
                </a:lnTo>
                <a:lnTo>
                  <a:pt x="290464" y="210787"/>
                </a:lnTo>
                <a:lnTo>
                  <a:pt x="291856" y="215022"/>
                </a:lnTo>
                <a:lnTo>
                  <a:pt x="291938" y="218692"/>
                </a:lnTo>
                <a:lnTo>
                  <a:pt x="290617" y="225028"/>
                </a:lnTo>
                <a:lnTo>
                  <a:pt x="290030" y="230665"/>
                </a:lnTo>
                <a:lnTo>
                  <a:pt x="288180" y="233355"/>
                </a:lnTo>
                <a:lnTo>
                  <a:pt x="281609" y="238600"/>
                </a:lnTo>
                <a:lnTo>
                  <a:pt x="273044" y="243753"/>
                </a:lnTo>
                <a:lnTo>
                  <a:pt x="268390" y="246313"/>
                </a:lnTo>
                <a:lnTo>
                  <a:pt x="262746" y="248866"/>
                </a:lnTo>
                <a:lnTo>
                  <a:pt x="256444" y="251415"/>
                </a:lnTo>
                <a:lnTo>
                  <a:pt x="249703" y="253960"/>
                </a:lnTo>
                <a:lnTo>
                  <a:pt x="242669" y="255658"/>
                </a:lnTo>
                <a:lnTo>
                  <a:pt x="235439" y="256789"/>
                </a:lnTo>
                <a:lnTo>
                  <a:pt x="228080" y="257543"/>
                </a:lnTo>
                <a:lnTo>
                  <a:pt x="221480" y="258046"/>
                </a:lnTo>
                <a:lnTo>
                  <a:pt x="215387" y="258381"/>
                </a:lnTo>
                <a:lnTo>
                  <a:pt x="209631" y="258605"/>
                </a:lnTo>
                <a:lnTo>
                  <a:pt x="189396" y="258919"/>
                </a:lnTo>
                <a:lnTo>
                  <a:pt x="114300" y="2590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InkAnnotation304"/>
          <p:cNvSpPr/>
          <p:nvPr/>
        </p:nvSpPr>
        <p:spPr>
          <a:xfrm>
            <a:off x="2506680" y="4784760"/>
            <a:ext cx="38160" cy="183960"/>
          </a:xfrm>
          <a:custGeom>
            <a:avLst/>
            <a:gdLst>
              <a:gd name="textAreaLeft" fmla="*/ 0 w 38160"/>
              <a:gd name="textAreaRight" fmla="*/ 38520 w 381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38101" h="182881">
                <a:moveTo>
                  <a:pt x="0" y="0"/>
                </a:moveTo>
                <a:lnTo>
                  <a:pt x="0" y="4045"/>
                </a:lnTo>
                <a:lnTo>
                  <a:pt x="847" y="6084"/>
                </a:lnTo>
                <a:lnTo>
                  <a:pt x="2258" y="8289"/>
                </a:lnTo>
                <a:lnTo>
                  <a:pt x="4045" y="10606"/>
                </a:lnTo>
                <a:lnTo>
                  <a:pt x="5237" y="13844"/>
                </a:lnTo>
                <a:lnTo>
                  <a:pt x="6031" y="17696"/>
                </a:lnTo>
                <a:lnTo>
                  <a:pt x="6561" y="21957"/>
                </a:lnTo>
                <a:lnTo>
                  <a:pt x="6914" y="26492"/>
                </a:lnTo>
                <a:lnTo>
                  <a:pt x="7149" y="31208"/>
                </a:lnTo>
                <a:lnTo>
                  <a:pt x="7306" y="36046"/>
                </a:lnTo>
                <a:lnTo>
                  <a:pt x="8257" y="40964"/>
                </a:lnTo>
                <a:lnTo>
                  <a:pt x="9738" y="45936"/>
                </a:lnTo>
                <a:lnTo>
                  <a:pt x="11572" y="50944"/>
                </a:lnTo>
                <a:lnTo>
                  <a:pt x="12795" y="56823"/>
                </a:lnTo>
                <a:lnTo>
                  <a:pt x="13610" y="63282"/>
                </a:lnTo>
                <a:lnTo>
                  <a:pt x="14153" y="70128"/>
                </a:lnTo>
                <a:lnTo>
                  <a:pt x="15362" y="77232"/>
                </a:lnTo>
                <a:lnTo>
                  <a:pt x="17015" y="84508"/>
                </a:lnTo>
                <a:lnTo>
                  <a:pt x="18963" y="91898"/>
                </a:lnTo>
                <a:lnTo>
                  <a:pt x="21109" y="99365"/>
                </a:lnTo>
                <a:lnTo>
                  <a:pt x="25750" y="114436"/>
                </a:lnTo>
                <a:lnTo>
                  <a:pt x="27327" y="122011"/>
                </a:lnTo>
                <a:lnTo>
                  <a:pt x="28378" y="129600"/>
                </a:lnTo>
                <a:lnTo>
                  <a:pt x="29079" y="137200"/>
                </a:lnTo>
                <a:lnTo>
                  <a:pt x="30392" y="144807"/>
                </a:lnTo>
                <a:lnTo>
                  <a:pt x="32115" y="152418"/>
                </a:lnTo>
                <a:lnTo>
                  <a:pt x="34110" y="160032"/>
                </a:lnTo>
                <a:lnTo>
                  <a:pt x="35440" y="165954"/>
                </a:lnTo>
                <a:lnTo>
                  <a:pt x="36327" y="170750"/>
                </a:lnTo>
                <a:lnTo>
                  <a:pt x="38100" y="1828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InkAnnotation305"/>
          <p:cNvSpPr/>
          <p:nvPr/>
        </p:nvSpPr>
        <p:spPr>
          <a:xfrm>
            <a:off x="2408400" y="4884840"/>
            <a:ext cx="144360" cy="7920"/>
          </a:xfrm>
          <a:custGeom>
            <a:avLst/>
            <a:gdLst>
              <a:gd name="textAreaLeft" fmla="*/ 0 w 144360"/>
              <a:gd name="textAreaRight" fmla="*/ 144720 w 144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44781" h="7621">
                <a:moveTo>
                  <a:pt x="0" y="7620"/>
                </a:moveTo>
                <a:lnTo>
                  <a:pt x="76754" y="7620"/>
                </a:lnTo>
                <a:lnTo>
                  <a:pt x="85036" y="6774"/>
                </a:lnTo>
                <a:lnTo>
                  <a:pt x="93944" y="5363"/>
                </a:lnTo>
                <a:lnTo>
                  <a:pt x="103269" y="3575"/>
                </a:lnTo>
                <a:lnTo>
                  <a:pt x="111180" y="2383"/>
                </a:lnTo>
                <a:lnTo>
                  <a:pt x="118147" y="1589"/>
                </a:lnTo>
                <a:lnTo>
                  <a:pt x="129557" y="706"/>
                </a:lnTo>
                <a:lnTo>
                  <a:pt x="1447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InkAnnotation306"/>
          <p:cNvSpPr/>
          <p:nvPr/>
        </p:nvSpPr>
        <p:spPr>
          <a:xfrm>
            <a:off x="2689200" y="4808520"/>
            <a:ext cx="300240" cy="258840"/>
          </a:xfrm>
          <a:custGeom>
            <a:avLst/>
            <a:gdLst>
              <a:gd name="textAreaLeft" fmla="*/ 0 w 300240"/>
              <a:gd name="textAreaRight" fmla="*/ 300600 w 3002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299691" h="259053">
                <a:moveTo>
                  <a:pt x="0" y="15212"/>
                </a:moveTo>
                <a:lnTo>
                  <a:pt x="0" y="7906"/>
                </a:lnTo>
                <a:lnTo>
                  <a:pt x="4045" y="7686"/>
                </a:lnTo>
                <a:lnTo>
                  <a:pt x="10547" y="5376"/>
                </a:lnTo>
                <a:lnTo>
                  <a:pt x="14651" y="3575"/>
                </a:lnTo>
                <a:lnTo>
                  <a:pt x="23727" y="1574"/>
                </a:lnTo>
                <a:lnTo>
                  <a:pt x="28518" y="1040"/>
                </a:lnTo>
                <a:lnTo>
                  <a:pt x="34252" y="684"/>
                </a:lnTo>
                <a:lnTo>
                  <a:pt x="47397" y="289"/>
                </a:lnTo>
                <a:lnTo>
                  <a:pt x="91587" y="0"/>
                </a:lnTo>
                <a:lnTo>
                  <a:pt x="100005" y="838"/>
                </a:lnTo>
                <a:lnTo>
                  <a:pt x="109003" y="2242"/>
                </a:lnTo>
                <a:lnTo>
                  <a:pt x="118389" y="4026"/>
                </a:lnTo>
                <a:lnTo>
                  <a:pt x="127186" y="5215"/>
                </a:lnTo>
                <a:lnTo>
                  <a:pt x="135591" y="6007"/>
                </a:lnTo>
                <a:lnTo>
                  <a:pt x="143734" y="6536"/>
                </a:lnTo>
                <a:lnTo>
                  <a:pt x="150856" y="7735"/>
                </a:lnTo>
                <a:lnTo>
                  <a:pt x="157298" y="9380"/>
                </a:lnTo>
                <a:lnTo>
                  <a:pt x="163285" y="11324"/>
                </a:lnTo>
                <a:lnTo>
                  <a:pt x="169817" y="12621"/>
                </a:lnTo>
                <a:lnTo>
                  <a:pt x="176711" y="13484"/>
                </a:lnTo>
                <a:lnTo>
                  <a:pt x="183847" y="14060"/>
                </a:lnTo>
                <a:lnTo>
                  <a:pt x="189452" y="15291"/>
                </a:lnTo>
                <a:lnTo>
                  <a:pt x="197936" y="18916"/>
                </a:lnTo>
                <a:lnTo>
                  <a:pt x="206787" y="21092"/>
                </a:lnTo>
                <a:lnTo>
                  <a:pt x="211518" y="21672"/>
                </a:lnTo>
                <a:lnTo>
                  <a:pt x="214672" y="22906"/>
                </a:lnTo>
                <a:lnTo>
                  <a:pt x="216775" y="24574"/>
                </a:lnTo>
                <a:lnTo>
                  <a:pt x="220150" y="29291"/>
                </a:lnTo>
                <a:lnTo>
                  <a:pt x="218733" y="30525"/>
                </a:lnTo>
                <a:lnTo>
                  <a:pt x="212644" y="34154"/>
                </a:lnTo>
                <a:lnTo>
                  <a:pt x="204293" y="38588"/>
                </a:lnTo>
                <a:lnTo>
                  <a:pt x="185134" y="48335"/>
                </a:lnTo>
                <a:lnTo>
                  <a:pt x="179303" y="50840"/>
                </a:lnTo>
                <a:lnTo>
                  <a:pt x="172875" y="53358"/>
                </a:lnTo>
                <a:lnTo>
                  <a:pt x="166050" y="55883"/>
                </a:lnTo>
                <a:lnTo>
                  <a:pt x="159807" y="58413"/>
                </a:lnTo>
                <a:lnTo>
                  <a:pt x="153951" y="60945"/>
                </a:lnTo>
                <a:lnTo>
                  <a:pt x="148354" y="63481"/>
                </a:lnTo>
                <a:lnTo>
                  <a:pt x="142929" y="66865"/>
                </a:lnTo>
                <a:lnTo>
                  <a:pt x="137620" y="70814"/>
                </a:lnTo>
                <a:lnTo>
                  <a:pt x="132387" y="75140"/>
                </a:lnTo>
                <a:lnTo>
                  <a:pt x="127204" y="78871"/>
                </a:lnTo>
                <a:lnTo>
                  <a:pt x="122056" y="82205"/>
                </a:lnTo>
                <a:lnTo>
                  <a:pt x="116931" y="85274"/>
                </a:lnTo>
                <a:lnTo>
                  <a:pt x="113514" y="88167"/>
                </a:lnTo>
                <a:lnTo>
                  <a:pt x="111236" y="90941"/>
                </a:lnTo>
                <a:lnTo>
                  <a:pt x="108705" y="96283"/>
                </a:lnTo>
                <a:lnTo>
                  <a:pt x="107580" y="101479"/>
                </a:lnTo>
                <a:lnTo>
                  <a:pt x="108974" y="104051"/>
                </a:lnTo>
                <a:lnTo>
                  <a:pt x="115037" y="109165"/>
                </a:lnTo>
                <a:lnTo>
                  <a:pt x="123376" y="114260"/>
                </a:lnTo>
                <a:lnTo>
                  <a:pt x="127971" y="116804"/>
                </a:lnTo>
                <a:lnTo>
                  <a:pt x="134421" y="119347"/>
                </a:lnTo>
                <a:lnTo>
                  <a:pt x="142107" y="121888"/>
                </a:lnTo>
                <a:lnTo>
                  <a:pt x="150618" y="124430"/>
                </a:lnTo>
                <a:lnTo>
                  <a:pt x="169106" y="129511"/>
                </a:lnTo>
                <a:lnTo>
                  <a:pt x="178777" y="132052"/>
                </a:lnTo>
                <a:lnTo>
                  <a:pt x="188612" y="135439"/>
                </a:lnTo>
                <a:lnTo>
                  <a:pt x="198555" y="139390"/>
                </a:lnTo>
                <a:lnTo>
                  <a:pt x="208569" y="143717"/>
                </a:lnTo>
                <a:lnTo>
                  <a:pt x="218633" y="147449"/>
                </a:lnTo>
                <a:lnTo>
                  <a:pt x="228729" y="150783"/>
                </a:lnTo>
                <a:lnTo>
                  <a:pt x="238846" y="153853"/>
                </a:lnTo>
                <a:lnTo>
                  <a:pt x="259118" y="159522"/>
                </a:lnTo>
                <a:lnTo>
                  <a:pt x="269265" y="162218"/>
                </a:lnTo>
                <a:lnTo>
                  <a:pt x="276877" y="164863"/>
                </a:lnTo>
                <a:lnTo>
                  <a:pt x="282798" y="167473"/>
                </a:lnTo>
                <a:lnTo>
                  <a:pt x="291635" y="172631"/>
                </a:lnTo>
                <a:lnTo>
                  <a:pt x="298384" y="177745"/>
                </a:lnTo>
                <a:lnTo>
                  <a:pt x="299676" y="180294"/>
                </a:lnTo>
                <a:lnTo>
                  <a:pt x="299690" y="182840"/>
                </a:lnTo>
                <a:lnTo>
                  <a:pt x="298854" y="185384"/>
                </a:lnTo>
                <a:lnTo>
                  <a:pt x="295666" y="190468"/>
                </a:lnTo>
                <a:lnTo>
                  <a:pt x="293631" y="193010"/>
                </a:lnTo>
                <a:lnTo>
                  <a:pt x="286854" y="198091"/>
                </a:lnTo>
                <a:lnTo>
                  <a:pt x="282676" y="200632"/>
                </a:lnTo>
                <a:lnTo>
                  <a:pt x="276504" y="203172"/>
                </a:lnTo>
                <a:lnTo>
                  <a:pt x="269003" y="205712"/>
                </a:lnTo>
                <a:lnTo>
                  <a:pt x="260615" y="208252"/>
                </a:lnTo>
                <a:lnTo>
                  <a:pt x="242265" y="213332"/>
                </a:lnTo>
                <a:lnTo>
                  <a:pt x="232630" y="215872"/>
                </a:lnTo>
                <a:lnTo>
                  <a:pt x="222820" y="219259"/>
                </a:lnTo>
                <a:lnTo>
                  <a:pt x="212893" y="223210"/>
                </a:lnTo>
                <a:lnTo>
                  <a:pt x="202889" y="227538"/>
                </a:lnTo>
                <a:lnTo>
                  <a:pt x="191986" y="230422"/>
                </a:lnTo>
                <a:lnTo>
                  <a:pt x="180484" y="232345"/>
                </a:lnTo>
                <a:lnTo>
                  <a:pt x="168583" y="233628"/>
                </a:lnTo>
                <a:lnTo>
                  <a:pt x="157262" y="236176"/>
                </a:lnTo>
                <a:lnTo>
                  <a:pt x="146328" y="239568"/>
                </a:lnTo>
                <a:lnTo>
                  <a:pt x="135652" y="243523"/>
                </a:lnTo>
                <a:lnTo>
                  <a:pt x="125148" y="246160"/>
                </a:lnTo>
                <a:lnTo>
                  <a:pt x="114759" y="247917"/>
                </a:lnTo>
                <a:lnTo>
                  <a:pt x="104446" y="249089"/>
                </a:lnTo>
                <a:lnTo>
                  <a:pt x="96724" y="250716"/>
                </a:lnTo>
                <a:lnTo>
                  <a:pt x="90730" y="252648"/>
                </a:lnTo>
                <a:lnTo>
                  <a:pt x="76200" y="2590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InkAnnotation307"/>
          <p:cNvSpPr/>
          <p:nvPr/>
        </p:nvSpPr>
        <p:spPr>
          <a:xfrm>
            <a:off x="708120" y="5089680"/>
            <a:ext cx="290520" cy="31680"/>
          </a:xfrm>
          <a:custGeom>
            <a:avLst/>
            <a:gdLst>
              <a:gd name="textAreaLeft" fmla="*/ 0 w 290520"/>
              <a:gd name="textAreaRight" fmla="*/ 290880 w 2905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9560" h="30473">
                <a:moveTo>
                  <a:pt x="7619" y="7612"/>
                </a:moveTo>
                <a:lnTo>
                  <a:pt x="3574" y="7612"/>
                </a:lnTo>
                <a:lnTo>
                  <a:pt x="2382" y="6765"/>
                </a:lnTo>
                <a:lnTo>
                  <a:pt x="1588" y="5355"/>
                </a:lnTo>
                <a:lnTo>
                  <a:pt x="7" y="19"/>
                </a:lnTo>
                <a:lnTo>
                  <a:pt x="2" y="0"/>
                </a:lnTo>
                <a:lnTo>
                  <a:pt x="0" y="4040"/>
                </a:lnTo>
                <a:lnTo>
                  <a:pt x="846" y="5230"/>
                </a:lnTo>
                <a:lnTo>
                  <a:pt x="2257" y="6024"/>
                </a:lnTo>
                <a:lnTo>
                  <a:pt x="6083" y="6907"/>
                </a:lnTo>
                <a:lnTo>
                  <a:pt x="10605" y="7299"/>
                </a:lnTo>
                <a:lnTo>
                  <a:pt x="14690" y="8250"/>
                </a:lnTo>
                <a:lnTo>
                  <a:pt x="19953" y="9730"/>
                </a:lnTo>
                <a:lnTo>
                  <a:pt x="26002" y="11565"/>
                </a:lnTo>
                <a:lnTo>
                  <a:pt x="32574" y="12787"/>
                </a:lnTo>
                <a:lnTo>
                  <a:pt x="39496" y="13602"/>
                </a:lnTo>
                <a:lnTo>
                  <a:pt x="46650" y="14145"/>
                </a:lnTo>
                <a:lnTo>
                  <a:pt x="55653" y="15354"/>
                </a:lnTo>
                <a:lnTo>
                  <a:pt x="65889" y="17007"/>
                </a:lnTo>
                <a:lnTo>
                  <a:pt x="76945" y="18955"/>
                </a:lnTo>
                <a:lnTo>
                  <a:pt x="87703" y="20254"/>
                </a:lnTo>
                <a:lnTo>
                  <a:pt x="98262" y="21120"/>
                </a:lnTo>
                <a:lnTo>
                  <a:pt x="108688" y="21698"/>
                </a:lnTo>
                <a:lnTo>
                  <a:pt x="131561" y="22339"/>
                </a:lnTo>
                <a:lnTo>
                  <a:pt x="143587" y="22510"/>
                </a:lnTo>
                <a:lnTo>
                  <a:pt x="154991" y="23471"/>
                </a:lnTo>
                <a:lnTo>
                  <a:pt x="165980" y="24958"/>
                </a:lnTo>
                <a:lnTo>
                  <a:pt x="176693" y="26796"/>
                </a:lnTo>
                <a:lnTo>
                  <a:pt x="188069" y="28022"/>
                </a:lnTo>
                <a:lnTo>
                  <a:pt x="199886" y="28838"/>
                </a:lnTo>
                <a:lnTo>
                  <a:pt x="222611" y="29746"/>
                </a:lnTo>
                <a:lnTo>
                  <a:pt x="248838" y="30257"/>
                </a:lnTo>
                <a:lnTo>
                  <a:pt x="289559" y="304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InkAnnotation308"/>
          <p:cNvSpPr/>
          <p:nvPr/>
        </p:nvSpPr>
        <p:spPr>
          <a:xfrm>
            <a:off x="1150920" y="4968720"/>
            <a:ext cx="238320" cy="285840"/>
          </a:xfrm>
          <a:custGeom>
            <a:avLst/>
            <a:gdLst>
              <a:gd name="textAreaLeft" fmla="*/ 0 w 238320"/>
              <a:gd name="textAreaRight" fmla="*/ 238680 w 2383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38565" h="286243">
                <a:moveTo>
                  <a:pt x="0" y="0"/>
                </a:moveTo>
                <a:lnTo>
                  <a:pt x="73142" y="0"/>
                </a:lnTo>
                <a:lnTo>
                  <a:pt x="81781" y="847"/>
                </a:lnTo>
                <a:lnTo>
                  <a:pt x="90081" y="2258"/>
                </a:lnTo>
                <a:lnTo>
                  <a:pt x="98154" y="4045"/>
                </a:lnTo>
                <a:lnTo>
                  <a:pt x="106923" y="5237"/>
                </a:lnTo>
                <a:lnTo>
                  <a:pt x="116155" y="6031"/>
                </a:lnTo>
                <a:lnTo>
                  <a:pt x="125697" y="6561"/>
                </a:lnTo>
                <a:lnTo>
                  <a:pt x="134598" y="7761"/>
                </a:lnTo>
                <a:lnTo>
                  <a:pt x="143072" y="9407"/>
                </a:lnTo>
                <a:lnTo>
                  <a:pt x="178968" y="18133"/>
                </a:lnTo>
                <a:lnTo>
                  <a:pt x="187892" y="20555"/>
                </a:lnTo>
                <a:lnTo>
                  <a:pt x="204581" y="25505"/>
                </a:lnTo>
                <a:lnTo>
                  <a:pt x="210894" y="28857"/>
                </a:lnTo>
                <a:lnTo>
                  <a:pt x="215949" y="32785"/>
                </a:lnTo>
                <a:lnTo>
                  <a:pt x="220166" y="37096"/>
                </a:lnTo>
                <a:lnTo>
                  <a:pt x="227110" y="41887"/>
                </a:lnTo>
                <a:lnTo>
                  <a:pt x="230146" y="43165"/>
                </a:lnTo>
                <a:lnTo>
                  <a:pt x="233018" y="45710"/>
                </a:lnTo>
                <a:lnTo>
                  <a:pt x="238466" y="53054"/>
                </a:lnTo>
                <a:lnTo>
                  <a:pt x="238564" y="56536"/>
                </a:lnTo>
                <a:lnTo>
                  <a:pt x="236936" y="59704"/>
                </a:lnTo>
                <a:lnTo>
                  <a:pt x="230612" y="65482"/>
                </a:lnTo>
                <a:lnTo>
                  <a:pt x="226554" y="68208"/>
                </a:lnTo>
                <a:lnTo>
                  <a:pt x="222156" y="70872"/>
                </a:lnTo>
                <a:lnTo>
                  <a:pt x="216684" y="73495"/>
                </a:lnTo>
                <a:lnTo>
                  <a:pt x="210496" y="76090"/>
                </a:lnTo>
                <a:lnTo>
                  <a:pt x="203831" y="78666"/>
                </a:lnTo>
                <a:lnTo>
                  <a:pt x="189652" y="83788"/>
                </a:lnTo>
                <a:lnTo>
                  <a:pt x="159853" y="93974"/>
                </a:lnTo>
                <a:lnTo>
                  <a:pt x="151442" y="96516"/>
                </a:lnTo>
                <a:lnTo>
                  <a:pt x="133065" y="101598"/>
                </a:lnTo>
                <a:lnTo>
                  <a:pt x="125964" y="104139"/>
                </a:lnTo>
                <a:lnTo>
                  <a:pt x="120383" y="106679"/>
                </a:lnTo>
                <a:lnTo>
                  <a:pt x="115815" y="109219"/>
                </a:lnTo>
                <a:lnTo>
                  <a:pt x="106225" y="114300"/>
                </a:lnTo>
                <a:lnTo>
                  <a:pt x="101297" y="116840"/>
                </a:lnTo>
                <a:lnTo>
                  <a:pt x="98011" y="119380"/>
                </a:lnTo>
                <a:lnTo>
                  <a:pt x="95821" y="121920"/>
                </a:lnTo>
                <a:lnTo>
                  <a:pt x="94361" y="124460"/>
                </a:lnTo>
                <a:lnTo>
                  <a:pt x="92738" y="129540"/>
                </a:lnTo>
                <a:lnTo>
                  <a:pt x="92305" y="132080"/>
                </a:lnTo>
                <a:lnTo>
                  <a:pt x="94083" y="139418"/>
                </a:lnTo>
                <a:lnTo>
                  <a:pt x="95742" y="143745"/>
                </a:lnTo>
                <a:lnTo>
                  <a:pt x="98541" y="147476"/>
                </a:lnTo>
                <a:lnTo>
                  <a:pt x="102101" y="150811"/>
                </a:lnTo>
                <a:lnTo>
                  <a:pt x="106167" y="153881"/>
                </a:lnTo>
                <a:lnTo>
                  <a:pt x="110572" y="157621"/>
                </a:lnTo>
                <a:lnTo>
                  <a:pt x="115201" y="161807"/>
                </a:lnTo>
                <a:lnTo>
                  <a:pt x="119981" y="166291"/>
                </a:lnTo>
                <a:lnTo>
                  <a:pt x="125707" y="170128"/>
                </a:lnTo>
                <a:lnTo>
                  <a:pt x="132065" y="173532"/>
                </a:lnTo>
                <a:lnTo>
                  <a:pt x="138843" y="176648"/>
                </a:lnTo>
                <a:lnTo>
                  <a:pt x="145902" y="180419"/>
                </a:lnTo>
                <a:lnTo>
                  <a:pt x="153148" y="184626"/>
                </a:lnTo>
                <a:lnTo>
                  <a:pt x="160519" y="189124"/>
                </a:lnTo>
                <a:lnTo>
                  <a:pt x="167126" y="193816"/>
                </a:lnTo>
                <a:lnTo>
                  <a:pt x="173224" y="198637"/>
                </a:lnTo>
                <a:lnTo>
                  <a:pt x="178983" y="203545"/>
                </a:lnTo>
                <a:lnTo>
                  <a:pt x="184515" y="208510"/>
                </a:lnTo>
                <a:lnTo>
                  <a:pt x="195178" y="218543"/>
                </a:lnTo>
                <a:lnTo>
                  <a:pt x="198699" y="223588"/>
                </a:lnTo>
                <a:lnTo>
                  <a:pt x="201046" y="228646"/>
                </a:lnTo>
                <a:lnTo>
                  <a:pt x="202610" y="233710"/>
                </a:lnTo>
                <a:lnTo>
                  <a:pt x="204349" y="241595"/>
                </a:lnTo>
                <a:lnTo>
                  <a:pt x="205122" y="247923"/>
                </a:lnTo>
                <a:lnTo>
                  <a:pt x="205465" y="253557"/>
                </a:lnTo>
                <a:lnTo>
                  <a:pt x="204710" y="256244"/>
                </a:lnTo>
                <a:lnTo>
                  <a:pt x="201614" y="261489"/>
                </a:lnTo>
                <a:lnTo>
                  <a:pt x="195157" y="266642"/>
                </a:lnTo>
                <a:lnTo>
                  <a:pt x="191065" y="269201"/>
                </a:lnTo>
                <a:lnTo>
                  <a:pt x="185797" y="271754"/>
                </a:lnTo>
                <a:lnTo>
                  <a:pt x="179744" y="274303"/>
                </a:lnTo>
                <a:lnTo>
                  <a:pt x="173170" y="276848"/>
                </a:lnTo>
                <a:lnTo>
                  <a:pt x="167093" y="278546"/>
                </a:lnTo>
                <a:lnTo>
                  <a:pt x="161349" y="279677"/>
                </a:lnTo>
                <a:lnTo>
                  <a:pt x="155826" y="280431"/>
                </a:lnTo>
                <a:lnTo>
                  <a:pt x="149604" y="280934"/>
                </a:lnTo>
                <a:lnTo>
                  <a:pt x="142916" y="281269"/>
                </a:lnTo>
                <a:lnTo>
                  <a:pt x="135917" y="281493"/>
                </a:lnTo>
                <a:lnTo>
                  <a:pt x="128712" y="282489"/>
                </a:lnTo>
                <a:lnTo>
                  <a:pt x="121368" y="283999"/>
                </a:lnTo>
                <a:lnTo>
                  <a:pt x="113932" y="285853"/>
                </a:lnTo>
                <a:lnTo>
                  <a:pt x="107281" y="286242"/>
                </a:lnTo>
                <a:lnTo>
                  <a:pt x="101154" y="285655"/>
                </a:lnTo>
                <a:lnTo>
                  <a:pt x="95376" y="284416"/>
                </a:lnTo>
                <a:lnTo>
                  <a:pt x="90678" y="283591"/>
                </a:lnTo>
                <a:lnTo>
                  <a:pt x="86698" y="283040"/>
                </a:lnTo>
                <a:lnTo>
                  <a:pt x="83199" y="282674"/>
                </a:lnTo>
                <a:lnTo>
                  <a:pt x="79173" y="282429"/>
                </a:lnTo>
                <a:lnTo>
                  <a:pt x="60960" y="2819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InkAnnotation309"/>
          <p:cNvSpPr/>
          <p:nvPr/>
        </p:nvSpPr>
        <p:spPr>
          <a:xfrm>
            <a:off x="1074600" y="5402160"/>
            <a:ext cx="30240" cy="297000"/>
          </a:xfrm>
          <a:custGeom>
            <a:avLst/>
            <a:gdLst>
              <a:gd name="textAreaLeft" fmla="*/ 0 w 30240"/>
              <a:gd name="textAreaRight" fmla="*/ 30600 w 302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30470" h="297181">
                <a:moveTo>
                  <a:pt x="30469" y="0"/>
                </a:moveTo>
                <a:lnTo>
                  <a:pt x="30469" y="13867"/>
                </a:lnTo>
                <a:lnTo>
                  <a:pt x="29623" y="16018"/>
                </a:lnTo>
                <a:lnTo>
                  <a:pt x="28211" y="19145"/>
                </a:lnTo>
                <a:lnTo>
                  <a:pt x="26424" y="22924"/>
                </a:lnTo>
                <a:lnTo>
                  <a:pt x="25232" y="26289"/>
                </a:lnTo>
                <a:lnTo>
                  <a:pt x="24438" y="29380"/>
                </a:lnTo>
                <a:lnTo>
                  <a:pt x="23908" y="32286"/>
                </a:lnTo>
                <a:lnTo>
                  <a:pt x="22709" y="36765"/>
                </a:lnTo>
                <a:lnTo>
                  <a:pt x="19118" y="48513"/>
                </a:lnTo>
                <a:lnTo>
                  <a:pt x="17822" y="55202"/>
                </a:lnTo>
                <a:lnTo>
                  <a:pt x="16958" y="62202"/>
                </a:lnTo>
                <a:lnTo>
                  <a:pt x="16381" y="69408"/>
                </a:lnTo>
                <a:lnTo>
                  <a:pt x="15151" y="76751"/>
                </a:lnTo>
                <a:lnTo>
                  <a:pt x="13483" y="84187"/>
                </a:lnTo>
                <a:lnTo>
                  <a:pt x="4724" y="118418"/>
                </a:lnTo>
                <a:lnTo>
                  <a:pt x="3146" y="128052"/>
                </a:lnTo>
                <a:lnTo>
                  <a:pt x="2094" y="137861"/>
                </a:lnTo>
                <a:lnTo>
                  <a:pt x="1392" y="147787"/>
                </a:lnTo>
                <a:lnTo>
                  <a:pt x="924" y="158638"/>
                </a:lnTo>
                <a:lnTo>
                  <a:pt x="405" y="181984"/>
                </a:lnTo>
                <a:lnTo>
                  <a:pt x="0" y="268680"/>
                </a:lnTo>
                <a:lnTo>
                  <a:pt x="843" y="274793"/>
                </a:lnTo>
                <a:lnTo>
                  <a:pt x="2252" y="280562"/>
                </a:lnTo>
                <a:lnTo>
                  <a:pt x="7609" y="297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InkAnnotation310"/>
          <p:cNvSpPr/>
          <p:nvPr/>
        </p:nvSpPr>
        <p:spPr>
          <a:xfrm>
            <a:off x="1158840" y="5448240"/>
            <a:ext cx="203400" cy="285840"/>
          </a:xfrm>
          <a:custGeom>
            <a:avLst/>
            <a:gdLst>
              <a:gd name="textAreaLeft" fmla="*/ 0 w 203400"/>
              <a:gd name="textAreaRight" fmla="*/ 203760 w 20340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03854" h="285023">
                <a:moveTo>
                  <a:pt x="114164" y="0"/>
                </a:moveTo>
                <a:lnTo>
                  <a:pt x="96252" y="0"/>
                </a:lnTo>
                <a:lnTo>
                  <a:pt x="93756" y="846"/>
                </a:lnTo>
                <a:lnTo>
                  <a:pt x="88725" y="4045"/>
                </a:lnTo>
                <a:lnTo>
                  <a:pt x="85351" y="5237"/>
                </a:lnTo>
                <a:lnTo>
                  <a:pt x="81409" y="6032"/>
                </a:lnTo>
                <a:lnTo>
                  <a:pt x="77087" y="6561"/>
                </a:lnTo>
                <a:lnTo>
                  <a:pt x="72513" y="6914"/>
                </a:lnTo>
                <a:lnTo>
                  <a:pt x="67770" y="7149"/>
                </a:lnTo>
                <a:lnTo>
                  <a:pt x="62915" y="7306"/>
                </a:lnTo>
                <a:lnTo>
                  <a:pt x="57984" y="8258"/>
                </a:lnTo>
                <a:lnTo>
                  <a:pt x="53004" y="9739"/>
                </a:lnTo>
                <a:lnTo>
                  <a:pt x="47991" y="11572"/>
                </a:lnTo>
                <a:lnTo>
                  <a:pt x="42955" y="12795"/>
                </a:lnTo>
                <a:lnTo>
                  <a:pt x="37905" y="13610"/>
                </a:lnTo>
                <a:lnTo>
                  <a:pt x="32844" y="14153"/>
                </a:lnTo>
                <a:lnTo>
                  <a:pt x="28624" y="15363"/>
                </a:lnTo>
                <a:lnTo>
                  <a:pt x="24964" y="17015"/>
                </a:lnTo>
                <a:lnTo>
                  <a:pt x="18640" y="20262"/>
                </a:lnTo>
                <a:lnTo>
                  <a:pt x="13006" y="21706"/>
                </a:lnTo>
                <a:lnTo>
                  <a:pt x="7680" y="24605"/>
                </a:lnTo>
                <a:lnTo>
                  <a:pt x="0" y="30378"/>
                </a:lnTo>
                <a:lnTo>
                  <a:pt x="3949" y="34495"/>
                </a:lnTo>
                <a:lnTo>
                  <a:pt x="6821" y="35697"/>
                </a:lnTo>
                <a:lnTo>
                  <a:pt x="10428" y="36498"/>
                </a:lnTo>
                <a:lnTo>
                  <a:pt x="14527" y="37032"/>
                </a:lnTo>
                <a:lnTo>
                  <a:pt x="19799" y="39081"/>
                </a:lnTo>
                <a:lnTo>
                  <a:pt x="25854" y="42141"/>
                </a:lnTo>
                <a:lnTo>
                  <a:pt x="32431" y="45874"/>
                </a:lnTo>
                <a:lnTo>
                  <a:pt x="39355" y="49209"/>
                </a:lnTo>
                <a:lnTo>
                  <a:pt x="46511" y="52280"/>
                </a:lnTo>
                <a:lnTo>
                  <a:pt x="53822" y="55173"/>
                </a:lnTo>
                <a:lnTo>
                  <a:pt x="62083" y="57949"/>
                </a:lnTo>
                <a:lnTo>
                  <a:pt x="70977" y="60646"/>
                </a:lnTo>
                <a:lnTo>
                  <a:pt x="80292" y="63291"/>
                </a:lnTo>
                <a:lnTo>
                  <a:pt x="89043" y="66747"/>
                </a:lnTo>
                <a:lnTo>
                  <a:pt x="97417" y="70745"/>
                </a:lnTo>
                <a:lnTo>
                  <a:pt x="114341" y="79702"/>
                </a:lnTo>
                <a:lnTo>
                  <a:pt x="133152" y="89327"/>
                </a:lnTo>
                <a:lnTo>
                  <a:pt x="141216" y="95112"/>
                </a:lnTo>
                <a:lnTo>
                  <a:pt x="148285" y="101508"/>
                </a:lnTo>
                <a:lnTo>
                  <a:pt x="161502" y="115388"/>
                </a:lnTo>
                <a:lnTo>
                  <a:pt x="175843" y="130023"/>
                </a:lnTo>
                <a:lnTo>
                  <a:pt x="181530" y="136636"/>
                </a:lnTo>
                <a:lnTo>
                  <a:pt x="186168" y="142737"/>
                </a:lnTo>
                <a:lnTo>
                  <a:pt x="190107" y="148498"/>
                </a:lnTo>
                <a:lnTo>
                  <a:pt x="193579" y="154879"/>
                </a:lnTo>
                <a:lnTo>
                  <a:pt x="196741" y="161673"/>
                </a:lnTo>
                <a:lnTo>
                  <a:pt x="199695" y="168742"/>
                </a:lnTo>
                <a:lnTo>
                  <a:pt x="201665" y="175995"/>
                </a:lnTo>
                <a:lnTo>
                  <a:pt x="202978" y="183370"/>
                </a:lnTo>
                <a:lnTo>
                  <a:pt x="203853" y="190827"/>
                </a:lnTo>
                <a:lnTo>
                  <a:pt x="203590" y="198338"/>
                </a:lnTo>
                <a:lnTo>
                  <a:pt x="202568" y="205885"/>
                </a:lnTo>
                <a:lnTo>
                  <a:pt x="201040" y="213457"/>
                </a:lnTo>
                <a:lnTo>
                  <a:pt x="199175" y="220198"/>
                </a:lnTo>
                <a:lnTo>
                  <a:pt x="197084" y="226386"/>
                </a:lnTo>
                <a:lnTo>
                  <a:pt x="194844" y="232204"/>
                </a:lnTo>
                <a:lnTo>
                  <a:pt x="192504" y="237776"/>
                </a:lnTo>
                <a:lnTo>
                  <a:pt x="190098" y="243184"/>
                </a:lnTo>
                <a:lnTo>
                  <a:pt x="187646" y="248483"/>
                </a:lnTo>
                <a:lnTo>
                  <a:pt x="183472" y="253708"/>
                </a:lnTo>
                <a:lnTo>
                  <a:pt x="178150" y="258886"/>
                </a:lnTo>
                <a:lnTo>
                  <a:pt x="172061" y="264031"/>
                </a:lnTo>
                <a:lnTo>
                  <a:pt x="166309" y="268307"/>
                </a:lnTo>
                <a:lnTo>
                  <a:pt x="160780" y="272005"/>
                </a:lnTo>
                <a:lnTo>
                  <a:pt x="155402" y="275316"/>
                </a:lnTo>
                <a:lnTo>
                  <a:pt x="149276" y="278371"/>
                </a:lnTo>
                <a:lnTo>
                  <a:pt x="142652" y="281254"/>
                </a:lnTo>
                <a:lnTo>
                  <a:pt x="135696" y="284023"/>
                </a:lnTo>
                <a:lnTo>
                  <a:pt x="129365" y="285022"/>
                </a:lnTo>
                <a:lnTo>
                  <a:pt x="123451" y="284841"/>
                </a:lnTo>
                <a:lnTo>
                  <a:pt x="117816" y="283874"/>
                </a:lnTo>
                <a:lnTo>
                  <a:pt x="112365" y="283230"/>
                </a:lnTo>
                <a:lnTo>
                  <a:pt x="107038" y="282799"/>
                </a:lnTo>
                <a:lnTo>
                  <a:pt x="101793" y="282513"/>
                </a:lnTo>
                <a:lnTo>
                  <a:pt x="96604" y="281475"/>
                </a:lnTo>
                <a:lnTo>
                  <a:pt x="91450" y="279937"/>
                </a:lnTo>
                <a:lnTo>
                  <a:pt x="86321" y="278065"/>
                </a:lnTo>
                <a:lnTo>
                  <a:pt x="81209" y="274277"/>
                </a:lnTo>
                <a:lnTo>
                  <a:pt x="76107" y="269212"/>
                </a:lnTo>
                <a:lnTo>
                  <a:pt x="71013" y="263294"/>
                </a:lnTo>
                <a:lnTo>
                  <a:pt x="65923" y="257656"/>
                </a:lnTo>
                <a:lnTo>
                  <a:pt x="55752" y="246876"/>
                </a:lnTo>
                <a:lnTo>
                  <a:pt x="51516" y="241631"/>
                </a:lnTo>
                <a:lnTo>
                  <a:pt x="47845" y="236441"/>
                </a:lnTo>
                <a:lnTo>
                  <a:pt x="37964" y="2209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InkAnnotation311"/>
          <p:cNvSpPr/>
          <p:nvPr/>
        </p:nvSpPr>
        <p:spPr>
          <a:xfrm>
            <a:off x="1273320" y="5448240"/>
            <a:ext cx="136440" cy="15840"/>
          </a:xfrm>
          <a:custGeom>
            <a:avLst/>
            <a:gdLst>
              <a:gd name="textAreaLeft" fmla="*/ 0 w 136440"/>
              <a:gd name="textAreaRight" fmla="*/ 136800 w 136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7161" h="15242">
                <a:moveTo>
                  <a:pt x="0" y="0"/>
                </a:moveTo>
                <a:lnTo>
                  <a:pt x="6561" y="0"/>
                </a:lnTo>
                <a:lnTo>
                  <a:pt x="8607" y="846"/>
                </a:lnTo>
                <a:lnTo>
                  <a:pt x="11665" y="2258"/>
                </a:lnTo>
                <a:lnTo>
                  <a:pt x="15396" y="4045"/>
                </a:lnTo>
                <a:lnTo>
                  <a:pt x="19578" y="5237"/>
                </a:lnTo>
                <a:lnTo>
                  <a:pt x="24059" y="6032"/>
                </a:lnTo>
                <a:lnTo>
                  <a:pt x="28739" y="6561"/>
                </a:lnTo>
                <a:lnTo>
                  <a:pt x="34399" y="6914"/>
                </a:lnTo>
                <a:lnTo>
                  <a:pt x="47462" y="7306"/>
                </a:lnTo>
                <a:lnTo>
                  <a:pt x="73141" y="7527"/>
                </a:lnTo>
                <a:lnTo>
                  <a:pt x="82627" y="8405"/>
                </a:lnTo>
                <a:lnTo>
                  <a:pt x="92338" y="9837"/>
                </a:lnTo>
                <a:lnTo>
                  <a:pt x="102199" y="11638"/>
                </a:lnTo>
                <a:lnTo>
                  <a:pt x="110466" y="12839"/>
                </a:lnTo>
                <a:lnTo>
                  <a:pt x="117670" y="13639"/>
                </a:lnTo>
                <a:lnTo>
                  <a:pt x="137160" y="152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InkAnnotation312"/>
          <p:cNvSpPr/>
          <p:nvPr/>
        </p:nvSpPr>
        <p:spPr>
          <a:xfrm>
            <a:off x="1531800" y="5516640"/>
            <a:ext cx="250920" cy="15840"/>
          </a:xfrm>
          <a:custGeom>
            <a:avLst/>
            <a:gdLst>
              <a:gd name="textAreaLeft" fmla="*/ 0 w 250920"/>
              <a:gd name="textAreaRight" fmla="*/ 251280 w 2509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51461" h="15214">
                <a:moveTo>
                  <a:pt x="0" y="7620"/>
                </a:moveTo>
                <a:lnTo>
                  <a:pt x="13122" y="14181"/>
                </a:lnTo>
                <a:lnTo>
                  <a:pt x="15521" y="14534"/>
                </a:lnTo>
                <a:lnTo>
                  <a:pt x="22703" y="14926"/>
                </a:lnTo>
                <a:lnTo>
                  <a:pt x="40311" y="15147"/>
                </a:lnTo>
                <a:lnTo>
                  <a:pt x="65661" y="15213"/>
                </a:lnTo>
                <a:lnTo>
                  <a:pt x="74254" y="14375"/>
                </a:lnTo>
                <a:lnTo>
                  <a:pt x="82523" y="12970"/>
                </a:lnTo>
                <a:lnTo>
                  <a:pt x="90575" y="11187"/>
                </a:lnTo>
                <a:lnTo>
                  <a:pt x="99330" y="9997"/>
                </a:lnTo>
                <a:lnTo>
                  <a:pt x="108554" y="9206"/>
                </a:lnTo>
                <a:lnTo>
                  <a:pt x="118089" y="8677"/>
                </a:lnTo>
                <a:lnTo>
                  <a:pt x="137715" y="8090"/>
                </a:lnTo>
                <a:lnTo>
                  <a:pt x="147690" y="7933"/>
                </a:lnTo>
                <a:lnTo>
                  <a:pt x="156880" y="6982"/>
                </a:lnTo>
                <a:lnTo>
                  <a:pt x="165547" y="5502"/>
                </a:lnTo>
                <a:lnTo>
                  <a:pt x="173865" y="3668"/>
                </a:lnTo>
                <a:lnTo>
                  <a:pt x="181950" y="2445"/>
                </a:lnTo>
                <a:lnTo>
                  <a:pt x="189880" y="1630"/>
                </a:lnTo>
                <a:lnTo>
                  <a:pt x="197707" y="1087"/>
                </a:lnTo>
                <a:lnTo>
                  <a:pt x="205464" y="725"/>
                </a:lnTo>
                <a:lnTo>
                  <a:pt x="226825" y="215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InkAnnotation313"/>
          <p:cNvSpPr/>
          <p:nvPr/>
        </p:nvSpPr>
        <p:spPr>
          <a:xfrm>
            <a:off x="1523880" y="5622840"/>
            <a:ext cx="174600" cy="31680"/>
          </a:xfrm>
          <a:custGeom>
            <a:avLst/>
            <a:gdLst>
              <a:gd name="textAreaLeft" fmla="*/ 0 w 174600"/>
              <a:gd name="textAreaRight" fmla="*/ 174960 w 1746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75261" h="30389">
                <a:moveTo>
                  <a:pt x="0" y="22860"/>
                </a:moveTo>
                <a:lnTo>
                  <a:pt x="4045" y="26905"/>
                </a:lnTo>
                <a:lnTo>
                  <a:pt x="6084" y="28097"/>
                </a:lnTo>
                <a:lnTo>
                  <a:pt x="8289" y="28892"/>
                </a:lnTo>
                <a:lnTo>
                  <a:pt x="12997" y="29774"/>
                </a:lnTo>
                <a:lnTo>
                  <a:pt x="17912" y="30166"/>
                </a:lnTo>
                <a:lnTo>
                  <a:pt x="25177" y="30341"/>
                </a:lnTo>
                <a:lnTo>
                  <a:pt x="29485" y="30388"/>
                </a:lnTo>
                <a:lnTo>
                  <a:pt x="35743" y="29572"/>
                </a:lnTo>
                <a:lnTo>
                  <a:pt x="43302" y="28181"/>
                </a:lnTo>
                <a:lnTo>
                  <a:pt x="51728" y="26408"/>
                </a:lnTo>
                <a:lnTo>
                  <a:pt x="59885" y="24379"/>
                </a:lnTo>
                <a:lnTo>
                  <a:pt x="67864" y="22179"/>
                </a:lnTo>
                <a:lnTo>
                  <a:pt x="75722" y="19866"/>
                </a:lnTo>
                <a:lnTo>
                  <a:pt x="85195" y="18324"/>
                </a:lnTo>
                <a:lnTo>
                  <a:pt x="95743" y="17296"/>
                </a:lnTo>
                <a:lnTo>
                  <a:pt x="107009" y="16611"/>
                </a:lnTo>
                <a:lnTo>
                  <a:pt x="117906" y="15307"/>
                </a:lnTo>
                <a:lnTo>
                  <a:pt x="128557" y="13591"/>
                </a:lnTo>
                <a:lnTo>
                  <a:pt x="139045" y="11601"/>
                </a:lnTo>
                <a:lnTo>
                  <a:pt x="147730" y="9427"/>
                </a:lnTo>
                <a:lnTo>
                  <a:pt x="155214" y="7131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InkAnnotation314"/>
          <p:cNvSpPr/>
          <p:nvPr/>
        </p:nvSpPr>
        <p:spPr>
          <a:xfrm>
            <a:off x="1806480" y="5334120"/>
            <a:ext cx="301680" cy="234720"/>
          </a:xfrm>
          <a:custGeom>
            <a:avLst/>
            <a:gdLst>
              <a:gd name="textAreaLeft" fmla="*/ 0 w 301680"/>
              <a:gd name="textAreaRight" fmla="*/ 302040 w 30168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302747" h="234988">
                <a:moveTo>
                  <a:pt x="0" y="15210"/>
                </a:moveTo>
                <a:lnTo>
                  <a:pt x="10606" y="15210"/>
                </a:lnTo>
                <a:lnTo>
                  <a:pt x="19954" y="12953"/>
                </a:lnTo>
                <a:lnTo>
                  <a:pt x="26003" y="11165"/>
                </a:lnTo>
                <a:lnTo>
                  <a:pt x="31729" y="9973"/>
                </a:lnTo>
                <a:lnTo>
                  <a:pt x="37239" y="9179"/>
                </a:lnTo>
                <a:lnTo>
                  <a:pt x="42606" y="8649"/>
                </a:lnTo>
                <a:lnTo>
                  <a:pt x="49571" y="7450"/>
                </a:lnTo>
                <a:lnTo>
                  <a:pt x="57601" y="5803"/>
                </a:lnTo>
                <a:lnTo>
                  <a:pt x="66340" y="3859"/>
                </a:lnTo>
                <a:lnTo>
                  <a:pt x="75554" y="2563"/>
                </a:lnTo>
                <a:lnTo>
                  <a:pt x="85083" y="1698"/>
                </a:lnTo>
                <a:lnTo>
                  <a:pt x="94822" y="1122"/>
                </a:lnTo>
                <a:lnTo>
                  <a:pt x="114674" y="482"/>
                </a:lnTo>
                <a:lnTo>
                  <a:pt x="159059" y="71"/>
                </a:lnTo>
                <a:lnTo>
                  <a:pt x="196048" y="0"/>
                </a:lnTo>
                <a:lnTo>
                  <a:pt x="206899" y="837"/>
                </a:lnTo>
                <a:lnTo>
                  <a:pt x="216672" y="2242"/>
                </a:lnTo>
                <a:lnTo>
                  <a:pt x="225728" y="4024"/>
                </a:lnTo>
                <a:lnTo>
                  <a:pt x="234306" y="5213"/>
                </a:lnTo>
                <a:lnTo>
                  <a:pt x="242564" y="6006"/>
                </a:lnTo>
                <a:lnTo>
                  <a:pt x="250609" y="6534"/>
                </a:lnTo>
                <a:lnTo>
                  <a:pt x="257666" y="7732"/>
                </a:lnTo>
                <a:lnTo>
                  <a:pt x="264064" y="9379"/>
                </a:lnTo>
                <a:lnTo>
                  <a:pt x="270023" y="11323"/>
                </a:lnTo>
                <a:lnTo>
                  <a:pt x="278901" y="13482"/>
                </a:lnTo>
                <a:lnTo>
                  <a:pt x="287455" y="14869"/>
                </a:lnTo>
                <a:lnTo>
                  <a:pt x="287310" y="14983"/>
                </a:lnTo>
                <a:lnTo>
                  <a:pt x="284891" y="15109"/>
                </a:lnTo>
                <a:lnTo>
                  <a:pt x="283061" y="15989"/>
                </a:lnTo>
                <a:lnTo>
                  <a:pt x="278769" y="19225"/>
                </a:lnTo>
                <a:lnTo>
                  <a:pt x="275593" y="20427"/>
                </a:lnTo>
                <a:lnTo>
                  <a:pt x="262185" y="22965"/>
                </a:lnTo>
                <a:lnTo>
                  <a:pt x="256070" y="24613"/>
                </a:lnTo>
                <a:lnTo>
                  <a:pt x="249454" y="26559"/>
                </a:lnTo>
                <a:lnTo>
                  <a:pt x="243349" y="27856"/>
                </a:lnTo>
                <a:lnTo>
                  <a:pt x="237586" y="28721"/>
                </a:lnTo>
                <a:lnTo>
                  <a:pt x="232051" y="29297"/>
                </a:lnTo>
                <a:lnTo>
                  <a:pt x="225820" y="30529"/>
                </a:lnTo>
                <a:lnTo>
                  <a:pt x="219127" y="32196"/>
                </a:lnTo>
                <a:lnTo>
                  <a:pt x="212125" y="34154"/>
                </a:lnTo>
                <a:lnTo>
                  <a:pt x="205763" y="35459"/>
                </a:lnTo>
                <a:lnTo>
                  <a:pt x="199829" y="36330"/>
                </a:lnTo>
                <a:lnTo>
                  <a:pt x="194179" y="36910"/>
                </a:lnTo>
                <a:lnTo>
                  <a:pt x="190413" y="38143"/>
                </a:lnTo>
                <a:lnTo>
                  <a:pt x="187902" y="39812"/>
                </a:lnTo>
                <a:lnTo>
                  <a:pt x="186228" y="41772"/>
                </a:lnTo>
                <a:lnTo>
                  <a:pt x="185112" y="43924"/>
                </a:lnTo>
                <a:lnTo>
                  <a:pt x="183872" y="48574"/>
                </a:lnTo>
                <a:lnTo>
                  <a:pt x="183321" y="53463"/>
                </a:lnTo>
                <a:lnTo>
                  <a:pt x="183174" y="55952"/>
                </a:lnTo>
                <a:lnTo>
                  <a:pt x="184769" y="59305"/>
                </a:lnTo>
                <a:lnTo>
                  <a:pt x="187526" y="63234"/>
                </a:lnTo>
                <a:lnTo>
                  <a:pt x="191057" y="67545"/>
                </a:lnTo>
                <a:lnTo>
                  <a:pt x="195952" y="72114"/>
                </a:lnTo>
                <a:lnTo>
                  <a:pt x="201755" y="76853"/>
                </a:lnTo>
                <a:lnTo>
                  <a:pt x="208163" y="81705"/>
                </a:lnTo>
                <a:lnTo>
                  <a:pt x="214975" y="87481"/>
                </a:lnTo>
                <a:lnTo>
                  <a:pt x="222057" y="93871"/>
                </a:lnTo>
                <a:lnTo>
                  <a:pt x="235852" y="106897"/>
                </a:lnTo>
                <a:lnTo>
                  <a:pt x="260764" y="131315"/>
                </a:lnTo>
                <a:lnTo>
                  <a:pt x="285847" y="156302"/>
                </a:lnTo>
                <a:lnTo>
                  <a:pt x="290472" y="161764"/>
                </a:lnTo>
                <a:lnTo>
                  <a:pt x="294401" y="167099"/>
                </a:lnTo>
                <a:lnTo>
                  <a:pt x="297868" y="172350"/>
                </a:lnTo>
                <a:lnTo>
                  <a:pt x="300178" y="177543"/>
                </a:lnTo>
                <a:lnTo>
                  <a:pt x="301719" y="182699"/>
                </a:lnTo>
                <a:lnTo>
                  <a:pt x="302746" y="187829"/>
                </a:lnTo>
                <a:lnTo>
                  <a:pt x="302584" y="192943"/>
                </a:lnTo>
                <a:lnTo>
                  <a:pt x="301629" y="198046"/>
                </a:lnTo>
                <a:lnTo>
                  <a:pt x="300147" y="203141"/>
                </a:lnTo>
                <a:lnTo>
                  <a:pt x="297464" y="207383"/>
                </a:lnTo>
                <a:lnTo>
                  <a:pt x="289968" y="214357"/>
                </a:lnTo>
                <a:lnTo>
                  <a:pt x="280993" y="220277"/>
                </a:lnTo>
                <a:lnTo>
                  <a:pt x="276229" y="223042"/>
                </a:lnTo>
                <a:lnTo>
                  <a:pt x="270512" y="224885"/>
                </a:lnTo>
                <a:lnTo>
                  <a:pt x="264162" y="226112"/>
                </a:lnTo>
                <a:lnTo>
                  <a:pt x="257388" y="226933"/>
                </a:lnTo>
                <a:lnTo>
                  <a:pt x="250332" y="228324"/>
                </a:lnTo>
                <a:lnTo>
                  <a:pt x="243088" y="230100"/>
                </a:lnTo>
                <a:lnTo>
                  <a:pt x="235719" y="232130"/>
                </a:lnTo>
                <a:lnTo>
                  <a:pt x="227419" y="233484"/>
                </a:lnTo>
                <a:lnTo>
                  <a:pt x="218499" y="234386"/>
                </a:lnTo>
                <a:lnTo>
                  <a:pt x="209166" y="234987"/>
                </a:lnTo>
                <a:lnTo>
                  <a:pt x="200404" y="234541"/>
                </a:lnTo>
                <a:lnTo>
                  <a:pt x="192023" y="233398"/>
                </a:lnTo>
                <a:lnTo>
                  <a:pt x="183895" y="231788"/>
                </a:lnTo>
                <a:lnTo>
                  <a:pt x="175937" y="230716"/>
                </a:lnTo>
                <a:lnTo>
                  <a:pt x="168091" y="230001"/>
                </a:lnTo>
                <a:lnTo>
                  <a:pt x="160321" y="229523"/>
                </a:lnTo>
                <a:lnTo>
                  <a:pt x="147172" y="228994"/>
                </a:lnTo>
                <a:lnTo>
                  <a:pt x="141294" y="228853"/>
                </a:lnTo>
                <a:lnTo>
                  <a:pt x="136530" y="227912"/>
                </a:lnTo>
                <a:lnTo>
                  <a:pt x="128978" y="224609"/>
                </a:lnTo>
                <a:lnTo>
                  <a:pt x="120541" y="222576"/>
                </a:lnTo>
                <a:lnTo>
                  <a:pt x="106680" y="22095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InkAnnotation315"/>
          <p:cNvSpPr/>
          <p:nvPr/>
        </p:nvSpPr>
        <p:spPr>
          <a:xfrm>
            <a:off x="2247840" y="5532480"/>
            <a:ext cx="130320" cy="52200"/>
          </a:xfrm>
          <a:custGeom>
            <a:avLst/>
            <a:gdLst>
              <a:gd name="textAreaLeft" fmla="*/ 0 w 130320"/>
              <a:gd name="textAreaRight" fmla="*/ 130680 w 1303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29541" h="53341">
                <a:moveTo>
                  <a:pt x="129540" y="0"/>
                </a:moveTo>
                <a:lnTo>
                  <a:pt x="125495" y="4045"/>
                </a:lnTo>
                <a:lnTo>
                  <a:pt x="123457" y="5237"/>
                </a:lnTo>
                <a:lnTo>
                  <a:pt x="121252" y="6032"/>
                </a:lnTo>
                <a:lnTo>
                  <a:pt x="118934" y="6561"/>
                </a:lnTo>
                <a:lnTo>
                  <a:pt x="115696" y="6914"/>
                </a:lnTo>
                <a:lnTo>
                  <a:pt x="111844" y="7149"/>
                </a:lnTo>
                <a:lnTo>
                  <a:pt x="107583" y="7306"/>
                </a:lnTo>
                <a:lnTo>
                  <a:pt x="102202" y="8258"/>
                </a:lnTo>
                <a:lnTo>
                  <a:pt x="96075" y="9739"/>
                </a:lnTo>
                <a:lnTo>
                  <a:pt x="89450" y="11572"/>
                </a:lnTo>
                <a:lnTo>
                  <a:pt x="82493" y="14488"/>
                </a:lnTo>
                <a:lnTo>
                  <a:pt x="75315" y="18125"/>
                </a:lnTo>
                <a:lnTo>
                  <a:pt x="67990" y="22244"/>
                </a:lnTo>
                <a:lnTo>
                  <a:pt x="60567" y="25836"/>
                </a:lnTo>
                <a:lnTo>
                  <a:pt x="53078" y="29078"/>
                </a:lnTo>
                <a:lnTo>
                  <a:pt x="45545" y="32085"/>
                </a:lnTo>
                <a:lnTo>
                  <a:pt x="30403" y="37684"/>
                </a:lnTo>
                <a:lnTo>
                  <a:pt x="22808" y="40363"/>
                </a:lnTo>
                <a:lnTo>
                  <a:pt x="16899" y="42996"/>
                </a:lnTo>
                <a:lnTo>
                  <a:pt x="12113" y="45597"/>
                </a:lnTo>
                <a:lnTo>
                  <a:pt x="0" y="533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InkAnnotation316"/>
          <p:cNvSpPr/>
          <p:nvPr/>
        </p:nvSpPr>
        <p:spPr>
          <a:xfrm>
            <a:off x="2209680" y="5425920"/>
            <a:ext cx="244440" cy="190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243841" h="190501">
                <a:moveTo>
                  <a:pt x="0" y="0"/>
                </a:moveTo>
                <a:lnTo>
                  <a:pt x="4045" y="4044"/>
                </a:lnTo>
                <a:lnTo>
                  <a:pt x="10547" y="8288"/>
                </a:lnTo>
                <a:lnTo>
                  <a:pt x="14651" y="10605"/>
                </a:lnTo>
                <a:lnTo>
                  <a:pt x="17388" y="12997"/>
                </a:lnTo>
                <a:lnTo>
                  <a:pt x="19212" y="15438"/>
                </a:lnTo>
                <a:lnTo>
                  <a:pt x="20428" y="17911"/>
                </a:lnTo>
                <a:lnTo>
                  <a:pt x="23779" y="21254"/>
                </a:lnTo>
                <a:lnTo>
                  <a:pt x="28552" y="25175"/>
                </a:lnTo>
                <a:lnTo>
                  <a:pt x="34275" y="29483"/>
                </a:lnTo>
                <a:lnTo>
                  <a:pt x="40630" y="34895"/>
                </a:lnTo>
                <a:lnTo>
                  <a:pt x="47406" y="41044"/>
                </a:lnTo>
                <a:lnTo>
                  <a:pt x="61710" y="54648"/>
                </a:lnTo>
                <a:lnTo>
                  <a:pt x="76533" y="69161"/>
                </a:lnTo>
                <a:lnTo>
                  <a:pt x="84889" y="76588"/>
                </a:lnTo>
                <a:lnTo>
                  <a:pt x="93846" y="84078"/>
                </a:lnTo>
                <a:lnTo>
                  <a:pt x="112829" y="99174"/>
                </a:lnTo>
                <a:lnTo>
                  <a:pt x="166746" y="141219"/>
                </a:lnTo>
                <a:lnTo>
                  <a:pt x="178898" y="150026"/>
                </a:lnTo>
                <a:lnTo>
                  <a:pt x="191232" y="158437"/>
                </a:lnTo>
                <a:lnTo>
                  <a:pt x="203688" y="166585"/>
                </a:lnTo>
                <a:lnTo>
                  <a:pt x="213685" y="172863"/>
                </a:lnTo>
                <a:lnTo>
                  <a:pt x="222044" y="177895"/>
                </a:lnTo>
                <a:lnTo>
                  <a:pt x="243840" y="1905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InkAnnotation317"/>
          <p:cNvSpPr/>
          <p:nvPr/>
        </p:nvSpPr>
        <p:spPr>
          <a:xfrm>
            <a:off x="2141640" y="5676840"/>
            <a:ext cx="609480" cy="3816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09601" h="38101">
                <a:moveTo>
                  <a:pt x="0" y="38100"/>
                </a:moveTo>
                <a:lnTo>
                  <a:pt x="24473" y="38100"/>
                </a:lnTo>
                <a:lnTo>
                  <a:pt x="29016" y="37254"/>
                </a:lnTo>
                <a:lnTo>
                  <a:pt x="34584" y="35842"/>
                </a:lnTo>
                <a:lnTo>
                  <a:pt x="40836" y="34055"/>
                </a:lnTo>
                <a:lnTo>
                  <a:pt x="49237" y="32863"/>
                </a:lnTo>
                <a:lnTo>
                  <a:pt x="59071" y="32069"/>
                </a:lnTo>
                <a:lnTo>
                  <a:pt x="69861" y="31539"/>
                </a:lnTo>
                <a:lnTo>
                  <a:pt x="95396" y="30951"/>
                </a:lnTo>
                <a:lnTo>
                  <a:pt x="109317" y="30794"/>
                </a:lnTo>
                <a:lnTo>
                  <a:pt x="123678" y="29843"/>
                </a:lnTo>
                <a:lnTo>
                  <a:pt x="138333" y="28362"/>
                </a:lnTo>
                <a:lnTo>
                  <a:pt x="153182" y="26528"/>
                </a:lnTo>
                <a:lnTo>
                  <a:pt x="168161" y="25305"/>
                </a:lnTo>
                <a:lnTo>
                  <a:pt x="183228" y="24490"/>
                </a:lnTo>
                <a:lnTo>
                  <a:pt x="198352" y="23947"/>
                </a:lnTo>
                <a:lnTo>
                  <a:pt x="214361" y="22738"/>
                </a:lnTo>
                <a:lnTo>
                  <a:pt x="230961" y="21085"/>
                </a:lnTo>
                <a:lnTo>
                  <a:pt x="247954" y="19137"/>
                </a:lnTo>
                <a:lnTo>
                  <a:pt x="265209" y="17838"/>
                </a:lnTo>
                <a:lnTo>
                  <a:pt x="282640" y="16972"/>
                </a:lnTo>
                <a:lnTo>
                  <a:pt x="300187" y="16395"/>
                </a:lnTo>
                <a:lnTo>
                  <a:pt x="316964" y="15163"/>
                </a:lnTo>
                <a:lnTo>
                  <a:pt x="333230" y="13496"/>
                </a:lnTo>
                <a:lnTo>
                  <a:pt x="349153" y="11537"/>
                </a:lnTo>
                <a:lnTo>
                  <a:pt x="365696" y="10232"/>
                </a:lnTo>
                <a:lnTo>
                  <a:pt x="382650" y="9361"/>
                </a:lnTo>
                <a:lnTo>
                  <a:pt x="416447" y="8394"/>
                </a:lnTo>
                <a:lnTo>
                  <a:pt x="494951" y="7722"/>
                </a:lnTo>
                <a:lnTo>
                  <a:pt x="509460" y="6841"/>
                </a:lnTo>
                <a:lnTo>
                  <a:pt x="523367" y="5408"/>
                </a:lnTo>
                <a:lnTo>
                  <a:pt x="536871" y="3605"/>
                </a:lnTo>
                <a:lnTo>
                  <a:pt x="549261" y="2403"/>
                </a:lnTo>
                <a:lnTo>
                  <a:pt x="560908" y="1603"/>
                </a:lnTo>
                <a:lnTo>
                  <a:pt x="581186" y="712"/>
                </a:lnTo>
                <a:lnTo>
                  <a:pt x="60960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InkAnnotation318"/>
          <p:cNvSpPr/>
          <p:nvPr/>
        </p:nvSpPr>
        <p:spPr>
          <a:xfrm>
            <a:off x="1150920" y="5883120"/>
            <a:ext cx="593640" cy="14400"/>
          </a:xfrm>
          <a:custGeom>
            <a:avLst/>
            <a:gdLst>
              <a:gd name="textAreaLeft" fmla="*/ 0 w 593640"/>
              <a:gd name="textAreaRight" fmla="*/ 594000 w 5936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594361" h="15240">
                <a:moveTo>
                  <a:pt x="0" y="15239"/>
                </a:moveTo>
                <a:lnTo>
                  <a:pt x="102128" y="15239"/>
                </a:lnTo>
                <a:lnTo>
                  <a:pt x="112959" y="14392"/>
                </a:lnTo>
                <a:lnTo>
                  <a:pt x="124413" y="12982"/>
                </a:lnTo>
                <a:lnTo>
                  <a:pt x="136282" y="11195"/>
                </a:lnTo>
                <a:lnTo>
                  <a:pt x="149274" y="10002"/>
                </a:lnTo>
                <a:lnTo>
                  <a:pt x="163016" y="9208"/>
                </a:lnTo>
                <a:lnTo>
                  <a:pt x="191832" y="8325"/>
                </a:lnTo>
                <a:lnTo>
                  <a:pt x="282904" y="7681"/>
                </a:lnTo>
                <a:lnTo>
                  <a:pt x="424293" y="7622"/>
                </a:lnTo>
                <a:lnTo>
                  <a:pt x="442035" y="6774"/>
                </a:lnTo>
                <a:lnTo>
                  <a:pt x="460637" y="5363"/>
                </a:lnTo>
                <a:lnTo>
                  <a:pt x="479811" y="3575"/>
                </a:lnTo>
                <a:lnTo>
                  <a:pt x="498521" y="2383"/>
                </a:lnTo>
                <a:lnTo>
                  <a:pt x="535114" y="1059"/>
                </a:lnTo>
                <a:lnTo>
                  <a:pt x="594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InkAnnotation319"/>
          <p:cNvSpPr/>
          <p:nvPr/>
        </p:nvSpPr>
        <p:spPr>
          <a:xfrm>
            <a:off x="2324160" y="5769000"/>
            <a:ext cx="336600" cy="243000"/>
          </a:xfrm>
          <a:custGeom>
            <a:avLst/>
            <a:gdLst>
              <a:gd name="textAreaLeft" fmla="*/ 0 w 336600"/>
              <a:gd name="textAreaRight" fmla="*/ 336960 w 336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336843" h="243818">
                <a:moveTo>
                  <a:pt x="0" y="0"/>
                </a:moveTo>
                <a:lnTo>
                  <a:pt x="15397" y="0"/>
                </a:lnTo>
                <a:lnTo>
                  <a:pt x="20424" y="846"/>
                </a:lnTo>
                <a:lnTo>
                  <a:pt x="26316" y="2257"/>
                </a:lnTo>
                <a:lnTo>
                  <a:pt x="32784" y="4044"/>
                </a:lnTo>
                <a:lnTo>
                  <a:pt x="40483" y="5236"/>
                </a:lnTo>
                <a:lnTo>
                  <a:pt x="49002" y="6031"/>
                </a:lnTo>
                <a:lnTo>
                  <a:pt x="58068" y="6560"/>
                </a:lnTo>
                <a:lnTo>
                  <a:pt x="77172" y="7149"/>
                </a:lnTo>
                <a:lnTo>
                  <a:pt x="87008" y="7305"/>
                </a:lnTo>
                <a:lnTo>
                  <a:pt x="97799" y="8257"/>
                </a:lnTo>
                <a:lnTo>
                  <a:pt x="109226" y="9738"/>
                </a:lnTo>
                <a:lnTo>
                  <a:pt x="162028" y="18198"/>
                </a:lnTo>
                <a:lnTo>
                  <a:pt x="175752" y="21446"/>
                </a:lnTo>
                <a:lnTo>
                  <a:pt x="189135" y="25303"/>
                </a:lnTo>
                <a:lnTo>
                  <a:pt x="202290" y="29568"/>
                </a:lnTo>
                <a:lnTo>
                  <a:pt x="215293" y="34106"/>
                </a:lnTo>
                <a:lnTo>
                  <a:pt x="271230" y="54517"/>
                </a:lnTo>
                <a:lnTo>
                  <a:pt x="279880" y="58357"/>
                </a:lnTo>
                <a:lnTo>
                  <a:pt x="288187" y="62612"/>
                </a:lnTo>
                <a:lnTo>
                  <a:pt x="296264" y="67141"/>
                </a:lnTo>
                <a:lnTo>
                  <a:pt x="302496" y="71007"/>
                </a:lnTo>
                <a:lnTo>
                  <a:pt x="311678" y="77561"/>
                </a:lnTo>
                <a:lnTo>
                  <a:pt x="317562" y="81965"/>
                </a:lnTo>
                <a:lnTo>
                  <a:pt x="317542" y="83430"/>
                </a:lnTo>
                <a:lnTo>
                  <a:pt x="316681" y="85253"/>
                </a:lnTo>
                <a:lnTo>
                  <a:pt x="315261" y="87315"/>
                </a:lnTo>
                <a:lnTo>
                  <a:pt x="312620" y="88690"/>
                </a:lnTo>
                <a:lnTo>
                  <a:pt x="305171" y="90217"/>
                </a:lnTo>
                <a:lnTo>
                  <a:pt x="299121" y="90625"/>
                </a:lnTo>
                <a:lnTo>
                  <a:pt x="291701" y="90896"/>
                </a:lnTo>
                <a:lnTo>
                  <a:pt x="283367" y="91077"/>
                </a:lnTo>
                <a:lnTo>
                  <a:pt x="274425" y="90351"/>
                </a:lnTo>
                <a:lnTo>
                  <a:pt x="265077" y="89020"/>
                </a:lnTo>
                <a:lnTo>
                  <a:pt x="255458" y="87286"/>
                </a:lnTo>
                <a:lnTo>
                  <a:pt x="245658" y="86131"/>
                </a:lnTo>
                <a:lnTo>
                  <a:pt x="235739" y="85360"/>
                </a:lnTo>
                <a:lnTo>
                  <a:pt x="225740" y="84847"/>
                </a:lnTo>
                <a:lnTo>
                  <a:pt x="215686" y="83658"/>
                </a:lnTo>
                <a:lnTo>
                  <a:pt x="205598" y="82018"/>
                </a:lnTo>
                <a:lnTo>
                  <a:pt x="195485" y="80078"/>
                </a:lnTo>
                <a:lnTo>
                  <a:pt x="187050" y="79632"/>
                </a:lnTo>
                <a:lnTo>
                  <a:pt x="179733" y="80181"/>
                </a:lnTo>
                <a:lnTo>
                  <a:pt x="173162" y="81394"/>
                </a:lnTo>
                <a:lnTo>
                  <a:pt x="163603" y="82742"/>
                </a:lnTo>
                <a:lnTo>
                  <a:pt x="159869" y="83101"/>
                </a:lnTo>
                <a:lnTo>
                  <a:pt x="158226" y="84187"/>
                </a:lnTo>
                <a:lnTo>
                  <a:pt x="157978" y="85758"/>
                </a:lnTo>
                <a:lnTo>
                  <a:pt x="158658" y="87652"/>
                </a:lnTo>
                <a:lnTo>
                  <a:pt x="161673" y="92014"/>
                </a:lnTo>
                <a:lnTo>
                  <a:pt x="163662" y="94362"/>
                </a:lnTo>
                <a:lnTo>
                  <a:pt x="172645" y="101487"/>
                </a:lnTo>
                <a:lnTo>
                  <a:pt x="178597" y="105758"/>
                </a:lnTo>
                <a:lnTo>
                  <a:pt x="185105" y="111145"/>
                </a:lnTo>
                <a:lnTo>
                  <a:pt x="191983" y="117276"/>
                </a:lnTo>
                <a:lnTo>
                  <a:pt x="199109" y="123904"/>
                </a:lnTo>
                <a:lnTo>
                  <a:pt x="208092" y="130862"/>
                </a:lnTo>
                <a:lnTo>
                  <a:pt x="218315" y="138042"/>
                </a:lnTo>
                <a:lnTo>
                  <a:pt x="229363" y="145367"/>
                </a:lnTo>
                <a:lnTo>
                  <a:pt x="240116" y="151945"/>
                </a:lnTo>
                <a:lnTo>
                  <a:pt x="250671" y="158023"/>
                </a:lnTo>
                <a:lnTo>
                  <a:pt x="261094" y="163768"/>
                </a:lnTo>
                <a:lnTo>
                  <a:pt x="271429" y="170139"/>
                </a:lnTo>
                <a:lnTo>
                  <a:pt x="281706" y="176926"/>
                </a:lnTo>
                <a:lnTo>
                  <a:pt x="291944" y="183990"/>
                </a:lnTo>
                <a:lnTo>
                  <a:pt x="301309" y="191240"/>
                </a:lnTo>
                <a:lnTo>
                  <a:pt x="310093" y="198613"/>
                </a:lnTo>
                <a:lnTo>
                  <a:pt x="324932" y="211885"/>
                </a:lnTo>
                <a:lnTo>
                  <a:pt x="334350" y="220606"/>
                </a:lnTo>
                <a:lnTo>
                  <a:pt x="336353" y="224964"/>
                </a:lnTo>
                <a:lnTo>
                  <a:pt x="336842" y="229562"/>
                </a:lnTo>
                <a:lnTo>
                  <a:pt x="336322" y="234321"/>
                </a:lnTo>
                <a:lnTo>
                  <a:pt x="334281" y="237494"/>
                </a:lnTo>
                <a:lnTo>
                  <a:pt x="331227" y="239609"/>
                </a:lnTo>
                <a:lnTo>
                  <a:pt x="327498" y="241019"/>
                </a:lnTo>
                <a:lnTo>
                  <a:pt x="322472" y="241960"/>
                </a:lnTo>
                <a:lnTo>
                  <a:pt x="316581" y="242586"/>
                </a:lnTo>
                <a:lnTo>
                  <a:pt x="310114" y="243003"/>
                </a:lnTo>
                <a:lnTo>
                  <a:pt x="291640" y="243468"/>
                </a:lnTo>
                <a:lnTo>
                  <a:pt x="203911" y="243817"/>
                </a:lnTo>
                <a:lnTo>
                  <a:pt x="190127" y="242977"/>
                </a:lnTo>
                <a:lnTo>
                  <a:pt x="176705" y="241572"/>
                </a:lnTo>
                <a:lnTo>
                  <a:pt x="163523" y="239787"/>
                </a:lnTo>
                <a:lnTo>
                  <a:pt x="149656" y="238598"/>
                </a:lnTo>
                <a:lnTo>
                  <a:pt x="135330" y="237805"/>
                </a:lnTo>
                <a:lnTo>
                  <a:pt x="108407" y="236924"/>
                </a:lnTo>
                <a:lnTo>
                  <a:pt x="68580" y="23621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InkAnnotation320"/>
          <p:cNvSpPr/>
          <p:nvPr/>
        </p:nvSpPr>
        <p:spPr>
          <a:xfrm>
            <a:off x="1425600" y="5965920"/>
            <a:ext cx="243000" cy="236520"/>
          </a:xfrm>
          <a:custGeom>
            <a:avLst/>
            <a:gdLst>
              <a:gd name="textAreaLeft" fmla="*/ 0 w 243000"/>
              <a:gd name="textAreaRight" fmla="*/ 243360 w 2430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42810" h="235835">
                <a:moveTo>
                  <a:pt x="0" y="7619"/>
                </a:moveTo>
                <a:lnTo>
                  <a:pt x="0" y="313"/>
                </a:lnTo>
                <a:lnTo>
                  <a:pt x="6084" y="61"/>
                </a:lnTo>
                <a:lnTo>
                  <a:pt x="83995" y="0"/>
                </a:lnTo>
                <a:lnTo>
                  <a:pt x="92403" y="846"/>
                </a:lnTo>
                <a:lnTo>
                  <a:pt x="101395" y="2257"/>
                </a:lnTo>
                <a:lnTo>
                  <a:pt x="110777" y="4045"/>
                </a:lnTo>
                <a:lnTo>
                  <a:pt x="120418" y="6929"/>
                </a:lnTo>
                <a:lnTo>
                  <a:pt x="130232" y="10546"/>
                </a:lnTo>
                <a:lnTo>
                  <a:pt x="140162" y="14651"/>
                </a:lnTo>
                <a:lnTo>
                  <a:pt x="150168" y="19079"/>
                </a:lnTo>
                <a:lnTo>
                  <a:pt x="170317" y="28518"/>
                </a:lnTo>
                <a:lnTo>
                  <a:pt x="179584" y="32558"/>
                </a:lnTo>
                <a:lnTo>
                  <a:pt x="188303" y="36099"/>
                </a:lnTo>
                <a:lnTo>
                  <a:pt x="196655" y="39305"/>
                </a:lnTo>
                <a:lnTo>
                  <a:pt x="203917" y="43137"/>
                </a:lnTo>
                <a:lnTo>
                  <a:pt x="210451" y="47384"/>
                </a:lnTo>
                <a:lnTo>
                  <a:pt x="216501" y="51909"/>
                </a:lnTo>
                <a:lnTo>
                  <a:pt x="220534" y="56619"/>
                </a:lnTo>
                <a:lnTo>
                  <a:pt x="223223" y="61452"/>
                </a:lnTo>
                <a:lnTo>
                  <a:pt x="225015" y="66368"/>
                </a:lnTo>
                <a:lnTo>
                  <a:pt x="226210" y="70492"/>
                </a:lnTo>
                <a:lnTo>
                  <a:pt x="227538" y="77331"/>
                </a:lnTo>
                <a:lnTo>
                  <a:pt x="227892" y="81187"/>
                </a:lnTo>
                <a:lnTo>
                  <a:pt x="228128" y="85451"/>
                </a:lnTo>
                <a:lnTo>
                  <a:pt x="228285" y="89987"/>
                </a:lnTo>
                <a:lnTo>
                  <a:pt x="227544" y="93858"/>
                </a:lnTo>
                <a:lnTo>
                  <a:pt x="224462" y="100416"/>
                </a:lnTo>
                <a:lnTo>
                  <a:pt x="221608" y="102504"/>
                </a:lnTo>
                <a:lnTo>
                  <a:pt x="218012" y="103896"/>
                </a:lnTo>
                <a:lnTo>
                  <a:pt x="213921" y="104823"/>
                </a:lnTo>
                <a:lnTo>
                  <a:pt x="208654" y="106288"/>
                </a:lnTo>
                <a:lnTo>
                  <a:pt x="196029" y="110174"/>
                </a:lnTo>
                <a:lnTo>
                  <a:pt x="189106" y="111550"/>
                </a:lnTo>
                <a:lnTo>
                  <a:pt x="181950" y="112466"/>
                </a:lnTo>
                <a:lnTo>
                  <a:pt x="174640" y="113077"/>
                </a:lnTo>
                <a:lnTo>
                  <a:pt x="167227" y="113485"/>
                </a:lnTo>
                <a:lnTo>
                  <a:pt x="152217" y="113937"/>
                </a:lnTo>
                <a:lnTo>
                  <a:pt x="133531" y="114191"/>
                </a:lnTo>
                <a:lnTo>
                  <a:pt x="127967" y="115074"/>
                </a:lnTo>
                <a:lnTo>
                  <a:pt x="122565" y="116510"/>
                </a:lnTo>
                <a:lnTo>
                  <a:pt x="107610" y="121602"/>
                </a:lnTo>
                <a:lnTo>
                  <a:pt x="108147" y="122555"/>
                </a:lnTo>
                <a:lnTo>
                  <a:pt x="113794" y="128786"/>
                </a:lnTo>
                <a:lnTo>
                  <a:pt x="121413" y="136542"/>
                </a:lnTo>
                <a:lnTo>
                  <a:pt x="126662" y="140134"/>
                </a:lnTo>
                <a:lnTo>
                  <a:pt x="132701" y="143376"/>
                </a:lnTo>
                <a:lnTo>
                  <a:pt x="139268" y="146384"/>
                </a:lnTo>
                <a:lnTo>
                  <a:pt x="164690" y="158707"/>
                </a:lnTo>
                <a:lnTo>
                  <a:pt x="173293" y="164224"/>
                </a:lnTo>
                <a:lnTo>
                  <a:pt x="181569" y="170442"/>
                </a:lnTo>
                <a:lnTo>
                  <a:pt x="189626" y="177128"/>
                </a:lnTo>
                <a:lnTo>
                  <a:pt x="197537" y="183279"/>
                </a:lnTo>
                <a:lnTo>
                  <a:pt x="205351" y="189073"/>
                </a:lnTo>
                <a:lnTo>
                  <a:pt x="213101" y="194628"/>
                </a:lnTo>
                <a:lnTo>
                  <a:pt x="219960" y="199178"/>
                </a:lnTo>
                <a:lnTo>
                  <a:pt x="226227" y="203058"/>
                </a:lnTo>
                <a:lnTo>
                  <a:pt x="232098" y="206492"/>
                </a:lnTo>
                <a:lnTo>
                  <a:pt x="236012" y="210474"/>
                </a:lnTo>
                <a:lnTo>
                  <a:pt x="238621" y="214823"/>
                </a:lnTo>
                <a:lnTo>
                  <a:pt x="242809" y="225878"/>
                </a:lnTo>
                <a:lnTo>
                  <a:pt x="242306" y="227631"/>
                </a:lnTo>
                <a:lnTo>
                  <a:pt x="239489" y="231838"/>
                </a:lnTo>
                <a:lnTo>
                  <a:pt x="235860" y="233298"/>
                </a:lnTo>
                <a:lnTo>
                  <a:pt x="230900" y="234272"/>
                </a:lnTo>
                <a:lnTo>
                  <a:pt x="225053" y="234921"/>
                </a:lnTo>
                <a:lnTo>
                  <a:pt x="218615" y="235353"/>
                </a:lnTo>
                <a:lnTo>
                  <a:pt x="211783" y="235642"/>
                </a:lnTo>
                <a:lnTo>
                  <a:pt x="204689" y="235834"/>
                </a:lnTo>
                <a:lnTo>
                  <a:pt x="196573" y="235116"/>
                </a:lnTo>
                <a:lnTo>
                  <a:pt x="187775" y="233791"/>
                </a:lnTo>
                <a:lnTo>
                  <a:pt x="178524" y="232060"/>
                </a:lnTo>
                <a:lnTo>
                  <a:pt x="169816" y="230906"/>
                </a:lnTo>
                <a:lnTo>
                  <a:pt x="161470" y="230138"/>
                </a:lnTo>
                <a:lnTo>
                  <a:pt x="153367" y="229625"/>
                </a:lnTo>
                <a:lnTo>
                  <a:pt x="145425" y="228436"/>
                </a:lnTo>
                <a:lnTo>
                  <a:pt x="137590" y="226797"/>
                </a:lnTo>
                <a:lnTo>
                  <a:pt x="129827" y="224858"/>
                </a:lnTo>
                <a:lnTo>
                  <a:pt x="122958" y="223565"/>
                </a:lnTo>
                <a:lnTo>
                  <a:pt x="116685" y="222703"/>
                </a:lnTo>
                <a:lnTo>
                  <a:pt x="110810" y="222128"/>
                </a:lnTo>
                <a:lnTo>
                  <a:pt x="105200" y="221745"/>
                </a:lnTo>
                <a:lnTo>
                  <a:pt x="99767" y="221490"/>
                </a:lnTo>
                <a:lnTo>
                  <a:pt x="86287" y="221130"/>
                </a:lnTo>
                <a:lnTo>
                  <a:pt x="76200" y="22097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InkAnnotation321"/>
          <p:cNvSpPr/>
          <p:nvPr/>
        </p:nvSpPr>
        <p:spPr>
          <a:xfrm>
            <a:off x="-141120" y="2544840"/>
            <a:ext cx="2968560" cy="4084560"/>
          </a:xfrm>
          <a:custGeom>
            <a:avLst/>
            <a:gdLst>
              <a:gd name="textAreaLeft" fmla="*/ 0 w 2968560"/>
              <a:gd name="textAreaRight" fmla="*/ 2968920 w 296856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2968718" h="4084278">
                <a:moveTo>
                  <a:pt x="2831690" y="3406140"/>
                </a:moveTo>
                <a:lnTo>
                  <a:pt x="2849602" y="3406140"/>
                </a:lnTo>
                <a:lnTo>
                  <a:pt x="2852098" y="3405294"/>
                </a:lnTo>
                <a:lnTo>
                  <a:pt x="2857129" y="3402095"/>
                </a:lnTo>
                <a:lnTo>
                  <a:pt x="2864445" y="3400109"/>
                </a:lnTo>
                <a:lnTo>
                  <a:pt x="2913010" y="3398548"/>
                </a:lnTo>
                <a:lnTo>
                  <a:pt x="2923148" y="3400790"/>
                </a:lnTo>
                <a:lnTo>
                  <a:pt x="2932452" y="3404610"/>
                </a:lnTo>
                <a:lnTo>
                  <a:pt x="2942449" y="3410673"/>
                </a:lnTo>
                <a:lnTo>
                  <a:pt x="2948085" y="3412388"/>
                </a:lnTo>
                <a:lnTo>
                  <a:pt x="2950774" y="3414539"/>
                </a:lnTo>
                <a:lnTo>
                  <a:pt x="2963731" y="3430807"/>
                </a:lnTo>
                <a:lnTo>
                  <a:pt x="2965437" y="3434438"/>
                </a:lnTo>
                <a:lnTo>
                  <a:pt x="2967334" y="3442989"/>
                </a:lnTo>
                <a:lnTo>
                  <a:pt x="2968717" y="3472294"/>
                </a:lnTo>
                <a:lnTo>
                  <a:pt x="2964766" y="3491499"/>
                </a:lnTo>
                <a:lnTo>
                  <a:pt x="2911880" y="3610430"/>
                </a:lnTo>
                <a:lnTo>
                  <a:pt x="2859700" y="3689882"/>
                </a:lnTo>
                <a:lnTo>
                  <a:pt x="2767797" y="3789752"/>
                </a:lnTo>
                <a:lnTo>
                  <a:pt x="2700594" y="3849144"/>
                </a:lnTo>
                <a:lnTo>
                  <a:pt x="2617456" y="3901244"/>
                </a:lnTo>
                <a:lnTo>
                  <a:pt x="2528468" y="3946978"/>
                </a:lnTo>
                <a:lnTo>
                  <a:pt x="2447740" y="3983469"/>
                </a:lnTo>
                <a:lnTo>
                  <a:pt x="2362713" y="4011342"/>
                </a:lnTo>
                <a:lnTo>
                  <a:pt x="2293013" y="4027890"/>
                </a:lnTo>
                <a:lnTo>
                  <a:pt x="2174421" y="4053768"/>
                </a:lnTo>
                <a:lnTo>
                  <a:pt x="2101851" y="4066802"/>
                </a:lnTo>
                <a:lnTo>
                  <a:pt x="2029830" y="4076025"/>
                </a:lnTo>
                <a:lnTo>
                  <a:pt x="1954869" y="4081864"/>
                </a:lnTo>
                <a:lnTo>
                  <a:pt x="1876778" y="4083593"/>
                </a:lnTo>
                <a:lnTo>
                  <a:pt x="1694075" y="4084277"/>
                </a:lnTo>
                <a:lnTo>
                  <a:pt x="1613615" y="4080263"/>
                </a:lnTo>
                <a:lnTo>
                  <a:pt x="1538881" y="4077757"/>
                </a:lnTo>
                <a:lnTo>
                  <a:pt x="1460387" y="4068923"/>
                </a:lnTo>
                <a:lnTo>
                  <a:pt x="1382191" y="4055581"/>
                </a:lnTo>
                <a:lnTo>
                  <a:pt x="1229024" y="4025830"/>
                </a:lnTo>
                <a:lnTo>
                  <a:pt x="1152772" y="4006595"/>
                </a:lnTo>
                <a:lnTo>
                  <a:pt x="1076556" y="3984809"/>
                </a:lnTo>
                <a:lnTo>
                  <a:pt x="1004397" y="3958221"/>
                </a:lnTo>
                <a:lnTo>
                  <a:pt x="930711" y="3928895"/>
                </a:lnTo>
                <a:lnTo>
                  <a:pt x="859302" y="3894712"/>
                </a:lnTo>
                <a:lnTo>
                  <a:pt x="785838" y="3857772"/>
                </a:lnTo>
                <a:lnTo>
                  <a:pt x="714494" y="3815970"/>
                </a:lnTo>
                <a:lnTo>
                  <a:pt x="596925" y="3735172"/>
                </a:lnTo>
                <a:lnTo>
                  <a:pt x="526722" y="3683971"/>
                </a:lnTo>
                <a:lnTo>
                  <a:pt x="442319" y="3605989"/>
                </a:lnTo>
                <a:lnTo>
                  <a:pt x="361268" y="3520123"/>
                </a:lnTo>
                <a:lnTo>
                  <a:pt x="269296" y="3412548"/>
                </a:lnTo>
                <a:lnTo>
                  <a:pt x="190538" y="3291013"/>
                </a:lnTo>
                <a:lnTo>
                  <a:pt x="125290" y="3169969"/>
                </a:lnTo>
                <a:lnTo>
                  <a:pt x="75253" y="3045132"/>
                </a:lnTo>
                <a:lnTo>
                  <a:pt x="44012" y="2938559"/>
                </a:lnTo>
                <a:lnTo>
                  <a:pt x="22915" y="2832841"/>
                </a:lnTo>
                <a:lnTo>
                  <a:pt x="10344" y="2726570"/>
                </a:lnTo>
                <a:lnTo>
                  <a:pt x="554" y="2617965"/>
                </a:lnTo>
                <a:lnTo>
                  <a:pt x="0" y="2506827"/>
                </a:lnTo>
                <a:lnTo>
                  <a:pt x="7793" y="2391145"/>
                </a:lnTo>
                <a:lnTo>
                  <a:pt x="22501" y="2216227"/>
                </a:lnTo>
                <a:lnTo>
                  <a:pt x="44255" y="2045042"/>
                </a:lnTo>
                <a:lnTo>
                  <a:pt x="66582" y="1933008"/>
                </a:lnTo>
                <a:lnTo>
                  <a:pt x="90434" y="1821193"/>
                </a:lnTo>
                <a:lnTo>
                  <a:pt x="115309" y="1709423"/>
                </a:lnTo>
                <a:lnTo>
                  <a:pt x="137375" y="1597661"/>
                </a:lnTo>
                <a:lnTo>
                  <a:pt x="165315" y="1485900"/>
                </a:lnTo>
                <a:lnTo>
                  <a:pt x="199339" y="1374140"/>
                </a:lnTo>
                <a:lnTo>
                  <a:pt x="232588" y="1267617"/>
                </a:lnTo>
                <a:lnTo>
                  <a:pt x="317082" y="980545"/>
                </a:lnTo>
                <a:lnTo>
                  <a:pt x="358962" y="855712"/>
                </a:lnTo>
                <a:lnTo>
                  <a:pt x="399024" y="739439"/>
                </a:lnTo>
                <a:lnTo>
                  <a:pt x="438762" y="628925"/>
                </a:lnTo>
                <a:lnTo>
                  <a:pt x="491269" y="505596"/>
                </a:lnTo>
                <a:lnTo>
                  <a:pt x="548581" y="394158"/>
                </a:lnTo>
                <a:lnTo>
                  <a:pt x="638931" y="272947"/>
                </a:lnTo>
                <a:lnTo>
                  <a:pt x="692331" y="217134"/>
                </a:lnTo>
                <a:lnTo>
                  <a:pt x="782073" y="150414"/>
                </a:lnTo>
                <a:lnTo>
                  <a:pt x="860389" y="107422"/>
                </a:lnTo>
                <a:lnTo>
                  <a:pt x="941227" y="69525"/>
                </a:lnTo>
                <a:lnTo>
                  <a:pt x="1032462" y="35866"/>
                </a:lnTo>
                <a:lnTo>
                  <a:pt x="1122350" y="8307"/>
                </a:lnTo>
                <a:lnTo>
                  <a:pt x="116291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InkAnnotation322"/>
          <p:cNvSpPr/>
          <p:nvPr/>
        </p:nvSpPr>
        <p:spPr>
          <a:xfrm>
            <a:off x="762120" y="2536920"/>
            <a:ext cx="257040" cy="100080"/>
          </a:xfrm>
          <a:custGeom>
            <a:avLst/>
            <a:gdLst>
              <a:gd name="textAreaLeft" fmla="*/ 0 w 257040"/>
              <a:gd name="textAreaRight" fmla="*/ 257400 w 2570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257308" h="99043">
                <a:moveTo>
                  <a:pt x="0" y="38091"/>
                </a:moveTo>
                <a:lnTo>
                  <a:pt x="0" y="26519"/>
                </a:lnTo>
                <a:lnTo>
                  <a:pt x="847" y="24450"/>
                </a:lnTo>
                <a:lnTo>
                  <a:pt x="2258" y="22224"/>
                </a:lnTo>
                <a:lnTo>
                  <a:pt x="4045" y="19893"/>
                </a:lnTo>
                <a:lnTo>
                  <a:pt x="6084" y="18339"/>
                </a:lnTo>
                <a:lnTo>
                  <a:pt x="8289" y="17303"/>
                </a:lnTo>
                <a:lnTo>
                  <a:pt x="14691" y="15305"/>
                </a:lnTo>
                <a:lnTo>
                  <a:pt x="26003" y="11595"/>
                </a:lnTo>
                <a:lnTo>
                  <a:pt x="31728" y="10267"/>
                </a:lnTo>
                <a:lnTo>
                  <a:pt x="37239" y="9382"/>
                </a:lnTo>
                <a:lnTo>
                  <a:pt x="42606" y="8791"/>
                </a:lnTo>
                <a:lnTo>
                  <a:pt x="49571" y="7551"/>
                </a:lnTo>
                <a:lnTo>
                  <a:pt x="57600" y="5878"/>
                </a:lnTo>
                <a:lnTo>
                  <a:pt x="66340" y="3915"/>
                </a:lnTo>
                <a:lnTo>
                  <a:pt x="75554" y="2607"/>
                </a:lnTo>
                <a:lnTo>
                  <a:pt x="85082" y="1735"/>
                </a:lnTo>
                <a:lnTo>
                  <a:pt x="94822" y="1154"/>
                </a:lnTo>
                <a:lnTo>
                  <a:pt x="114674" y="508"/>
                </a:lnTo>
                <a:lnTo>
                  <a:pt x="164303" y="59"/>
                </a:lnTo>
                <a:lnTo>
                  <a:pt x="205300" y="0"/>
                </a:lnTo>
                <a:lnTo>
                  <a:pt x="213067" y="844"/>
                </a:lnTo>
                <a:lnTo>
                  <a:pt x="220785" y="2253"/>
                </a:lnTo>
                <a:lnTo>
                  <a:pt x="228470" y="4039"/>
                </a:lnTo>
                <a:lnTo>
                  <a:pt x="234440" y="6076"/>
                </a:lnTo>
                <a:lnTo>
                  <a:pt x="239267" y="8281"/>
                </a:lnTo>
                <a:lnTo>
                  <a:pt x="243331" y="10598"/>
                </a:lnTo>
                <a:lnTo>
                  <a:pt x="250105" y="13172"/>
                </a:lnTo>
                <a:lnTo>
                  <a:pt x="253097" y="13858"/>
                </a:lnTo>
                <a:lnTo>
                  <a:pt x="255091" y="15162"/>
                </a:lnTo>
                <a:lnTo>
                  <a:pt x="256421" y="16879"/>
                </a:lnTo>
                <a:lnTo>
                  <a:pt x="257307" y="18869"/>
                </a:lnTo>
                <a:lnTo>
                  <a:pt x="257051" y="21043"/>
                </a:lnTo>
                <a:lnTo>
                  <a:pt x="256034" y="23339"/>
                </a:lnTo>
                <a:lnTo>
                  <a:pt x="254509" y="25716"/>
                </a:lnTo>
                <a:lnTo>
                  <a:pt x="252646" y="28148"/>
                </a:lnTo>
                <a:lnTo>
                  <a:pt x="250557" y="30616"/>
                </a:lnTo>
                <a:lnTo>
                  <a:pt x="248318" y="33107"/>
                </a:lnTo>
                <a:lnTo>
                  <a:pt x="241315" y="40392"/>
                </a:lnTo>
                <a:lnTo>
                  <a:pt x="237077" y="44705"/>
                </a:lnTo>
                <a:lnTo>
                  <a:pt x="232558" y="48427"/>
                </a:lnTo>
                <a:lnTo>
                  <a:pt x="227852" y="51755"/>
                </a:lnTo>
                <a:lnTo>
                  <a:pt x="223021" y="54820"/>
                </a:lnTo>
                <a:lnTo>
                  <a:pt x="218954" y="58557"/>
                </a:lnTo>
                <a:lnTo>
                  <a:pt x="215396" y="62742"/>
                </a:lnTo>
                <a:lnTo>
                  <a:pt x="212177" y="67225"/>
                </a:lnTo>
                <a:lnTo>
                  <a:pt x="208338" y="71060"/>
                </a:lnTo>
                <a:lnTo>
                  <a:pt x="204086" y="74464"/>
                </a:lnTo>
                <a:lnTo>
                  <a:pt x="199557" y="77580"/>
                </a:lnTo>
                <a:lnTo>
                  <a:pt x="195691" y="80504"/>
                </a:lnTo>
                <a:lnTo>
                  <a:pt x="192268" y="83299"/>
                </a:lnTo>
                <a:lnTo>
                  <a:pt x="184734" y="89825"/>
                </a:lnTo>
                <a:lnTo>
                  <a:pt x="184116" y="91207"/>
                </a:lnTo>
                <a:lnTo>
                  <a:pt x="183704" y="92975"/>
                </a:lnTo>
                <a:lnTo>
                  <a:pt x="182928" y="98696"/>
                </a:lnTo>
                <a:lnTo>
                  <a:pt x="190187" y="99042"/>
                </a:lnTo>
                <a:lnTo>
                  <a:pt x="188104" y="96789"/>
                </a:lnTo>
                <a:lnTo>
                  <a:pt x="186362" y="95003"/>
                </a:lnTo>
                <a:lnTo>
                  <a:pt x="184355" y="92119"/>
                </a:lnTo>
                <a:lnTo>
                  <a:pt x="182170" y="88503"/>
                </a:lnTo>
                <a:lnTo>
                  <a:pt x="179866" y="84399"/>
                </a:lnTo>
                <a:lnTo>
                  <a:pt x="177484" y="80817"/>
                </a:lnTo>
                <a:lnTo>
                  <a:pt x="175049" y="77581"/>
                </a:lnTo>
                <a:lnTo>
                  <a:pt x="172580" y="74578"/>
                </a:lnTo>
                <a:lnTo>
                  <a:pt x="170087" y="70882"/>
                </a:lnTo>
                <a:lnTo>
                  <a:pt x="167577" y="66725"/>
                </a:lnTo>
                <a:lnTo>
                  <a:pt x="165058" y="62261"/>
                </a:lnTo>
                <a:lnTo>
                  <a:pt x="161685" y="57591"/>
                </a:lnTo>
                <a:lnTo>
                  <a:pt x="157744" y="52784"/>
                </a:lnTo>
                <a:lnTo>
                  <a:pt x="153423" y="47887"/>
                </a:lnTo>
                <a:lnTo>
                  <a:pt x="144106" y="37929"/>
                </a:lnTo>
                <a:lnTo>
                  <a:pt x="122530" y="15886"/>
                </a:lnTo>
                <a:lnTo>
                  <a:pt x="114300" y="76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InkAnnotation323"/>
          <p:cNvSpPr/>
          <p:nvPr/>
        </p:nvSpPr>
        <p:spPr>
          <a:xfrm>
            <a:off x="631800" y="2446200"/>
            <a:ext cx="360" cy="7920"/>
          </a:xfrm>
          <a:custGeom>
            <a:avLst/>
            <a:gdLst>
              <a:gd name="textAreaLeft" fmla="*/ 0 w 360"/>
              <a:gd name="textAreaRight" fmla="*/ 720 w 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7621">
                <a:moveTo>
                  <a:pt x="0" y="0"/>
                </a:moveTo>
                <a:lnTo>
                  <a:pt x="0" y="76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5182"/>
          <p:cNvSpPr/>
          <p:nvPr/>
        </p:nvSpPr>
        <p:spPr>
          <a:xfrm>
            <a:off x="716040" y="255276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6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http://www.goskateorgohome.com/blog/wp-content/uploads/2009/06/hawk.jpg"/>
          <p:cNvPicPr/>
          <p:nvPr/>
        </p:nvPicPr>
        <p:blipFill>
          <a:blip r:embed="rId1"/>
          <a:stretch/>
        </p:blipFill>
        <p:spPr>
          <a:xfrm>
            <a:off x="6697800" y="838080"/>
            <a:ext cx="2446200" cy="25146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Equations with Variables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0" y="8380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6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ou can buy a skateboard for $60 from a friend and rent the safety equipment for $1.50 per hour.  Or you can rent all items you need for $5.50 per hour.  How many hours must you use a skateboard to justify buying your friend’s skatebo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8" descr="ro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"/>
          <p:cNvSpPr/>
          <p:nvPr/>
        </p:nvSpPr>
        <p:spPr>
          <a:xfrm>
            <a:off x="105840" y="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3: Equations with Variables on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228600" y="1752480"/>
            <a:ext cx="8686800" cy="1373760"/>
          </a:xfrm>
          <a:prstGeom prst="rect">
            <a:avLst/>
          </a:prstGeom>
          <a:solidFill>
            <a:srgbClr val="000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g. 1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# 1 – 12, 33, 52, 54, 56, 61,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6:13:42Z</dcterms:created>
  <dc:creator>srentel</dc:creator>
  <dc:description/>
  <dc:language>en-US</dc:language>
  <cp:lastModifiedBy>m</cp:lastModifiedBy>
  <dcterms:modified xsi:type="dcterms:W3CDTF">2012-01-24T21:49:58Z</dcterms:modified>
  <cp:revision>11</cp:revision>
  <dc:subject/>
  <dc:title>Slide 1</dc:title>
</cp:coreProperties>
</file>